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BEA-B5FA-414C-9D5E-4E2CEF6F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B76-8A9D-4CF8-A664-B07E2EB5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5E3-61A4-4838-970C-94C046D9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797-18AE-4F48-BFD2-7C52930F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CBB-0184-4876-8C56-7FB4803C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C17D-19CB-4152-9C0A-1E21334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31F-BAEE-4C1E-8FE6-F3BC0B2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63D8-4E1C-4B75-9622-2AC22D6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8878-892D-476A-8D3F-A26D29EF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74B0-827B-46E3-8220-DC31F98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7631-A286-4913-8209-6967089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755-1EB2-498F-843C-B997210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8E57-E236-4ED8-8B5F-C5C82C7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615-D241-4543-8133-03A6137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865-7361-42A4-B638-6894784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AA1A-A4B5-4640-8BE9-F9A137A9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0F29-BB8B-4579-82B2-73AF350D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FD0-69CC-48CB-9CA5-CD9706A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CCA-1B08-42C4-BD4B-C9C4E5D2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A82-CA37-44DA-8BBC-F073AFC9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115-AC53-4B70-86B7-1C1E082D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924-A55B-40D8-86E3-D62D276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42F-B2FA-4DBD-8D97-74957CD1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B54-6A7F-4DE0-8B65-3D63ECB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64D-775B-4852-B962-EAA8D639A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9E5-70B5-4309-9B2A-34C732D50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sytalk.spb.ru/wp-content/uploads/2010/02/5555.jp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139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99cc"/>
                </a:solidFill>
                <a:latin typeface="Arial"/>
              </a:rPr>
              <a:t>Классный час по теме:</a:t>
            </a:r>
            <a:br>
              <a:rPr sz="4000"/>
            </a:br>
            <a:r>
              <a:rPr b="1" i="1" lang="en-US" sz="6000" spc="-1" strike="noStrike">
                <a:solidFill>
                  <a:srgbClr val="ff99cc"/>
                </a:solidFill>
                <a:latin typeface="Arial"/>
              </a:rPr>
              <a:t>«Социальные сети: «за» и «против»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Рисунок 7" descr="Facebook и Одноклассники заменят реальную личность"/>
          <p:cNvPicPr/>
          <p:nvPr/>
        </p:nvPicPr>
        <p:blipFill>
          <a:blip r:embed="rId1"/>
          <a:stretch/>
        </p:blipFill>
        <p:spPr>
          <a:xfrm>
            <a:off x="1219320" y="228600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1"/>
          <p:cNvSpPr txBox="1"/>
          <p:nvPr/>
        </p:nvSpPr>
        <p:spPr>
          <a:xfrm>
            <a:off x="304920" y="152280"/>
            <a:ext cx="8534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циальные сети 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меняют реальную личность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Содержимое 3" descr="Психологи: Социальные сети обманывают мозг"/>
          <p:cNvPicPr/>
          <p:nvPr/>
        </p:nvPicPr>
        <p:blipFill>
          <a:blip r:embed="rId1"/>
          <a:stretch/>
        </p:blipFill>
        <p:spPr>
          <a:xfrm>
            <a:off x="1600200" y="2286000"/>
            <a:ext cx="601992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28600" y="304920"/>
            <a:ext cx="8610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циальные сети </a:t>
            </a:r>
            <a:endParaRPr b="1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бманывают мозг</a:t>
            </a:r>
            <a:endParaRPr b="1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4"/>
          <p:cNvSpPr/>
          <p:nvPr/>
        </p:nvSpPr>
        <p:spPr>
          <a:xfrm>
            <a:off x="2362320" y="2209680"/>
            <a:ext cx="4419360" cy="2210040"/>
          </a:xfrm>
          <a:prstGeom prst="pie">
            <a:avLst/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2895480" y="28195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8ae8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0" lang="en-US" sz="1200" spc="1" strike="noStrike">
              <a:ln w="12600">
                <a:solidFill>
                  <a:srgbClr val="008ae8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0" y="2438280"/>
            <a:ext cx="2514600" cy="2094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4495680"/>
            <a:ext cx="3886200" cy="219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Cloud"/>
          <p:cNvSpPr/>
          <p:nvPr/>
        </p:nvSpPr>
        <p:spPr>
          <a:xfrm>
            <a:off x="6477120" y="2438280"/>
            <a:ext cx="2666880" cy="219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2819520" y="6516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WordArt 9"/>
          <p:cNvSpPr txBox="1"/>
          <p:nvPr/>
        </p:nvSpPr>
        <p:spPr>
          <a:xfrm>
            <a:off x="312408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ового узнали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соц.сетях?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WordArt 11"/>
          <p:cNvSpPr txBox="1"/>
          <p:nvPr/>
        </p:nvSpPr>
        <p:spPr>
          <a:xfrm>
            <a:off x="6629400" y="2819520"/>
            <a:ext cx="2514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лось ли твое 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ение о соц.сетях?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WordArt 12" descr=""/>
          <p:cNvPicPr/>
          <p:nvPr/>
        </p:nvPicPr>
        <p:blipFill>
          <a:blip r:embed="rId1"/>
          <a:stretch/>
        </p:blipFill>
        <p:spPr>
          <a:xfrm>
            <a:off x="146160" y="2816280"/>
            <a:ext cx="2334960" cy="1255680"/>
          </a:xfrm>
          <a:prstGeom prst="rect">
            <a:avLst/>
          </a:prstGeom>
          <a:ln w="0">
            <a:noFill/>
          </a:ln>
        </p:spPr>
      </p:pic>
      <p:sp>
        <p:nvSpPr>
          <p:cNvPr id="282" name="WordArt 13"/>
          <p:cNvSpPr txBox="1"/>
          <p:nvPr/>
        </p:nvSpPr>
        <p:spPr>
          <a:xfrm>
            <a:off x="2819520" y="487692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роль соц.сетей 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реальной жизни?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3" name="Picture 15" descr="MM900283037"/>
          <p:cNvPicPr/>
          <p:nvPr/>
        </p:nvPicPr>
        <p:blipFill>
          <a:blip r:embed="rId2"/>
          <a:stretch/>
        </p:blipFill>
        <p:spPr>
          <a:xfrm>
            <a:off x="6705720" y="5181480"/>
            <a:ext cx="140004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0" descr="2d3b1a7435a6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65898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762120" y="304920"/>
            <a:ext cx="7772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Impact"/>
              </a:rPr>
              <a:t>Спасибо за внимание</a:t>
            </a:r>
            <a:endParaRPr b="0" lang="en-US" sz="12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ffff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286" name="Picture 8" descr="http://im7-tub-ru.yandex.net/i?id=56546775-51-72"/>
          <p:cNvPicPr/>
          <p:nvPr/>
        </p:nvPicPr>
        <p:blipFill>
          <a:blip r:embed="rId2"/>
          <a:stretch/>
        </p:blipFill>
        <p:spPr>
          <a:xfrm>
            <a:off x="6934320" y="45720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http://im7-tub-ru.yandex.net/i?id=56546775-51-72"/>
          <p:cNvPicPr/>
          <p:nvPr/>
        </p:nvPicPr>
        <p:blipFill>
          <a:blip r:embed="rId3"/>
          <a:stretch/>
        </p:blipFill>
        <p:spPr>
          <a:xfrm>
            <a:off x="15228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http://im7-tub-ru.yandex.net/i?id=56546775-51-72"/>
          <p:cNvPicPr/>
          <p:nvPr/>
        </p:nvPicPr>
        <p:blipFill>
          <a:blip r:embed="rId4"/>
          <a:stretch/>
        </p:blipFill>
        <p:spPr>
          <a:xfrm>
            <a:off x="5943600" y="0"/>
            <a:ext cx="121932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05D-350C-4E3F-A813-C1AC4248F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9" descr="http://www.psytalk.spb.ru/wp-content/uploads/2010/02/5555-300x3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380880" y="1371600"/>
            <a:ext cx="84582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359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바탕"/>
              </a:rPr>
              <a:t> 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ства пользователей, объединённых по каким-либо общим критериям для совместного общения в одном круг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циальные сети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441972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533520"/>
            <a:ext cx="850572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стью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х 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пулярных социальных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ей 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личие собственной странички у 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ждого </a:t>
            </a:r>
            <a:endParaRPr b="0" lang="en-US" sz="2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ьзователя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6"/>
          <p:cNvSpPr/>
          <p:nvPr/>
        </p:nvSpPr>
        <p:spPr>
          <a:xfrm>
            <a:off x="304920" y="380880"/>
            <a:ext cx="84582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68ae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17"/>
          <p:cNvSpPr txBox="1"/>
          <p:nvPr/>
        </p:nvSpPr>
        <p:spPr>
          <a:xfrm>
            <a:off x="609480" y="685800"/>
            <a:ext cx="8001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3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бщий принцип регистрац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" name="AutoShape 19"/>
          <p:cNvSpPr/>
          <p:nvPr/>
        </p:nvSpPr>
        <p:spPr>
          <a:xfrm>
            <a:off x="228600" y="1905120"/>
            <a:ext cx="3048120" cy="1828800"/>
          </a:xfrm>
          <a:prstGeom prst="hexagon">
            <a:avLst>
              <a:gd name="adj" fmla="val 41668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Затем вид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х те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то с вами учил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ботал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20"/>
          <p:cNvSpPr/>
          <p:nvPr/>
        </p:nvSpPr>
        <p:spPr>
          <a:xfrm>
            <a:off x="76320" y="4419720"/>
            <a:ext cx="3504960" cy="1828800"/>
          </a:xfrm>
          <a:prstGeom prst="hexagon">
            <a:avLst>
              <a:gd name="adj" fmla="val 47913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Глядя анке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ших друз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 видите те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о они добав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бе в друзья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5029200" y="4419720"/>
            <a:ext cx="3962520" cy="1981080"/>
          </a:xfrm>
          <a:prstGeom prst="hexagon">
            <a:avLst>
              <a:gd name="adj" fmla="val 50005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Как правил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их есть фотоальбо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оальбом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го 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ая поч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2819520" y="3124080"/>
            <a:ext cx="3047760" cy="1828800"/>
          </a:xfrm>
          <a:prstGeom prst="hexagon">
            <a:avLst>
              <a:gd name="adj" fmla="val 41663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Заход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гистрируем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учи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аком год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жил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5410080" y="1905120"/>
            <a:ext cx="3581640" cy="1828800"/>
          </a:xfrm>
          <a:prstGeom prst="hexagon">
            <a:avLst>
              <a:gd name="adj" fmla="val 48962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Если вы захотели, 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е пригласить стар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комых в друз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гда им откры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ша анке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вам их анк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24"/>
          <p:cNvSpPr txBox="1"/>
          <p:nvPr/>
        </p:nvSpPr>
        <p:spPr>
          <a:xfrm>
            <a:off x="533520" y="2133720"/>
            <a:ext cx="236196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25"/>
          <p:cNvSpPr txBox="1"/>
          <p:nvPr/>
        </p:nvSpPr>
        <p:spPr>
          <a:xfrm>
            <a:off x="6095880" y="22860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2" name="WordArt 26"/>
          <p:cNvSpPr txBox="1"/>
          <p:nvPr/>
        </p:nvSpPr>
        <p:spPr>
          <a:xfrm>
            <a:off x="5410080" y="4648320"/>
            <a:ext cx="3276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3" name="WordArt 27"/>
          <p:cNvSpPr txBox="1"/>
          <p:nvPr/>
        </p:nvSpPr>
        <p:spPr>
          <a:xfrm>
            <a:off x="609480" y="480060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4" name="WordArt 28"/>
          <p:cNvSpPr txBox="1"/>
          <p:nvPr/>
        </p:nvSpPr>
        <p:spPr>
          <a:xfrm>
            <a:off x="3276720" y="3657600"/>
            <a:ext cx="220968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3"/>
          <p:cNvSpPr/>
          <p:nvPr/>
        </p:nvSpPr>
        <p:spPr>
          <a:xfrm>
            <a:off x="1828800" y="3886200"/>
            <a:ext cx="1981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WordArt 34"/>
          <p:cNvSpPr txBox="1"/>
          <p:nvPr/>
        </p:nvSpPr>
        <p:spPr>
          <a:xfrm>
            <a:off x="533520" y="152280"/>
            <a:ext cx="7619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ождения социальных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тей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" name="Picture 38" descr="C:\Documents and Settings\секретарь\Рабочий стол\i (3).jpg"/>
          <p:cNvPicPr/>
          <p:nvPr/>
        </p:nvPicPr>
        <p:blipFill>
          <a:blip r:embed="rId1"/>
          <a:stretch/>
        </p:blipFill>
        <p:spPr>
          <a:xfrm>
            <a:off x="533520" y="2514600"/>
            <a:ext cx="373356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C:\Documents and Settings\секретарь\Рабочий стол\i (1).jpg"/>
          <p:cNvPicPr/>
          <p:nvPr/>
        </p:nvPicPr>
        <p:blipFill>
          <a:blip r:embed="rId2"/>
          <a:stretch/>
        </p:blipFill>
        <p:spPr>
          <a:xfrm>
            <a:off x="4952880" y="25146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4"/>
          <p:cNvSpPr/>
          <p:nvPr/>
        </p:nvSpPr>
        <p:spPr>
          <a:xfrm>
            <a:off x="228600" y="2209680"/>
            <a:ext cx="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95 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 американский портал Classmates.co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создан Интернет-пейджер ICQ (в народе — «аська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9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основан Живой Журнал (или LiveJournal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03-2004 г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запущены LinkedIn, MySpace и Facebo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28"/>
          <p:cNvSpPr txBox="1"/>
          <p:nvPr/>
        </p:nvSpPr>
        <p:spPr>
          <a:xfrm>
            <a:off x="457200" y="277920"/>
            <a:ext cx="8229600" cy="185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ождения социальных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тей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4"/>
          <p:cNvSpPr/>
          <p:nvPr/>
        </p:nvSpPr>
        <p:spPr>
          <a:xfrm flipV="1">
            <a:off x="1066680" y="685800"/>
            <a:ext cx="28195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533520" y="0"/>
            <a:ext cx="7924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циальные сети </a:t>
            </a:r>
            <a:endParaRPr b="0" i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люсы" и "минусы"</a:t>
            </a:r>
            <a:endParaRPr b="0" i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8" name="Rectangle 68" descr="Социальные сети: плюсы и минусы"/>
          <p:cNvPicPr/>
          <p:nvPr/>
        </p:nvPicPr>
        <p:blipFill>
          <a:blip r:embed="rId1"/>
          <a:stretch/>
        </p:blipFill>
        <p:spPr>
          <a:xfrm>
            <a:off x="1676520" y="2590920"/>
            <a:ext cx="60195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52280" y="457200"/>
            <a:ext cx="3571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юс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5334120" y="380880"/>
            <a:ext cx="32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инус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09480" y="1447920"/>
            <a:ext cx="2895840" cy="1295280"/>
          </a:xfrm>
          <a:prstGeom prst="flowChartPunchedTape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609480" y="1752480"/>
            <a:ext cx="2895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е знакомства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457200" y="2819520"/>
            <a:ext cx="3124080" cy="114300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457200" y="4038480"/>
            <a:ext cx="3124080" cy="1295640"/>
          </a:xfrm>
          <a:prstGeom prst="flowChartPunchedTap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380880" y="5334120"/>
            <a:ext cx="3124440" cy="1295280"/>
          </a:xfrm>
          <a:prstGeom prst="flowChartPunchedTap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304920" y="289548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смотр файлов, видео, фото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457200" y="411480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ти новую информацию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11"/>
          <p:cNvSpPr txBox="1"/>
          <p:nvPr/>
        </p:nvSpPr>
        <p:spPr>
          <a:xfrm>
            <a:off x="380880" y="5410080"/>
            <a:ext cx="3124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ыть в курсе происходящего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4800600" y="1523880"/>
            <a:ext cx="3962520" cy="914400"/>
          </a:xfrm>
          <a:prstGeom prst="flowChartPunchedCard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WordArt 13"/>
          <p:cNvSpPr txBox="1"/>
          <p:nvPr/>
        </p:nvSpPr>
        <p:spPr>
          <a:xfrm>
            <a:off x="4876920" y="16765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туп личной информации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4800600" y="2743200"/>
            <a:ext cx="3962520" cy="914400"/>
          </a:xfrm>
          <a:prstGeom prst="flowChartPunchedCard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4800600" y="4114800"/>
            <a:ext cx="3962520" cy="914400"/>
          </a:xfrm>
          <a:prstGeom prst="flowChartPunchedCard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4724280" y="5410080"/>
            <a:ext cx="3962520" cy="914400"/>
          </a:xfrm>
          <a:prstGeom prst="flowChartPunchedCard">
            <a:avLst/>
          </a:prstGeom>
          <a:blipFill rotWithShape="0">
            <a:blip r:embed="rId8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19"/>
          <p:cNvSpPr txBox="1"/>
          <p:nvPr/>
        </p:nvSpPr>
        <p:spPr>
          <a:xfrm>
            <a:off x="4876920" y="2819520"/>
            <a:ext cx="3809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ртуальное общение вытесняет  реальное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4724280" y="426708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висимость от виртуального общения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21"/>
          <p:cNvSpPr txBox="1"/>
          <p:nvPr/>
        </p:nvSpPr>
        <p:spPr>
          <a:xfrm>
            <a:off x="4724280" y="5562720"/>
            <a:ext cx="3962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явление агрессии у подростков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43:44Z</dcterms:created>
  <dc:creator>м</dc:creator>
  <dc:description/>
  <dc:language>en-US</dc:language>
  <cp:lastModifiedBy>Пользователь</cp:lastModifiedBy>
  <dcterms:modified xsi:type="dcterms:W3CDTF">2012-05-10T17:27:5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