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1EDB-EF9B-4A0A-B7D5-2F6EF9FA7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06DE-5AE8-4352-8E1E-CA5C61D91D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C1D2-E061-4255-96F6-EA6DBA2860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E961-8234-4FC8-B66E-689357CBCD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2C80-B8E3-488E-BC03-216E587556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FD5F-650E-493E-B9DF-0179B39F7A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1881-FA34-4AEC-B8BA-E5823732AC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D36-66A7-414E-AC37-ADCA5D5E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EBC-7F98-4B65-85FF-924B9C95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464DE-C898-4CC3-BF44-31279E4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6AF4-BB15-42E4-8992-89C47CC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1D55-E2AC-4A56-904F-A265F0D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8B405-4575-4A7A-94EE-D9B2904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A6886-AAE1-4B55-A5C3-3BEC1E1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FD4C0-DB61-4C91-AF7A-C8BFC04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8156E-1CC0-4CE1-ADA9-156CECA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01F9-235A-412A-A0E4-440C043E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D3BEC-BFBA-42B6-A2C6-E18A1FD7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A30B-6522-4224-AC12-ACE9CEEB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986-908B-479D-9D0E-CD838372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63C03-9991-4A79-AE6C-DA078AE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9F034-79A8-47A6-980D-7538B46F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91B00-1441-4FF3-8CE2-20B28B6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01EF-6681-4354-8914-8B5FD016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5AEA5-8855-46A6-9C23-BF9956F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487EF-480C-4E71-B15B-92704FD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C9182-2129-4D73-91A8-FA0886D7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FE92E-DA47-4A4C-99C3-2E48FB7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B1E7B-3C5E-4664-A0B1-99F6D5BD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F012D-E323-4882-80DE-41F08202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93F-D04D-4863-983A-6B39752A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CBF5B-5E03-464C-A384-27CC3990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DE468-F865-447B-9837-B3E9C702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D2007-ED10-4E1B-BFE6-C1575180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D8280-8B60-4C7B-A5CC-834D2EE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B8EF3-636A-48DD-8AEC-90E1D92B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E72FF-40C4-4E87-B49F-52685D28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822A5-12ED-42B7-BAFF-2AF81022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65CE3-3CD5-4C4F-B535-CF1EE01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F95FA-F56D-47DA-8232-B9BEEF8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6FB67-1473-4173-A906-5EB802F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2C8-2038-4D31-9F88-85C0728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828D9-22CB-43B6-92AC-0B4BE4E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F9888-537F-4569-81FB-76410245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B5168-EF37-4B4A-8844-BED38AF3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8CE68-A2B9-4373-8D35-7DCBA217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36E35-7073-4097-A144-8180E4FD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F744C-4E20-4ADD-9CAB-14681C20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FC8AB-7308-4F43-97A6-1D53CACD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76E2F-919C-4112-82C2-8B210CE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24395-C95B-4E8E-8547-6CD455B8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01AA5-013B-4DCB-B16A-FAC8C7E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306-12B7-4578-A4D7-90E154A8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0B197-25FE-486D-AF70-3774CF8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FBF4F-4106-409B-9615-0EF065C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F81F0-96F9-41F7-90AB-C9EDBD0D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D8EDB-1DF5-4B0D-96A4-2C6F6871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643B5-E03F-4E33-9A06-1EDE50BB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6D94-F390-4321-8FEB-BE8EF55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12CE-8EE1-4979-A26E-C91BBD53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6C9A-505D-4A51-9003-BE73DA41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ABCA-8FAA-4C64-B367-9AC131E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D521-D048-4505-B47E-5DD4658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32F-7DAC-4950-9654-BA7C53A4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726-930E-4435-8642-05CE700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A191-408D-41FC-89F0-EA7CDD6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D387-AF6B-4969-A40D-97FDE99D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F157-A275-4EF0-BD92-3734F249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6A39-D684-4325-B019-414624BF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7AF3-F28D-4283-A76B-F0EFED61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BC08-797A-43C2-8F43-39B1DC9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AB73-5B94-4C58-B530-461EEE5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6B34-CC69-4EA5-8A72-1AB564BF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B167-3A57-4D3A-AE1A-4307AAD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5D2-F159-4162-BAD8-9D787DB2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B7D8-0328-4CCA-AE2D-3ED64F8A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C322-EB74-4BF3-97AF-32AB039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7E5C-CA3D-408B-A88F-1DD7AF8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D6F9-6CE6-437B-B811-CDF6962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AE11-62F5-44A9-B660-0C8E8125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D2D3-9FB0-449F-A928-8F770A52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BA2C-DD8F-43E1-BF83-1E391E32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81EB-10F6-4421-A53F-52A9DBF6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169C-6117-41D4-8DDF-47F0654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81FD-4C75-49B9-9B00-4CA12CAD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497-2615-4F32-B672-8567B4E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573A-A8E8-499C-930C-F6C4E53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6F0A-2848-41D2-88D3-6B737DB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89DD-2D1A-46E4-84A1-DB0B872F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9D68-27C3-44F9-B99B-1E401DF6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9B08-CC4F-497A-B10F-EB0F157C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941A-E5D3-4061-A08A-BB3E256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4875-4ED8-4CC4-B480-680E00D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C807-F298-49EB-9452-B103C9F6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1F80-6C9D-4789-AED5-2679E267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69D7-0ECD-4170-9CE5-B2A86134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A7E-5585-498D-9C85-FF4CBFE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CCE2-DFD7-44C0-A41C-80F3A426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511E-80AB-4A94-A44D-8306C19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5FE0-F4BE-46B3-B880-C782572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96C8-0BDF-4530-A636-CA7E051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4113-86B8-4867-B5AC-97CA403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931D-9498-49BE-9200-548875E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0847-90E4-4697-A418-3BB0FEB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D69D-E153-498D-B36A-F2320D9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B7B7-A230-4BD3-9C4C-FE49AB71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CDA9-9CA9-4051-A23B-545929A6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405-650F-4BAC-A606-7E057766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229FC-5AC1-483A-AB17-A4F497E5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BE1F-C8E6-4393-8696-874566E5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785D-61BF-48C6-84A7-B0A0EBA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A73A-BC4C-4710-BB47-00503E65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D0CF-02AE-4D92-92CE-76FA4B2F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596F-EA0C-4A5D-842F-E4627174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B9CB-1CCD-45A0-AD74-B00D6AC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6414-351A-49F8-8B9D-7DA34CB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6F03-6DEB-4D83-9DBB-ADFE369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D617-3225-4CF7-8C70-BF46E3A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52A-A2D0-4D11-B8B2-9F188AF6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E80E-1A1F-4D94-B63E-114548E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46C2-4F46-49B9-8C00-AE40D66A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40E83-7C9F-46D3-84D5-9EB94AB7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7763-852C-457C-9E54-A9B79268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3161B-C64A-49C9-A58C-0731F74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9DD5-CBA6-4273-974F-04DA8CC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C385-B79D-4DAF-8AE7-AA31ABE1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048A-BEF2-43FF-9968-73B336E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998A-2AFF-48DB-8543-EF71C5D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36817-3A08-494F-A475-71CDE4D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1A2-64DA-4905-9A76-9FAB222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BE93-394F-41C3-B626-538A6F7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3F1F8-9ABE-4016-86EB-FDCBF92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2D2E2-E58C-42E4-B7E2-8B9B1ED5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8BDF-AB31-4B8D-8711-F19FFCFB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5955-4E69-4991-829D-60009E4C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E510-68E5-46C8-837B-2C861D12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6CCB-CCA7-4D0F-9054-A77928A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7516A-8374-43E8-A404-CB162F00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790C-4CEC-416F-9E9D-7E4119D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4A47-B63C-40FA-A918-6C256F82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589-08E1-478E-992C-56131377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375BB-8222-4D67-BAA5-C83569AB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90F8-414A-4923-9793-8B077BE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E133-9D14-4CEC-BB0C-B15C83D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1140-503B-465A-A39E-AABED1D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6B70-62A5-402C-B5BD-2105037E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5B5C-7217-4469-A48A-031FFFE7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6BA7-65F3-4083-A0F7-52352BCC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93674-A7A1-4466-8930-9E6C2C7F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9E11B-2596-4462-9D17-EC3F1EC1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A42C-ABC4-4D2B-8EB3-DA539D66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82F-86F0-44B8-A748-C240C442E6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B18D-698D-4DAD-A95A-6B68AD0383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BCA-1995-4534-ACA0-9DFA6A5DE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4680-A7F1-4601-B621-1C88C391EC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DCDB-601A-4935-BBFD-C8E492AA21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7375-2091-4E16-80B3-780DE1C758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CDA-FF63-42E8-BB24-6C57E424A0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FA2-5B44-43C8-AD43-9C5879F8B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41D6-D255-45D4-9315-EDBE9689D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6A7D-2758-4731-8BD7-002FEEB4B7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6F8E-12E5-4DE6-BFD6-DF4037F25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8CAA-D785-438F-842F-AB4F0B7CAD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029"/>
                </a:solidFill>
                <a:latin typeface="Times New Roman"/>
              </a:rPr>
              <a:t>Технология оценивания образовательных достижений      (учебных успехов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-е правил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Право отказа от отметки и право пересдач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УЩИЙ КОНТР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задачи, решенные при изучении новой темы, отметка ставится только по желанию ученика, так как он еще только овладевает умениями и знаниями темы и имеет право на ошибку, за которую нельзя кара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ОГОВЫЙ КОНТР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задачи, решенные в ходе проверочных и контрольных работ отметки ставятся всем ученик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80520" y="-1526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к, по какой шкале оценив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6-е правило: «Уровни успеш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задачи оценивается по признакам уровней успешности (только с 3-го класса). На основании продемонстрированного уровня выставляется отметка в одной из трех шкал (выбранной учителем): 6-балльная шкала «баллов успешности», специально разработанная под уровни успеш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5-балльная шкала «традиционных отметок» – соотнесенная с уровнями успеш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10-балльная шкала – соотнесенная с уровнями успеш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25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ценка и отметка определяются по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РОВНЯМ УСПЕШНОСТИ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71280" y="1368000"/>
            <a:ext cx="8172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ый уров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ение типовой 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обной тем, что решали уже много раз, где требовалось применить сформированные умения и усвоенные знания, прежде всего соответствующие гос.стандарту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с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любому предмету. 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о, но не отличн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Программный уров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ение нестандартной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отребовалось либо применить знания по новой, изучаемой в данный момент теме,  либо «старые» знания и умения, но в новой, непривычной ситуации. Это уровень функциональной грамотности -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аксимальный уров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обязательный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«сверхзадач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неизученному материалу, когда потребовались либо самостоятельно добытые вне уроков знания, либо новые самостоятельно усвоенные умения. Этот уровень демонстрирует исключительные успехи отдельных учеников по отдельным темам - сверх школьных требований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восходно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4" descr="j0215086"/>
          <p:cNvPicPr/>
          <p:nvPr/>
        </p:nvPicPr>
        <p:blipFill>
          <a:blip r:embed="rId1"/>
          <a:stretch/>
        </p:blipFill>
        <p:spPr>
          <a:xfrm>
            <a:off x="108000" y="5224320"/>
            <a:ext cx="9223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5"/>
          <p:cNvGrpSpPr/>
          <p:nvPr/>
        </p:nvGrpSpPr>
        <p:grpSpPr>
          <a:xfrm>
            <a:off x="-325440" y="3138480"/>
            <a:ext cx="1368360" cy="1514520"/>
            <a:chOff x="-325440" y="3138480"/>
            <a:chExt cx="1368360" cy="1514520"/>
          </a:xfrm>
        </p:grpSpPr>
        <p:sp>
          <p:nvSpPr>
            <p:cNvPr id="612" name="AutoShape 6"/>
            <p:cNvSpPr/>
            <p:nvPr/>
          </p:nvSpPr>
          <p:spPr>
            <a:xfrm>
              <a:off x="-325440" y="3138480"/>
              <a:ext cx="1368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Freeform 7"/>
            <p:cNvSpPr/>
            <p:nvPr/>
          </p:nvSpPr>
          <p:spPr>
            <a:xfrm>
              <a:off x="-325440" y="3138480"/>
              <a:ext cx="1368360" cy="1406520"/>
            </a:xfrm>
            <a:custGeom>
              <a:avLst/>
              <a:gdLst/>
              <a:ahLst/>
              <a:rect l="l" t="t" r="r" b="b"/>
              <a:pathLst>
                <a:path w="1972" h="1772">
                  <a:moveTo>
                    <a:pt x="1644" y="1464"/>
                  </a:moveTo>
                  <a:lnTo>
                    <a:pt x="1681" y="1403"/>
                  </a:lnTo>
                  <a:lnTo>
                    <a:pt x="1713" y="1338"/>
                  </a:lnTo>
                  <a:lnTo>
                    <a:pt x="1740" y="1270"/>
                  </a:lnTo>
                  <a:lnTo>
                    <a:pt x="1765" y="1199"/>
                  </a:lnTo>
                  <a:lnTo>
                    <a:pt x="1783" y="1124"/>
                  </a:lnTo>
                  <a:lnTo>
                    <a:pt x="1797" y="1047"/>
                  </a:lnTo>
                  <a:lnTo>
                    <a:pt x="1806" y="968"/>
                  </a:lnTo>
                  <a:lnTo>
                    <a:pt x="1808" y="887"/>
                  </a:lnTo>
                  <a:lnTo>
                    <a:pt x="1805" y="796"/>
                  </a:lnTo>
                  <a:lnTo>
                    <a:pt x="1795" y="709"/>
                  </a:lnTo>
                  <a:lnTo>
                    <a:pt x="1778" y="624"/>
                  </a:lnTo>
                  <a:lnTo>
                    <a:pt x="1755" y="542"/>
                  </a:lnTo>
                  <a:lnTo>
                    <a:pt x="1727" y="464"/>
                  </a:lnTo>
                  <a:lnTo>
                    <a:pt x="1693" y="391"/>
                  </a:lnTo>
                  <a:lnTo>
                    <a:pt x="1654" y="323"/>
                  </a:lnTo>
                  <a:lnTo>
                    <a:pt x="1610" y="260"/>
                  </a:lnTo>
                  <a:lnTo>
                    <a:pt x="1562" y="202"/>
                  </a:lnTo>
                  <a:lnTo>
                    <a:pt x="1510" y="151"/>
                  </a:lnTo>
                  <a:lnTo>
                    <a:pt x="1455" y="107"/>
                  </a:lnTo>
                  <a:lnTo>
                    <a:pt x="1395" y="69"/>
                  </a:lnTo>
                  <a:lnTo>
                    <a:pt x="1333" y="39"/>
                  </a:lnTo>
                  <a:lnTo>
                    <a:pt x="1268" y="18"/>
                  </a:lnTo>
                  <a:lnTo>
                    <a:pt x="1201" y="5"/>
                  </a:lnTo>
                  <a:lnTo>
                    <a:pt x="1132" y="0"/>
                  </a:lnTo>
                  <a:lnTo>
                    <a:pt x="1132" y="51"/>
                  </a:lnTo>
                  <a:lnTo>
                    <a:pt x="1197" y="56"/>
                  </a:lnTo>
                  <a:lnTo>
                    <a:pt x="1260" y="68"/>
                  </a:lnTo>
                  <a:lnTo>
                    <a:pt x="1321" y="89"/>
                  </a:lnTo>
                  <a:lnTo>
                    <a:pt x="1380" y="118"/>
                  </a:lnTo>
                  <a:lnTo>
                    <a:pt x="1435" y="153"/>
                  </a:lnTo>
                  <a:lnTo>
                    <a:pt x="1488" y="195"/>
                  </a:lnTo>
                  <a:lnTo>
                    <a:pt x="1537" y="242"/>
                  </a:lnTo>
                  <a:lnTo>
                    <a:pt x="1582" y="296"/>
                  </a:lnTo>
                  <a:lnTo>
                    <a:pt x="1623" y="355"/>
                  </a:lnTo>
                  <a:lnTo>
                    <a:pt x="1660" y="420"/>
                  </a:lnTo>
                  <a:lnTo>
                    <a:pt x="1691" y="489"/>
                  </a:lnTo>
                  <a:lnTo>
                    <a:pt x="1719" y="562"/>
                  </a:lnTo>
                  <a:lnTo>
                    <a:pt x="1739" y="639"/>
                  </a:lnTo>
                  <a:lnTo>
                    <a:pt x="1755" y="719"/>
                  </a:lnTo>
                  <a:lnTo>
                    <a:pt x="1765" y="802"/>
                  </a:lnTo>
                  <a:lnTo>
                    <a:pt x="1768" y="887"/>
                  </a:lnTo>
                  <a:lnTo>
                    <a:pt x="1765" y="968"/>
                  </a:lnTo>
                  <a:lnTo>
                    <a:pt x="1757" y="1047"/>
                  </a:lnTo>
                  <a:lnTo>
                    <a:pt x="1742" y="1122"/>
                  </a:lnTo>
                  <a:lnTo>
                    <a:pt x="1722" y="1196"/>
                  </a:lnTo>
                  <a:lnTo>
                    <a:pt x="1698" y="1266"/>
                  </a:lnTo>
                  <a:lnTo>
                    <a:pt x="1669" y="1332"/>
                  </a:lnTo>
                  <a:lnTo>
                    <a:pt x="1636" y="1396"/>
                  </a:lnTo>
                  <a:lnTo>
                    <a:pt x="1598" y="1453"/>
                  </a:lnTo>
                  <a:lnTo>
                    <a:pt x="1556" y="1506"/>
                  </a:lnTo>
                  <a:lnTo>
                    <a:pt x="1511" y="1554"/>
                  </a:lnTo>
                  <a:lnTo>
                    <a:pt x="1463" y="1598"/>
                  </a:lnTo>
                  <a:lnTo>
                    <a:pt x="1411" y="1635"/>
                  </a:lnTo>
                  <a:lnTo>
                    <a:pt x="1357" y="1665"/>
                  </a:lnTo>
                  <a:lnTo>
                    <a:pt x="1300" y="1689"/>
                  </a:lnTo>
                  <a:lnTo>
                    <a:pt x="1242" y="1707"/>
                  </a:lnTo>
                  <a:lnTo>
                    <a:pt x="1181" y="1716"/>
                  </a:lnTo>
                  <a:lnTo>
                    <a:pt x="1098" y="1716"/>
                  </a:lnTo>
                  <a:lnTo>
                    <a:pt x="1098" y="1718"/>
                  </a:lnTo>
                  <a:lnTo>
                    <a:pt x="1053" y="1712"/>
                  </a:lnTo>
                  <a:lnTo>
                    <a:pt x="1009" y="1703"/>
                  </a:lnTo>
                  <a:lnTo>
                    <a:pt x="965" y="1689"/>
                  </a:lnTo>
                  <a:lnTo>
                    <a:pt x="924" y="1672"/>
                  </a:lnTo>
                  <a:lnTo>
                    <a:pt x="882" y="1651"/>
                  </a:lnTo>
                  <a:lnTo>
                    <a:pt x="843" y="1627"/>
                  </a:lnTo>
                  <a:lnTo>
                    <a:pt x="805" y="1598"/>
                  </a:lnTo>
                  <a:lnTo>
                    <a:pt x="768" y="1568"/>
                  </a:lnTo>
                  <a:lnTo>
                    <a:pt x="733" y="1533"/>
                  </a:lnTo>
                  <a:lnTo>
                    <a:pt x="700" y="1496"/>
                  </a:lnTo>
                  <a:lnTo>
                    <a:pt x="669" y="1455"/>
                  </a:lnTo>
                  <a:lnTo>
                    <a:pt x="639" y="1411"/>
                  </a:lnTo>
                  <a:lnTo>
                    <a:pt x="613" y="1364"/>
                  </a:lnTo>
                  <a:lnTo>
                    <a:pt x="589" y="1316"/>
                  </a:lnTo>
                  <a:lnTo>
                    <a:pt x="567" y="1264"/>
                  </a:lnTo>
                  <a:lnTo>
                    <a:pt x="547" y="1210"/>
                  </a:lnTo>
                  <a:lnTo>
                    <a:pt x="510" y="1230"/>
                  </a:lnTo>
                  <a:lnTo>
                    <a:pt x="522" y="1261"/>
                  </a:lnTo>
                  <a:lnTo>
                    <a:pt x="533" y="1293"/>
                  </a:lnTo>
                  <a:lnTo>
                    <a:pt x="546" y="1323"/>
                  </a:lnTo>
                  <a:lnTo>
                    <a:pt x="560" y="1354"/>
                  </a:lnTo>
                  <a:lnTo>
                    <a:pt x="574" y="1382"/>
                  </a:lnTo>
                  <a:lnTo>
                    <a:pt x="589" y="1409"/>
                  </a:lnTo>
                  <a:lnTo>
                    <a:pt x="605" y="1437"/>
                  </a:lnTo>
                  <a:lnTo>
                    <a:pt x="621" y="1464"/>
                  </a:lnTo>
                  <a:lnTo>
                    <a:pt x="192" y="1464"/>
                  </a:lnTo>
                  <a:lnTo>
                    <a:pt x="192" y="1515"/>
                  </a:lnTo>
                  <a:lnTo>
                    <a:pt x="645" y="1515"/>
                  </a:lnTo>
                  <a:lnTo>
                    <a:pt x="647" y="1517"/>
                  </a:lnTo>
                  <a:lnTo>
                    <a:pt x="653" y="1523"/>
                  </a:lnTo>
                  <a:lnTo>
                    <a:pt x="661" y="1530"/>
                  </a:lnTo>
                  <a:lnTo>
                    <a:pt x="672" y="1539"/>
                  </a:lnTo>
                  <a:lnTo>
                    <a:pt x="683" y="1550"/>
                  </a:lnTo>
                  <a:lnTo>
                    <a:pt x="695" y="1562"/>
                  </a:lnTo>
                  <a:lnTo>
                    <a:pt x="706" y="1573"/>
                  </a:lnTo>
                  <a:lnTo>
                    <a:pt x="716" y="1583"/>
                  </a:lnTo>
                  <a:lnTo>
                    <a:pt x="0" y="1583"/>
                  </a:lnTo>
                  <a:lnTo>
                    <a:pt x="0" y="1635"/>
                  </a:lnTo>
                  <a:lnTo>
                    <a:pt x="773" y="1635"/>
                  </a:lnTo>
                  <a:lnTo>
                    <a:pt x="792" y="1651"/>
                  </a:lnTo>
                  <a:lnTo>
                    <a:pt x="813" y="1666"/>
                  </a:lnTo>
                  <a:lnTo>
                    <a:pt x="834" y="1680"/>
                  </a:lnTo>
                  <a:lnTo>
                    <a:pt x="856" y="1693"/>
                  </a:lnTo>
                  <a:lnTo>
                    <a:pt x="877" y="1706"/>
                  </a:lnTo>
                  <a:lnTo>
                    <a:pt x="898" y="1716"/>
                  </a:lnTo>
                  <a:lnTo>
                    <a:pt x="921" y="1727"/>
                  </a:lnTo>
                  <a:lnTo>
                    <a:pt x="943" y="1736"/>
                  </a:lnTo>
                  <a:lnTo>
                    <a:pt x="966" y="1745"/>
                  </a:lnTo>
                  <a:lnTo>
                    <a:pt x="989" y="1751"/>
                  </a:lnTo>
                  <a:lnTo>
                    <a:pt x="1012" y="1758"/>
                  </a:lnTo>
                  <a:lnTo>
                    <a:pt x="1037" y="1763"/>
                  </a:lnTo>
                  <a:lnTo>
                    <a:pt x="1060" y="1768"/>
                  </a:lnTo>
                  <a:lnTo>
                    <a:pt x="1084" y="1769"/>
                  </a:lnTo>
                  <a:lnTo>
                    <a:pt x="1108" y="1772"/>
                  </a:lnTo>
                  <a:lnTo>
                    <a:pt x="1132" y="1772"/>
                  </a:lnTo>
                  <a:lnTo>
                    <a:pt x="1139" y="1772"/>
                  </a:lnTo>
                  <a:lnTo>
                    <a:pt x="1145" y="1772"/>
                  </a:lnTo>
                  <a:lnTo>
                    <a:pt x="1152" y="1772"/>
                  </a:lnTo>
                  <a:lnTo>
                    <a:pt x="1158" y="1771"/>
                  </a:lnTo>
                  <a:lnTo>
                    <a:pt x="1163" y="1771"/>
                  </a:lnTo>
                  <a:lnTo>
                    <a:pt x="1169" y="1771"/>
                  </a:lnTo>
                  <a:lnTo>
                    <a:pt x="1176" y="1769"/>
                  </a:lnTo>
                  <a:lnTo>
                    <a:pt x="1182" y="1769"/>
                  </a:lnTo>
                  <a:lnTo>
                    <a:pt x="1769" y="1769"/>
                  </a:lnTo>
                  <a:lnTo>
                    <a:pt x="1769" y="1716"/>
                  </a:lnTo>
                  <a:lnTo>
                    <a:pt x="1367" y="1716"/>
                  </a:lnTo>
                  <a:lnTo>
                    <a:pt x="1385" y="1707"/>
                  </a:lnTo>
                  <a:lnTo>
                    <a:pt x="1402" y="1698"/>
                  </a:lnTo>
                  <a:lnTo>
                    <a:pt x="1419" y="1687"/>
                  </a:lnTo>
                  <a:lnTo>
                    <a:pt x="1435" y="1677"/>
                  </a:lnTo>
                  <a:lnTo>
                    <a:pt x="1451" y="1666"/>
                  </a:lnTo>
                  <a:lnTo>
                    <a:pt x="1467" y="1654"/>
                  </a:lnTo>
                  <a:lnTo>
                    <a:pt x="1484" y="1642"/>
                  </a:lnTo>
                  <a:lnTo>
                    <a:pt x="1499" y="1630"/>
                  </a:lnTo>
                  <a:lnTo>
                    <a:pt x="1515" y="1616"/>
                  </a:lnTo>
                  <a:lnTo>
                    <a:pt x="1530" y="1603"/>
                  </a:lnTo>
                  <a:lnTo>
                    <a:pt x="1544" y="1588"/>
                  </a:lnTo>
                  <a:lnTo>
                    <a:pt x="1558" y="1573"/>
                  </a:lnTo>
                  <a:lnTo>
                    <a:pt x="1572" y="1558"/>
                  </a:lnTo>
                  <a:lnTo>
                    <a:pt x="1586" y="1541"/>
                  </a:lnTo>
                  <a:lnTo>
                    <a:pt x="1600" y="1524"/>
                  </a:lnTo>
                  <a:lnTo>
                    <a:pt x="1613" y="1508"/>
                  </a:lnTo>
                  <a:lnTo>
                    <a:pt x="1613" y="1515"/>
                  </a:lnTo>
                  <a:lnTo>
                    <a:pt x="1972" y="1515"/>
                  </a:lnTo>
                  <a:lnTo>
                    <a:pt x="1972" y="1464"/>
                  </a:lnTo>
                  <a:lnTo>
                    <a:pt x="1644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122400" y="4611600"/>
              <a:ext cx="542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111600" y="3314520"/>
              <a:ext cx="703080" cy="1055880"/>
            </a:xfrm>
            <a:custGeom>
              <a:avLst/>
              <a:gdLst/>
              <a:ahLst/>
              <a:rect l="l" t="t" r="r" b="b"/>
              <a:pathLst>
                <a:path w="1014" h="1329">
                  <a:moveTo>
                    <a:pt x="547" y="289"/>
                  </a:moveTo>
                  <a:lnTo>
                    <a:pt x="547" y="515"/>
                  </a:lnTo>
                  <a:lnTo>
                    <a:pt x="615" y="571"/>
                  </a:lnTo>
                  <a:lnTo>
                    <a:pt x="615" y="485"/>
                  </a:lnTo>
                  <a:lnTo>
                    <a:pt x="653" y="485"/>
                  </a:lnTo>
                  <a:lnTo>
                    <a:pt x="653" y="601"/>
                  </a:lnTo>
                  <a:lnTo>
                    <a:pt x="738" y="671"/>
                  </a:lnTo>
                  <a:lnTo>
                    <a:pt x="738" y="609"/>
                  </a:lnTo>
                  <a:lnTo>
                    <a:pt x="775" y="609"/>
                  </a:lnTo>
                  <a:lnTo>
                    <a:pt x="775" y="701"/>
                  </a:lnTo>
                  <a:lnTo>
                    <a:pt x="873" y="778"/>
                  </a:lnTo>
                  <a:lnTo>
                    <a:pt x="873" y="885"/>
                  </a:lnTo>
                  <a:lnTo>
                    <a:pt x="547" y="733"/>
                  </a:lnTo>
                  <a:lnTo>
                    <a:pt x="547" y="1002"/>
                  </a:lnTo>
                  <a:lnTo>
                    <a:pt x="621" y="1079"/>
                  </a:lnTo>
                  <a:lnTo>
                    <a:pt x="621" y="1166"/>
                  </a:lnTo>
                  <a:lnTo>
                    <a:pt x="508" y="1100"/>
                  </a:lnTo>
                  <a:lnTo>
                    <a:pt x="395" y="1166"/>
                  </a:lnTo>
                  <a:lnTo>
                    <a:pt x="395" y="1080"/>
                  </a:lnTo>
                  <a:lnTo>
                    <a:pt x="469" y="1003"/>
                  </a:lnTo>
                  <a:lnTo>
                    <a:pt x="469" y="733"/>
                  </a:lnTo>
                  <a:lnTo>
                    <a:pt x="144" y="885"/>
                  </a:lnTo>
                  <a:lnTo>
                    <a:pt x="144" y="778"/>
                  </a:lnTo>
                  <a:lnTo>
                    <a:pt x="243" y="700"/>
                  </a:lnTo>
                  <a:lnTo>
                    <a:pt x="243" y="609"/>
                  </a:lnTo>
                  <a:lnTo>
                    <a:pt x="280" y="609"/>
                  </a:lnTo>
                  <a:lnTo>
                    <a:pt x="280" y="669"/>
                  </a:lnTo>
                  <a:lnTo>
                    <a:pt x="355" y="607"/>
                  </a:lnTo>
                  <a:lnTo>
                    <a:pt x="355" y="485"/>
                  </a:lnTo>
                  <a:lnTo>
                    <a:pt x="392" y="485"/>
                  </a:lnTo>
                  <a:lnTo>
                    <a:pt x="392" y="577"/>
                  </a:lnTo>
                  <a:lnTo>
                    <a:pt x="469" y="515"/>
                  </a:lnTo>
                  <a:lnTo>
                    <a:pt x="469" y="162"/>
                  </a:lnTo>
                  <a:lnTo>
                    <a:pt x="470" y="150"/>
                  </a:lnTo>
                  <a:lnTo>
                    <a:pt x="472" y="139"/>
                  </a:lnTo>
                  <a:lnTo>
                    <a:pt x="477" y="130"/>
                  </a:lnTo>
                  <a:lnTo>
                    <a:pt x="483" y="124"/>
                  </a:lnTo>
                  <a:lnTo>
                    <a:pt x="488" y="119"/>
                  </a:lnTo>
                  <a:lnTo>
                    <a:pt x="495" y="116"/>
                  </a:lnTo>
                  <a:lnTo>
                    <a:pt x="502" y="113"/>
                  </a:lnTo>
                  <a:lnTo>
                    <a:pt x="508" y="113"/>
                  </a:lnTo>
                  <a:lnTo>
                    <a:pt x="514" y="113"/>
                  </a:lnTo>
                  <a:lnTo>
                    <a:pt x="521" y="116"/>
                  </a:lnTo>
                  <a:lnTo>
                    <a:pt x="528" y="119"/>
                  </a:lnTo>
                  <a:lnTo>
                    <a:pt x="533" y="124"/>
                  </a:lnTo>
                  <a:lnTo>
                    <a:pt x="539" y="130"/>
                  </a:lnTo>
                  <a:lnTo>
                    <a:pt x="544" y="139"/>
                  </a:lnTo>
                  <a:lnTo>
                    <a:pt x="546" y="150"/>
                  </a:lnTo>
                  <a:lnTo>
                    <a:pt x="547" y="162"/>
                  </a:lnTo>
                  <a:lnTo>
                    <a:pt x="547" y="289"/>
                  </a:lnTo>
                  <a:lnTo>
                    <a:pt x="798" y="121"/>
                  </a:lnTo>
                  <a:lnTo>
                    <a:pt x="782" y="107"/>
                  </a:lnTo>
                  <a:lnTo>
                    <a:pt x="766" y="94"/>
                  </a:lnTo>
                  <a:lnTo>
                    <a:pt x="750" y="82"/>
                  </a:lnTo>
                  <a:lnTo>
                    <a:pt x="733" y="70"/>
                  </a:lnTo>
                  <a:lnTo>
                    <a:pt x="715" y="59"/>
                  </a:lnTo>
                  <a:lnTo>
                    <a:pt x="698" y="50"/>
                  </a:lnTo>
                  <a:lnTo>
                    <a:pt x="680" y="41"/>
                  </a:lnTo>
                  <a:lnTo>
                    <a:pt x="662" y="32"/>
                  </a:lnTo>
                  <a:lnTo>
                    <a:pt x="644" y="24"/>
                  </a:lnTo>
                  <a:lnTo>
                    <a:pt x="624" y="18"/>
                  </a:lnTo>
                  <a:lnTo>
                    <a:pt x="606" y="12"/>
                  </a:lnTo>
                  <a:lnTo>
                    <a:pt x="586" y="8"/>
                  </a:lnTo>
                  <a:lnTo>
                    <a:pt x="567" y="5"/>
                  </a:lnTo>
                  <a:lnTo>
                    <a:pt x="546" y="2"/>
                  </a:lnTo>
                  <a:lnTo>
                    <a:pt x="526" y="0"/>
                  </a:lnTo>
                  <a:lnTo>
                    <a:pt x="506" y="0"/>
                  </a:lnTo>
                  <a:lnTo>
                    <a:pt x="454" y="3"/>
                  </a:lnTo>
                  <a:lnTo>
                    <a:pt x="404" y="14"/>
                  </a:lnTo>
                  <a:lnTo>
                    <a:pt x="356" y="30"/>
                  </a:lnTo>
                  <a:lnTo>
                    <a:pt x="309" y="53"/>
                  </a:lnTo>
                  <a:lnTo>
                    <a:pt x="265" y="80"/>
                  </a:lnTo>
                  <a:lnTo>
                    <a:pt x="224" y="113"/>
                  </a:lnTo>
                  <a:lnTo>
                    <a:pt x="184" y="153"/>
                  </a:lnTo>
                  <a:lnTo>
                    <a:pt x="149" y="195"/>
                  </a:lnTo>
                  <a:lnTo>
                    <a:pt x="115" y="243"/>
                  </a:lnTo>
                  <a:lnTo>
                    <a:pt x="86" y="295"/>
                  </a:lnTo>
                  <a:lnTo>
                    <a:pt x="61" y="349"/>
                  </a:lnTo>
                  <a:lnTo>
                    <a:pt x="40" y="408"/>
                  </a:lnTo>
                  <a:lnTo>
                    <a:pt x="23" y="468"/>
                  </a:lnTo>
                  <a:lnTo>
                    <a:pt x="10" y="532"/>
                  </a:lnTo>
                  <a:lnTo>
                    <a:pt x="2" y="598"/>
                  </a:lnTo>
                  <a:lnTo>
                    <a:pt x="0" y="666"/>
                  </a:lnTo>
                  <a:lnTo>
                    <a:pt x="2" y="734"/>
                  </a:lnTo>
                  <a:lnTo>
                    <a:pt x="10" y="799"/>
                  </a:lnTo>
                  <a:lnTo>
                    <a:pt x="23" y="863"/>
                  </a:lnTo>
                  <a:lnTo>
                    <a:pt x="40" y="925"/>
                  </a:lnTo>
                  <a:lnTo>
                    <a:pt x="61" y="982"/>
                  </a:lnTo>
                  <a:lnTo>
                    <a:pt x="86" y="1036"/>
                  </a:lnTo>
                  <a:lnTo>
                    <a:pt x="115" y="1088"/>
                  </a:lnTo>
                  <a:lnTo>
                    <a:pt x="149" y="1135"/>
                  </a:lnTo>
                  <a:lnTo>
                    <a:pt x="184" y="1178"/>
                  </a:lnTo>
                  <a:lnTo>
                    <a:pt x="224" y="1216"/>
                  </a:lnTo>
                  <a:lnTo>
                    <a:pt x="265" y="1249"/>
                  </a:lnTo>
                  <a:lnTo>
                    <a:pt x="309" y="1277"/>
                  </a:lnTo>
                  <a:lnTo>
                    <a:pt x="356" y="1299"/>
                  </a:lnTo>
                  <a:lnTo>
                    <a:pt x="404" y="1316"/>
                  </a:lnTo>
                  <a:lnTo>
                    <a:pt x="454" y="1326"/>
                  </a:lnTo>
                  <a:lnTo>
                    <a:pt x="506" y="1329"/>
                  </a:lnTo>
                  <a:lnTo>
                    <a:pt x="558" y="1326"/>
                  </a:lnTo>
                  <a:lnTo>
                    <a:pt x="608" y="1316"/>
                  </a:lnTo>
                  <a:lnTo>
                    <a:pt x="657" y="1299"/>
                  </a:lnTo>
                  <a:lnTo>
                    <a:pt x="704" y="1277"/>
                  </a:lnTo>
                  <a:lnTo>
                    <a:pt x="748" y="1249"/>
                  </a:lnTo>
                  <a:lnTo>
                    <a:pt x="790" y="1216"/>
                  </a:lnTo>
                  <a:lnTo>
                    <a:pt x="829" y="1178"/>
                  </a:lnTo>
                  <a:lnTo>
                    <a:pt x="865" y="1135"/>
                  </a:lnTo>
                  <a:lnTo>
                    <a:pt x="897" y="1088"/>
                  </a:lnTo>
                  <a:lnTo>
                    <a:pt x="927" y="1036"/>
                  </a:lnTo>
                  <a:lnTo>
                    <a:pt x="953" y="982"/>
                  </a:lnTo>
                  <a:lnTo>
                    <a:pt x="973" y="925"/>
                  </a:lnTo>
                  <a:lnTo>
                    <a:pt x="991" y="863"/>
                  </a:lnTo>
                  <a:lnTo>
                    <a:pt x="1003" y="799"/>
                  </a:lnTo>
                  <a:lnTo>
                    <a:pt x="1011" y="734"/>
                  </a:lnTo>
                  <a:lnTo>
                    <a:pt x="1014" y="666"/>
                  </a:lnTo>
                  <a:lnTo>
                    <a:pt x="1013" y="624"/>
                  </a:lnTo>
                  <a:lnTo>
                    <a:pt x="1010" y="583"/>
                  </a:lnTo>
                  <a:lnTo>
                    <a:pt x="1005" y="542"/>
                  </a:lnTo>
                  <a:lnTo>
                    <a:pt x="999" y="503"/>
                  </a:lnTo>
                  <a:lnTo>
                    <a:pt x="990" y="464"/>
                  </a:lnTo>
                  <a:lnTo>
                    <a:pt x="980" y="426"/>
                  </a:lnTo>
                  <a:lnTo>
                    <a:pt x="968" y="390"/>
                  </a:lnTo>
                  <a:lnTo>
                    <a:pt x="955" y="355"/>
                  </a:lnTo>
                  <a:lnTo>
                    <a:pt x="940" y="320"/>
                  </a:lnTo>
                  <a:lnTo>
                    <a:pt x="924" y="287"/>
                  </a:lnTo>
                  <a:lnTo>
                    <a:pt x="905" y="255"/>
                  </a:lnTo>
                  <a:lnTo>
                    <a:pt x="887" y="225"/>
                  </a:lnTo>
                  <a:lnTo>
                    <a:pt x="866" y="196"/>
                  </a:lnTo>
                  <a:lnTo>
                    <a:pt x="844" y="169"/>
                  </a:lnTo>
                  <a:lnTo>
                    <a:pt x="823" y="145"/>
                  </a:lnTo>
                  <a:lnTo>
                    <a:pt x="798" y="121"/>
                  </a:lnTo>
                  <a:lnTo>
                    <a:pt x="547" y="289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6" name="Picture 10" descr="j0183328"/>
          <p:cNvPicPr/>
          <p:nvPr/>
        </p:nvPicPr>
        <p:blipFill>
          <a:blip r:embed="rId2"/>
          <a:stretch/>
        </p:blipFill>
        <p:spPr>
          <a:xfrm>
            <a:off x="33480" y="1197000"/>
            <a:ext cx="10094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686800" cy="9367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едметные контрольные</a:t>
            </a:r>
            <a:r>
              <a:rPr b="1" lang="ru-RU" sz="4000" spc="-1" strike="noStrike">
                <a:solidFill>
                  <a:srgbClr val="29941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вид заданий в новых контрольных работах  с  3- го класса)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улировка зад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казание проверяемого </a:t>
            </a:r>
            <a:r>
              <a:rPr b="1" i="1" lang="ru-RU" sz="3200" spc="-1" strike="noStrike">
                <a:solidFill>
                  <a:srgbClr val="66ff99"/>
                </a:solidFill>
                <a:latin typeface="Times New Roman"/>
              </a:rPr>
              <a:t>умения</a:t>
            </a:r>
            <a:r>
              <a:rPr b="0" i="1" lang="ru-RU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з требований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обходимый уров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тандартная задача – «хорошо, но не отличн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99"/>
                </a:solidFill>
                <a:latin typeface="Times New Roman"/>
              </a:rPr>
              <a:t>Программный уров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стандартная задача – «отличн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аксимальный уров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дача сверх уровня школьных требований данного возраста – «превосходн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7-е правил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тоговая оценка и итоговая отмет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овые оценки и отметка определяются не за число уроков четверти, а за учебный модуль – дидактически цельную завершенную часть учебного материала (группу тем), который изучали большую часть четверти. Таким образом, итоговую оценку и отметку нужно начинать высчитывать тогда, когда  завершен учебный модуль в данной четверти или полугодии, когда проведена проверочная рабо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Порядок подсчета итоговой отметки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imes New Roman"/>
              </a:rPr>
              <a:t>1 шаг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кладываются все баллы за задания проверочных работ (в том числе и пустые кружки-нули, если они остались) и за задачи текущего контроля (которые ученик пожелал себе выставить)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imes New Roman"/>
              </a:rPr>
              <a:t>2 шаг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лученная сумма делится на общее число отметок (с учетом кружков-нулей, если они остались) и получается среднеарифметический балл с сотыми долями. Именно этот среднеарифметический балл (с сотыми) и является итоговой отметкой, которая выставляется в конце таблицы требований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00"/>
                </a:solidFill>
                <a:uFillTx/>
                <a:latin typeface="Times New Roman"/>
              </a:rPr>
              <a:t>3 шаг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ля выставления традиционной итоговой отметки (за четверть, год) в официальный журнал, средне-арифметический балл переводится в традиционную отметку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4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ценка и отметка всегда считались монополией учителя, а развитие самооценки - чем-то «дополнительным и необязательным». Если мы хотим помочь нашим детям стать самостоятельными, давайте учить их свободе решений и ответственности за свой выбор</a:t>
            </a:r>
            <a:r>
              <a:rPr b="0" lang="ru-RU" sz="3300" spc="-1" strike="noStrike">
                <a:solidFill>
                  <a:srgbClr val="2b03f5"/>
                </a:solidFill>
                <a:latin typeface="Times New Roman"/>
              </a:rPr>
              <a:t>. 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1905120" y="3557520"/>
            <a:ext cx="5181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2057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витие самооценки потребует от вас дополнительных усилий, но вскоре вы увидите как дети станут другими! Как показала практика они говорят: «Теперь понятно зачем мы учимся!» и «Я больше не боюсь отвечать, потому что учитель со мной советуется!»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705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WordArt 4"/>
          <p:cNvSpPr txBox="1"/>
          <p:nvPr/>
        </p:nvSpPr>
        <p:spPr>
          <a:xfrm>
            <a:off x="1066680" y="2895480"/>
            <a:ext cx="7056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20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029"/>
                </a:solidFill>
                <a:latin typeface="Times New Roman"/>
              </a:rPr>
              <a:t>Технология оценивания образовательных достижений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124080" y="1752120"/>
            <a:ext cx="6019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0029"/>
                </a:solidFill>
                <a:latin typeface="Times New Roman"/>
              </a:rPr>
              <a:t>Технология оценивания образовательных достижений обучающихся напрямую связана с комфортностью обучения. Наши дети учатся самостоятельно оценивать результаты своей учебной деятельности, мы дифференцируем оценку и отметку, предлагаем задания на трех уровнях: необходимом, программном и максимальн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1"/>
          <a:stretch/>
        </p:blipFill>
        <p:spPr>
          <a:xfrm>
            <a:off x="52560" y="1600200"/>
            <a:ext cx="307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Цель  технологии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40029"/>
                </a:solidFill>
                <a:latin typeface="Times New Roman"/>
              </a:rPr>
              <a:t>Обеспечить на этапе контроля принципы развивающего личностно-ориентированного  образ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6858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и технологии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, как ученик овладевает умениями по использованию знаний – то есть современными целями образов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 ученика умения самостоятельно оценивать результат своих действий, контролировать самого себя, находить и исправлять собственные оши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ивировать ученика на успех, избавить его от страха перед школьным контролем и оцениванием, создать комфортную для учебы обстановку, сберечь психологическое здоровье дет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 технологии оценки учебных успехов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Что контролировать и оценив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-е правило: «Отличие оценки и отметки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иваться может все. Фиксируется с помощью отметки только демонстрация умения применять зн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ешать задач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то оценивае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-е правило: «Самооцен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у определяют учитель и ученик сообща. Учитель и ученик по возможности определяют оценку в диалоге ( внешняя оценка+самооценка). Ученик имеет право аргументированно оспорить выставленную отметк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1"/>
          <a:stretch/>
        </p:blipFill>
        <p:spPr>
          <a:xfrm>
            <a:off x="5486400" y="3873600"/>
            <a:ext cx="3200400" cy="298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"/>
          <p:cNvPicPr/>
          <p:nvPr/>
        </p:nvPicPr>
        <p:blipFill>
          <a:blip r:embed="rId2"/>
          <a:stretch/>
        </p:blipFill>
        <p:spPr>
          <a:xfrm>
            <a:off x="380880" y="3890880"/>
            <a:ext cx="3200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огда оценивать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3-е правило: «Одна задача – одна оценк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и ученики привыкают оценивать каждую решенную задачу в отдельности, а не урок в целом. За каждую учебную задачу или группу заданий- задач, показывающих овладение отдельным умением, ставится своя, отдельная отмет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де фиксируются результат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-е правило: «Таблица требовани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метка выставляется в таблицу требований (вкладыш в журнал учителя, в дневник школьника) в графу того умения, которое было основным в ходе решения зада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Picture 20" descr=""/>
          <p:cNvPicPr/>
          <p:nvPr/>
        </p:nvPicPr>
        <p:blipFill>
          <a:blip r:embed="rId1"/>
          <a:stretch/>
        </p:blipFill>
        <p:spPr>
          <a:xfrm>
            <a:off x="0" y="3962520"/>
            <a:ext cx="38098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2205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авило 4: ТАБЛИЦА ТРЕБОВАНИЙ.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метка  выставляется в таблицу требований (блокнот учителя, дневник школьника) в графу того умения, которо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ыло основны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 ходе решения задачи.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Минимум – учитель 1-2 раза в четверть после контрольной работы. Максимум – учитель и ученики регулярно. Пример: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04920" y="3200400"/>
            <a:ext cx="1752480" cy="2654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4038480" y="3149640"/>
            <a:ext cx="198144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ределять причины и следствия историчес-ких явл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6095880" y="3200400"/>
            <a:ext cx="236232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авать и объяснить свои оценки исторических явл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981080" y="3124080"/>
            <a:ext cx="205740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ыделять главное и обобщ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304920" y="5511960"/>
            <a:ext cx="1676160" cy="368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я 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304920" y="5892840"/>
            <a:ext cx="1676160" cy="368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вел 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304920" y="6273720"/>
            <a:ext cx="1676160" cy="368280"/>
          </a:xfrm>
          <a:prstGeom prst="rect">
            <a:avLst/>
          </a:prstGeom>
          <a:solidFill>
            <a:srgbClr val="66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он 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981080" y="5511960"/>
            <a:ext cx="205740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5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1981080" y="5908680"/>
            <a:ext cx="205740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3. 4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1981080" y="6289560"/>
            <a:ext cx="205740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4038480" y="5511960"/>
            <a:ext cx="198144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4038480" y="5908680"/>
            <a:ext cx="198144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4038480" y="6289560"/>
            <a:ext cx="198144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6019920" y="5511960"/>
            <a:ext cx="236196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6019920" y="5908680"/>
            <a:ext cx="236196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6019920" y="6289560"/>
            <a:ext cx="2361960" cy="337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Oval 21"/>
          <p:cNvSpPr/>
          <p:nvPr/>
        </p:nvSpPr>
        <p:spPr>
          <a:xfrm>
            <a:off x="4932360" y="5521320"/>
            <a:ext cx="28728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Oval 22"/>
          <p:cNvSpPr/>
          <p:nvPr/>
        </p:nvSpPr>
        <p:spPr>
          <a:xfrm>
            <a:off x="4932360" y="595296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Oval 23"/>
          <p:cNvSpPr/>
          <p:nvPr/>
        </p:nvSpPr>
        <p:spPr>
          <a:xfrm>
            <a:off x="4932360" y="631332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Oval 24"/>
          <p:cNvSpPr/>
          <p:nvPr/>
        </p:nvSpPr>
        <p:spPr>
          <a:xfrm>
            <a:off x="2987640" y="5521320"/>
            <a:ext cx="28728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Oval 25"/>
          <p:cNvSpPr/>
          <p:nvPr/>
        </p:nvSpPr>
        <p:spPr>
          <a:xfrm>
            <a:off x="3059280" y="595296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Oval 26"/>
          <p:cNvSpPr/>
          <p:nvPr/>
        </p:nvSpPr>
        <p:spPr>
          <a:xfrm>
            <a:off x="2843280" y="6313320"/>
            <a:ext cx="28728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5-15T18:19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