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245-E904-4BB8-978C-7E79924F5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C3B-A82A-4BDA-A309-83A7C3E8C3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BF6B-DB2F-4625-B00F-BC1664A10C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D29-0BED-4223-8D0B-E70EB82DDB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ED07-2FAC-47FE-9AC0-7069E961D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178-AA06-4B4E-A526-10898FEEDB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01C6-7795-442E-8EA5-EF0394289C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758-6D1E-43E8-8FFB-D20ECCF1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EE7-1C54-4188-911D-5BAD5DF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533F1-83A0-482A-A951-B9B40D78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2F48F-6904-4107-88B2-0E79F91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7B727-0A8E-41D5-AECA-C4496EA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4E652-9982-4350-BB7A-DA4350A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AC70-D295-4796-AD57-82BA84F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3A325-1CB3-41F2-B26D-7FCFCC47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6A212-735D-4BDC-A732-9DD108A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C365-D261-4784-9EE9-EF83DA01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C4E4E-6D61-47AC-9F51-9310DCF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56D37-6A8D-4A07-8096-9B2A59EC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43B-7E6C-4576-9FF8-1D9ED1F4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093D9-6E85-4F3B-8BFA-0059DD5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27D12-8462-4CD6-85C8-1C11A21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6F8D7-D3C8-4298-B031-CCA2A69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BE0E7-6C53-4800-88ED-7936038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7316-A9E4-4620-879D-D30BA2F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19773-1A40-40B3-B97A-D8053F5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8235E-2BE5-4C41-859B-C2C0CDE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C82C-E4B4-4DA3-9ECC-44906B1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CC6D0-4384-4C79-BFFB-39A17EC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4AA1-3EDD-4706-945A-E3A6A8CA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B93-2E08-4447-A790-B97A7B08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C44D9-A330-43C4-A60D-7802B4E5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E3DB-2E25-490B-AE98-C51E4ED7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0416-3FC7-432F-9029-3169DB9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1810-44EF-4F2A-AA1F-82940854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DAD4-0941-4DFD-B8FF-9AE5668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7CB95-14B3-45E7-AD8B-32F0C7F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EB0B-8A8E-4A3A-962D-049FFB3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7E09-EFA5-4591-A68A-11F040C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0750-B6FB-4DF5-A5E1-5084784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53B96-120A-4FBE-A3C7-FE791EF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A47-6533-4F7C-B7D8-CF1492BE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BD148-7CEE-41E5-83AA-8B85F9EB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3DA7-9C89-4B0B-AAAB-C50326BF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8D2D-E07A-456E-8B27-F9179B11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8B984-D3D5-48C5-8095-F2B7A9B6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B361E-984B-477D-BA41-A97C0C2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6AABF-5371-4B6F-85AA-B5514690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27180-AA46-4878-A985-A10E811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0C1E6-1310-43B0-A0C7-04E473B8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D0794-0ADE-4F8E-8AB2-34624F81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33353-4BD5-4538-8F16-4C98585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B31-82FE-45F1-B94D-46CEC0B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1BF90-4549-45D0-AC37-CABA08C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D3F36-3458-4CA5-A79F-B18EAEDD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49FDC-A155-4E54-BB11-5A25EB21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4CC34-D71B-496E-8289-C56F7B16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71065-56FC-4D26-8C9B-9F5EBC36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DFE-7774-4BD3-8A6E-348D133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0D76-AC7B-458B-B3EE-636FFAE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53FE-2AC6-4B66-98FE-9F636A74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AA1-D0DF-4521-97EB-32DE457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4938-F5C2-47B4-ADBD-D3A73F0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909-392C-4B9A-86C5-0FBBE9E7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A6A5-1EF6-4B17-905A-BDB89DA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9DDC-368B-4FA6-89B3-B46BA09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739C-0C20-4FE2-964C-CBFAE31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134-BCD8-4BC6-83E8-F4EF7FD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BEF6-FAD8-4AE4-9555-BE94F79D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B49C-FDC0-40E4-9A53-9D8D8590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57FE-D8DE-4122-836E-E5E8F88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8CD7-4A50-41A5-A705-AADBA0E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4BF6-FDB8-4DE7-AC9E-B1A484D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3107-50C6-4F84-97ED-43DCA55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F11-F1D9-43FD-B5AD-C661AF0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74D7-8576-4CF9-B49F-0B1F05D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B4CC-788F-42D0-ADE8-F2523E0F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61E3-5D56-4084-BE3E-78A2C1A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1976-A69B-4107-8C14-67C1B33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9F48-7401-443F-B01F-074C81F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55EE-7ACB-4C33-80A4-25E54B8C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922C-9097-4613-82BE-8D6F20A9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DCD2-DC95-4723-8D6D-AAD1DAA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CED2-7C8E-4A3C-B35C-792F967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BEAF-620E-49B7-BD5A-D3F081B3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8CB-8BAD-4C12-9C59-76CF7D20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2BF1-3711-4B87-91F5-8A0E806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6630-A3C7-421F-A2A8-6C7C4A8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ADDA-68FB-42CA-816E-975C4D7B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D92B-1822-444E-A016-9F3C863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4F90-850C-44B3-9475-20EAA11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D460-E8E0-470B-9807-37F0A52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3D8D-20C6-48AD-8578-0C2EEFDE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01E4-5797-42BE-AC9E-A1A6C354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F3E1-7F97-4F01-96DE-E3572810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2AF1-129B-4B20-BD83-07F7A2F6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185-5607-49CF-AEDA-F027162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57B2-38A3-49BD-A9EC-C10491DB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8077-000C-4B4C-A9A9-C98EE9C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2156-7A6F-4430-A68B-214979BA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19A6-B8F5-46A3-9FB7-A39E6A2E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2564-2F90-48B7-9D21-012B593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1E7B-901F-4B4B-A4B5-1EC1ADC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DB38-C649-400E-B5B6-E911C35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700D-1367-42A0-941A-1A075AE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83D9-D3AF-4E50-BD61-51170C7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2252-2844-4193-A4D6-78560853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FDC-5B49-4B34-B400-73D2C07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2392-9CFB-4734-973D-803059B1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CADE-769F-4399-8202-8B7F090D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9053-D1DE-4978-BB6E-3E47E82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1C0F3-C1AA-4100-A1F2-8E9C3A8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6425-6FA6-47E1-9505-F97F42F1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34B6-0407-4296-9A3D-5A608AF8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D3AA-9E58-4D7D-A711-5C56589A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8562-A62D-42C8-B4EE-71023EB9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CB4A-6093-42CC-A11F-A15E2BD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7D85-693F-4567-ABC6-AFB7EB1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B45-6C36-4C97-8C8A-624EBF3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A423-BF01-42BA-87A2-1019781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B7B73-1999-42CB-A746-E52FB2D9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E255-954B-4B7C-8E39-5CFF4C43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167A-5A1A-40FE-B1FE-AC3BEDA2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5ADF-3BE7-4A82-9B5C-86D05CF1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069BF-1E4B-410E-9C86-88C405BC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5424-AE2B-459A-B98F-D33D523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294F-53E9-4FE0-AFF5-B668403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43C1E-0012-4D9E-BF0F-F39AF60E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DEC6-5A47-4CEF-8FC5-C6D593A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511-6703-477B-BCD8-788CBDD5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04A8-61C2-46CB-9EA0-2A73220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CB25-B12D-4764-8B5F-E37CBCF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D7315-3C21-40A2-86A2-C3D0FA65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4A77B-6E6A-47A0-96C3-ECD1CE1E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F86D-CD11-41EA-B6EE-C54F74C1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40B6-FF69-49D3-B7A8-918F0592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150B-ABCF-444A-B546-53DC081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2882-7141-46DB-8068-E3EE9D0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5B7D-2FC1-400D-B0B3-49F616DB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1DCCD-ABE2-4418-8254-4B4613F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D29-5AD9-4EF3-A7E4-139E356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12BF3-F709-49D2-8E75-D7B4D8A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6C154-235B-4130-8A32-39D59AFA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382B-D077-43EF-96B3-142334A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55431-4674-4187-9C4E-A6D4663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05C7-CE4D-42E6-AC87-F2E04C8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97836-46BC-490D-A277-7BA64A49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4AA9B-4F05-4905-824F-CCD98741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EEB22-4B9C-49B2-8486-4002581D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2F36-EB13-4C14-98B9-42417A40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0837D-4DAF-4DA2-8647-D2E1BFC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089-5C08-416D-8C62-33811C355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652-F198-4C0C-A9CA-581048E66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5095-D045-437C-A56C-BE91046CDE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D7D6-F39F-47F0-AF63-58DF00CE66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23C-0239-450A-A74A-2D46E7CBEC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8691-F2DC-48BB-BF30-9C71C6C0C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3CAC-E1C6-425E-8B13-9AC8E98F5E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DDA-0553-481B-8F09-27129B945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601-8912-4798-BABC-EF633C5A0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30F-44C6-4BBF-8434-09E2EE3E5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0C6-AC77-4BE9-A490-30E5D3D50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C93-9C62-4989-AE1F-C533A363E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      (учебных успехов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-е правил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Право отказа от отметки и право пересдач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УЩИЙ КОНТР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задачи, решенные при изучении новой темы, отметка ставится только по желанию ученика, так как он еще только овладевает умениями и знаниями темы и имеет право на ошибку, за которую нельзя кара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ОГОВЫЙ КОНТР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задачи, решенные в ходе проверочных и контрольных работ отметки ставятся всем ученик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80520" y="-1526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к, по какой шкале оценив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-е правило: «Уровни успеш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задачи оценивается по признакам уровней успешности (только с 3-го класса). На основании продемонстрированного уровня выставляется отметка в одной из трех шкал (выбранной учителем): 6-балльная шкала «баллов успешности», специально разработанная под уровни успеш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5-балльная шкала «традиционных отметок» – соотнесенная с уровнями успеш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10-балльная шкала – соотнесенная с уровнями успеш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25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ценка и отметка определяются по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РОВНЯМ УСПЕШНОСТИ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71280" y="136800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типовой 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.стандарту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юбому предмету.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о, но не отлич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граммн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нестандарт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-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аксимальн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обязательный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«сверхзадач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- сверх школьных требований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восходно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4" descr="j0215086"/>
          <p:cNvPicPr/>
          <p:nvPr/>
        </p:nvPicPr>
        <p:blipFill>
          <a:blip r:embed="rId1"/>
          <a:stretch/>
        </p:blipFill>
        <p:spPr>
          <a:xfrm>
            <a:off x="108000" y="5224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5"/>
          <p:cNvGrpSpPr/>
          <p:nvPr/>
        </p:nvGrpSpPr>
        <p:grpSpPr>
          <a:xfrm>
            <a:off x="-325440" y="3138480"/>
            <a:ext cx="1368360" cy="1514520"/>
            <a:chOff x="-325440" y="3138480"/>
            <a:chExt cx="1368360" cy="1514520"/>
          </a:xfrm>
        </p:grpSpPr>
        <p:sp>
          <p:nvSpPr>
            <p:cNvPr id="612" name="AutoShape 6"/>
            <p:cNvSpPr/>
            <p:nvPr/>
          </p:nvSpPr>
          <p:spPr>
            <a:xfrm>
              <a:off x="-325440" y="3138480"/>
              <a:ext cx="1368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Freeform 7"/>
            <p:cNvSpPr/>
            <p:nvPr/>
          </p:nvSpPr>
          <p:spPr>
            <a:xfrm>
              <a:off x="-325440" y="3138480"/>
              <a:ext cx="1368360" cy="140652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122400" y="4611600"/>
              <a:ext cx="542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111600" y="3314520"/>
              <a:ext cx="703080" cy="10558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6" name="Picture 10" descr="j0183328"/>
          <p:cNvPicPr/>
          <p:nvPr/>
        </p:nvPicPr>
        <p:blipFill>
          <a:blip r:embed="rId2"/>
          <a:stretch/>
        </p:blipFill>
        <p:spPr>
          <a:xfrm>
            <a:off x="33480" y="1197000"/>
            <a:ext cx="10094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686800" cy="936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едметные контрольные</a:t>
            </a:r>
            <a:r>
              <a:rPr b="1" lang="ru-RU" sz="4000" spc="-1" strike="noStrike">
                <a:solidFill>
                  <a:srgbClr val="29941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вид заданий в новых контрольных работах  с  3- го класса)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улировка зад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казание проверяемого </a:t>
            </a:r>
            <a:r>
              <a:rPr b="1" i="1" lang="ru-RU" sz="3200" spc="-1" strike="noStrike">
                <a:solidFill>
                  <a:srgbClr val="66ff99"/>
                </a:solidFill>
                <a:latin typeface="Times New Roman"/>
              </a:rPr>
              <a:t>умения</a:t>
            </a:r>
            <a:r>
              <a:rPr b="0" i="1" lang="ru-RU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 требовани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обходим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андартная задача – «хорошо, но не отлич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99"/>
                </a:solidFill>
                <a:latin typeface="Times New Roman"/>
              </a:rPr>
              <a:t>Программн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стандартная задача – «отлич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аксимальн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дача сверх уровня школьных требований данного возраста – «превосход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7-е правил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тоговая оценка и итоговая отмет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овые оценки и отметка определяются не за число уроков четверти, а за учебный модуль – дидактически цельную завершенную часть учебного материала (группу тем), который изучали большую часть четверти. Таким образом, итоговую оценку и отметку нужно начинать высчитывать тогда, когда  завершен учебный модуль в данной четверти или полугодии, когда проведена проверочная рабо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орядок подсчета итоговой отметки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1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кладываются все баллы за задания проверочных работ (в том числе и пустые кружки-нули, если они остались) и за задачи текущего контроля (которые ученик пожелал себе выставить)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2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лученная сумма делится на общее число отметок (с учетом кружков-нулей, если они остались) и получается среднеарифметический балл с сотыми долями. Именно этот среднеарифметический балл (с сотыми) и является итоговой отметкой, которая выставляется в конце таблицы требовани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3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ля выставления традиционной итоговой отметки (за четверть, год) в официальный журнал, средне-арифметический балл переводится в традиционную отметку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4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ценка и отметка всегда считались монополией учителя, а развитие самооценки - чем-то «дополнительным и необязательным». Если мы хотим помочь нашим детям стать самостоятельными, давайте учить их свободе решений и ответственности за свой выбор</a:t>
            </a:r>
            <a:r>
              <a:rPr b="0" lang="ru-RU" sz="3300" spc="-1" strike="noStrike">
                <a:solidFill>
                  <a:srgbClr val="2b03f5"/>
                </a:solidFill>
                <a:latin typeface="Times New Roman"/>
              </a:rPr>
              <a:t>. 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1905120" y="3557520"/>
            <a:ext cx="5181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2057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витие самооценки потребует от вас дополнительных усилий, но вскоре вы увидите как дети станут другими! Как показала практика они говорят: «Теперь понятно зачем мы учимся!» и «Я больше не боюсь отвечать, потому что учитель со мной советуется!»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705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WordArt 4"/>
          <p:cNvSpPr txBox="1"/>
          <p:nvPr/>
        </p:nvSpPr>
        <p:spPr>
          <a:xfrm>
            <a:off x="1066680" y="2895480"/>
            <a:ext cx="7056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0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124080" y="1752120"/>
            <a:ext cx="6019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 обучающихся напрямую связана с комфортностью обучения. Наши дети учатся самостоятельно оценивать результаты своей учебной деятельности, мы дифференцируем оценку и отметку, предлагаем задания на трех уровнях: необходимом, программном и максималь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52560" y="1600200"/>
            <a:ext cx="307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Цель  технологии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40029"/>
                </a:solidFill>
                <a:latin typeface="Times New Roman"/>
              </a:rPr>
              <a:t>Обеспечить на этапе контроля принципы развивающего личностно-ориентированного  образ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6858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 технологии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, как ученик овладевает умениями по использованию знаний – то есть современными целями образов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 ученика умения самостоятельно оценивать результат своих действий, контролировать самого себя, находить и исправлять собственные оши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ивировать ученика на успех, избавить его от страха перед школьным контролем и оцениванием, создать комфортную для учебы обстановку, сберечь психологическое здоровье де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 технологии оценки учебных успехов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Что контролировать и оценив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-е правило: «Отличие оценки и отметки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иваться может все. Фиксируется с помощью отметки только демонстрация умения применять зн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шать задач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то оценива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-е правило: «Самооцен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у определяют учитель и ученик сообща. Учитель и ученик по возможности определяют оценку в диалоге ( внешняя оценка+самооценка). Ученик имеет право аргументированно оспорить выставленную отметк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1"/>
          <a:stretch/>
        </p:blipFill>
        <p:spPr>
          <a:xfrm>
            <a:off x="5486400" y="3873600"/>
            <a:ext cx="3200400" cy="298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"/>
          <p:cNvPicPr/>
          <p:nvPr/>
        </p:nvPicPr>
        <p:blipFill>
          <a:blip r:embed="rId2"/>
          <a:stretch/>
        </p:blipFill>
        <p:spPr>
          <a:xfrm>
            <a:off x="380880" y="3890880"/>
            <a:ext cx="3200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гда оценивать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3-е правило: «Одна задача – одна оценк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и ученики привыкают оценивать каждую решенную задачу в отдельности, а не урок в целом. За каждую учебную задачу или группу заданий- задач, показывающих овладение отдельным умением, ставится своя, отдельная отмет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де фиксируются результат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-е правило: «Таблица требовани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метка выставляется в таблицу требований (вкладыш в журнал учителя, в дневник школьника) в графу того умения, которое было основным в ходе решения зада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38098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2205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авило 4: ТАБЛИЦА ТРЕБОВАНИЙ.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метка  выставляется в таблицу требований (блокнот учителя, дневник школьника) в графу того умения, которо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ыло основны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 ходе решения задачи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инимум – учитель 1-2 раза в четверть после контрольной работы. Максимум – учитель и ученики регулярно. Пример: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04920" y="3200400"/>
            <a:ext cx="1752480" cy="2654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4038480" y="3149640"/>
            <a:ext cx="198144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ределять причины и следствия историчес-ких я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6095880" y="3200400"/>
            <a:ext cx="236232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авать и объяснить свои оценки исторических я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981080" y="3124080"/>
            <a:ext cx="205740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ыделять главное и обобщ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04920" y="551196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я 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304920" y="589284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ел 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304920" y="627372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он 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981080" y="551196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981080" y="590868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3. 4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1981080" y="628956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4038480" y="551196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4038480" y="590868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4038480" y="628956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6019920" y="551196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6019920" y="590868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6019920" y="628956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Oval 21"/>
          <p:cNvSpPr/>
          <p:nvPr/>
        </p:nvSpPr>
        <p:spPr>
          <a:xfrm>
            <a:off x="4932360" y="5521320"/>
            <a:ext cx="28728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Oval 22"/>
          <p:cNvSpPr/>
          <p:nvPr/>
        </p:nvSpPr>
        <p:spPr>
          <a:xfrm>
            <a:off x="4932360" y="595296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Oval 23"/>
          <p:cNvSpPr/>
          <p:nvPr/>
        </p:nvSpPr>
        <p:spPr>
          <a:xfrm>
            <a:off x="4932360" y="631332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Oval 24"/>
          <p:cNvSpPr/>
          <p:nvPr/>
        </p:nvSpPr>
        <p:spPr>
          <a:xfrm>
            <a:off x="2987640" y="5521320"/>
            <a:ext cx="28728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Oval 25"/>
          <p:cNvSpPr/>
          <p:nvPr/>
        </p:nvSpPr>
        <p:spPr>
          <a:xfrm>
            <a:off x="3059280" y="595296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Oval 26"/>
          <p:cNvSpPr/>
          <p:nvPr/>
        </p:nvSpPr>
        <p:spPr>
          <a:xfrm>
            <a:off x="2843280" y="631332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5-15T18:1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