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CBF63-03A3-49C7-AD23-F5C5933C47D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D76ED-45C5-4014-8AEB-09EB1C27377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39B4D-0116-4DC0-A552-A05ECF3D52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Традиционный анализ текста  прежде всего предполагал вопросы, вскрывающие фактуальную информацию. А домашнее задание, которое получали дети на уроке, – это пересказ текста. А вот жизнь требует от читателя выбор только той части информации, которая требуется в конкретной ситуации, для обсуждения с друзьями или на работе приходится анализировать, делать выводы и приводить аргументы, используя слова, предложения данного текста, а вот целый пересказ, как таковой, жизнь не требу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49625-7456-40C7-8EA5-9549DD7E8F3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A00EA-D7BE-4BFA-8A69-5B21633D62B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A7784-6EEE-4570-98F9-0F5BE0EC452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520C6-5268-4FBC-B057-3E5D74CC16B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94D71-1885-43DA-9114-137826055BA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A0106-4A7A-41F5-89B8-58C07816A4F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2000A-FAA4-4702-BE91-4D8AA72D6C6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6F89D-B97E-4BF6-B028-B881375B351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D7AB4-6297-4FF0-83A5-94B7AE8A99E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8EB0B-AD2C-4B8B-8249-840441A0D32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77D0C-9E23-486E-A419-9E1FB9BBCD3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85AD7-92DD-49B4-B18B-9D1187ECC36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CC95D-0CDC-4AE1-8286-913791B121C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На каждом уроке текст имеет свое предназначение: на уроке русского языка, биологии, истории, литературе и т.д. Но место для чтения текста есть на уроке в каждом предмете. Учитель должен понять, согласно теме урока, какова цель чтения текста, сколько времени потребуется на данный этап и т.п. Вот ряд шагов, которые являются опорой для подготовки текста для продуктивного чтения на уро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107BE-7B4F-4B8D-900A-A77DB7FA2B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30A47-F7C1-43BE-B618-A931494EC47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Каждый текст содержит три вида информации: фактуальную, подтекстовую и концептуальную. Все три вида информации в тексте между собой тесно взаимосвязаны. И зрелый читатель способен выделить, вычитать все три вида информации, а вот начинающего читателя этому надо учить, задавая для этого вопросы: фактуального, подтекстового и концептуального характ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CD7DE-3E6C-4927-B969-C441ED4475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9AC06-C299-43CD-AEB3-257DA3724A1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ED782-0450-4954-A0E7-0C37246277C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D3BDA-6F4A-43D1-83B0-03E542B6D91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28C3B-0D57-4F07-ABBC-AB893E7931C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435FA-A457-44F5-B80A-874A6D994EB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6B5DE-0461-410A-96AC-DE0B9A257BC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AAB4-A77F-4FF7-BEA7-54E30A9D1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821844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6840" y="4502160"/>
            <a:ext cx="821844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28A8-C59E-4C68-BD6C-2016419E8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6840" y="450216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120" y="450216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10EE6-2315-4EE6-A95E-73C2A5EFF9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5680" y="224928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14160" y="224928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6840" y="450216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5680" y="450216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14160" y="450216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E13E-C52F-41AF-9F91-BECBB0027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F867E-C99F-4B55-919C-E650B442A3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2249280"/>
            <a:ext cx="8218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41F30-0A75-4A1C-B082-773CB9DDAF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821844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60E99-CAD9-425B-B5F4-3DFC24E14B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A8D77-E484-48D5-9F8C-F56D384EDE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E9D00-235B-4290-8533-5682703401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21844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708B2-5E2C-4BEC-AE03-14124DC239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50216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24DC7-E80D-4867-8A1E-D60E62AAF9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6840" y="2249280"/>
            <a:ext cx="8218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23F2B-1528-4FA9-96B6-96B3468C7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8120" y="450216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0E02B-2FA3-44B0-802C-399C5B2A6C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502160"/>
            <a:ext cx="821844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80FCB-E7C3-426C-A930-6755368BB6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821844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4502160"/>
            <a:ext cx="821844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8FFF0-B9FC-4B63-84CE-B2904C0AE8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50216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8120" y="450216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C21E2-0905-4C3D-8EB7-93E44A4EA3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5680" y="224928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4160" y="224928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450216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5680" y="450216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4160" y="450216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87D7A-6ECA-472C-A23B-7C590018C2F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03AE-4254-434A-981C-414979DE8E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6840" y="2249280"/>
            <a:ext cx="8218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2BF5-E6E9-4E18-A3B6-50A832A17E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821844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5635-9190-41E6-B334-94013C122C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B636-2627-4D55-8573-ABAC45852C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8D6D-ED91-492E-9340-C953C35E89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821844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FA8C4-7CDD-400D-B67B-FEED68ECB5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21844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DA48-5328-44D5-9736-B400C4B532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50216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6603-9482-4B20-8042-C83539EBD9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120" y="450216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EDEE-41EB-4FE3-B49C-D973098ACF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6840" y="4502160"/>
            <a:ext cx="821844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7183-8951-42BC-A582-37485F2881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821844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6840" y="4502160"/>
            <a:ext cx="821844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E98C-F7E0-42E1-9FE8-F4B1D67A92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450216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120" y="450216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DA53-9B19-4551-8C41-20BA5762A1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5680" y="224928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14160" y="224928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6840" y="450216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5680" y="450216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14160" y="450216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3BDF-49AE-4015-81C1-17E81CC8DED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E6790-2031-4E85-960E-0497F77BB82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6840" y="2249280"/>
            <a:ext cx="8218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3B5D8-EA6B-451E-B4F9-7263FF525EC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821844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D2A63-EA8F-422F-9870-EE44BFFAD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B092-FFD4-4A43-A91B-AC198FC236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F2AEA-F6E2-414A-AFF7-94C3556A4FA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59A34-9D84-41DC-8123-42B84286BF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21844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A4205-71E0-45BA-918D-1319FB3E8DB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6840" y="450216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FD01B-57E2-402A-89DB-C8050862AB5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8120" y="450216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77335-0CB8-461C-95BF-C76E2E78CB3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4502160"/>
            <a:ext cx="821844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1D076-E660-40B1-89D2-40ED7D8EE7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821844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6840" y="4502160"/>
            <a:ext cx="821844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2502E-7BF9-4953-97D9-D935B92B394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6840" y="450216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8120" y="450216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145D4-FAF9-48AF-A6B2-6C6F98B252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5680" y="224928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14160" y="224928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6840" y="450216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5680" y="450216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14160" y="450216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49BE1-ECD4-4380-8B74-1FE0A3649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ED423-FD3A-4E3D-BBD8-6DE4B68753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21844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5315E-D3FB-4317-A20A-9262A8A4C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50216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310A2-5812-410F-913E-63A5D211F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120" y="450216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1EC8-8C68-4162-9E7D-93742DF0E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502160"/>
            <a:ext cx="821844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23EB-A5F7-4B72-8C7B-E9AD8BF89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5410080" y="43704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6840" y="2249280"/>
            <a:ext cx="821844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sldNum" idx="1"/>
          </p:nvPr>
        </p:nvSpPr>
        <p:spPr>
          <a:xfrm>
            <a:off x="8173800" y="1440"/>
            <a:ext cx="7506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B37C9-F1F6-4D85-9C40-E7F699E5960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b0ccb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b0ccb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b0ccb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6840" y="2249280"/>
            <a:ext cx="821844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2"/>
          </p:nvPr>
        </p:nvSpPr>
        <p:spPr>
          <a:xfrm>
            <a:off x="8319960" y="1440"/>
            <a:ext cx="73656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D69188E-3374-472D-8204-E3B5B928D166}" type="slidenum"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10080" y="43704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6840" y="2249280"/>
            <a:ext cx="821844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3"/>
          </p:nvPr>
        </p:nvSpPr>
        <p:spPr>
          <a:xfrm>
            <a:off x="8173800" y="1440"/>
            <a:ext cx="7506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8ECF3F2-1775-4C12-8C79-DEF9033B1CFC}" type="slidenum"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410080" y="43704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6840" y="2249280"/>
            <a:ext cx="821844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"/>
          <p:cNvSpPr/>
          <p:nvPr/>
        </p:nvSpPr>
        <p:spPr>
          <a:xfrm>
            <a:off x="658332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4"/>
          </p:nvPr>
        </p:nvSpPr>
        <p:spPr>
          <a:xfrm>
            <a:off x="8173800" y="1440"/>
            <a:ext cx="7506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2D437C7-EA94-4D29-B3FD-2BBD45C94D20}" type="slidenum"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333360"/>
            <a:ext cx="8893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76a55"/>
                </a:solidFill>
                <a:latin typeface="Trebuchet MS"/>
              </a:rPr>
              <a:t> </a:t>
            </a:r>
            <a:r>
              <a:rPr b="1" lang="ru-RU" sz="4000" spc="-1" strike="noStrike">
                <a:solidFill>
                  <a:srgbClr val="676a55"/>
                </a:solidFill>
                <a:latin typeface="Trebuchet MS"/>
              </a:rPr>
              <a:t>Технология продуктивного чт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76a55"/>
                </a:solidFill>
                <a:latin typeface="Trebuchet MS"/>
              </a:rPr>
              <a:t>Окружающий мир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76a55"/>
                </a:solidFill>
                <a:latin typeface="Trebuchet MS"/>
              </a:rPr>
              <a:t> </a:t>
            </a:r>
            <a:r>
              <a:rPr b="1" lang="ru-RU" sz="4000" spc="-1" strike="noStrike">
                <a:solidFill>
                  <a:srgbClr val="676a55"/>
                </a:solidFill>
                <a:latin typeface="Trebuchet MS"/>
              </a:rPr>
              <a:t>«Школа 2100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00000" y="1611360"/>
            <a:ext cx="7020000" cy="4653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222200" y="60804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26. Осторожно – животные!                                   (диалог с автором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6BFA8-18E5-4495-8D10-8076C8C03DB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079640" y="1944720"/>
            <a:ext cx="6948360" cy="42940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008000" y="82548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13. Экосистема болота                              (выборочное чтение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150920" y="214200"/>
            <a:ext cx="77929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76a55"/>
                </a:solidFill>
                <a:latin typeface="Arial Black"/>
              </a:rPr>
              <a:t>Чтение с помет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82600" y="1773360"/>
            <a:ext cx="77724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Цель: сформировать умение читать вдумчиво,   оценивать    информацию,  формулировать мысли автора своими сло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читель дает ученикам задание написать на полях значками информацию по следующему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алгоритм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Знакомая информ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!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Новая информ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-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Я думал (думала) инач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Это меня заинтересовало (удивило), хочу       узнать бол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5092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76a55"/>
                </a:solidFill>
                <a:latin typeface="Arial Black"/>
              </a:rPr>
              <a:t>Дневник двойных запис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1280" y="1413000"/>
            <a:ext cx="8343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44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Цель: сформировать умение задавать вопросы  во   время чтения,       критически оценивать информацию, сопоставлять прочитанное с собственным опы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.Учитель дает указание учащим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азделить тетрадь на две ч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2. В процессе чтения ученики должны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 левой част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писать моменты, которы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оразили, удивил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напомнили о   каких-то    фактах,    вызвали     какие- либо ассоциации;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 правой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– написать    лаконичный 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комментари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: почему     именно   этот  момент удивил, какие ассоциации вызвал, на какие мысли натолкну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31640" y="-360360"/>
            <a:ext cx="8207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cc0000"/>
                </a:solidFill>
                <a:latin typeface="Trebuchet MS"/>
              </a:rPr>
              <a:t>III этап. Работа с текстом после чтения</a:t>
            </a:r>
            <a:br>
              <a:rPr sz="2900"/>
            </a:br>
            <a:r>
              <a:rPr b="1" lang="ru-RU" sz="2900" spc="-1" strike="noStrike">
                <a:solidFill>
                  <a:srgbClr val="cc000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Цель:</a:t>
            </a:r>
            <a:r>
              <a:rPr b="1" lang="ru-RU" sz="2800" spc="-1" strike="noStrike">
                <a:solidFill>
                  <a:srgbClr val="cc0000"/>
                </a:solidFill>
                <a:latin typeface="Trebuchet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рректировка читательской интерпретации авторским смыслом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1844640"/>
            <a:ext cx="86421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4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рофессиональная компетенция учителя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– обеспечить углублённое восприятие и понимание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Концептуальная (смысловая) беседа по тексту.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Коллективное обсуждение прочитанного, дискуссия.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Выявление и формулирование основной идеи текста или совокупности его главных смысло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4.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Работа с материалами учебника, дополнительными источникам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5.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Работа с заглавием, иллюстрациями. Обсуждение смысла заглавия. Обращение учащихся к готовым иллюстрациям.   6. Соотнесение видения автора с читательским представление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7.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Творческие задания («Проиллюстрируй..», «Сочини…», «Придумай…», «»Составь план..»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CA98C-C096-4AB3-B734-C0B686A9AE7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209080" cy="49690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92760" y="765000"/>
            <a:ext cx="427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§ 12. Экосистема оз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C6ECA-1FEB-4C00-8AD9-80F26385653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8280360" cy="37436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50920" y="62064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17. Экосистема поля                                   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несение видения автора с читательским представлени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5098D-2924-48DC-BE99-3284A9449B0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411280" y="1295280"/>
            <a:ext cx="4643640" cy="4077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116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бота с материалами  тетра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900000" y="5300640"/>
            <a:ext cx="734400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8CD92-2306-4E3A-8FE7-688B1C92F09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016000" y="3384720"/>
            <a:ext cx="5327640" cy="33112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474920" y="792000"/>
            <a:ext cx="6229080" cy="22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401F2-56A3-4C0A-9917-3C0C08C9ABE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632720" cy="30243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971640" y="3860640"/>
            <a:ext cx="72723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39640" y="1628640"/>
            <a:ext cx="82296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3880" indent="-255600">
              <a:lnSpc>
                <a:spcPct val="10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Для смыслового понимания недостаточно просто прочесть текст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1800" indent="-247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3880" indent="-255600">
              <a:lnSpc>
                <a:spcPct val="10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Необходимо дать оценку информации, откликнуться на содержа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1800" indent="-247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C858F-226A-465E-B284-B29A90BCC4D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209080" cy="56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6A1AF-A6C4-4DC9-AB4C-8A5C0D67D862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676a55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Trebuchet MS"/>
              </a:rPr>
              <a:t>Подготовка текста для продуктивного чтения на уро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1371600"/>
            <a:ext cx="85341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46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 Прочитайте текст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выделите в нём фактуальную, подтекстовую и концептуальную информ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6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Определите роль данного текст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на уроке (чаще всего для поиска решения проблемы возможно специальное продуктивное задание к текст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6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3. 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Сформулируйте задания для работы с текстом до чтен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(заглавие, выделенные слова и т.п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6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4. 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Выделите в тексте места остановок во время чтен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(вопросы к автору, комментарии, словарная работа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6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5. 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Сформулируйте главный смысловой вопрос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после чтения (или проверка выполнения продуктивного задания к текст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404640"/>
            <a:ext cx="914400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76a55"/>
                </a:solidFill>
                <a:latin typeface="Trebuchet MS"/>
              </a:rPr>
              <a:t>Что такое </a:t>
            </a:r>
            <a:br>
              <a:rPr sz="3600"/>
            </a:br>
            <a:r>
              <a:rPr b="1" lang="ru-RU" sz="3600" spc="-1" strike="noStrike">
                <a:solidFill>
                  <a:srgbClr val="676a55"/>
                </a:solidFill>
                <a:latin typeface="Trebuchet MS"/>
              </a:rPr>
              <a:t>ПОЛНОЕ понимание текста?</a:t>
            </a:r>
            <a:r>
              <a:rPr b="1" lang="ru-RU" sz="3200" spc="-1" strike="noStrike">
                <a:solidFill>
                  <a:srgbClr val="676a55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2133720"/>
            <a:ext cx="8664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Это вычитывание трех видов текстовой информаци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247680">
              <a:lnSpc>
                <a:spcPct val="10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124e"/>
                </a:solidFill>
                <a:latin typeface="Trebuchet MS"/>
              </a:rPr>
              <a:t>фактуальной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(о чем в тексте сообщается в явном виде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247680">
              <a:lnSpc>
                <a:spcPct val="10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124e"/>
                </a:solidFill>
                <a:latin typeface="Trebuchet MS"/>
              </a:rPr>
              <a:t>подтекстовой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(о чем в тексте сообщается в неявном виде, читается «между строк»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247680">
              <a:lnSpc>
                <a:spcPct val="10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124e"/>
                </a:solidFill>
                <a:latin typeface="Trebuchet MS"/>
              </a:rPr>
              <a:t>концептуальной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(основная идея текста, его главный смысл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57200" y="765000"/>
            <a:ext cx="868680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76a55"/>
                </a:solidFill>
                <a:latin typeface="Trebuchet MS"/>
              </a:rPr>
              <a:t>Приоритетный метод формирования смыслового чт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03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03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03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тивированное  чтени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03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тановка задачи перед чтением, «удержание» учебной задачи в процессе чтения, совместное с детьми осуществление контроля – соответствие результата учебной задач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03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672000" cy="47559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68360" y="476280"/>
            <a:ext cx="834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Окружающий мир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Образовательная система «Школа  2100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788000" y="1773360"/>
            <a:ext cx="381636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57200" y="2401920"/>
            <a:ext cx="84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47640" y="216000"/>
            <a:ext cx="792000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95280" y="620640"/>
            <a:ext cx="822960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rebuchet MS"/>
              </a:rPr>
              <a:t>I этап. Работа с текстом до чтения</a:t>
            </a:r>
            <a:r>
              <a:rPr b="0" lang="ru-RU" sz="3600" spc="-1" strike="noStrike">
                <a:solidFill>
                  <a:srgbClr val="676a55"/>
                </a:solidFill>
                <a:latin typeface="Trebuchet MS"/>
              </a:rPr>
              <a:t> </a:t>
            </a:r>
            <a:br>
              <a:rPr sz="3600"/>
            </a:br>
            <a:r>
              <a:rPr b="1" lang="ru-RU" sz="32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Цель</a:t>
            </a:r>
            <a:r>
              <a:rPr b="0" lang="ru-RU" sz="32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витие антиципации, т.е. умения предполагать, предвосхищать содержание текста </a:t>
            </a:r>
            <a:br>
              <a:rPr sz="36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0920" y="2565360"/>
            <a:ext cx="8642160" cy="40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рофессиональные компетенции учителя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 данном этапе -  вызвать у ученика желание, мотивацию прочитать текст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иемы рабо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тение заглавия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тение выделенных с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ссматривание иллюстра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сказывание предположений о теме, содержании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67C42-8B45-4602-A0BF-E3EB883B10C9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49690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84360" y="476280"/>
            <a:ext cx="71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13. Экосистема болота                          (высказывание предположен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50920" y="404640"/>
            <a:ext cx="8686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cc0000"/>
                </a:solidFill>
                <a:latin typeface="Trebuchet MS"/>
              </a:rPr>
              <a:t>II этап. Работа с текстом во время чтения</a:t>
            </a:r>
            <a:r>
              <a:rPr b="0" lang="ru-RU" sz="2900" spc="-1" strike="noStrike">
                <a:solidFill>
                  <a:srgbClr val="cc0000"/>
                </a:solidFill>
                <a:latin typeface="Trebuchet MS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981000"/>
            <a:ext cx="84960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понимание текста и создание его читательской интерпрет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рофессиональная компетенция учителя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– обеспечить полноценное восприятие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. Чтение текста по частям с комментариями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кратко, динамичн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2. Чтение вслух в режиме диалога с автором, комментированное чтение. Используется прием диалог с автором. (</a:t>
            </a:r>
            <a:r>
              <a:rPr b="1" lang="ru-RU" sz="2400" spc="-1" strike="noStrike">
                <a:solidFill>
                  <a:srgbClr val="2b03f5"/>
                </a:solidFill>
                <a:latin typeface="Georgia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- задай вопрос автору, </a:t>
            </a:r>
            <a:r>
              <a:rPr b="1" lang="ru-RU" sz="2400" spc="-1" strike="noStrike">
                <a:solidFill>
                  <a:srgbClr val="2b03f5"/>
                </a:solidFill>
                <a:latin typeface="Georgia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– попробуй ответить сам, </a:t>
            </a:r>
            <a:r>
              <a:rPr b="1" lang="ru-RU" sz="2400" spc="-1" strike="noStrike">
                <a:solidFill>
                  <a:srgbClr val="2b03f5"/>
                </a:solidFill>
                <a:latin typeface="Georgia"/>
              </a:rPr>
              <a:t>П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– проверь себя по текст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* 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Словарная работа 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ведётся по ходу чтения. В этом случае она становится мотивированной и интерес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3. Беседа по содержанию текста в целом, выборочное чтение, выделение ключевых слов, составление пл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7:26:51Z</dcterms:created>
  <dc:creator>IRA</dc:creator>
  <dc:description/>
  <dc:language>en-US</dc:language>
  <cp:lastModifiedBy>Windows User</cp:lastModifiedBy>
  <dcterms:modified xsi:type="dcterms:W3CDTF">2017-05-15T20:17:12Z</dcterms:modified>
  <cp:revision>139</cp:revision>
  <dc:subject/>
  <dc:title>ПРОБЛЕМА ОСВОЕНИЯ НОВОГО  ФЕДЕРАЛЬНОГО ГОСУДАРСТВЕННОГО ОБРАЗОВАТЕЛЬНОГО СТАНДАРТА (ФГОС)</dc:title>
</cp:coreProperties>
</file>