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25C61-F959-42B2-B086-CC062743F4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57275-ED6E-4278-8B17-99E056635B1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E6F70-D32C-4F56-A8A5-D3FBEF27E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Традиционный анализ текста  прежде всего предполагал вопросы, вскрывающие фактуальную информацию. А домашнее задание, которое получали дети на уроке, – это пересказ текста. А вот жизнь требует от читателя выбор только той части информации, которая требуется в конкретной ситуации, для обсуждения с друзьями или на работе приходится анализировать, делать выводы и приводить аргументы, используя слова, предложения данного текста, а вот целый пересказ, как таковой, жизнь не требу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D8605-63A6-4A78-879C-D6F929EFD2B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1F49F-38AE-4525-BA0A-8B150B8E6A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5DAA5-ACD8-46FB-808C-876FEB1EE06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D988C-75C5-4024-B790-DF8DA6108D2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E5673-0CA6-4672-9636-66D63DED42F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114E8-FFF3-4568-87F1-A022D4E6374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AE070-DB5E-4FCE-85BB-F4232275A5C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8D6A9-EFFF-4AC8-A1B4-E35EC13BF3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94663-C1C5-473C-8BC8-3F0781489C3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11B77-9482-4179-B758-9D9F0829DFE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9E886-E0EC-4881-8076-5C6DBBFA5C9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3EE1F-88B2-4773-9F7B-6A8E6EB7930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4D05B-E986-4AAD-B95A-BDCF9ED6D4F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каждом уроке текст имеет свое предназначение: на уроке русского языка, биологии, истории, литературе и т.д. Но место для чтения текста есть на уроке в каждом предмете. Учитель должен понять, согласно теме урока, какова цель чтения текста, сколько времени потребуется на данный этап и т.п. Вот ряд шагов, которые являются опорой для подготовки текста для продуктивного чтения на уро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DC233-F5CB-4EF5-A1BA-0B16F8962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75B14-9785-4EB4-B841-2242FDBE39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ждый текст содержит три вида информации: фактуальную, подтекстовую и концептуальную. Все три вида информации в тексте между собой тесно взаимосвязаны. И зрелый читатель способен выделить, вычитать все три вида информации, а вот начинающего читателя этому надо учить, задавая для этого вопросы: фактуального, подтекстового и концептуального характ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B939D-43A1-49EA-B3DC-493619B50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603F2-CE96-4EAC-8225-0162D0E382B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07DD7-2AE3-4977-ABD3-6C8125D3B90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1381C-A332-4B6E-9180-EE0CEE69E8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F894E-F986-40F4-84D3-7A035663BCF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A3E2A-5BDC-4BEB-A9D2-F895A131ED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B0688-EB9E-486D-AB33-11BFCEAE9C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C81D-C827-49A3-A364-E67BE8AAC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9F87-9A27-4F1F-BC81-A7017A30C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E622-DEAC-4BE8-968E-1CB691D3C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568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416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684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568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416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4B4D-5DB1-42FD-AA5C-BE16F7229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0631-7ADF-4909-980C-1DD21E852E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E09C-6BD8-4EED-AD2D-978427FB7D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A2C7-178A-4681-A771-55CD22DA04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1B3D-5B6F-4189-84A2-285DBAB1D2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4109-9A61-46D4-A58A-532CCDC540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218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44A6-160A-4550-BB5E-99E07A8119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67F1D-EC00-4170-BEA9-B7E52E94D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7FAE-7D01-416A-8949-616B8CA87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D684-C377-4BD1-8FE7-41C45B3380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9A6D-8C45-476C-8BA1-1BA109CCCF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3D2E-271C-490E-BD94-9B866D022B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DD58-530D-47E9-9673-522401FAA5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568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416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568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416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FB8E7-EAE1-4B1C-908E-C9D47AA147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4EA-2113-4E8A-A3B1-D25722EBB0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946-FBAA-4607-95F3-10B3036F3E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108-E9B2-4758-827B-FC874B83FB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A1D-6BFD-43D4-AE90-76F80EBA2C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F15-28AB-436C-8D27-A8016F1D63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3E49-A6DF-4A6E-B62A-144E9965F4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218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BC0-75B1-45BB-9652-F25383134C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789-206C-48F2-8B84-AFBC59FBB2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FB2-774D-449D-90D4-9F2BD5777A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0BD-2C9C-4B74-A954-334EB9CB9E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494-BFD3-496A-ACD6-F3ECD6B3F7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D20-303F-462F-B5B8-A7142CAC06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568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416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684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568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416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59F-0D09-452F-8A01-9787D2FCEF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BCCCF-3211-4F07-8389-C7B6A0F1A4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6797D-642B-4742-BC26-2C6A1C41BC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07320-6C17-40AA-985D-B555BAAD0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8935-02EE-4CDE-BBF0-0B1E9B9624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9A13D-8A94-43B0-AD36-5BA26FCF03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47F19-8FE5-43C4-83CA-5E28DBF39E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218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CE5E8-25CB-41FF-A19C-D5981ECE8C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9FFE7-3A33-48A5-B6C3-52B3374974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E3156-04E8-4A87-B0BA-F578731009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4026B-C14C-43C8-9937-7DDAA2D2FD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EEFA5-F468-4F16-B40E-F7B96A70EA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14C50-B527-4C71-AFBC-FCD3F1CDB2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568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14160" y="224928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568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14160" y="4502160"/>
            <a:ext cx="2646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E2E1E-60A3-4AA4-985A-AA2ACD0CE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05FA-97AF-4E4D-AC33-F7FD57A0B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218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756E-B922-4357-973C-D26770D5F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CB54-5F93-4908-923D-52BAA64DB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120" y="450216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B2BF-B687-4388-BDED-B21987E84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120" y="2249280"/>
            <a:ext cx="40104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502160"/>
            <a:ext cx="82184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8F94-72FB-4D4F-9558-600B59506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8173800" y="1440"/>
            <a:ext cx="7506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747B4-B4B4-4FFE-BA2A-0A3BD8FE1C3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2"/>
          </p:nvPr>
        </p:nvSpPr>
        <p:spPr>
          <a:xfrm>
            <a:off x="8319960" y="1440"/>
            <a:ext cx="736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FA66D26-1B9F-468A-B876-79EC32354903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3"/>
          </p:nvPr>
        </p:nvSpPr>
        <p:spPr>
          <a:xfrm>
            <a:off x="8173800" y="1440"/>
            <a:ext cx="7506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9F31336-22B4-41A1-85C8-9D99CCB80204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218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2249280"/>
            <a:ext cx="8218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"/>
          <p:cNvSpPr/>
          <p:nvPr/>
        </p:nvSpPr>
        <p:spPr>
          <a:xfrm>
            <a:off x="658332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4"/>
          </p:nvPr>
        </p:nvSpPr>
        <p:spPr>
          <a:xfrm>
            <a:off x="8173800" y="1440"/>
            <a:ext cx="7506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6CA7FCB-355B-44A7-AE29-00A28178F3F2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333360"/>
            <a:ext cx="889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76a55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676a55"/>
                </a:solidFill>
                <a:latin typeface="Trebuchet MS"/>
              </a:rPr>
              <a:t>Технология продуктивного ч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76a55"/>
                </a:solidFill>
                <a:latin typeface="Trebuchet MS"/>
              </a:rPr>
              <a:t>Окружающий мир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76a55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676a55"/>
                </a:solidFill>
                <a:latin typeface="Trebuchet MS"/>
              </a:rPr>
              <a:t>«Школа 2100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00000" y="1611360"/>
            <a:ext cx="7020000" cy="465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22200" y="60804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26. Осторожно – животные!                                   (диалог с автором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64643-5F72-40BC-AA09-4BAD8D8C4C7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79640" y="1944720"/>
            <a:ext cx="6948360" cy="4294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08000" y="8254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13. Экосистема болота                              (выборочное чтени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50920" y="214200"/>
            <a:ext cx="7792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Arial Black"/>
              </a:rPr>
              <a:t>Чтение с помет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82600" y="1773360"/>
            <a:ext cx="77724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Цель: сформировать умение читать вдумчиво,   оценивать    информацию,  формулировать мысли автора своими сло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итель дает ученикам задание написать на полях значками информацию по следующему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лгоритм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Знаком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!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Нов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-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Я думал (думала) инач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Это меня заинтересовало (удивило), хочу       узнать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5092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76a55"/>
                </a:solidFill>
                <a:latin typeface="Arial Black"/>
              </a:rPr>
              <a:t>Дневник двойных запис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1413000"/>
            <a:ext cx="8343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Цель: сформировать умение задавать вопросы  во   время чтения,       критически оценивать информацию, сопоставлять прочитанное с собственным опы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Учитель дает указание учащим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делить тетрадь на две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В процессе чтения ученики должны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 левой ча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исать моменты, котор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оразили, удивил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напомнили о   каких-то    фактах,    вызвали     какие- либо ассоциации;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 правой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написать    лаконичный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комментар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почему     именно   этот  момент удивил, какие ассоциации вызвал, на какие мысли натолкну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31640" y="-360360"/>
            <a:ext cx="8207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cc0000"/>
                </a:solidFill>
                <a:latin typeface="Trebuchet MS"/>
              </a:rPr>
              <a:t>III этап. Работа с текстом после чтения</a:t>
            </a:r>
            <a:br>
              <a:rPr sz="2900"/>
            </a:br>
            <a:r>
              <a:rPr b="1" lang="ru-RU" sz="2900" spc="-1" strike="noStrike">
                <a:solidFill>
                  <a:srgbClr val="cc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ь:</a:t>
            </a:r>
            <a:r>
              <a:rPr b="1" lang="ru-RU" sz="2800" spc="-1" strike="noStrike">
                <a:solidFill>
                  <a:srgbClr val="cc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рректировка читательской интерпретации авторским смысло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844640"/>
            <a:ext cx="86421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фессиональная компетенция учителя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обеспечить углублённое восприятие и пониман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нцептуальная (смысловая) беседа по тексту.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ллективное обсуждение прочитанного, дискуссия.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Выявление и формулирование основной идеи текста или совокупности его главных смысл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Работа с материалами учебника, дополнительными источникам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Работа с заглавием, иллюстрациями. Обсуждение смысла заглавия. Обращение учащихся к готовым иллюстрациям.   6. Соотнесение видения автора с читательским представление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7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Творческие задания («Проиллюстрируй..», «Сочини…», «Придумай…», «»Составь план..»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D31A2-71C5-423B-BB09-F6C3ECFB123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09080" cy="4969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2760" y="765000"/>
            <a:ext cx="42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§ 12. Экосистема оз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8E93D-D40C-47BA-88B4-E2A01E8DFD9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280360" cy="3743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50920" y="620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17. Экосистема поля                                   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есение видения автора с читательским представл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8F461-390C-47F3-9530-8ECDCC626C9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411280" y="1295280"/>
            <a:ext cx="4643640" cy="4077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16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бота с материалами  тетра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900000" y="5300640"/>
            <a:ext cx="73440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AD12F-DBBF-4561-B867-8CE381A82CB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016000" y="3384720"/>
            <a:ext cx="5327640" cy="331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4920" y="792000"/>
            <a:ext cx="622908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5CF11-CD07-40D0-8BBA-F5F1ACA0504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3024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7272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9640" y="1628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255600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Для смыслового понимания недостаточно просто прочесть текст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1800" indent="-247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3880" indent="-255600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Необходимо дать оценку информации, откликнуться на содержа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1800" indent="-247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53880"/>
                <a:tab algn="l" pos="801720"/>
                <a:tab algn="l" pos="1251000"/>
                <a:tab algn="l" pos="1700280"/>
                <a:tab algn="l" pos="2149560"/>
                <a:tab algn="l" pos="2598840"/>
                <a:tab algn="l" pos="3048120"/>
                <a:tab algn="l" pos="3497400"/>
                <a:tab algn="l" pos="3946680"/>
                <a:tab algn="l" pos="4395960"/>
                <a:tab algn="l" pos="4844880"/>
                <a:tab algn="l" pos="5294160"/>
                <a:tab algn="l" pos="5743440"/>
                <a:tab algn="l" pos="6192720"/>
                <a:tab algn="l" pos="6642000"/>
                <a:tab algn="l" pos="7091280"/>
                <a:tab algn="l" pos="7540560"/>
                <a:tab algn="l" pos="7989840"/>
                <a:tab algn="l" pos="8439120"/>
                <a:tab algn="l" pos="8888400"/>
                <a:tab algn="l" pos="933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9B45C-CD40-4BF7-A766-A24A2300FE4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D3F9A-9214-47CE-8A98-7CA47ABFB67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76a55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rebuchet MS"/>
              </a:rPr>
              <a:t>Подготовка текста для продуктивного чтения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3716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4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Прочитайте текс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выделите в нём фактуальную, подтекстовую и концептуальную информ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Определите роль данного текст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на уроке (чаще всего для поиска решения проблемы возможно специальное продуктивное задание к текст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Сформулируйте задания для работы с текстом до чт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заглавие, выделенные слова и т.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Выделите в тексте места остановок во время чт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вопросы к автору, комментарии, словарная работа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5.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Сформулируйте главный смысловой вопро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после чтения (или проверка выполнения продуктивного задания к текст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404640"/>
            <a:ext cx="91440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Trebuchet MS"/>
              </a:rPr>
              <a:t>Что такое </a:t>
            </a:r>
            <a:br>
              <a:rPr sz="3600"/>
            </a:br>
            <a:r>
              <a:rPr b="1" lang="ru-RU" sz="3600" spc="-1" strike="noStrike">
                <a:solidFill>
                  <a:srgbClr val="676a55"/>
                </a:solidFill>
                <a:latin typeface="Trebuchet MS"/>
              </a:rPr>
              <a:t>ПОЛНОЕ понимание текста?</a:t>
            </a:r>
            <a:r>
              <a:rPr b="1" lang="ru-RU" sz="3200" spc="-1" strike="noStrike">
                <a:solidFill>
                  <a:srgbClr val="676a55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2133720"/>
            <a:ext cx="8664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то вычитывание трех видов текстовой информаци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47680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124e"/>
                </a:solidFill>
                <a:latin typeface="Trebuchet MS"/>
              </a:rPr>
              <a:t>фактуальной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о чем в тексте сообщается в явном виде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47680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124e"/>
                </a:solidFill>
                <a:latin typeface="Trebuchet MS"/>
              </a:rPr>
              <a:t>подтекстовой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о чем в тексте сообщается в неявном виде, читается «между строк»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47680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124e"/>
                </a:solidFill>
                <a:latin typeface="Trebuchet MS"/>
              </a:rPr>
              <a:t>концептуальной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основная идея текста, его главный смысл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765000"/>
            <a:ext cx="868680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76a55"/>
                </a:solidFill>
                <a:latin typeface="Trebuchet MS"/>
              </a:rPr>
              <a:t>Приоритетный метод формирования смыслового чт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0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0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0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тивированное  чте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0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ановка задачи перед чтением, «удержание» учебной задачи в процессе чтения, совместное с детьми осуществление контроля – соответствие результата учебной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03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672000" cy="4755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68360" y="476280"/>
            <a:ext cx="834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кружающий мир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бразовательная система «Школа  2100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8163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240192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47640" y="216000"/>
            <a:ext cx="79200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95280" y="620640"/>
            <a:ext cx="822960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rebuchet MS"/>
              </a:rPr>
              <a:t>I этап. Работа с текстом до чтения</a:t>
            </a:r>
            <a:r>
              <a:rPr b="0" lang="ru-RU" sz="3600" spc="-1" strike="noStrike">
                <a:solidFill>
                  <a:srgbClr val="676a55"/>
                </a:solidFill>
                <a:latin typeface="Trebuchet MS"/>
              </a:rPr>
              <a:t> </a:t>
            </a:r>
            <a:br>
              <a:rPr sz="3600"/>
            </a:br>
            <a:r>
              <a:rPr b="1" lang="ru-RU" sz="32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Цель</a:t>
            </a: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антиципации, т.е. умения предполагать, предвосхищать содержание текста </a:t>
            </a: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2565360"/>
            <a:ext cx="864216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фессиональные компетенции учителя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данном этапе -  вызвать у ученика желание, мотивацию прочитать текс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иемы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ение заглавия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ение выделенных с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матривание иллюстр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сказывание предположений о теме, содержании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BE0C5-300E-4F6A-992B-7DEA9614E56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4969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84360" y="47628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13. Экосистема болота                          (высказывание предположен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50920" y="404640"/>
            <a:ext cx="8686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Trebuchet MS"/>
              </a:rPr>
              <a:t>II этап. Работа с текстом во время чтения</a:t>
            </a:r>
            <a:r>
              <a:rPr b="0" lang="ru-RU" sz="2900" spc="-1" strike="noStrike">
                <a:solidFill>
                  <a:srgbClr val="cc0000"/>
                </a:solidFill>
                <a:latin typeface="Trebuchet MS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981000"/>
            <a:ext cx="8496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понимание текста и создание его читательской интерпре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фессиональная компетенция учителя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обеспечить полноценное восприят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 Чтение текста по частям с комментариями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кратко, динамич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Чтение вслух в режиме диалога с автором, комментированное чтение. Используется прием диалог с автором. (</a:t>
            </a:r>
            <a:r>
              <a:rPr b="1" lang="ru-RU" sz="2400" spc="-1" strike="noStrike">
                <a:solidFill>
                  <a:srgbClr val="2b03f5"/>
                </a:solidFill>
                <a:latin typeface="Georgi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задай вопрос автору, </a:t>
            </a:r>
            <a:r>
              <a:rPr b="1" lang="ru-RU" sz="2400" spc="-1" strike="noStrike">
                <a:solidFill>
                  <a:srgbClr val="2b03f5"/>
                </a:solidFill>
                <a:latin typeface="Georgi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попробуй ответить сам, </a:t>
            </a:r>
            <a:r>
              <a:rPr b="1" lang="ru-RU" sz="2400" spc="-1" strike="noStrike">
                <a:solidFill>
                  <a:srgbClr val="2b03f5"/>
                </a:solidFill>
                <a:latin typeface="Georgia"/>
              </a:rPr>
              <a:t>П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проверь себя по текст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*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Словарная работа 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едётся по ходу чтения. В этом случае она становится мотивированной и интерес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 Беседа по содержанию текста в целом, выборочное чтение, выделение ключевых слов, составление пл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26:51Z</dcterms:created>
  <dc:creator>IRA</dc:creator>
  <dc:description/>
  <dc:language>en-US</dc:language>
  <cp:lastModifiedBy>Windows User</cp:lastModifiedBy>
  <dcterms:modified xsi:type="dcterms:W3CDTF">2017-05-15T20:17:12Z</dcterms:modified>
  <cp:revision>139</cp:revision>
  <dc:subject/>
  <dc:title>ПРОБЛЕМА ОСВОЕНИЯ НОВОГО  ФЕДЕРАЛЬНОГО ГОСУДАРСТВЕННОГО ОБРАЗОВАТЕЛЬНОГО СТАНДАРТА (ФГОС)</dc:title>
</cp:coreProperties>
</file>