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CA5-62FB-487A-9124-E12E54EB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ED9-D004-4110-B293-8093A0B0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007-CC7C-4CD0-8BEC-F6223473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4E4-C70D-469D-A1D7-6C291E9D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BA7C-84F9-4F30-B0A0-399B73D3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0712-E3A9-42F6-AD3E-6C01FC3D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337B-F81C-46D0-87C5-74DD6993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6551-C1A4-4D90-B8E4-DE73D847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9CCC-8699-4281-A6FD-2D0CA23D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A520-1E91-432A-81E5-E3F2681C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C180-E040-487E-8E67-F2871C10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DE7-728C-48BA-AECA-9538EFF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AECD-0B80-4C5B-962D-3B5ECEF2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BFBD-AC88-4D5E-B90F-5885ECEF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613B-56A0-4C01-94BA-7F3593E5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1231-B3D6-4091-8F14-4FDCDBBC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CD31-06A6-452B-A02A-3E711571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A3E-F2AE-48C9-92C7-A86F90C1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DF9-6230-4ABD-A240-94F65486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A25-B461-4F43-BC97-91EBACE1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468-AEB5-4736-9A3F-241C0B56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58F-5297-4230-B818-2142D8EE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90A-D49D-4208-85A8-C7CED5DE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201-B956-4C55-842B-23B423E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4C366E-05FD-4844-A5AD-5E73B8E64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8205E2-81B8-406A-815E-AC7407FD1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Цветная металлургия в Росси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4" descr="Farmeral_metal_icon.png"/>
          <p:cNvPicPr/>
          <p:nvPr/>
        </p:nvPicPr>
        <p:blipFill>
          <a:blip r:embed="rId2"/>
          <a:stretch/>
        </p:blipFill>
        <p:spPr>
          <a:xfrm>
            <a:off x="899640" y="1462680"/>
            <a:ext cx="7193520" cy="539496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332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Значение цветной металлургии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9150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Цветная металлургия относится к числу базовых отраслей экономики России</a:t>
            </a:r>
            <a:r>
              <a:rPr b="0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image042"/>
          <p:cNvPicPr/>
          <p:nvPr/>
        </p:nvPicPr>
        <p:blipFill>
          <a:blip r:embed="rId2"/>
          <a:stretch/>
        </p:blipFill>
        <p:spPr>
          <a:xfrm>
            <a:off x="1835640" y="2997000"/>
            <a:ext cx="5533560" cy="3276360"/>
          </a:xfrm>
          <a:prstGeom prst="rect">
            <a:avLst/>
          </a:prstGeom>
          <a:ln cap="rnd" w="190500">
            <a:solidFill>
              <a:srgbClr val="ffffff"/>
            </a:solidFill>
            <a:miter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5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В России сосредоточено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240" cy="496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11% мировых запасов меди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12% свинца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16% цинка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21% кобальта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27% олова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31% никел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858000" y="1285920"/>
            <a:ext cx="1141200" cy="1133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4786200" y="1928880"/>
            <a:ext cx="1142640" cy="860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3357720" y="2286000"/>
            <a:ext cx="1142640" cy="9824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6643800" y="3143160"/>
            <a:ext cx="1142640" cy="1142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6" name="Picture 8" descr=""/>
          <p:cNvPicPr/>
          <p:nvPr/>
        </p:nvPicPr>
        <p:blipFill>
          <a:blip r:embed="rId6"/>
          <a:stretch/>
        </p:blipFill>
        <p:spPr>
          <a:xfrm>
            <a:off x="4643280" y="3571920"/>
            <a:ext cx="1571400" cy="10742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3286080" y="4714920"/>
            <a:ext cx="1299960" cy="974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cxnSp>
        <p:nvCxnSpPr>
          <p:cNvPr id="98" name="Прямая со стрелкой 12"/>
          <p:cNvCxnSpPr/>
          <p:nvPr/>
        </p:nvCxnSpPr>
        <p:spPr>
          <a:xfrm>
            <a:off x="6357600" y="1643040"/>
            <a:ext cx="286200" cy="180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99" name="Прямая со стрелкой 14"/>
          <p:cNvCxnSpPr/>
          <p:nvPr/>
        </p:nvCxnSpPr>
        <p:spPr>
          <a:xfrm>
            <a:off x="3643200" y="2143080"/>
            <a:ext cx="929160" cy="180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00" name="Прямая со стрелкой 16"/>
          <p:cNvCxnSpPr/>
          <p:nvPr/>
        </p:nvCxnSpPr>
        <p:spPr>
          <a:xfrm>
            <a:off x="3071520" y="2857320"/>
            <a:ext cx="214920" cy="180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01" name="Прямая со стрелкой 18"/>
          <p:cNvCxnSpPr/>
          <p:nvPr/>
        </p:nvCxnSpPr>
        <p:spPr>
          <a:xfrm>
            <a:off x="3857400" y="3429000"/>
            <a:ext cx="2143440" cy="180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02" name="Прямая со стрелкой 20"/>
          <p:cNvCxnSpPr/>
          <p:nvPr/>
        </p:nvCxnSpPr>
        <p:spPr>
          <a:xfrm>
            <a:off x="3214440" y="4000320"/>
            <a:ext cx="1143360" cy="180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03" name="Прямая со стрелкой 22"/>
          <p:cNvCxnSpPr/>
          <p:nvPr/>
        </p:nvCxnSpPr>
        <p:spPr>
          <a:xfrm>
            <a:off x="2643120" y="4786200"/>
            <a:ext cx="428760" cy="35748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Экономические показател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В год суммарный оборот отрасли превышает $11 млрд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cvmet.jpg"/>
          <p:cNvPicPr/>
          <p:nvPr/>
        </p:nvPicPr>
        <p:blipFill>
          <a:blip r:embed="rId2"/>
          <a:stretch/>
        </p:blipFill>
        <p:spPr>
          <a:xfrm>
            <a:off x="1403640" y="2421000"/>
            <a:ext cx="6408360" cy="4139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Перспективы развити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Перспективы развития металлургической отрасли в первую очередь связаны с расширением спроса на ее продукцию на внутреннем рынке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Основные направления развития металлургии связаны с производством новых видов продукции, улучшением структуры производства, повышением производительности труд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Группы цветных металлов по свойствам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240" cy="496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Тяжелые (медь, олово, свинец, никель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Легкие (алюминий, титан, магний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Драгоценные (золото, серебро, платина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Редкие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Рассеянны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5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Факторы размещения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240" cy="496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Районы добычи руды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Районы с дешевой электроэнергией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1571760" y="3571920"/>
            <a:ext cx="1999800" cy="2666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4572000" y="3714840"/>
            <a:ext cx="2857320" cy="2279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Содержимое 4" descr="292abe7291653f5c27f4bcd7aa169676.jpg"/>
          <p:cNvPicPr/>
          <p:nvPr/>
        </p:nvPicPr>
        <p:blipFill>
          <a:blip r:embed="rId2"/>
          <a:stretch/>
        </p:blipFill>
        <p:spPr>
          <a:xfrm>
            <a:off x="1397160" y="1640520"/>
            <a:ext cx="6349680" cy="444456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Цветная металлургия России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Цветная металлургия России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Цветная металлургия России</Template>
  <TotalTime>67</TotalTime>
  <Application>LibreOffice/7.4.7.2$Linux_X86_64 LibreOffice_project/40$Build-2</Application>
  <AppVersion>15.0000</AppVersion>
  <Words>152</Words>
  <Paragraphs>25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30:30Z</dcterms:created>
  <dc:creator>1488</dc:creator>
  <dc:description/>
  <dc:language>en-US</dc:language>
  <cp:lastModifiedBy>USER</cp:lastModifiedBy>
  <dcterms:modified xsi:type="dcterms:W3CDTF">2016-10-30T15:26:29Z</dcterms:modified>
  <cp:revision>10</cp:revision>
  <dc:subject/>
  <dc:title>Презентация по географии 9 класс на тему: «Цветная металлурги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