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273-86FC-4737-947F-B8B52BBB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5C9-42E5-4035-8850-62336660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685-41A3-49E9-94EF-EBD5F6D2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F29-9A2F-44AA-B56A-B098A29B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85F0-27F8-4091-B367-70B75F4B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62E5-DB26-4609-9376-47C670D3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2E90-49F7-4AA2-82E8-4152DC35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4170-1FB7-4519-9D33-F40D300B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9187-E731-4188-9466-665DDCB0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A642-8BB4-4E9A-AFD8-76814DB3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9C5D-8609-4C67-A792-B1579474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8C9-BC81-4C0F-A6C9-D6DC5696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8329-D1EE-4C96-A9CF-5182451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9EBB-E418-4A74-A9D1-3130E108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4C6C-36D9-404D-BCB7-8C45B1F0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1FC5-BA35-4B5D-A4D5-F0E08349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B717-372B-4F96-9344-B5E917B7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A31-1FD7-4445-80DA-CA67D39C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F6C-AA53-4D91-90B8-486494A9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BDC-A2DE-494C-B996-F11E054D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ABB-7B62-4F96-AD1B-50093F30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2F95-EEE4-41B4-847A-9396F8AF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61A-0859-428B-8D8F-CA1D251D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A9F-7996-4EA5-9466-C287D1F7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8F542D-112D-49A9-97F6-1A9164EDD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7D98A7-FFB3-4B0A-BC72-C383FFD60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Цветная металлургия в Росси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4" descr="Farmeral_metal_icon.png"/>
          <p:cNvPicPr/>
          <p:nvPr/>
        </p:nvPicPr>
        <p:blipFill>
          <a:blip r:embed="rId2"/>
          <a:stretch/>
        </p:blipFill>
        <p:spPr>
          <a:xfrm>
            <a:off x="899640" y="1462680"/>
            <a:ext cx="7193520" cy="5394960"/>
          </a:xfrm>
          <a:prstGeom prst="rect">
            <a:avLst/>
          </a:prstGeom>
          <a:ln w="9525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332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Значение цветной металлургии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9150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Цветная металлургия относится к числу базовых отраслей экономики России</a:t>
            </a:r>
            <a:r>
              <a:rPr b="0" lang="en-US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image042"/>
          <p:cNvPicPr/>
          <p:nvPr/>
        </p:nvPicPr>
        <p:blipFill>
          <a:blip r:embed="rId2"/>
          <a:stretch/>
        </p:blipFill>
        <p:spPr>
          <a:xfrm>
            <a:off x="1835640" y="2997000"/>
            <a:ext cx="5533560" cy="3276360"/>
          </a:xfrm>
          <a:prstGeom prst="rect">
            <a:avLst/>
          </a:prstGeom>
          <a:ln cap="rnd" w="190500">
            <a:solidFill>
              <a:srgbClr val="ffffff"/>
            </a:solidFill>
            <a:miter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5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В России сосредоточено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240" cy="496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11% мировых запасов меди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12% свинца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16% цинка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21% кобальта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27% олова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31% никел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858000" y="1285920"/>
            <a:ext cx="1141200" cy="1133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4786200" y="1928880"/>
            <a:ext cx="1142640" cy="860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3357720" y="2286000"/>
            <a:ext cx="1142640" cy="9824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6643800" y="3143160"/>
            <a:ext cx="1142640" cy="1142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6" name="Picture 8" descr=""/>
          <p:cNvPicPr/>
          <p:nvPr/>
        </p:nvPicPr>
        <p:blipFill>
          <a:blip r:embed="rId6"/>
          <a:stretch/>
        </p:blipFill>
        <p:spPr>
          <a:xfrm>
            <a:off x="4643280" y="3571920"/>
            <a:ext cx="1571400" cy="10742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7" name="Picture 9" descr=""/>
          <p:cNvPicPr/>
          <p:nvPr/>
        </p:nvPicPr>
        <p:blipFill>
          <a:blip r:embed="rId7"/>
          <a:stretch/>
        </p:blipFill>
        <p:spPr>
          <a:xfrm>
            <a:off x="3286080" y="4714920"/>
            <a:ext cx="1299960" cy="974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cxnSp>
        <p:nvCxnSpPr>
          <p:cNvPr id="98" name="Прямая со стрелкой 12"/>
          <p:cNvCxnSpPr/>
          <p:nvPr/>
        </p:nvCxnSpPr>
        <p:spPr>
          <a:xfrm>
            <a:off x="6357600" y="1643040"/>
            <a:ext cx="286200" cy="1800"/>
          </a:xfrm>
          <a:prstGeom prst="straightConnector1">
            <a:avLst/>
          </a:prstGeom>
          <a:ln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99" name="Прямая со стрелкой 14"/>
          <p:cNvCxnSpPr/>
          <p:nvPr/>
        </p:nvCxnSpPr>
        <p:spPr>
          <a:xfrm>
            <a:off x="3643200" y="2143080"/>
            <a:ext cx="929160" cy="1800"/>
          </a:xfrm>
          <a:prstGeom prst="straightConnector1">
            <a:avLst/>
          </a:prstGeom>
          <a:ln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00" name="Прямая со стрелкой 16"/>
          <p:cNvCxnSpPr/>
          <p:nvPr/>
        </p:nvCxnSpPr>
        <p:spPr>
          <a:xfrm>
            <a:off x="3071520" y="2857320"/>
            <a:ext cx="214920" cy="1800"/>
          </a:xfrm>
          <a:prstGeom prst="straightConnector1">
            <a:avLst/>
          </a:prstGeom>
          <a:ln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01" name="Прямая со стрелкой 18"/>
          <p:cNvCxnSpPr/>
          <p:nvPr/>
        </p:nvCxnSpPr>
        <p:spPr>
          <a:xfrm>
            <a:off x="3857400" y="3429000"/>
            <a:ext cx="2143440" cy="1800"/>
          </a:xfrm>
          <a:prstGeom prst="straightConnector1">
            <a:avLst/>
          </a:prstGeom>
          <a:ln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02" name="Прямая со стрелкой 20"/>
          <p:cNvCxnSpPr/>
          <p:nvPr/>
        </p:nvCxnSpPr>
        <p:spPr>
          <a:xfrm>
            <a:off x="3214440" y="4000320"/>
            <a:ext cx="1143360" cy="1800"/>
          </a:xfrm>
          <a:prstGeom prst="straightConnector1">
            <a:avLst/>
          </a:prstGeom>
          <a:ln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03" name="Прямая со стрелкой 22"/>
          <p:cNvCxnSpPr/>
          <p:nvPr/>
        </p:nvCxnSpPr>
        <p:spPr>
          <a:xfrm>
            <a:off x="2643120" y="4786200"/>
            <a:ext cx="428760" cy="357480"/>
          </a:xfrm>
          <a:prstGeom prst="straightConnector1">
            <a:avLst/>
          </a:prstGeom>
          <a:ln>
            <a:solidFill>
              <a:srgbClr val="b5dcde"/>
            </a:solidFill>
            <a:round/>
            <a:tailEnd len="med" type="arrow" w="med"/>
          </a:ln>
        </p:spPr>
      </p:cxn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Экономические показател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В год суммарный оборот отрасли превышает $11 млрд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cvmet.jpg"/>
          <p:cNvPicPr/>
          <p:nvPr/>
        </p:nvPicPr>
        <p:blipFill>
          <a:blip r:embed="rId2"/>
          <a:stretch/>
        </p:blipFill>
        <p:spPr>
          <a:xfrm>
            <a:off x="1403640" y="2421000"/>
            <a:ext cx="6408360" cy="4139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Перспективы развити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Перспективы развития металлургической отрасли в первую очередь связаны с расширением спроса на ее продукцию на внутреннем рынке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Основные направления развития металлургии связаны с производством новых видов продукции, улучшением структуры производства, повышением производительности труд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Группы цветных металлов по свойствам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240" cy="496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Тяжелые (медь, олово, свинец, никель)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Легкие (алюминий, титан, магний)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Драгоценные (золото, серебро, платина)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Редкие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Рассеянны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5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Факторы размещения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240" cy="496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Районы добычи руды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Районы с дешевой электроэнергией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1571760" y="3571920"/>
            <a:ext cx="1999800" cy="2666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4572000" y="3714840"/>
            <a:ext cx="2857320" cy="2279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220868.jpg"/>
          <p:cNvPicPr/>
          <p:nvPr/>
        </p:nvPicPr>
        <p:blipFill>
          <a:blip r:embed="rId1"/>
          <a:stretch/>
        </p:blipFill>
        <p:spPr>
          <a:xfrm>
            <a:off x="0" y="0"/>
            <a:ext cx="9177120" cy="6857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Содержимое 4" descr="292abe7291653f5c27f4bcd7aa169676.jpg"/>
          <p:cNvPicPr/>
          <p:nvPr/>
        </p:nvPicPr>
        <p:blipFill>
          <a:blip r:embed="rId2"/>
          <a:stretch/>
        </p:blipFill>
        <p:spPr>
          <a:xfrm>
            <a:off x="1397160" y="1640520"/>
            <a:ext cx="6349680" cy="4444560"/>
          </a:xfrm>
          <a:prstGeom prst="rect">
            <a:avLst/>
          </a:prstGeom>
          <a:ln w="9525">
            <a:noFill/>
          </a:ln>
          <a:effectLst>
            <a:softEdge rad="112680"/>
          </a:effectLst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Цветная металлургия России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Цветная металлургия России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Цветная металлургия России</Template>
  <TotalTime>67</TotalTime>
  <Application>LibreOffice/7.4.7.2$Linux_X86_64 LibreOffice_project/40$Build-2</Application>
  <AppVersion>15.0000</AppVersion>
  <Words>152</Words>
  <Paragraphs>25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3:30:30Z</dcterms:created>
  <dc:creator>1488</dc:creator>
  <dc:description/>
  <dc:language>en-US</dc:language>
  <cp:lastModifiedBy>USER</cp:lastModifiedBy>
  <dcterms:modified xsi:type="dcterms:W3CDTF">2016-10-30T15:26:29Z</dcterms:modified>
  <cp:revision>10</cp:revision>
  <dc:subject/>
  <dc:title>Презентация по географии 9 класс на тему: «Цветная металлурги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