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wmf" ContentType="image/x-wmf"/>
  <Override PartName="/ppt/media/image16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gif" ContentType="image/gif"/>
  <Override PartName="/ppt/media/image8.wmf" ContentType="image/x-wmf"/>
  <Override PartName="/ppt/media/image13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635-13CB-486E-AA07-C64D3751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655-920C-44B2-A8DC-ED286224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59D-B8CA-44FF-9E50-D4A1986A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29F-1912-40E5-B0B1-08BFB965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8F15-15BF-4178-ADED-AFF6581D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C27D-5001-4E37-BCAB-0497BA1E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8350-95AE-4177-8595-32B7EF88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5A4E-B895-4D83-9B88-9441CB65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FFAF-EBFE-422D-AF9E-EA969E3D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17A3-D10C-4075-A1BA-F3C1CE70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1ECB-F1EF-4F3E-A7F5-D87773AD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257-841D-4A7D-B0A1-7C7683D4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611D-F5A1-45BB-A79C-F2BA685C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9365-6ECE-48CB-BFB1-778C2AF2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85C8-FDD3-4997-AAC6-BE9BB08F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00F5-AF4B-4743-AD3A-45543FB1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D154-BBC8-4005-98B6-D12AB1C5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41CF-C2E7-4EDD-80AB-CE192B58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27B3A-DD36-4F47-9A05-4E435E8A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99441-230C-4113-AFEF-25519554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81E8-FA69-4EDF-8211-B05FDD67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FF09B-4F58-4AA4-99ED-2383F303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4C2-1B5B-4AFE-9F58-A930132F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B18A-8032-4EA1-978B-6D872FB6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8CB9-F207-43F1-ADCC-F6D2F07A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7D1E-1954-4783-A54C-9C451D8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60059-1666-422C-941C-DB93A839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112F-8C77-4C31-B196-6DCA826F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A1FE-F658-4BB6-8D85-32CDF703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964B5-166B-40B5-9263-D394D899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6D1B6-D816-47B5-B49B-966B937F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C2FCB-1678-4D05-A467-4AEC32EB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9ABB9-6BA9-466E-93CE-AA3E55BC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B68-D64B-47A9-8F26-A332799B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C59F8-17BD-4DA2-A648-43D65044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D053-2A97-4DBD-BA12-D46A36D3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B3147-B85A-433D-998A-AC2A9BD7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55226-DACB-4653-A6C8-1BFE219E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C26D4-8784-4EE8-A598-4103F817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4127-7894-4E15-80F8-5FB72B83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D5AEF-2AE0-4F9F-A859-68CA0210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689E3-A347-4953-8EAD-D1DABC3B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2D17C-00D2-48FD-8014-7779C9A0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97EE1-364B-403F-8B5A-A3ABD236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2C4-C9F9-4412-8293-B9486766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B19E1-8DB2-4149-841A-65B08C14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44EA-6C49-4AF6-9617-20ED9481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B09C9-DE70-4D7E-A4E6-6FD7D08E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78E9-57AC-4BD4-95FA-2432A2CF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25CA3-441D-46CB-8F01-6A1BEC78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21D58-2F6F-4D3B-A1BD-BC720D96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86DE9-C33D-49B9-93F4-909D6356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98827-5746-4376-B1A5-BE1600E7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B300-2195-43D4-B728-791931A9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39077-AF9B-4051-BDF0-F262FB30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97B-8092-47AF-87E4-B6BD2A6A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44D49-F259-417A-BA21-39F0E1CB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3A5F6-27DF-4EDF-8638-2340BADF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84C8E-09D8-40CB-B94D-335754CC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D16E5-95C9-4561-A8EB-AD33C59E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82394-C2F6-467B-90D6-C9D612A9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65E53-51A5-4AF8-AE50-D9F6CECE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1929C-A45F-4782-BED1-058289BC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B1482-E1F5-416E-81A8-640560B4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8906C-2745-4E68-8568-2E6F2013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9E2D-DD95-41B1-9228-79645C64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A72-CDA7-4447-AE51-6A73E960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A89BB-86C7-4CB0-9BB7-357D4791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822D0-8CC4-4B25-B3BA-82A1253C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5038A-C355-4E7B-B3A6-25886414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F2199-AE97-4CC3-96EA-9ECB49BA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8A5F7-668C-4B64-A2DE-B3D7B36D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1C15D-8380-4DA2-89FE-A0F9A37B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68E71-F629-4B9E-AA26-5B95C5EC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2FFFD7-9381-42AD-9583-33C072F5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11B9D9-68EF-4ADB-B5FE-97B29F38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DE702-197B-47CA-A70F-987C523E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8FB-D136-4186-8FBD-7526176F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ADD22-16F8-40C9-A2DF-5ED1FB86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2BAAA-7D5E-4661-A13A-95D0E9F0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8B4CA-F782-496F-BB1D-A061A7D3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8B086-A733-43FA-B73B-0E67C242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A992F-2F68-4CA3-A641-EAF8FEC2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418-27C5-4F93-BCAC-A79931C2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6A1F-FC42-4F04-96C1-A67B1B192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9D50-CA83-44A0-9BBA-53E55DEDF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9EB8-FA1B-45A7-936B-27D8B0301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D6D1-E447-454D-8257-B3D088565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9FCD-4764-4A76-A475-A2E979BFC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8308-5781-472C-9502-04A56F2868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B770-3EF8-4222-8E59-8A8E8ECC39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50920" y="549360"/>
            <a:ext cx="838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ОБУЧЕНИЕ  ГРАМОТЕ</a:t>
            </a:r>
            <a:endParaRPr b="1" lang="en-US" sz="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 1 классе</a:t>
            </a:r>
            <a:endParaRPr b="1" lang="en-US" sz="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4537080" cy="30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360" y="1484280"/>
            <a:ext cx="1943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яич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940040" cy="16527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889200" cy="2492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6443640" y="4292640"/>
            <a:ext cx="2287440" cy="18525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3492360" y="1989000"/>
            <a:ext cx="2087640" cy="19321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755640" y="260280"/>
            <a:ext cx="2332080" cy="1143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3492360" y="4653000"/>
            <a:ext cx="17956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7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00000" y="260280"/>
            <a:ext cx="460872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окончен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356000" y="3213000"/>
            <a:ext cx="4143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25639379_solninn"/>
          <p:cNvPicPr/>
          <p:nvPr/>
        </p:nvPicPr>
        <p:blipFill>
          <a:blip r:embed="rId2"/>
          <a:stretch/>
        </p:blipFill>
        <p:spPr>
          <a:xfrm>
            <a:off x="1763640" y="115920"/>
            <a:ext cx="589284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перва аз да бук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а там и нау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8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457200" y="380880"/>
          <a:ext cx="8507520" cy="5715000"/>
        </p:xfrm>
        <a:graphic>
          <a:graphicData uri="http://schemas.openxmlformats.org/drawingml/2006/table">
            <a:tbl>
              <a:tblPr/>
              <a:tblGrid>
                <a:gridCol w="2027160"/>
                <a:gridCol w="2735280"/>
                <a:gridCol w="37450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 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 Е  Т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 А М П О  К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 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  Е Л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 Л О В Е 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Д 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 В   А Р К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1052640"/>
            <a:ext cx="5144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47640" y="2852640"/>
            <a:ext cx="514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4724280"/>
            <a:ext cx="514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1052640"/>
            <a:ext cx="5144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2924280"/>
            <a:ext cx="514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11280" y="4869000"/>
            <a:ext cx="5144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96360" y="1052640"/>
            <a:ext cx="514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2852640"/>
            <a:ext cx="514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56360" y="4869000"/>
            <a:ext cx="5144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395280" y="5190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04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827520" y="2637000"/>
            <a:ext cx="1663560" cy="2157120"/>
            <a:chOff x="3827520" y="2637000"/>
            <a:chExt cx="1663560" cy="2157120"/>
          </a:xfrm>
        </p:grpSpPr>
        <p:sp>
          <p:nvSpPr>
            <p:cNvPr id="308" name=""/>
            <p:cNvSpPr/>
            <p:nvPr/>
          </p:nvSpPr>
          <p:spPr>
            <a:xfrm>
              <a:off x="4467240" y="2637000"/>
              <a:ext cx="1023840" cy="215712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00600" y="2637000"/>
              <a:ext cx="1211040" cy="314280"/>
            </a:xfrm>
            <a:custGeom>
              <a:avLst/>
              <a:gdLst/>
              <a:ahLst/>
              <a:rect l="l" t="t" r="r" b="b"/>
              <a:pathLst>
                <a:path w="763" h="198">
                  <a:moveTo>
                    <a:pt x="0" y="186"/>
                  </a:moveTo>
                  <a:cubicBezTo>
                    <a:pt x="29" y="160"/>
                    <a:pt x="117" y="23"/>
                    <a:pt x="174" y="21"/>
                  </a:cubicBezTo>
                  <a:cubicBezTo>
                    <a:pt x="231" y="19"/>
                    <a:pt x="286" y="152"/>
                    <a:pt x="341" y="175"/>
                  </a:cubicBezTo>
                  <a:cubicBezTo>
                    <a:pt x="396" y="198"/>
                    <a:pt x="433" y="187"/>
                    <a:pt x="503" y="158"/>
                  </a:cubicBezTo>
                  <a:cubicBezTo>
                    <a:pt x="573" y="129"/>
                    <a:pt x="709" y="33"/>
                    <a:pt x="76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27520" y="2878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12875400">
            <a:off x="3900240" y="3166560"/>
            <a:ext cx="649080" cy="14472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08092E-006 C 0.00469 -0.00555 0.02049 -0.03445 0.02847 -0.03399 C 0.03646 -0.03352 0.03889 -0.00601 0.04757 0.00208 C 0.05625 0.01018 0.06615 0.02197 0.0809 0.0148 C 0.09566 0.00763 0.12483 -0.02867 0.13646 -0.04023 E">
                                      <p:cBhvr>
                                        <p:cTn id="107" dur="5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46 -0.04023 C 0.12448 0.00832 0.06858 0.20254 0.06493 0.24948 C 0.06128 0.29641 0.09618 0.25294 0.11424 0.24092 C 0.13229 0.2289 0.16076 0.19075 0.17292 0.17757 E">
                                      <p:cBhvr>
                                        <p:cTn id="110" dur="5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493956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арта – это не кровать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 на ней нельзя лежать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ы сиди за партой стройно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 веди себя достой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519280" y="260280"/>
            <a:ext cx="385308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е   а   у   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98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804000" y="577800"/>
            <a:ext cx="1652760" cy="14083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1201680" cy="1366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1800360" cy="16653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833400" y="4292640"/>
            <a:ext cx="811080" cy="2276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6300720" y="4365720"/>
            <a:ext cx="2287800" cy="18525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6588000" y="2276640"/>
            <a:ext cx="1828800" cy="1530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7"/>
          <a:stretch/>
        </p:blipFill>
        <p:spPr>
          <a:xfrm>
            <a:off x="179280" y="260280"/>
            <a:ext cx="2519640" cy="1235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8"/>
          <a:stretch/>
        </p:blipFill>
        <p:spPr>
          <a:xfrm>
            <a:off x="3492360" y="4653000"/>
            <a:ext cx="1795680" cy="1679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9"/>
          <a:stretch/>
        </p:blipFill>
        <p:spPr>
          <a:xfrm>
            <a:off x="3276720" y="189000"/>
            <a:ext cx="28731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5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5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5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5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75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5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9000"/>
                            </p:stCondLst>
                            <p:childTnLst>
                              <p:par>
                                <p:cTn id="19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5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8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1000"/>
                            </p:stCondLst>
                            <p:childTnLst>
                              <p:par>
                                <p:cTn id="21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2:36:56Z</dcterms:created>
  <dc:creator>Loner-XP</dc:creator>
  <dc:description/>
  <dc:language>en-US</dc:language>
  <cp:lastModifiedBy>Наталья</cp:lastModifiedBy>
  <dcterms:modified xsi:type="dcterms:W3CDTF">2010-12-13T04:56:33Z</dcterms:modified>
  <cp:revision>17</cp:revision>
  <dc:subject/>
  <dc:title>Урок русского языка</dc:title>
</cp:coreProperties>
</file>