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wmf" ContentType="image/x-wmf"/>
  <Override PartName="/ppt/media/image16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gif" ContentType="image/gif"/>
  <Override PartName="/ppt/media/image8.wmf" ContentType="image/x-wmf"/>
  <Override PartName="/ppt/media/image13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3BA-C712-470A-8495-4B69C9CE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2A9-4DE8-4E66-882F-C881F74E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65D-E753-4691-9CD2-2C24D546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52D-9909-4CCD-982C-F908BA17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1123-6395-4691-BABD-DAE7986F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5177-4CC5-41BB-9F1F-C9772F42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B20E-F796-4C01-9C82-2E5837E5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4C38-310E-42C2-A326-DDFA54A4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EBD1-9947-4853-84DC-565CF6AD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9541-09AF-42E2-AA2B-1837C56D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7901-30B7-48FC-A84B-3975CC67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92A-DA60-4E1D-AD08-E9DE3AD0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039C-4FD2-43F6-B302-8094F9EC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0A11-41E2-4AAA-B990-594CDAA0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DA99-8255-47EF-A22E-11ABB2E5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FFF5-5B97-41F9-A519-8D1FE000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348E-E253-47EF-BEAE-03CA2D25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C67E-7BC2-48CD-A8EF-615DC752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A8275-2D76-4B12-B580-2C3FBAA0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10182-51FE-474F-B858-41CB6F50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DBF3-7E2E-421D-A8F1-0A0B3FAE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7407-19CF-4066-8D2D-EDA59355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2CD-310F-4494-A48D-E340AF6C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0099-AB64-4CA2-9F94-ADC2DEB2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5E4E-3396-4102-84EC-F587311F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1D5A6-FBBE-43CE-A176-60CDFD03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ECDE6-DD05-4B5F-90E7-F8B0FD4F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EE144-4633-4C53-AFD3-7C863294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1BE9E-43C9-4293-8207-016FA119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7429C-127F-4396-B688-118AFBD1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DF235-8B10-47BE-8802-810FFC60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CD413-FC20-4662-9663-2B522789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86B21-EE18-4B11-B2A5-13E1AA34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EB8-3FA4-4A84-B96C-37C069AD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54D6E-08F7-4F9F-959D-C3D742AB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BDD3D-0CCB-4D27-9A2D-539F754E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6B74-A2A9-49ED-AE01-C0D28FED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0B984-596B-48C2-9A32-7DD91D34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F5CE1-F89E-4A52-AD9B-8B6E2870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12A00-2BD6-4D0B-988C-B76BE261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A301-3DBF-447B-A701-78E75251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52639-3A13-46B1-B5D1-43C2C164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DC360-8743-4D25-9397-BF62B754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EB475-28B5-4A94-B3BD-D63BC7D8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DD6-46CB-4ADF-8637-38DE4940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4B74A-FA8F-44EB-879C-1BDA4950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EA249-F1B3-42CE-B239-7FC2D5F8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B3F0A-E697-4ACE-9C44-3113C686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68E1B-5F8D-4CB4-A32B-20064AB4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8B661-5EF4-4B67-B306-243197DD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FF56E-EC87-437B-91DF-2D8E5D0F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F673E-8F6E-4BA4-93E4-CE4D8516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CA24E-B30E-497F-AEA0-67F29CB5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F1EF3-1B51-4359-B0F0-CAEEE046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8D85C-2014-4F1C-97B0-67ADE567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248-8CCD-4622-B820-FCE7C71A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147A8-150C-431C-AD89-BC3FEBE8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83E62-E659-4CDC-9EE8-5C40D509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884BF-E4D6-4346-87C6-02373308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AC591-DEFC-4BAE-A5A3-FBC5FF8F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A37CD-B4D0-4ECA-8FB5-47D83410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DBFDB-9042-44EE-84CB-41738FA1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A54D3-01C1-4DEE-B7CF-3882EA31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1B03C-C3BF-4677-A028-9DE5844C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97C68-727C-4B47-8592-4F8AE3C2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D0936-ED89-4A34-8DF8-FB67BA17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71D-DF4D-44BD-8409-47EA9654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B215B-846D-4EB8-ABAD-45D80B3E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4694E-B0AE-47AE-B516-094F95DC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4C35B-53F4-44D4-A8A1-76CDD4EC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6DAFB-A2FF-4FD5-BB5E-CAC359DB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87920-F394-4928-87CF-80DECD48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65C770-4C92-40AA-A166-225D3107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386DC-A550-48FA-A373-1F59A384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6C9CD7-A511-4BDB-B067-43987AF0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451E5-6A58-473E-B056-5DB5ADFB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16773B-8020-47AE-93F8-3936F26C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A54-0C4E-4479-BEDD-80C7730F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2984F-E427-40C5-AF43-F0F54ED9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E1AB6-68B4-4B64-916D-B06699F8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DB184-1A0A-4EE8-9CB5-1F2902DE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03A52-CFCC-476A-8177-CC1E9E2C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C54308-79B6-4C7B-B616-226F80D0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049-9C79-445C-8002-50186012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3E7D-7A9E-473E-8539-8A56E9816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7633-33B6-4A1F-A84D-60FDD8096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AEAA-1822-41EA-AEC4-370079FB0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6A5E-A9AE-4142-BB76-B9093A696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F9CB-A14E-412C-822E-A9982300D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29AC-A840-474D-83D3-43273B0193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1CE7-B05C-413F-8A5F-09F645CEFD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50920" y="549360"/>
            <a:ext cx="838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ОБУЧЕНИЕ  ГРАМОТЕ</a:t>
            </a:r>
            <a:endParaRPr b="1" lang="en-US" sz="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 1 классе</a:t>
            </a:r>
            <a:endParaRPr b="1" lang="en-US" sz="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195640" y="3357720"/>
            <a:ext cx="4537080" cy="30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360" y="1484280"/>
            <a:ext cx="1943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яич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940040" cy="16527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889200" cy="2492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6443640" y="4292640"/>
            <a:ext cx="2287440" cy="18525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3492360" y="1989000"/>
            <a:ext cx="2087640" cy="19321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755640" y="260280"/>
            <a:ext cx="2332080" cy="1143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3492360" y="4653000"/>
            <a:ext cx="179568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7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00000" y="260280"/>
            <a:ext cx="460872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окончен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356000" y="3213000"/>
            <a:ext cx="4143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25639379_solninn"/>
          <p:cNvPicPr/>
          <p:nvPr/>
        </p:nvPicPr>
        <p:blipFill>
          <a:blip r:embed="rId2"/>
          <a:stretch/>
        </p:blipFill>
        <p:spPr>
          <a:xfrm>
            <a:off x="1763640" y="115920"/>
            <a:ext cx="5892840" cy="64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перва аз да буки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а там и нау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8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8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457200" y="380880"/>
          <a:ext cx="8507520" cy="5715000"/>
        </p:xfrm>
        <a:graphic>
          <a:graphicData uri="http://schemas.openxmlformats.org/drawingml/2006/table">
            <a:tbl>
              <a:tblPr/>
              <a:tblGrid>
                <a:gridCol w="2027160"/>
                <a:gridCol w="2735280"/>
                <a:gridCol w="37450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 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 Е  Т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 А М П О  К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 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  Е Л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 Л О В Е 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 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 Д 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 В   А Р К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1052640"/>
            <a:ext cx="5144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47640" y="2852640"/>
            <a:ext cx="514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4724280"/>
            <a:ext cx="514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1052640"/>
            <a:ext cx="5144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2924280"/>
            <a:ext cx="514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11280" y="4869000"/>
            <a:ext cx="5144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96360" y="1052640"/>
            <a:ext cx="514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92720" y="2852640"/>
            <a:ext cx="514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56360" y="4869000"/>
            <a:ext cx="5144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395280" y="5190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04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827520" y="2637000"/>
            <a:ext cx="1663560" cy="2157120"/>
            <a:chOff x="3827520" y="2637000"/>
            <a:chExt cx="1663560" cy="2157120"/>
          </a:xfrm>
        </p:grpSpPr>
        <p:sp>
          <p:nvSpPr>
            <p:cNvPr id="308" name=""/>
            <p:cNvSpPr/>
            <p:nvPr/>
          </p:nvSpPr>
          <p:spPr>
            <a:xfrm>
              <a:off x="4467240" y="2637000"/>
              <a:ext cx="1023840" cy="215712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00600" y="2637000"/>
              <a:ext cx="1211040" cy="314280"/>
            </a:xfrm>
            <a:custGeom>
              <a:avLst/>
              <a:gdLst/>
              <a:ahLst/>
              <a:rect l="l" t="t" r="r" b="b"/>
              <a:pathLst>
                <a:path w="763" h="198">
                  <a:moveTo>
                    <a:pt x="0" y="186"/>
                  </a:moveTo>
                  <a:cubicBezTo>
                    <a:pt x="29" y="160"/>
                    <a:pt x="117" y="23"/>
                    <a:pt x="174" y="21"/>
                  </a:cubicBezTo>
                  <a:cubicBezTo>
                    <a:pt x="231" y="19"/>
                    <a:pt x="286" y="152"/>
                    <a:pt x="341" y="175"/>
                  </a:cubicBezTo>
                  <a:cubicBezTo>
                    <a:pt x="396" y="198"/>
                    <a:pt x="433" y="187"/>
                    <a:pt x="503" y="158"/>
                  </a:cubicBezTo>
                  <a:cubicBezTo>
                    <a:pt x="573" y="129"/>
                    <a:pt x="709" y="33"/>
                    <a:pt x="763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27520" y="2878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12875400">
            <a:off x="3900240" y="3166560"/>
            <a:ext cx="649080" cy="14472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08092E-006 C 0.00469 -0.00555 0.02049 -0.03445 0.02847 -0.03399 C 0.03646 -0.03352 0.03889 -0.00601 0.04757 0.00208 C 0.05625 0.01018 0.06615 0.02197 0.0809 0.0148 C 0.09566 0.00763 0.12483 -0.02867 0.13646 -0.04023 E">
                                      <p:cBhvr>
                                        <p:cTn id="107" dur="5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46 -0.04023 C 0.12448 0.00832 0.06858 0.20254 0.06493 0.24948 C 0.06128 0.29641 0.09618 0.25294 0.11424 0.24092 C 0.13229 0.2289 0.16076 0.19075 0.17292 0.17757 E">
                                      <p:cBhvr>
                                        <p:cTn id="110" dur="5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493956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арта – это не кровать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 на ней нельзя лежать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ы сиди за партой стройно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 веди себя достой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519280" y="260280"/>
            <a:ext cx="385308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е   а   у   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98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804000" y="577800"/>
            <a:ext cx="1652760" cy="14083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1201680" cy="13669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348000" y="1989000"/>
            <a:ext cx="1800360" cy="16653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833400" y="4292640"/>
            <a:ext cx="811080" cy="2276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6300720" y="4365720"/>
            <a:ext cx="2287800" cy="18525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6588000" y="2276640"/>
            <a:ext cx="1828800" cy="15303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7"/>
          <a:stretch/>
        </p:blipFill>
        <p:spPr>
          <a:xfrm>
            <a:off x="179280" y="260280"/>
            <a:ext cx="2519640" cy="1235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8"/>
          <a:stretch/>
        </p:blipFill>
        <p:spPr>
          <a:xfrm>
            <a:off x="3492360" y="4653000"/>
            <a:ext cx="1795680" cy="16794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9"/>
          <a:stretch/>
        </p:blipFill>
        <p:spPr>
          <a:xfrm>
            <a:off x="3276720" y="189000"/>
            <a:ext cx="28731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5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5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5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65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75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5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6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9000"/>
                            </p:stCondLst>
                            <p:childTnLst>
                              <p:par>
                                <p:cTn id="19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5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5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8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1000"/>
                            </p:stCondLst>
                            <p:childTnLst>
                              <p:par>
                                <p:cTn id="21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2:36:56Z</dcterms:created>
  <dc:creator>Loner-XP</dc:creator>
  <dc:description/>
  <dc:language>en-US</dc:language>
  <cp:lastModifiedBy>Наталья</cp:lastModifiedBy>
  <dcterms:modified xsi:type="dcterms:W3CDTF">2010-12-13T04:56:33Z</dcterms:modified>
  <cp:revision>17</cp:revision>
  <dc:subject/>
  <dc:title>Урок русского языка</dc:title>
</cp:coreProperties>
</file>