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CD8-D5DE-477D-A60C-E8ED00B5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9F1-9E83-449A-BB44-09842354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EE8-E8C3-4F54-ADDF-CA594136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29F-8B70-4483-9EDD-0E896F9C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659-1FD1-4CA5-87CA-CE1017B4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47F8-8238-4BF8-8C34-89A5E0D5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FFA-99FC-495F-A9E6-8AE2C872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193-F0B2-48B9-A630-2D8A5289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61A-BB5F-4BBD-87A2-07FEF392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657-3D65-49B3-9209-ED16A842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325-EC08-4182-9E8F-833B8CF7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B25-D84D-4657-AF74-956D500C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6B291-872E-482E-85B5-658352FB3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0000" y="1260360"/>
            <a:ext cx="5759280" cy="251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Урок математики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с.51, „Школа России“ 2 часть,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3 класс.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40000" y="720360"/>
            <a:ext cx="5472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: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 __ 201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0 __ 408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 __ 9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6 __ 2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64000" y="2700360"/>
            <a:ext cx="11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3419640"/>
            <a:ext cx="11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720" y="4680000"/>
            <a:ext cx="11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4054320"/>
            <a:ext cx="11160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111600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079640"/>
            <a:ext cx="39592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 сот.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1496880"/>
            <a:ext cx="381636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 сот.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19640" y="1260360"/>
            <a:ext cx="23400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0 де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1979640"/>
            <a:ext cx="2376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00 е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3240000"/>
            <a:ext cx="57592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сот. = __дес. = ___е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3240000"/>
            <a:ext cx="11160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3280" y="3240000"/>
            <a:ext cx="11160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140360"/>
            <a:ext cx="1618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4187880"/>
            <a:ext cx="16560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4319640"/>
            <a:ext cx="77407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0сот.= ___дес.= _____е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360" y="1698120"/>
            <a:ext cx="907092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Тема урока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Замена сотен (десятков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единицам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 единиц-десяткам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сотням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160720" y="720720"/>
            <a:ext cx="611964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360360"/>
            <a:ext cx="67309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сот. 14 ед.=____ед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67 ед.=_____дес._____ед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 дес.=______ед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3 сот.=_____дес.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_____е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00720" y="2879640"/>
            <a:ext cx="1116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80000" y="1800360"/>
            <a:ext cx="1116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00720" y="4140360"/>
            <a:ext cx="16192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8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4060800"/>
            <a:ext cx="1116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8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9640" y="1720800"/>
            <a:ext cx="1116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04000" y="641520"/>
            <a:ext cx="11160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301680"/>
            <a:ext cx="651672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уроке мне ..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ло всё понятно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ло трудно;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ло интересно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бавилось знан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360" y="12603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/з-№6 (по рядам),№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/>
  <dcterms:modified xsi:type="dcterms:W3CDTF">2017-03-19T18:22:20Z</dcterms:modified>
  <cp:revision>7</cp:revision>
  <dc:subject/>
  <dc:title/>
</cp:coreProperties>
</file>