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BE1-ADF6-4132-9439-0F2BC018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504-2489-4A94-8535-A7D3E85D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AFB-E8A7-43EE-AB23-B7277CCF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2EC-61D7-40FA-BC99-F904727C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39A-CBA6-4B48-9004-29265BCF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827-9ACC-4F84-BBC5-F6FECD01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E41-DA5C-4880-9EA2-687C814C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1D5-0E44-409F-8CAE-B4D4A590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E76-8DC2-4D9E-BC87-4527D3A4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038-085F-4AF6-931C-C0F43A8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378-1F3C-45F1-821C-A2F5E4D7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964-3820-4DC8-BA4E-1DB82E1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99EF7-FAB5-4691-B4E3-031EC5E00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1260360"/>
            <a:ext cx="5759280" cy="251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Урок математики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с.51, „Школа России“ 2 часть,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3 класс.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720360"/>
            <a:ext cx="5472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: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__ 201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0 __ 408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 __ 9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6 __ 2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64000" y="2700360"/>
            <a:ext cx="11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419640"/>
            <a:ext cx="11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4680000"/>
            <a:ext cx="11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4054320"/>
            <a:ext cx="1116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1116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079640"/>
            <a:ext cx="3959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 сот.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1496880"/>
            <a:ext cx="38163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 сот.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19640" y="1260360"/>
            <a:ext cx="23400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 де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1979640"/>
            <a:ext cx="2376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0 е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3240000"/>
            <a:ext cx="57592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сот. = __дес. = ___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3240000"/>
            <a:ext cx="1116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3280" y="3240000"/>
            <a:ext cx="1116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140360"/>
            <a:ext cx="1618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4187880"/>
            <a:ext cx="1656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4319640"/>
            <a:ext cx="7740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0сот.= ___дес.= _____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360" y="1698120"/>
            <a:ext cx="907092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ема урока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мена сотен (десятков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единицам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 единиц-десяткам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сотням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160720" y="720720"/>
            <a:ext cx="611964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360360"/>
            <a:ext cx="6730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сот. 14 ед.=____ед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67 ед.=_____дес._____ед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 дес.=______ед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3 сот.=_____дес.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_____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00720" y="2879640"/>
            <a:ext cx="1116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80000" y="1800360"/>
            <a:ext cx="1116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4140360"/>
            <a:ext cx="1619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8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4060800"/>
            <a:ext cx="1116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8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9640" y="1720800"/>
            <a:ext cx="1116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04000" y="641520"/>
            <a:ext cx="11160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01680"/>
            <a:ext cx="651672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уроке мне ..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о всё понятно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о трудно;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о интересно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бавилось зна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360" y="1260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/з-№6 (по рядам),№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17-03-19T18:22:20Z</dcterms:modified>
  <cp:revision>7</cp:revision>
  <dc:subject/>
  <dc:title/>
</cp:coreProperties>
</file>