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537-A580-4A2B-9159-D5A892EA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342-49F4-4A35-ACF4-FE1FEA76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779-DA08-49F4-8032-01219036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E49-42E0-49DE-BF09-9F7A3B6C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19B6-3C6C-46D6-90F6-25C3ECB5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FE62-3F70-4C91-AB5A-DD00A9AD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F1D1-076C-45A6-BA97-D9D92D16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7422-E999-4407-9985-24E89872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ECCD-EF78-4614-9437-00F0367E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4852-4627-4B1B-8C05-01089B0F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F577-4396-455A-8F68-ADBE1D1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1CE-902E-48CA-8A79-3A987DA5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1D76-ED27-4860-BB4B-E2E77D68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590A-823A-4818-BA43-C5E267F3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2302-E359-46ED-A586-13782B80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C551-6BF2-4F01-ADBC-97CF9A75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49E3-CFBD-4578-B491-2F5576D9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EEB-5DFE-445A-8D0D-6AA5C7C2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A10-4C07-4B44-B650-A134175D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73F-9681-443B-B0C8-77927BCC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058-265F-45C8-B5A9-CDC7F958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F50-EF0D-40F9-A217-DCDE94FA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503-4490-41DC-AC26-B36AE566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32A-3066-4F71-8284-AABA8DEE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213D-20E3-4854-A095-31C2B22117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78F4-BBDB-40B5-99C5-BC74D6C38DA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ffffcc"/>
                </a:solidFill>
                <a:latin typeface="Arial"/>
              </a:rPr>
              <a:t>ПРОЕКТ </a:t>
            </a:r>
            <a:br>
              <a:rPr sz="7600"/>
            </a:br>
            <a:r>
              <a:rPr b="1" lang="ru-RU" sz="7600" spc="-1" strike="noStrike">
                <a:solidFill>
                  <a:srgbClr val="ffffcc"/>
                </a:solidFill>
                <a:latin typeface="Arial"/>
              </a:rPr>
              <a:t>ДОБРО И ЗЛО</a:t>
            </a:r>
            <a:endParaRPr b="0" lang="en-US" sz="7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403280" y="4005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ект Моисеева Захар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 «В» класс, ГБОУ Школа №139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:\Работа\фоны и картинки\Обои на рабочий стол Лето 12.jpg"/>
          <p:cNvPicPr/>
          <p:nvPr/>
        </p:nvPicPr>
        <p:blipFill>
          <a:blip r:embed="rId1"/>
          <a:stretch/>
        </p:blipFill>
        <p:spPr>
          <a:xfrm>
            <a:off x="0" y="6984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32000" y="765000"/>
            <a:ext cx="6480000" cy="302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чаще всего рассказываются детям, потому что именно дети впитывают в себя те уроки, которые заложены народом в сказк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добро всегда побеждает зло. Добро всегда получает награду за свои поступ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2" descr="E:\Работа\клипарты\клипарт дети\463dcfd185f3.png"/>
          <p:cNvPicPr/>
          <p:nvPr/>
        </p:nvPicPr>
        <p:blipFill>
          <a:blip r:embed="rId2"/>
          <a:stretch/>
        </p:blipFill>
        <p:spPr>
          <a:xfrm>
            <a:off x="4572000" y="4076640"/>
            <a:ext cx="1944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ихи о доб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бы жизнь не летела-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ней своих не жалей,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елай доброе дело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ди счастья людей.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бы сердце горело,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 не тлело во мгле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елай доброе дело-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ем живём на земле. 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         А. Лесных 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ИХИ  О  ДОБРОТ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203040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Доброта нужна всем людям,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Пусть побольше добрых будет.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Говорят не зря при встрече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Добрый день» и «Добрый вечер».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И не зря ведь есть у нас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Пожелание «В добрый час».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Доброта — она от века</a:t>
            </a:r>
            <a:br>
              <a:rPr sz="3200"/>
            </a:b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Украшенье человека…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-541440" y="-963720"/>
            <a:ext cx="11619000" cy="10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56756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словицы о добре и зл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елай другим добро — будешь сам без бед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елая зло, на добро не надей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ля такого характера и сатана не пугал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а гнушаться — с людьми не зна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а желаешь, добро и дела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а ищи, а худо само приде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а на худо не меняю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 не лихо — ходит тих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 не умрет, а зло пропаде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 поощряй, а зло порица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 сеять — добро и пожина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 творить — себя весели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тча  о добре  и  зл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Однажды один старый мудрый индеец — вождь племени разговаривал со своим маленьким внук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Почему бывают плохие люди? — спрашивал его любознательный вну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Плохих людей не бывает, — ответил вождь. — В каждом человеке есть две половины — светлая и тёмная. Светлая сторона души призывает человека к любви, доброте, отзывчивости, миру, надежде, искренности. А тёмная сторона олицетворяет зло, эгоизм, разрушение, зависть, ложь, измену. Это как битва двух волков. Представь себе, что один волк светлый, а второй — тёмный. Понимаешь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Понятно, — сказал малыш, тронутый до глубины души словами деда. Мальчик на какое-то время задумался, а потом спросил: — Но какой же волк побеждает в конце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Старый индеец едва заметно улыбнулся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Всегда побеждает тот волк, которого ты кормиш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4" descr="1315222063_pravila-etiketa-dlya-samyx-malenkix-8-400x379"/>
          <p:cNvPicPr/>
          <p:nvPr/>
        </p:nvPicPr>
        <p:blipFill>
          <a:blip r:embed="rId1"/>
          <a:stretch/>
        </p:blipFill>
        <p:spPr>
          <a:xfrm>
            <a:off x="179280" y="404640"/>
            <a:ext cx="2913120" cy="2760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330026694634_yo-rrrsrss_0005_"/>
          <p:cNvPicPr/>
          <p:nvPr/>
        </p:nvPicPr>
        <p:blipFill>
          <a:blip r:embed="rId2"/>
          <a:stretch/>
        </p:blipFill>
        <p:spPr>
          <a:xfrm>
            <a:off x="5651640" y="404640"/>
            <a:ext cx="2735280" cy="273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mama"/>
          <p:cNvPicPr/>
          <p:nvPr/>
        </p:nvPicPr>
        <p:blipFill>
          <a:blip r:embed="rId3"/>
          <a:stretch/>
        </p:blipFill>
        <p:spPr>
          <a:xfrm>
            <a:off x="179280" y="3429000"/>
            <a:ext cx="3672000" cy="2446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i"/>
          <p:cNvPicPr/>
          <p:nvPr/>
        </p:nvPicPr>
        <p:blipFill>
          <a:blip r:embed="rId4"/>
          <a:stretch/>
        </p:blipFill>
        <p:spPr>
          <a:xfrm>
            <a:off x="3132000" y="404640"/>
            <a:ext cx="2448000" cy="273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stihi_o_dobrote_dlya_detei"/>
          <p:cNvPicPr/>
          <p:nvPr/>
        </p:nvPicPr>
        <p:blipFill>
          <a:blip r:embed="rId5"/>
          <a:stretch/>
        </p:blipFill>
        <p:spPr>
          <a:xfrm>
            <a:off x="4356000" y="3357720"/>
            <a:ext cx="3816360" cy="2550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Правила доброт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Будь отзывчив и внимателен к людя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Помогай другим сам, а не жди, когда тебя попросят об это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Люби людей знакомых и незнакомых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Призывай окружающих к хорошим взаимоотношения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Делай добро для люде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Не завиду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Не груб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cc99"/>
                </a:solidFill>
                <a:latin typeface="Verdana"/>
              </a:rPr>
              <a:t>Не вреднича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4" descr="dobrota"/>
          <p:cNvPicPr/>
          <p:nvPr/>
        </p:nvPicPr>
        <p:blipFill>
          <a:blip r:embed="rId1"/>
          <a:stretch/>
        </p:blipFill>
        <p:spPr>
          <a:xfrm>
            <a:off x="5867280" y="4653000"/>
            <a:ext cx="2952720" cy="20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ь 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. 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Личностные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 формировать представления о нравственной ответственности человека за содеянное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оспитывать доброту и милосердие, доброжелательность, уважение друг к другу и окружающим, стремление совершать добрые дел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. 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Метапредметные: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 развивать представления учащихся о добре и зле, умение дарить людям теплоту и доброт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. 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Предметные: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 продолжить знакомство учеников с общечеловеческими ценностя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.  Какие герои сказок на стороне добра, а  какие на стороне зл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НКЕ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 вас появились деньги. Могли бы вы истратить всё, что у вас есть, на подарки друзьям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оварищ рассказывает вам о своих невзгодах. Дадите ли вы ему понять, что вас это мало интересует, даже если это так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сли ваш партнёр плохо играет в шахматы или другую игру, будете ли вы иногда ему поддаваться, чтобы сделать ему приятное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Часто ли вы говорите приятное людям, просто чтобы поднять им настроение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юбите ли вы злые шутки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 злопамятны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можете ли вы терпеливо выслушивать даже то, что вас совершенно не интересует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еете ли на практике применять свои способности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Бросаете ли вы игру, когда начинаете проигрывать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сли вы уверены в своей правоте, отказываетесь ли вы слушать аргументы оппонента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 охотно выполняете просьбы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Почему знание о добре и зле важно для людей?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i="1" lang="ru-RU" sz="5400" spc="-1" strike="noStrike">
                <a:solidFill>
                  <a:srgbClr val="00cc99"/>
                </a:solidFill>
                <a:latin typeface="Verdana"/>
              </a:rPr>
              <a:t>Добро и зло главные моральные понятия в жизни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Что такое добро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Добро – это нравственная ценность, которая относится к человеческой деятельности, образец поступков людей и отношений между ни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4" descr="123121986086232127"/>
          <p:cNvPicPr/>
          <p:nvPr/>
        </p:nvPicPr>
        <p:blipFill>
          <a:blip r:embed="rId1"/>
          <a:stretch/>
        </p:blipFill>
        <p:spPr>
          <a:xfrm>
            <a:off x="684360" y="4221000"/>
            <a:ext cx="36003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Зло – это…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Зло – это противоположность добра, это то, что мораль стремится устранить и исправи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1462302"/>
          <p:cNvPicPr/>
          <p:nvPr/>
        </p:nvPicPr>
        <p:blipFill>
          <a:blip r:embed="rId1"/>
          <a:stretch/>
        </p:blipFill>
        <p:spPr>
          <a:xfrm>
            <a:off x="3419640" y="3716280"/>
            <a:ext cx="302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ДОБРО ИЛИ ЗЛО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7500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51393-0"/>
          <p:cNvPicPr/>
          <p:nvPr/>
        </p:nvPicPr>
        <p:blipFill>
          <a:blip r:embed="rId1"/>
          <a:stretch/>
        </p:blipFill>
        <p:spPr>
          <a:xfrm>
            <a:off x="324000" y="1484280"/>
            <a:ext cx="2160360" cy="244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Kopeisq_14-letneyi_podrostoq_zhestoqo_raspravilsia_s_13-letneym_malchiqom"/>
          <p:cNvPicPr/>
          <p:nvPr/>
        </p:nvPicPr>
        <p:blipFill>
          <a:blip r:embed="rId2"/>
          <a:stretch/>
        </p:blipFill>
        <p:spPr>
          <a:xfrm>
            <a:off x="2627280" y="141300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4811a878b35da"/>
          <p:cNvPicPr/>
          <p:nvPr/>
        </p:nvPicPr>
        <p:blipFill>
          <a:blip r:embed="rId3"/>
          <a:stretch/>
        </p:blipFill>
        <p:spPr>
          <a:xfrm>
            <a:off x="5292720" y="1413000"/>
            <a:ext cx="3382920" cy="172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iranonair8"/>
          <p:cNvPicPr/>
          <p:nvPr/>
        </p:nvPicPr>
        <p:blipFill>
          <a:blip r:embed="rId4"/>
          <a:stretch/>
        </p:blipFill>
        <p:spPr>
          <a:xfrm>
            <a:off x="179280" y="429264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e4610e7c564d"/>
          <p:cNvPicPr/>
          <p:nvPr/>
        </p:nvPicPr>
        <p:blipFill>
          <a:blip r:embed="rId5"/>
          <a:stretch/>
        </p:blipFill>
        <p:spPr>
          <a:xfrm>
            <a:off x="2843280" y="3716280"/>
            <a:ext cx="2163600" cy="2976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razvivaem_silu_voli_rebenka"/>
          <p:cNvPicPr/>
          <p:nvPr/>
        </p:nvPicPr>
        <p:blipFill>
          <a:blip r:embed="rId6"/>
          <a:stretch/>
        </p:blipFill>
        <p:spPr>
          <a:xfrm>
            <a:off x="5292720" y="3213000"/>
            <a:ext cx="3311640" cy="166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536288_224284377683304_100003052305841_360751_2014867884_n"/>
          <p:cNvPicPr/>
          <p:nvPr/>
        </p:nvPicPr>
        <p:blipFill>
          <a:blip r:embed="rId7"/>
          <a:stretch/>
        </p:blipFill>
        <p:spPr>
          <a:xfrm>
            <a:off x="5292720" y="5013360"/>
            <a:ext cx="324000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Как вы понимаете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Худо тому, кто добра не делает никому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Доброе дело само себя хвалит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Доброе слово и кошке приятно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Тому тяжело, кто помнит зло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cc99"/>
                </a:solidFill>
                <a:latin typeface="Verdana"/>
              </a:rPr>
              <a:t>«Злой человек не проживет в добре век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бро и Зло в русских сказка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2" descr="E:\Работа\фоны и картинки\1_stena.jpg"/>
          <p:cNvPicPr/>
          <p:nvPr/>
        </p:nvPicPr>
        <p:blipFill>
          <a:blip r:embed="rId1"/>
          <a:stretch/>
        </p:blipFill>
        <p:spPr>
          <a:xfrm>
            <a:off x="826920" y="1981080"/>
            <a:ext cx="756144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6:40:06Z</dcterms:created>
  <dc:creator>USER</dc:creator>
  <dc:description/>
  <dc:language>en-US</dc:language>
  <cp:lastModifiedBy>user</cp:lastModifiedBy>
  <dcterms:modified xsi:type="dcterms:W3CDTF">2017-04-25T08:37:01Z</dcterms:modified>
  <cp:revision>11</cp:revision>
  <dc:subject/>
  <dc:title>ДОБРО И ЗЛО</dc:title>
</cp:coreProperties>
</file>