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EC5AF-E313-4A0A-91D4-502C38939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64AF1-492C-4647-BFC7-CF2EF9965C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E1BD-A3EC-4EAE-A35E-245F1A61B2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7E328-242F-4E4D-9D97-D29BF57AD8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F6DFC-A65E-4E4B-855E-2DB0F4DEB7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63E83-C9BA-41A5-9CBC-BA341DB711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90A22-02C3-4AFE-ACB0-2F21CF83B9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79AE-1D38-41B4-BAF4-781DB6B3BA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E8449-3926-41D5-8F3C-21F659ED87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3436-27F9-4D9B-9A6A-3DBCEE8A3D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7C77-25EC-453F-9A23-037B34FC9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3D53-1189-458C-B92B-4E79CC4EE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B80F-A1EA-4EB6-9BC1-808167854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06A4-5F69-472E-9CCA-C08DC62F4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A56F-37DA-4CFD-8A48-F457ED0D8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E2C1-888C-4559-A6E5-9B3140FB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EA7E-83E6-4014-81E5-8AAC0CF7E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3B7F-D255-4AC5-A0ED-DFEFFFCF0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55DA-21CB-408E-B088-19C21DB5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5DDD-3D90-4F5D-AD8B-07F440702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BFF2-DE75-4D12-B477-B4F5823BC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244C-14EC-4081-845A-421FDE0CD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93789-6A16-4371-B01B-8FBD6E4ABF1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униципальное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бюджетное дошкольное образовательное учреждени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детский сад № 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000" y="1440000"/>
            <a:ext cx="684036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«ФОРМИРОВАНИЕ ЭСТЕТИЧЕСКОГО ОТНОШЕНИЯ К ОКРУЖАЮЩЕМУ МИРУ ПОСРЕДСТВОМ ДЫМКОВСКОЙ ИГРУШК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втор: Ромашкин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спитатель МБДОУ д/с № 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динцово, 201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3274920"/>
            <a:ext cx="4103640" cy="29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2000" y="503280"/>
            <a:ext cx="8352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Cambria"/>
              </a:rPr>
              <a:t>Реализация художественно-эстетического направления развития детей дошкольного возраста в ФГО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760" y="2987640"/>
            <a:ext cx="47512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Художественно- эстетическое развитие предполагает развитие предпосылок ценностно- 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40360" y="2627280"/>
            <a:ext cx="49053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79640" y="360360"/>
            <a:ext cx="88563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Актуальность художественно-эстетического направления развит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50760" y="2160720"/>
            <a:ext cx="51116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Декоративно-прикладное искусство является одним из факторов гармоничного развития личности. Народное искусство хранит и передает новым поколениям национальные традиции и выработанные народом формы эстетического отношения к миру. Искусство народных мастеров помогает раскрыть детям мир прекрасного, развивать у них художественный вку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Познавая красоту народного творчества, ребенок испытывает положительные эмоции, на основе которых возникают более глубокие чувства радости, восхищения и востор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51600" y="2160720"/>
            <a:ext cx="47116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7280" y="576360"/>
            <a:ext cx="49672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cc"/>
                </a:solidFill>
                <a:latin typeface="Cambria"/>
              </a:rPr>
              <a:t>Основным материалом для изготовления этих игрушек была глина. Вместе с детьми мы решили представить себя мастерами и поработать с глиной, соленым тестом и скульптурным пластилин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cc"/>
                </a:solidFill>
                <a:latin typeface="Cambria"/>
              </a:rPr>
              <a:t>Вот как мы это делали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99080" y="1022400"/>
            <a:ext cx="3473640" cy="2506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89600" y="3378240"/>
            <a:ext cx="285912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89600" y="3378240"/>
            <a:ext cx="458604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89600" y="3378240"/>
            <a:ext cx="30020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89600" y="337824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16720" y="4032360"/>
            <a:ext cx="3527280" cy="254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311640" y="352728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9080" y="4392720"/>
            <a:ext cx="28065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360" y="576360"/>
            <a:ext cx="381636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В непосредственно образовательной деятельности я познакомила детей с различными видами и способами изготовления дымковской игрушки, как классическими, так и нетрадицио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19640" y="360360"/>
            <a:ext cx="2016000" cy="295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551640" y="43164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176720" y="3816360"/>
            <a:ext cx="2371680" cy="3327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31640" y="4594320"/>
            <a:ext cx="3168720" cy="2462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840360" y="431964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57240" y="290520"/>
            <a:ext cx="62787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0" bIns="4500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330099"/>
                </a:solidFill>
                <a:latin typeface="Cambria"/>
              </a:rPr>
              <a:t>В руках мастеров происходит чудесное превращение природного материала в удивительные творения</a:t>
            </a:r>
            <a:r>
              <a:rPr b="1" i="1" lang="ru-RU" sz="1000" spc="-1" strike="noStrike">
                <a:solidFill>
                  <a:srgbClr val="3300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8920" y="1477800"/>
            <a:ext cx="4608720" cy="2986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424800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31640" y="151128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121200" y="1584360"/>
            <a:ext cx="1847520" cy="244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27640" y="4535640"/>
            <a:ext cx="4248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1640" y="233280"/>
            <a:ext cx="38880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опробовать себя в роли «мастеров» и «исследователей» смогли и наши родители, которые дома продолжают вместе с детьми осваивать различные методы изготовления народных игрушек. Это позволяет укрепить семейные отношения и  приобщить родителей к истокам народных тради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35640" y="345960"/>
            <a:ext cx="2651040" cy="347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280" y="4824360"/>
            <a:ext cx="3343320" cy="23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392720" y="4032360"/>
            <a:ext cx="2146320" cy="310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574040" y="431640"/>
            <a:ext cx="207468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912000" y="3714840"/>
            <a:ext cx="26510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10120320" cy="755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24360" y="360360"/>
            <a:ext cx="2230560" cy="295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10400" y="995400"/>
            <a:ext cx="2108160" cy="3252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24360" y="453564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1640" y="782640"/>
            <a:ext cx="41594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mbria"/>
              </a:rPr>
              <a:t>Рассматривая с детьми разные виды дымковских игрушек, мы обратили внимание на чередование красок, в зависимости от сезонных изменений в природе. Дымковская игрушка дает возможность наглядно закрепить у детей сезонные представл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mbria"/>
              </a:rPr>
              <a:t>По колориту и гамме красок дымковская игрушка несомненно напоминает детям о лете. Летом краски яркие и насыщенны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120320" cy="7572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7280" y="341280"/>
            <a:ext cx="32400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ambria"/>
              </a:rPr>
              <a:t>Но тем не менее, не забываем мы о Дымковской росписи и зимой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21440" y="4608360"/>
            <a:ext cx="374184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516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mbria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Cambria"/>
              </a:rPr>
              <a:t>Яркие краски, геометрические узоры и наглядные дет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9280" y="4464000"/>
            <a:ext cx="2087640" cy="266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92720" y="720720"/>
            <a:ext cx="482436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16000" y="2808360"/>
            <a:ext cx="34876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8:48:58Z</dcterms:created>
  <dc:creator/>
  <dc:description/>
  <dc:language>en-US</dc:language>
  <cp:lastModifiedBy>ЭтаВсеМы</cp:lastModifiedBy>
  <dcterms:modified xsi:type="dcterms:W3CDTF">2017-02-08T13:56:03Z</dcterms:modified>
  <cp:revision>7</cp:revision>
  <dc:subject/>
  <dc:title>Муниципальное дошкольное образовательное учреждение  детский сад № 39</dc:title>
</cp:coreProperties>
</file>