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879-1FDC-4FF1-86A2-C6FEDFB7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640-8123-4517-9FEA-9052E67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101-408F-4818-A214-04BE91F6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D20-B823-4157-B46A-520EE419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3BE30-136A-4B24-B860-48AD6968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261F6-CD86-4A2A-AF4A-AE5EFB1D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BCE36-4B12-454D-8754-E7BC137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CAD9-45B8-410F-90AE-200AC0A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FA2A-53AA-4127-876F-68E8C93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A8DF9-980F-4F06-B7A4-B217B334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C574-BEDE-4607-BB11-4BD02F6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816-1D2C-422F-9DA6-42E7858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24A7D-A3E9-4D1F-8D1F-3713777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7C0C8-9D75-4109-8740-5368971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88252-EB8C-4844-9113-FAE6191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3C5DE-AD23-4F38-9C40-961E836C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D78DE-5597-414B-BB02-1861F4E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DED0-99B8-4DDF-9D18-E5EF4352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D968-4699-4B8F-B4DB-7B31841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09E5-210A-47DE-93B8-07FAD5B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04A7-0712-4602-AE99-D0A32C4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02BC-9F80-4621-94CD-F10EDF8B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C38-9BAA-4971-B8B9-A38826A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3805-CA54-4527-A6EE-B99F95C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0EFA-960A-4AAF-B700-A5CACEF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7DC9-CC94-4AF4-A121-1BB68DF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C18A-7A8E-40A2-BD44-183A30F1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1566-79D8-44E0-B789-03DC788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2329-51E8-4202-BDAD-955E7AC9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8549-52A5-4398-940E-2EE2A1BC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04D4F-16A5-408D-AF4D-43483052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7AD8A-EA38-4751-A8EB-794CCE9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8956C-B48E-4708-BACA-DE274641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2C6-FC31-4B81-ADDD-C89D2E0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3E288-B29C-43E4-90AA-C212C2FB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A0C52-E82F-4166-B98F-2C6EF46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D2788-DF1D-4E7B-A7B0-BA696791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DFB7D-245E-4AB5-B4B0-5DF136F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20562-0303-4945-A8F7-E53F762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47259-8714-43CD-8AFE-FDDC1B8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8A79C-5933-4D90-A281-D8F8CA18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584CC-4E0F-49F4-9A6F-BED696D6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B65C7-95E3-486C-8C0F-D8AF867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474-CBC8-4C14-80E8-B756408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3EB-B798-4AB2-B9E1-38D91E8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554-E8A9-4CB8-8671-774645C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C38-742A-4934-96A5-C99460AB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004-7254-407A-89D0-6E22885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FCC1-7A27-4EC1-B1FD-B5F64935946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CD1-01FA-4DC8-85BC-E3897B932C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2C7-C920-4E35-998D-081C7668C5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BE3-7DD5-4CDB-969A-A3BB858B158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30880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3" descr=""/>
          <p:cNvPicPr/>
          <p:nvPr/>
        </p:nvPicPr>
        <p:blipFill>
          <a:blip r:embed="rId2"/>
          <a:stretch/>
        </p:blipFill>
        <p:spPr>
          <a:xfrm>
            <a:off x="500040" y="2286000"/>
            <a:ext cx="7643880" cy="156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6" descr="движ 1.JPG"/>
          <p:cNvPicPr/>
          <p:nvPr/>
        </p:nvPicPr>
        <p:blipFill>
          <a:blip r:embed="rId1"/>
          <a:stretch/>
        </p:blipFill>
        <p:spPr>
          <a:xfrm>
            <a:off x="214200" y="285840"/>
            <a:ext cx="3411720" cy="24955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7" descr="движ 2.gif"/>
          <p:cNvPicPr/>
          <p:nvPr/>
        </p:nvPicPr>
        <p:blipFill>
          <a:blip r:embed="rId2"/>
          <a:stretch/>
        </p:blipFill>
        <p:spPr>
          <a:xfrm>
            <a:off x="214200" y="3214800"/>
            <a:ext cx="3565800" cy="273816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8" descr=""/>
          <p:cNvPicPr/>
          <p:nvPr/>
        </p:nvPicPr>
        <p:blipFill>
          <a:blip r:embed="rId3"/>
          <a:stretch/>
        </p:blipFill>
        <p:spPr>
          <a:xfrm>
            <a:off x="4346640" y="536400"/>
            <a:ext cx="46260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4" descr="инжен.jpg"/>
          <p:cNvPicPr/>
          <p:nvPr/>
        </p:nvPicPr>
        <p:blipFill>
          <a:blip r:embed="rId1"/>
          <a:stretch/>
        </p:blipFill>
        <p:spPr>
          <a:xfrm>
            <a:off x="0" y="0"/>
            <a:ext cx="4067280" cy="272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o, as engineering progressed, engineers must become even more scientific and specialized. Today the branches  of engineering are  so wide, that one cannot give a satisfactory classification. But we may try to divide it into uses. We should mention the following division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5" descr=""/>
          <p:cNvPicPr/>
          <p:nvPr/>
        </p:nvPicPr>
        <p:blipFill>
          <a:blip r:embed="rId2"/>
          <a:stretch/>
        </p:blipFill>
        <p:spPr>
          <a:xfrm>
            <a:off x="0" y="3213000"/>
            <a:ext cx="4572000" cy="3359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11opt.jpg"/>
          <p:cNvPicPr/>
          <p:nvPr/>
        </p:nvPicPr>
        <p:blipFill>
          <a:blip r:embed="rId3"/>
          <a:stretch/>
        </p:blipFill>
        <p:spPr>
          <a:xfrm>
            <a:off x="0" y="3071880"/>
            <a:ext cx="3924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6" descr="010628.jpg"/>
          <p:cNvPicPr/>
          <p:nvPr/>
        </p:nvPicPr>
        <p:blipFill>
          <a:blip r:embed="rId1"/>
          <a:stretch/>
        </p:blipFill>
        <p:spPr>
          <a:xfrm>
            <a:off x="5981760" y="3976560"/>
            <a:ext cx="3162240" cy="28814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256189381.jpg"/>
          <p:cNvPicPr/>
          <p:nvPr/>
        </p:nvPicPr>
        <p:blipFill>
          <a:blip r:embed="rId2"/>
          <a:stretch/>
        </p:blipFill>
        <p:spPr>
          <a:xfrm>
            <a:off x="2857680" y="2500200"/>
            <a:ext cx="3184200" cy="212112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3"/>
          <a:stretch/>
        </p:blipFill>
        <p:spPr>
          <a:xfrm>
            <a:off x="8570880" y="152280"/>
            <a:ext cx="115920" cy="20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0" y="142560"/>
            <a:ext cx="45165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chanical engineering. Steam engines; internal combustion engines; turbines (steam, gas, water)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ctrical engineering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wer; generators; motors; transformers;  transmission (power lines and so on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ctronics: radio, radar, television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ivil engineering: Dams; tunnels, roads, and so on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uctural engineering: the structural details of all large buildings and bridge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mical engineering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Содержимое 4" descr="image001.jpg"/>
          <p:cNvPicPr/>
          <p:nvPr/>
        </p:nvPicPr>
        <p:blipFill>
          <a:blip r:embed="rId4"/>
          <a:stretch/>
        </p:blipFill>
        <p:spPr>
          <a:xfrm>
            <a:off x="5767560" y="0"/>
            <a:ext cx="3376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-122400" y="4572000"/>
            <a:ext cx="488952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пидоры с плакатами.jpeg"/>
          <p:cNvPicPr/>
          <p:nvPr/>
        </p:nvPicPr>
        <p:blipFill>
          <a:blip r:embed="rId2"/>
          <a:stretch/>
        </p:blipFill>
        <p:spPr>
          <a:xfrm>
            <a:off x="4680" y="0"/>
            <a:ext cx="4135680" cy="4071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tallurgis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rength materials expe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hermodynamics or heat expert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chanics or machines expert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various production engineering experts such as the engineering designer or the tool designer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thematician in engineering problems and many m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5" descr="катапульта.jpg"/>
          <p:cNvPicPr/>
          <p:nvPr/>
        </p:nvPicPr>
        <p:blipFill>
          <a:blip r:embed="rId1"/>
          <a:stretch/>
        </p:blipFill>
        <p:spPr>
          <a:xfrm>
            <a:off x="0" y="2214720"/>
            <a:ext cx="4140360" cy="41400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6" descr="робот.jpg"/>
          <p:cNvPicPr/>
          <p:nvPr/>
        </p:nvPicPr>
        <p:blipFill>
          <a:blip r:embed="rId2"/>
          <a:stretch/>
        </p:blipFill>
        <p:spPr>
          <a:xfrm>
            <a:off x="4643280" y="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190" name="Заголовок 7" descr=""/>
          <p:cNvPicPr/>
          <p:nvPr/>
        </p:nvPicPr>
        <p:blipFill>
          <a:blip r:embed="rId3"/>
          <a:stretch/>
        </p:blipFill>
        <p:spPr>
          <a:xfrm>
            <a:off x="-122400" y="-73080"/>
            <a:ext cx="4767480" cy="28591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4643280" y="450072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e scientific and technological progress will continue in engineering along two main headlines. Firstly, it is automation. Secondly, raising the reliability extending the service life of machi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360360" y="152280"/>
            <a:ext cx="8326440" cy="3060720"/>
          </a:xfrm>
          <a:prstGeom prst="rect">
            <a:avLst/>
          </a:prstGeom>
          <a:ln w="0">
            <a:noFill/>
          </a:ln>
        </p:spPr>
      </p:pic>
      <p:pic>
        <p:nvPicPr>
          <p:cNvPr id="193" name="Содержимое 4" descr="непонятная Святу хуйня.jpg"/>
          <p:cNvPicPr/>
          <p:nvPr/>
        </p:nvPicPr>
        <p:blipFill>
          <a:blip r:embed="rId2"/>
          <a:stretch/>
        </p:blipFill>
        <p:spPr>
          <a:xfrm>
            <a:off x="0" y="3286080"/>
            <a:ext cx="3851280" cy="315756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5" descr="спутник ебанный.jpg"/>
          <p:cNvPicPr/>
          <p:nvPr/>
        </p:nvPicPr>
        <p:blipFill>
          <a:blip r:embed="rId3"/>
          <a:stretch/>
        </p:blipFill>
        <p:spPr>
          <a:xfrm>
            <a:off x="4716360" y="3213000"/>
            <a:ext cx="3954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7:19:01Z</dcterms:created>
  <dc:creator>Пользователь</dc:creator>
  <dc:description/>
  <dc:language>en-US</dc:language>
  <cp:lastModifiedBy>1</cp:lastModifiedBy>
  <dcterms:modified xsi:type="dcterms:W3CDTF">2017-05-16T06:05:47Z</dcterms:modified>
  <cp:revision>17</cp:revision>
  <dc:subject/>
  <dc:title>Слайд 1</dc:title>
</cp:coreProperties>
</file>