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94F-F754-4505-917B-ADF2A06B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AE8-4910-4967-ACA7-22469F17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5E5-8852-448D-A57E-A9CC99C9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88E-2843-4327-AC3B-31789AC6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227F6-333E-44CE-9670-ED1FCC7F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3FC58-E850-441F-B5CE-17B8C97D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0CD75-A42C-48F9-B504-67D00827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B117D-A179-423D-9E1A-14E2DD20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4BA5D-C14A-4A17-9535-867AA77F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5F9A1-A983-4F98-8495-EEDFCA37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11D77-5A3C-4C63-9FDB-434FF3E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C0C-82BE-4934-B02D-6964249C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365DE-F6D5-463E-B24F-3B9D905F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E9C8D-1B08-4F45-B303-4C0DDA4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0B9A2-B23A-4EF7-B874-0B4BE4FC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08BAF-8E98-4A96-8EE1-C195AA11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7EC14-9C2D-4CF1-8320-45DD1EA9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24B8-D841-45C6-B61F-CC5240D8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2854-6C68-4263-A816-24BF8348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4611-2B14-4CFD-8AC1-58F0448F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C763-0E83-48BB-B044-7731AB62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FF05-C688-4983-9D9C-3F3F6CFC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D7C-6049-4A51-8F7E-58BAE47A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104A-ACBF-48E0-90EE-22924143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FF1F-A933-4CA3-9621-C3DA46D2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380D-C195-4422-9A7D-521AEB2C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5116-1A1E-42FE-9484-409830BA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8478-EF4C-44E4-8E23-7A67E76C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814E-CCFA-4C1A-9E23-088CA7BA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061F-5998-476D-AA5D-B447A601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9FEA2-4A93-43D1-B4DE-3CBBABE5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8F7AB-E26A-4DFA-9B87-C4197E87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1536E-6675-43F0-9FE8-27A7303A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438-3CA8-4C0B-8706-71A96C20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AFCE0-6875-4B06-BBE8-3A797329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6A10D-21E2-4AB9-AAAB-1343903A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A4316-EF65-41BD-A790-3777C6A3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7F38E-3300-47D7-B494-453FB0D0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858E3-46AD-451F-814A-7841E1F4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2A57C-E4CE-40A3-961F-EF88ACC0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C3268-9C80-478C-A30F-970B9460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9AA7F-23E4-4BD9-BE74-ED6906F9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92AB10-5E9E-44A6-B434-16241BDA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44F-B8EB-42C6-8A32-6AD1837A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371-4F86-4294-AF79-3AC0C358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206-C5D9-44B2-A0F7-8F98FF6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0CA-B30B-42D1-ADD4-AC20823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8A7-0DCD-4D34-97EB-9F62A4E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DAA0-BA49-430E-969E-56ABE3EE1B1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D543-BC0C-49F1-BC4A-277C2B3933D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D242-CA17-4D44-AC28-6DB5930089A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88B5-8257-4DFD-918F-2D52C69FCAD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308800" cy="32004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3" descr=""/>
          <p:cNvPicPr/>
          <p:nvPr/>
        </p:nvPicPr>
        <p:blipFill>
          <a:blip r:embed="rId2"/>
          <a:stretch/>
        </p:blipFill>
        <p:spPr>
          <a:xfrm>
            <a:off x="500040" y="2286000"/>
            <a:ext cx="7643880" cy="1566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6" descr="движ 1.JPG"/>
          <p:cNvPicPr/>
          <p:nvPr/>
        </p:nvPicPr>
        <p:blipFill>
          <a:blip r:embed="rId1"/>
          <a:stretch/>
        </p:blipFill>
        <p:spPr>
          <a:xfrm>
            <a:off x="214200" y="285840"/>
            <a:ext cx="3411720" cy="249552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7" descr="движ 2.gif"/>
          <p:cNvPicPr/>
          <p:nvPr/>
        </p:nvPicPr>
        <p:blipFill>
          <a:blip r:embed="rId2"/>
          <a:stretch/>
        </p:blipFill>
        <p:spPr>
          <a:xfrm>
            <a:off x="214200" y="3214800"/>
            <a:ext cx="3565800" cy="2738160"/>
          </a:xfrm>
          <a:prstGeom prst="rect">
            <a:avLst/>
          </a:prstGeom>
          <a:ln w="0">
            <a:noFill/>
          </a:ln>
        </p:spPr>
      </p:pic>
      <p:pic>
        <p:nvPicPr>
          <p:cNvPr id="175" name="Заголовок 8" descr=""/>
          <p:cNvPicPr/>
          <p:nvPr/>
        </p:nvPicPr>
        <p:blipFill>
          <a:blip r:embed="rId3"/>
          <a:stretch/>
        </p:blipFill>
        <p:spPr>
          <a:xfrm>
            <a:off x="4346640" y="536400"/>
            <a:ext cx="462600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4" descr="инжен.jpg"/>
          <p:cNvPicPr/>
          <p:nvPr/>
        </p:nvPicPr>
        <p:blipFill>
          <a:blip r:embed="rId1"/>
          <a:stretch/>
        </p:blipFill>
        <p:spPr>
          <a:xfrm>
            <a:off x="0" y="0"/>
            <a:ext cx="4067280" cy="2725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o, as engineering progressed, engineers must become even more scientific and specialized. Today the branches  of engineering are  so wide, that one cannot give a satisfactory classification. But we may try to divide it into uses. We should mention the following divisions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5" descr=""/>
          <p:cNvPicPr/>
          <p:nvPr/>
        </p:nvPicPr>
        <p:blipFill>
          <a:blip r:embed="rId2"/>
          <a:stretch/>
        </p:blipFill>
        <p:spPr>
          <a:xfrm>
            <a:off x="0" y="3213000"/>
            <a:ext cx="4572000" cy="33591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111opt.jpg"/>
          <p:cNvPicPr/>
          <p:nvPr/>
        </p:nvPicPr>
        <p:blipFill>
          <a:blip r:embed="rId3"/>
          <a:stretch/>
        </p:blipFill>
        <p:spPr>
          <a:xfrm>
            <a:off x="0" y="3071880"/>
            <a:ext cx="39243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6" descr="010628.jpg"/>
          <p:cNvPicPr/>
          <p:nvPr/>
        </p:nvPicPr>
        <p:blipFill>
          <a:blip r:embed="rId1"/>
          <a:stretch/>
        </p:blipFill>
        <p:spPr>
          <a:xfrm>
            <a:off x="5981760" y="3976560"/>
            <a:ext cx="3162240" cy="28814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256189381.jpg"/>
          <p:cNvPicPr/>
          <p:nvPr/>
        </p:nvPicPr>
        <p:blipFill>
          <a:blip r:embed="rId2"/>
          <a:stretch/>
        </p:blipFill>
        <p:spPr>
          <a:xfrm>
            <a:off x="2857680" y="2500200"/>
            <a:ext cx="3184200" cy="2121120"/>
          </a:xfrm>
          <a:prstGeom prst="rect">
            <a:avLst/>
          </a:prstGeom>
          <a:ln w="0">
            <a:noFill/>
          </a:ln>
        </p:spPr>
      </p:pic>
      <p:pic>
        <p:nvPicPr>
          <p:cNvPr id="182" name="Заголовок 1" descr=""/>
          <p:cNvPicPr/>
          <p:nvPr/>
        </p:nvPicPr>
        <p:blipFill>
          <a:blip r:embed="rId3"/>
          <a:stretch/>
        </p:blipFill>
        <p:spPr>
          <a:xfrm>
            <a:off x="8570880" y="152280"/>
            <a:ext cx="115920" cy="208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0" y="142560"/>
            <a:ext cx="45165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chanical engineering. Steam engines; internal combustion engines; turbines (steam, gas, water)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ectrical engineering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wer; generators; motors; transformers;  transmission (power lines and so on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ectronics: radio, radar, television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ivil engineering: Dams; tunnels, roads, and so on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uctural engineering: the structural details of all large buildings and bridges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emical engineering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Содержимое 4" descr="image001.jpg"/>
          <p:cNvPicPr/>
          <p:nvPr/>
        </p:nvPicPr>
        <p:blipFill>
          <a:blip r:embed="rId4"/>
          <a:stretch/>
        </p:blipFill>
        <p:spPr>
          <a:xfrm>
            <a:off x="5767560" y="0"/>
            <a:ext cx="3376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-122400" y="4572000"/>
            <a:ext cx="488952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4" descr="пидоры с плакатами.jpeg"/>
          <p:cNvPicPr/>
          <p:nvPr/>
        </p:nvPicPr>
        <p:blipFill>
          <a:blip r:embed="rId2"/>
          <a:stretch/>
        </p:blipFill>
        <p:spPr>
          <a:xfrm>
            <a:off x="4680" y="0"/>
            <a:ext cx="4135680" cy="4071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etallurgist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rength materials expe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thermodynamics or heat expert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echanics or machines expert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various production engineering experts such as the engineering designer or the tool designer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athematician in engineering problems and many mor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5" descr="катапульта.jpg"/>
          <p:cNvPicPr/>
          <p:nvPr/>
        </p:nvPicPr>
        <p:blipFill>
          <a:blip r:embed="rId1"/>
          <a:stretch/>
        </p:blipFill>
        <p:spPr>
          <a:xfrm>
            <a:off x="0" y="2214720"/>
            <a:ext cx="4140360" cy="414000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6" descr="робот.jpg"/>
          <p:cNvPicPr/>
          <p:nvPr/>
        </p:nvPicPr>
        <p:blipFill>
          <a:blip r:embed="rId2"/>
          <a:stretch/>
        </p:blipFill>
        <p:spPr>
          <a:xfrm>
            <a:off x="4643280" y="0"/>
            <a:ext cx="3889440" cy="3889440"/>
          </a:xfrm>
          <a:prstGeom prst="rect">
            <a:avLst/>
          </a:prstGeom>
          <a:ln w="0">
            <a:noFill/>
          </a:ln>
        </p:spPr>
      </p:pic>
      <p:pic>
        <p:nvPicPr>
          <p:cNvPr id="190" name="Заголовок 7" descr=""/>
          <p:cNvPicPr/>
          <p:nvPr/>
        </p:nvPicPr>
        <p:blipFill>
          <a:blip r:embed="rId3"/>
          <a:stretch/>
        </p:blipFill>
        <p:spPr>
          <a:xfrm>
            <a:off x="-122400" y="-73080"/>
            <a:ext cx="4767480" cy="28591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8"/>
          <p:cNvSpPr/>
          <p:nvPr/>
        </p:nvSpPr>
        <p:spPr>
          <a:xfrm>
            <a:off x="4643280" y="4500720"/>
            <a:ext cx="450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he scientific and technological progress will continue in engineering along two main headlines. Firstly, it is automation. Secondly, raising the reliability extending the service life of machin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360360" y="152280"/>
            <a:ext cx="8326440" cy="3060720"/>
          </a:xfrm>
          <a:prstGeom prst="rect">
            <a:avLst/>
          </a:prstGeom>
          <a:ln w="0">
            <a:noFill/>
          </a:ln>
        </p:spPr>
      </p:pic>
      <p:pic>
        <p:nvPicPr>
          <p:cNvPr id="193" name="Содержимое 4" descr="непонятная Святу хуйня.jpg"/>
          <p:cNvPicPr/>
          <p:nvPr/>
        </p:nvPicPr>
        <p:blipFill>
          <a:blip r:embed="rId2"/>
          <a:stretch/>
        </p:blipFill>
        <p:spPr>
          <a:xfrm>
            <a:off x="0" y="3286080"/>
            <a:ext cx="3851280" cy="315756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5" descr="спутник ебанный.jpg"/>
          <p:cNvPicPr/>
          <p:nvPr/>
        </p:nvPicPr>
        <p:blipFill>
          <a:blip r:embed="rId3"/>
          <a:stretch/>
        </p:blipFill>
        <p:spPr>
          <a:xfrm>
            <a:off x="4716360" y="3213000"/>
            <a:ext cx="39546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17:19:01Z</dcterms:created>
  <dc:creator>Пользователь</dc:creator>
  <dc:description/>
  <dc:language>en-US</dc:language>
  <cp:lastModifiedBy>1</cp:lastModifiedBy>
  <dcterms:modified xsi:type="dcterms:W3CDTF">2017-05-16T06:05:47Z</dcterms:modified>
  <cp:revision>17</cp:revision>
  <dc:subject/>
  <dc:title>Слайд 1</dc:title>
</cp:coreProperties>
</file>