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3.jpeg" ContentType="image/jpeg"/>
  <Override PartName="/ppt/media/image22.png" ContentType="image/png"/>
  <Override PartName="/ppt/media/image1.jpeg" ContentType="image/jpeg"/>
  <Override PartName="/ppt/media/image5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0C93-27DE-4FDF-AB34-897B792F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DF94-E311-4152-9576-74959664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481E5-E344-4974-9807-F5DC67C7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46994-B032-4AEE-AEFB-8D5600E7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2E80D-C555-4352-B847-7566BEA1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28FF2-1F9A-46DD-A0A8-69108EB4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2FBBE-061F-4449-A469-648CE061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93463-2E68-4057-9E22-1B0D6148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BF136-16C9-42F5-BD06-CACC6FEA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869C7-C2CB-4596-8BCB-A5C477A85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19A85-7FBB-49AD-80CE-0E33C431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3092-CFEF-4E7B-85B9-DFEDB9AD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C16C-D3C4-4FBF-ABE2-DAC76B842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0D64-5860-4579-B6C6-C4BDA0EC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B82E-7461-43A9-9BF1-FA1DF8D6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6851-63C5-4113-9A5E-75F0C234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10C1-D64E-4827-B99A-74627BB4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95B4-0BB4-4952-8FE4-55560AC1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B6D4-526B-467F-BE0D-DA99C3B2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F2E5-871F-4649-AA04-9504EF2D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7BAE-E934-4BFC-A7A5-F58BE21A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6079-3633-4565-A427-BDF096EC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DF96-0E6C-4248-8515-767114F7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F43B-D692-497C-B765-4DACAE00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79B4-3504-4F5F-987A-47637DFAC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78E5-2440-488E-B3E9-915A9155C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7281D-FF1D-468B-A5D5-170620A95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DEDBC-3AC6-45DE-8D95-AC0A7A4C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6BD14-173C-4B43-9697-0CB84746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8AA64-12BD-46F3-8921-9D361367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582A3-F809-4AC3-A9F1-B4B702CD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81C4-2309-44EA-8207-A7986CAB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C588F-2B36-4B06-8684-7D3DCB38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DC40B-B2CC-4608-97DB-EAF3D079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0914A-D8CB-4D89-958B-5C2EF56B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F1523-1FB4-4A4A-B190-8DF5F42C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EBE09-727A-457F-917C-746875C7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2A1B3-A3B7-4599-B140-5D093AEC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0218F-A7F0-4FD5-BA92-D602B5964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CB0E6-3114-43E5-96ED-9F3F722D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97084-F7AA-4241-83A4-8BFDF02A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63BD2-1514-4B22-B2C1-654841C1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B1B7-A2DF-49E7-A299-0ADF682D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E0B15-AFE8-47BA-99E2-F55E6153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7DE71-7411-4528-8074-73490BE8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39856-2087-452A-8BE0-D20725E0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3B832-F841-484B-89FC-EE432892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9E437-3FD1-4C8D-B0E2-051DED37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2C84E-D3C0-47B0-A9A2-92E40748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64096-A2C0-45DD-97AF-1E5C2AEE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7B15D-567F-44F0-B8F9-D471801B2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20B7A-257A-4528-A7CA-42FC58491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21DC6-EF1A-4726-93AE-3DC94920E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08D8-34AE-49D7-A091-4E6993F1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7C9CE-C7E3-4937-8E9D-C01FE1ED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BC2CC-2AD2-4564-92FC-BB258726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A5A04-E0F8-4190-AA0D-351F3FFE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53818-5A39-4DBB-9D78-73ED78CB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3161F-2F8B-4536-BE62-9C6ABFAB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7798A-F2D3-491E-BEEB-2E0D7757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10AD2-71A5-4BE1-B2AB-5ECCE540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FCEB6-A958-4A15-8E2C-DE40CF44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5E9C9-A9CF-47B0-9F83-6C515BA7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F1395-6615-4D64-9121-C91D45A7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D940-A75D-47AC-AFD3-EFC0CC32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A548C-E527-40FD-8CB6-0CAA37A3A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CEFA3-F4C8-4DD7-9D5F-2FCA6A70A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84BE2-81E7-4D1F-9356-1A06AF6B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10E69-5F76-4818-A1E9-4A0770E2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85E7D-1FB2-4F1D-A9D4-5F4D02B5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8F4B7-F793-4396-BEE1-AF1C0F04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53F83-786E-4D72-986E-99E72F5A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9D174-9661-4580-A483-2C4EA9C4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34066-5708-47FE-A9C3-AB0A3877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CFC87-E6DE-4C06-9B4D-87435F3B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D94B-4098-42DA-B87F-4D4BF63C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F74F8-5076-4183-9F58-8A1840D1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FB4E6-F232-46B1-AA21-7859B721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81C98-3996-4E72-AC7E-9261035B6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57037-CD2E-4897-A96E-36209CCA8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90D36-3AD7-4964-95C0-A5766378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DCCB2-7728-4EFC-BA19-737AF8CB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20BC7-1468-4CE3-90D4-0D1F709F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27232-81E1-4F5F-A3C4-B39D9EBB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73B4A-D209-4F32-AF80-1B5E21FE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B974C-AE5C-40BE-999F-AE578644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0AFB-EE89-4F21-B051-BF03C496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857B2-6678-4CFD-A902-98064C16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0771F-114D-4A40-AB76-6594D92D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9928A-8AD5-49B5-8297-9C4AB4BD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93E68-64F6-43A4-B994-954BACBED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3F4FC-7613-4D8E-81F2-6BACB7552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3CB7D-C927-42F4-90A8-6FB5954F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44D60-9531-4454-A4F5-B984CB14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7D2E9-6B42-40CB-9A45-F8B13C0B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AE5A4-380B-4B77-BEC4-2DF0BC5C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998A4-73EF-4B59-9F33-46DE4497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AC05-E02B-4EC6-9CF8-69CE6FE1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0799B-903A-42C3-BEFF-DCEA516D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FB701-F736-4DF1-9A70-056A8213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FB86D-A8E5-4986-A706-D412DD52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C2BCB-7173-4C28-80AF-852B02BD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8394B-0B65-406D-A4BF-D5626F6F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7AE13-28E8-47C8-BA4F-2829E8AF4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E6057-E8F4-4DE6-A8DF-1CCE0927E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566A1-C90B-4725-8E27-FCD6D3D68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EF4E3-9D24-4513-A2A8-4F36AB8D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72065-F9E4-47E0-8C1A-7F3AD6B0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1B25-16AB-49EF-956E-3E032F224FB6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D98C-BBF1-446E-8A70-7F83CE120CFB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C744-86A9-4AFD-A87E-3E233158A6CE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39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ff39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37E4-22A5-4137-B8FC-718FC3B5406E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AE9A-39F7-4B47-953C-12370627A22B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F73F-2897-46F0-AB4B-8D37D1BDB385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D7CA-F4BA-402B-A966-B574631F2C0A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F2BC-561A-4F1D-ACFF-5CCD2C4B80F9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1563-EC04-4BBA-BC99-5C141509C6A4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682560" y="268200"/>
            <a:ext cx="7864560" cy="18781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248160" y="6019560"/>
            <a:ext cx="2514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535f"/>
                </a:solidFill>
                <a:latin typeface="Franklin Gothic Book"/>
              </a:rPr>
              <a:t>Кручинина Л.Ю.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401" name="Picture 6" descr="C:\Users\User\Desktop\image_58cb8f4786d72.jpg"/>
          <p:cNvPicPr/>
          <p:nvPr/>
        </p:nvPicPr>
        <p:blipFill>
          <a:blip r:embed="rId2"/>
          <a:stretch/>
        </p:blipFill>
        <p:spPr>
          <a:xfrm rot="20529000">
            <a:off x="365040" y="2995200"/>
            <a:ext cx="5008680" cy="31719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C:\Users\User\Desktop\adhd_homework.jpg"/>
          <p:cNvPicPr/>
          <p:nvPr/>
        </p:nvPicPr>
        <p:blipFill>
          <a:blip r:embed="rId3"/>
          <a:stretch/>
        </p:blipFill>
        <p:spPr>
          <a:xfrm rot="1158000">
            <a:off x="4109760" y="1825560"/>
            <a:ext cx="4653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Rectangle 2" descr=""/>
          <p:cNvPicPr/>
          <p:nvPr/>
        </p:nvPicPr>
        <p:blipFill>
          <a:blip r:embed="rId1"/>
          <a:stretch/>
        </p:blipFill>
        <p:spPr>
          <a:xfrm>
            <a:off x="73080" y="378000"/>
            <a:ext cx="8924760" cy="187776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4400" spc="-1" strike="noStrike">
                <a:solidFill>
                  <a:srgbClr val="575f6d"/>
                </a:solidFill>
                <a:latin typeface="Franklin Gothic Book"/>
              </a:rPr>
              <a:t>Английский- 11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Franklin Gothic Book"/>
              </a:rPr>
              <a:t>  </a:t>
            </a:r>
            <a:r>
              <a:rPr b="0" lang="ru-RU" sz="4400" spc="-1" strike="noStrike">
                <a:solidFill>
                  <a:srgbClr val="575f6d"/>
                </a:solidFill>
                <a:latin typeface="Franklin Gothic Book"/>
              </a:rPr>
              <a:t>Математика- 5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4400" spc="-1" strike="noStrike">
                <a:solidFill>
                  <a:srgbClr val="575f6d"/>
                </a:solidFill>
                <a:latin typeface="Franklin Gothic Book"/>
              </a:rPr>
              <a:t>Окружающий мир- 2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133200" y="249120"/>
            <a:ext cx="8882280" cy="19764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920" y="2133720"/>
            <a:ext cx="868680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Да- 17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Нет- 3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133200" y="176040"/>
            <a:ext cx="8864640" cy="19767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04920" y="1981080"/>
            <a:ext cx="86868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Ругают –12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Делают замечания- 4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Говорят, надо стараться..- 1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Бьют- 2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6099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304920" y="2133720"/>
            <a:ext cx="868680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Да- 8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Нет- 12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5f6d"/>
                </a:solidFill>
                <a:latin typeface="Franklin Gothic Book"/>
              </a:rPr>
              <a:t>УВАЖАЕМЫЕ РОДИТЕЛИ!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1. Оказываете ли Вы помощь ребенку при выполнении домашнего задания?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    </a:t>
            </a: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В чем она заключается?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2. В какое время Ваш ребенок садится за уроки?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3. Какие предметы ему даются легче, по каким испытывает затруднения?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4. Всегда ли есть у ребенка запись в дневнике о наличии домашнего задания?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5. Сколько в среднем уходит времени на выполнение письменных заданий ______;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    </a:t>
            </a: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устных заданий ___ .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30492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5f6d"/>
                </a:solidFill>
                <a:latin typeface="Franklin Gothic Book"/>
              </a:rPr>
              <a:t>Задание № 1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Старший ребенок у нас в свое время ходил в группу продленного дня. Уроки там делал кое-как, ну и успеваемость была соответствующая. Поэтому младшему строго-настрого наказала: без нас уроки не делать. Я прихожу после 18 часов, мы ужинаем и садимся за уроки. Я сижу рядом, при необходимости подсказываю или заставляю переделывать.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5f6d"/>
                </a:solidFill>
                <a:latin typeface="Franklin Gothic Book"/>
              </a:rPr>
              <a:t>Вопросы: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Должен ли ребенок дожидаться родителей, чтобы выполнить домашнее задание?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Как вы думаете, должно ли домашнее задание выполняться сначала в черновом варианте, а потом в тетради?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571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5f6d"/>
                </a:solidFill>
                <a:latin typeface="Franklin Gothic Book"/>
              </a:rPr>
              <a:t>Задание № 2</a:t>
            </a: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Мы с женой сразу договорились: пусть Светлана учится сама, как может. Я и в тетрадки не заглядываю. Жена иногда интересуется. Но мы считаем, раз ученица – Света, то пусть и свои учебные проблемы решает сама. Что не понимает, у ребят, у учительницы спросит, а уж отметка – что заработает, то и получит. Двойку получит, значит, гулять не пойдет, а как иначе?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5f6d"/>
                </a:solidFill>
                <a:latin typeface="Franklin Gothic Book"/>
              </a:rPr>
              <a:t>Вопросы:</a:t>
            </a: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Как вы оцениваете поведение родителей?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Нужно ли помогать ребенку в учебной деятельности?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Если ребенок получит двойку, то какие будут ваши действия?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450720" y="176040"/>
            <a:ext cx="8089920" cy="16034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457200" y="419112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Franklin Gothic Book"/>
              </a:rPr>
              <a:t>Это в идеале.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А в обычной школьной жизни много нюансов, мешающих плодотворному сотрудничеству учителя и ученика. 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434" name="Picture 4" descr="C:\Users\User\Desktop\am38IXuECQY.jpg"/>
          <p:cNvPicPr/>
          <p:nvPr/>
        </p:nvPicPr>
        <p:blipFill>
          <a:blip r:embed="rId2"/>
          <a:stretch/>
        </p:blipFill>
        <p:spPr>
          <a:xfrm>
            <a:off x="533520" y="1371600"/>
            <a:ext cx="815328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3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3244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Franklin Gothic Book"/>
              </a:rPr>
              <a:t>“</a:t>
            </a:r>
            <a:r>
              <a:rPr b="1" lang="ru-RU" sz="3200" spc="-1" strike="noStrike">
                <a:solidFill>
                  <a:srgbClr val="575f6d"/>
                </a:solidFill>
                <a:latin typeface="Franklin Gothic Book"/>
              </a:rPr>
              <a:t>Ребенок, что тесто,</a:t>
            </a:r>
            <a:br>
              <a:rPr sz="3200"/>
            </a:br>
            <a:r>
              <a:rPr b="1" lang="ru-RU" sz="3200" spc="-1" strike="noStrike">
                <a:solidFill>
                  <a:srgbClr val="575f6d"/>
                </a:solidFill>
                <a:latin typeface="Franklin Gothic Book"/>
              </a:rPr>
              <a:t>как замесил, так и выросло”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Наша задача – приучить ребенка трудиться правильно, не нанося вред здоровью, т. к. учеба – это главный труд школьника. 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406" name="Прямоугольник 3" descr=""/>
          <p:cNvPicPr/>
          <p:nvPr/>
        </p:nvPicPr>
        <p:blipFill>
          <a:blip r:embed="rId1"/>
          <a:stretch/>
        </p:blipFill>
        <p:spPr>
          <a:xfrm>
            <a:off x="542880" y="268200"/>
            <a:ext cx="804708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2258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i="1" lang="ru-RU" sz="2500" spc="-1" strike="noStrike">
                <a:solidFill>
                  <a:srgbClr val="575f6d"/>
                </a:solidFill>
                <a:latin typeface="Franklin Gothic Book"/>
              </a:rPr>
              <a:t>Раздаются карточки с началом предложения, а родители должны его продолжить.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- У нашего ребенка есть специальное место, где он …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- Самостоятельно справляется с …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- Готовит с трудом…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- Мы оказываем помощь ребенку в приготовлении домашних заданий. Эта помощь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  </a:t>
            </a: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заключается в …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- Когда ребенок учит уроки, мы …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- Если ребенок выполнил домашнее задание небрежно, то …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298440" y="365040"/>
            <a:ext cx="869940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390600" y="901800"/>
            <a:ext cx="8393040" cy="28224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33200" y="365040"/>
            <a:ext cx="8864640" cy="19764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468360" y="2438280"/>
            <a:ext cx="8377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Franklin Gothic Book"/>
              </a:rPr>
              <a:t>Да – 18 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Franklin Gothic Book"/>
              </a:rPr>
              <a:t>Нет - 2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103320" y="414360"/>
            <a:ext cx="8894520" cy="168912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837720" y="2492280"/>
            <a:ext cx="800748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75f6d"/>
                </a:solidFill>
                <a:latin typeface="Franklin Gothic Book"/>
              </a:rPr>
              <a:t>1 час – 7</a:t>
            </a:r>
            <a:endParaRPr b="0" lang="en-US" sz="4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75f6d"/>
                </a:solidFill>
                <a:latin typeface="Franklin Gothic Book"/>
              </a:rPr>
              <a:t>2 часа-10</a:t>
            </a:r>
            <a:endParaRPr b="0" lang="en-US" sz="4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75f6d"/>
                </a:solidFill>
                <a:latin typeface="Franklin Gothic Book"/>
              </a:rPr>
              <a:t>3 часа и более – 3</a:t>
            </a:r>
            <a:endParaRPr b="0" lang="en-US" sz="4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75f6d"/>
                </a:solidFill>
                <a:latin typeface="Franklin Gothic Book"/>
              </a:rPr>
              <a:t>(норма в 3 классе - 2 часа)</a:t>
            </a:r>
            <a:endParaRPr b="0" lang="en-US" sz="48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103320" y="414360"/>
            <a:ext cx="8894520" cy="16891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Franklin Gothic Book"/>
              </a:rPr>
              <a:t>Литература – 13</a:t>
            </a:r>
            <a:endParaRPr b="0" lang="en-US" sz="36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Franklin Gothic Book"/>
              </a:rPr>
              <a:t>Математика- 10</a:t>
            </a:r>
            <a:endParaRPr b="0" lang="en-US" sz="36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600" spc="-1" strike="noStrike">
                <a:solidFill>
                  <a:srgbClr val="575f6d"/>
                </a:solidFill>
                <a:latin typeface="Franklin Gothic Book"/>
              </a:rPr>
              <a:t>Русск. яз.- 8</a:t>
            </a:r>
            <a:endParaRPr b="0" lang="en-US" sz="36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Franklin Gothic Book"/>
              </a:rPr>
              <a:t>Окружающий мир- 5</a:t>
            </a:r>
            <a:endParaRPr b="0" lang="en-US" sz="36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600" spc="-1" strike="noStrike">
                <a:solidFill>
                  <a:srgbClr val="575f6d"/>
                </a:solidFill>
                <a:latin typeface="Franklin Gothic Book"/>
              </a:rPr>
              <a:t>Информатика- 4</a:t>
            </a:r>
            <a:endParaRPr b="0" lang="en-US" sz="36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600" spc="-1" strike="noStrike">
                <a:solidFill>
                  <a:srgbClr val="575f6d"/>
                </a:solidFill>
                <a:latin typeface="Franklin Gothic Book"/>
              </a:rPr>
              <a:t>Английский- 2</a:t>
            </a:r>
            <a:endParaRPr b="0" lang="en-US" sz="36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05-16T14:30:02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