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EAE-AA66-4258-A120-C7E702FD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F07-78CB-4B68-94C5-663ADCF1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9ECAB-98B3-4D4E-B35F-E9259F4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5FCE9-DDDB-48A8-AE48-2A91C93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73C6D-B83E-423C-9D5B-366C71EF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7B751-AFDB-46E8-B69D-D0025DC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640A8-0F0A-49D5-9847-1922296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C4A40-62DB-414C-BB2A-71A3C64B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DFADB-7A42-41E3-AFE2-FB475883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7F524-88E0-4284-8701-016F14EA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ED028-16BC-4B6F-9075-2C304160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B95-5031-4C52-9F3B-D9DFDBCE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F87-D077-4613-8D5A-0B86FDA6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479F-9768-4003-9D7F-F510A4C2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E0AF-9909-47C9-813D-F10A9A06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F77E-8392-4F14-9006-30AA9606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4C86-232C-4853-A4A6-D7F79484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4810-DA46-437C-9C80-56AD4C7A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7741-A207-444B-A5DD-7EE98C48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572A-6724-4279-85E9-3C86A0A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FF9-70CC-4494-8AE2-065EBF51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FE2F-F80D-4CA5-8FB6-C54C225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DF10-23B9-4605-B91B-A87C3C2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9D22-1D57-4E70-9682-30EB3081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48A1-48B5-4770-BF10-05F3B3FC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6C79-8171-4E49-959A-63CE39A7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67DC-83C2-4501-990C-74F135F0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B5A1-5AE7-4896-AEFF-1E504F7D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0FFF-676C-4BD2-A2CE-8BACEBF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421C-CCE3-4046-A027-38383088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52DA-9AC5-4C62-BE7F-77BF52C0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AE5-A978-405B-9BEE-B49C677F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551E-7B64-4A71-B75C-7970C4DD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6602-C000-4DEC-823E-F11C84C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1CDC-C80B-40C0-89B9-0DF2292C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83BC-8904-4D42-99BB-B1CED43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A279-BFE3-44F3-83BF-6AD70B1C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E66D-7F41-4B47-93F1-970C604C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242A-BFD5-4DD9-BE15-B5C74D8F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2E980-5CF1-4B78-8A41-023C7DA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0B656-1EA2-4113-BD3D-642FA4B5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1D49-3038-4610-BD00-D3242A3B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76E-8DA3-4793-92D0-247E4B0A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E723-0D14-4296-A633-62DCAF43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8127-B297-4CE3-8FF5-2DDF7FCC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60B81-1CA0-4525-BFBB-39D19255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8BD7C-E835-4B0C-9648-84CCAF91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71487-70FA-4652-A6A8-3701AC3C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F67E-1974-4FBC-AD79-895448AC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193A-C043-4BFF-BD4A-94851904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359E-FD1E-4BB8-B31D-9CCF029E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63B8-7B96-4167-AC59-ED198F6C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025C9-CBEF-428A-B127-8C2A71DD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CF5-A8A0-4319-80D6-8415869F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90D1-F061-42E3-A673-D39C7FA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0729-64FA-434E-9D73-A94694EF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369A-CCF2-4B45-890F-F402CA35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673D-A495-4D45-986B-D4BE5C5A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7709-6212-45A7-BECE-7A304846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BA018-B3F6-4375-9DFB-4020766C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8137-01DB-49EC-A272-5BBD967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BE97-0F27-4DB4-BE52-F7507C1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4290-7E1E-49BE-B8A7-B59CD01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3978F-F6A8-4A2D-BD9F-78087B4C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3D4-2793-4764-B643-399B6AE3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57554-B111-4AB5-ACFB-ABC334C8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B039C-0F8C-41BE-8AD8-4AD48A72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36043-17F6-4C06-9537-BC40FACA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C35F-F7FB-4518-B92F-CB794704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A1030-48EA-4E7E-A80D-9D121697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2B7FE-97CD-44F8-8F41-C47743FE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82E13-62E9-40C8-A6FB-3D2AC1CA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40AB-C066-4DDA-B4C1-D26415C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2EE36-33C8-4B4D-AFA0-B98DFCB0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FDFA-335F-4037-8D03-412C2F3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63A-534B-483B-9A40-52A03D6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1ABD-3780-443E-8738-9EEBD703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C308B-F589-4E27-8B05-7BB5262D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1B942-E1B8-447B-98A3-F19F05BA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28C5-D033-4252-998A-1F4F8148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03D09-2D9F-4FBD-97EF-28961402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2C31C-459C-4903-8F46-BB3EC358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0BFF9-524C-43FF-A476-28D69759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4075-5B55-495A-84F3-986A4F1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F963E-057E-4323-828F-4A3F13B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15411-79DD-4860-A475-822CF403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6AB-D2A9-4783-BDE5-96D994D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FFBAF-5CF8-4E62-BD4F-2311C09A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357F0-A5CC-4B60-B18B-5A7793D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36FA7-1155-4C44-BFEE-D5134C5D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7A8BB-8702-4C21-947E-72792BF7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DDBB0-8A97-4D9F-983D-F30DFF87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95EE1-3519-42D9-AC13-CD219BC3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6A793-86DB-49B3-9204-EC055C2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3F5EE-EDD5-4737-8A8B-4EAE9B1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13A13-1374-4BB0-B1FE-AD5BC88D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BC5C6-4A2A-49F8-9AEB-93E2EBF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065-A935-4713-8710-4974CC0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C0273-A488-4861-B54D-10ED0DC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BBF22-095B-4528-8553-282C40B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A0D4-B023-4F3C-BF52-B92FAEE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FC06E-397A-4A0C-90F7-997E7FE8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8B983-C4A8-47AB-BF9C-D73062E4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BB309-829E-4E99-A932-AE90DD17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F3B24-BA32-4345-A0D4-2487D5B9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5040B-BA85-43E9-A190-CB8F7014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708D3-F80B-4143-B51B-5CBC0511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7AAF6-D8AC-457D-94B2-5FC46076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A8A-5972-44FD-ACC3-4CFA2C592CA2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1DF-8103-4BCE-8776-031B9F5500B6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ADA3-5690-4F52-B2E1-314A3A5B0142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6EEF-3F8F-4B65-B882-6EF6A75B3D88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DE29-CEED-49F7-829C-020F3F4E891C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C6D6-F0F7-4A02-9003-2DE4969D3AD6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42D0-2526-490B-A4F7-A1E06AA3955C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26A1-1117-46F6-B839-3E0CC0D3C5C9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0543-F2AF-4E8C-B02B-64F84A1C57D6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2560" y="268200"/>
            <a:ext cx="7864560" cy="1878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48160" y="601956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535f"/>
                </a:solidFill>
                <a:latin typeface="Franklin Gothic Book"/>
              </a:rPr>
              <a:t>Кручинина Л.Ю.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1" name="Picture 6" descr="C:\Users\User\Desktop\image_58cb8f4786d72.jpg"/>
          <p:cNvPicPr/>
          <p:nvPr/>
        </p:nvPicPr>
        <p:blipFill>
          <a:blip r:embed="rId2"/>
          <a:stretch/>
        </p:blipFill>
        <p:spPr>
          <a:xfrm rot="20529000">
            <a:off x="365040" y="2995200"/>
            <a:ext cx="5008680" cy="3171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C:\Users\User\Desktop\adhd_homework.jpg"/>
          <p:cNvPicPr/>
          <p:nvPr/>
        </p:nvPicPr>
        <p:blipFill>
          <a:blip r:embed="rId3"/>
          <a:stretch/>
        </p:blipFill>
        <p:spPr>
          <a:xfrm rot="1158000">
            <a:off x="4109760" y="1825560"/>
            <a:ext cx="4653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73080" y="378000"/>
            <a:ext cx="8924760" cy="18777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Английский- 11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Математика- 5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Окружающий мир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33200" y="249120"/>
            <a:ext cx="8882280" cy="1976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1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33200" y="176040"/>
            <a:ext cx="8864640" cy="1976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981080"/>
            <a:ext cx="86868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Ругают –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елают замечания- 4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Говорят, надо стараться..-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Бьют- 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609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8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УВАЖАЕМЫЕ РОДИТЕЛИ!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1. Оказываете ли Вы помощь ребенку при выполнен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В чем она заключаетс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2. В какое время Ваш ребенок садится за уроки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3. Какие предметы ему даются легче, по каким испытывает затрудне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4. Всегда ли есть у ребенка запись в дневнике о налич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5. Сколько в среднем уходит времени на выполнение письменных заданий ______;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устных заданий ___ 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1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Старший ребенок у нас в свое время ходил в группу продленного дня. Уроки там делал кое-как, ну и успеваемость была соответствующая. Поэтому младшему строго-настрого наказала: без нас уроки не делать. Я прихожу после 18 часов, мы ужинаем и садимся за уроки. Я сижу рядом, при необходимости подсказываю или заставляю переделывать.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олжен ли ребенок дожидаться родителей, чтобы выполнить домашнее задание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думаете, должно ли домашнее задание выполняться сначала в черновом варианте, а потом в тетрад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57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2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Мы с женой сразу договорились: пусть Светлана учится сама, как может. Я и в тетрадки не заглядываю. Жена иногда интересуется. Но мы считаем, раз ученица – Света, то пусть и свои учебные проблемы решает сама. Что не понимает, у ребят, у учительницы спросит, а уж отметка – что заработает, то и получит. Двойку получит, значит, гулять не пойдет, а как иначе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оцениваете поведение родителей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Нужно ли помогать ребенку в учебной деятельност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Если ребенок получит двойку, то какие будут ваши действия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089920" cy="16034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41911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Это в идеале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А в обычной школьной жизни много нюансов, мешающих плодотворному сотрудничеству учителя и уче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34" name="Picture 4" descr="C:\Users\User\Desktop\am38IXuECQY.jpg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“</a:t>
            </a: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Ребенок, что тесто,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как замесил, так и выросло”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ша задача – приучить ребенка трудиться правильно, не нанося вред здоровью, т. к. учеба – это главный труд школь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6" name="Прямоугольник 3" descr=""/>
          <p:cNvPicPr/>
          <p:nvPr/>
        </p:nvPicPr>
        <p:blipFill>
          <a:blip r:embed="rId1"/>
          <a:stretch/>
        </p:blipFill>
        <p:spPr>
          <a:xfrm>
            <a:off x="542880" y="268200"/>
            <a:ext cx="8047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225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i="1" lang="ru-RU" sz="2500" spc="-1" strike="noStrike">
                <a:solidFill>
                  <a:srgbClr val="575f6d"/>
                </a:solidFill>
                <a:latin typeface="Franklin Gothic Book"/>
              </a:rPr>
              <a:t>Раздаются карточки с началом предложения, а родители должны его продолжить.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У нашего ребенка есть специальное место, где он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Самостоятельно справляется с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Готовит с трудом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Мы оказываем помощь ребенку в приготовлении домашних заданий. Эта помощь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заключается в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Когда ребенок учит уроки, мы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- Если ребенок выполнил домашнее задание небрежно, то …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365040"/>
            <a:ext cx="86994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393040" cy="28224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33200" y="365040"/>
            <a:ext cx="8864640" cy="1976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68360" y="2438280"/>
            <a:ext cx="837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Да – 18 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Нет 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3320" y="41436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1 час – 7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2 часа-10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3 часа и более – 3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(норма в 3 классе - 2 часа)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3320" y="41436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Литература – 13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Математика- 10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Русск. яз.- 8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Окружающий мир- 5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Информатика- 4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Английский- 2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5-16T14:30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