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910-1981-4AB6-BCE5-5952563F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CC8-0587-4243-AD7E-A06966FA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22D-9AEE-43FA-9E54-B9FA8F53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498-979C-426D-8252-AFDF80E3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ABF1-6100-46F6-9313-77A1E877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21CE-1402-48CE-BD33-01544896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6F2A-F9B1-4605-A333-6DC14F38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294D-F0E8-4589-93B8-B7D0FD2B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0AC0-5668-4091-9F98-B34E4A9A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0298-7E8D-4465-85F6-BB0B34A7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BBB8-7560-4AE2-9164-E7AB6EC4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A3E-6BE6-48EC-8FB6-8657D810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876A-AAFB-43CB-B792-910751C6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6241-6B14-4FAF-9E68-4F528988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5DD3-03A6-4371-A30E-7C2A4EE7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3B78-C618-41E8-BBBC-67FB1E25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C813-E45F-4932-B557-BA63AAF2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CFE-976F-49E1-9CA2-A4475388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F87-F91B-4C28-A68C-1747BA60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99A-44C4-4548-A81E-762CF01B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850-856C-42E7-BF71-F638B80C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2BF-F6C6-47B7-8898-491ED42F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7D6-2740-4672-8A23-8BC2F83C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195-D150-40EC-9F22-28BF569B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133A-8639-4F40-A5CA-C5AC805AB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CC1D-4BDF-4330-899B-71D796DB6C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ofile.ru/geo/4837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990033"/>
                </a:solidFill>
                <a:latin typeface="Times New Roman"/>
              </a:rPr>
              <a:t>ПРИРОДА НАШЕГО КРАЯ </a:t>
            </a:r>
            <a:br>
              <a:rPr sz="4800"/>
            </a:br>
            <a:r>
              <a:rPr b="1" i="1" lang="en-US" sz="4800" spc="-1" strike="noStrike">
                <a:solidFill>
                  <a:srgbClr val="990033"/>
                </a:solidFill>
                <a:latin typeface="Times New Roman"/>
              </a:rPr>
              <a:t>ТЕМА:</a:t>
            </a:r>
            <a:br>
              <a:rPr sz="4800"/>
            </a:br>
            <a:r>
              <a:rPr b="1" i="1" lang="en-US" sz="4800" spc="-1" strike="noStrike">
                <a:solidFill>
                  <a:srgbClr val="990033"/>
                </a:solidFill>
                <a:latin typeface="Times New Roman"/>
              </a:rPr>
              <a:t>ЖЕМЧУЖЕНА</a:t>
            </a:r>
            <a:br>
              <a:rPr sz="4800"/>
            </a:br>
            <a:r>
              <a:rPr b="1" i="1" lang="en-US" sz="4800" spc="-1" strike="noStrike">
                <a:solidFill>
                  <a:srgbClr val="990033"/>
                </a:solidFill>
                <a:latin typeface="Times New Roman"/>
              </a:rPr>
              <a:t>ЖИГУЛЕЙ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Список использован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Загадка Жигулевских гор  Автор: А. Колдамасов, 201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Жемчужены Жигулей  (Легенды, сказы, предания), С. Е. Кузменко, 198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http://biofile.ru/geo/483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https://ru.wikipedia.org/wiki/Жиг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ДО ЦТТ г.о. Тольят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 ученица 2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ишина Алис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а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довкина Светлана Михайл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br>
              <a:rPr sz="8400"/>
            </a:br>
            <a:br>
              <a:rPr sz="8400"/>
            </a:br>
            <a:br>
              <a:rPr sz="8400"/>
            </a:br>
            <a:endParaRPr b="0" lang="en-US" sz="8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-27713" t="0" r="0" b="0"/>
          <a:stretch/>
        </p:blipFill>
        <p:spPr>
          <a:xfrm>
            <a:off x="-2743200" y="0"/>
            <a:ext cx="118872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0880" y="2971800"/>
            <a:ext cx="865836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heel spokes="3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игулевские горы, являются частью Приволжской возвышенности. Несмотря на название «горы», Жигули по своей абсолютной высоте (высшая точка 381, 2 м) являются холмами. Однако рельеф здесь имеет по-настоящему горный характер: с утесами, скалами, крутыми обрывами и глубокими оврагами. Жигули являются единственными на Русской равнине молодыми растущими горами тектонического происхождения. Жигули растут на 1см за 100 лет.</a:t>
            </a:r>
            <a:br>
              <a:rPr sz="1400"/>
            </a:b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игулёвские горы на правобережье начинаются двумя холмами у села Усолье и тянуться на 75 километров. При слиянии реки Усы с Волгой находится одна из вершин – Молодецкий Курган, который поднимается на высоту 200 метров над уровнем Куйбышевского водохранилища. Одними из самых высоких точек Жигулей – это горы Безымянная и Стрельная. Глубокие овраги  расчленяют Жигулёвский массив на ряд живописных хребтов и вершин – Усинский курган, гора Лепёшка, Могутовы горы, Лысая гора. Овраги в Жигулях глубокие и узкие, как горные ущелья. Самым большим из оврагов является Ширяевский, он тянется на 35 километ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Вид на Волгу с горы Стрельной"/>
          <p:cNvPicPr/>
          <p:nvPr/>
        </p:nvPicPr>
        <p:blipFill>
          <a:blip r:embed="rId1"/>
          <a:stretch/>
        </p:blipFill>
        <p:spPr>
          <a:xfrm>
            <a:off x="0" y="0"/>
            <a:ext cx="9144000" cy="49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53964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53964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Жигулевские горы имеют как скалистые хребты, так и склоны покрыты лесами. В основном преобладают лиственные породы. Растут здесь растения более 700 видов, а животный мир довольно  скудноват, так как  практически отсутствует вод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Жигулевский заповед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Жигулевские горы» появилось тогда, когда Екатерина II проводила реформу российских географических названий. По поводу происхождения Жигулевских  гор, было несколько верси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Жигули» восходят к слову «жиганы». Так называли вольных людей, которые в старину селились в районе Самарской Луки, промышляли там, нападая на су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юркская версия: в одном из тюркских говоров есть понятие «джигуле» - «запряженный». Так раньше называли бурла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имени одного из переселенцев села Жигули, Семена Григорьева сына по прозвищу Жегу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Легенды Жигулевских гор"/>
          <p:cNvPicPr/>
          <p:nvPr/>
        </p:nvPicPr>
        <p:blipFill>
          <a:blip r:embed="rId1"/>
          <a:stretch/>
        </p:blipFill>
        <p:spPr>
          <a:xfrm>
            <a:off x="0" y="0"/>
            <a:ext cx="9144000" cy="48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Одно из самых великолепных мест в Жигулях по своему необычному местоположению и богатой природе – это Стрельная гора. С площадки открывается прекрасный вид на Волгу, на природу вокруг, на заволжские дали. Вид дикой природы пробуждает мысли о далеком прошлом этого края.</a:t>
            </a:r>
            <a:r>
              <a:rPr b="0" lang="ru-RU" sz="17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гора стрельная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Жигулевские горы над Волгой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5181120" y="-609840"/>
            <a:ext cx="3962520" cy="746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ts val="16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С Жигулевскими горами связано много легенд и сказаний. Так, например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Жигулевские горы - места, где собиралась вольница Емельяна Пугачева, Степана Разина, Федора Шелудяка. Об этом говорят сохранившиеся названия: утес Шелудяк, Молодецкий курган, гора Стрельная, Воровской и Молебный овраги.  Не перечесть  всего, что видели, не рассказать обо всем, что слышали эти горы и овраг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ли мимо них к Булгарскому царству караваны арабских и персидских купцов. Плыли к Каспию челны с невольницами для ханских гаремов. К берегам приставали стремительные струги Ермака. Г</a:t>
            </a: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де-то Жигулевских горах знаменитый покоритель Сибири зарыл свои несметные сокровища.</a:t>
            </a: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782960"/>
            <a:ext cx="8686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Жигули – живописнейшее место нашего края и европейской части России. Неповторимые формы рельефа, своеобразный микроклимат, удивительная красота гор, уникальная флора и фауна снискали Жигулям мировую известность. Красота Жигулей воспета в песнях, былинах и художественных произведениях, а также запечатлена на полотнах И. Е. Репина, И. Айвазовского и других. За необыкновенные по красоте уголки природы на берегу Волги территорию называют «Волжской Швейцарией». Древние горы Жигули справедливо считаются  жемчужиной Вол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600200"/>
          <a:ext cx="7846920" cy="2968920"/>
        </p:xfrm>
        <a:graphic>
          <a:graphicData uri="http://schemas.openxmlformats.org/drawingml/2006/table">
            <a:tbl>
              <a:tblPr/>
              <a:tblGrid>
                <a:gridCol w="7846920"/>
              </a:tblGrid>
              <a:tr h="29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1447920"/>
            <a:ext cx="533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В юном сердце зреет с детства,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Что питал во цвете лет, -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Песню русскую в наследство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Мне оставил бедный дед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И еще – любовь большую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К Волге, к сизым Жигулям,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В знак того, что Русь такую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В мире уж не встретить нам!..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Дмитрий Оку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6-11-15T06:17:3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