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D9E-37F0-4C92-9973-832BAE2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C13-6A1F-4941-845C-B0786F6F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BCA-5974-40F8-99A3-30D6D18F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AE0-B447-42B2-ACAE-3D2C792E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28BE-FD5F-4D31-829E-9801DA91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75C-7E05-4810-97ED-5EB2867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515-7916-41BF-91E2-41ACF6A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635-D32B-4BF4-BA01-88DA345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8C0-292A-43C8-BA2E-96DEB629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1BCA-8BA8-40F7-8A38-026AAF34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4EA-C055-49BD-B2E4-13D59EB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A4C-026F-4C8A-9620-A26A845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7B30-8237-4067-B84F-DBC3C3C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D3A-25D0-482B-82B4-DDFF06E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11E-9D23-4A6E-9863-1823156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80C3-2308-4C79-99B3-81FA245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3F5-5A3E-454D-B75F-47AE854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96B-6442-4713-85DC-910CD23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CEE-8921-49F0-B47B-DC8986C9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4E9-70C7-4E24-A4E7-41E10E6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691-0979-4498-9B4F-F46DEBF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BAE-E18E-4D2F-802C-6FFC1D1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A54-0CF3-41BC-93D5-542E0D27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25B-60A2-4B9C-B001-C938200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B5E-926B-4232-87E5-4A18866261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11BB-4784-4E7B-9DFE-3840980A2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ofile.ru/geo/4837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ПРИРОДА НАШЕГО КРАЯ 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ТЕМА: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ЖЕМЧУЖЕНА</a:t>
            </a:r>
            <a:br>
              <a:rPr sz="4800"/>
            </a:br>
            <a:r>
              <a:rPr b="1" i="1" lang="en-US" sz="4800" spc="-1" strike="noStrike">
                <a:solidFill>
                  <a:srgbClr val="990033"/>
                </a:solidFill>
                <a:latin typeface="Times New Roman"/>
              </a:rPr>
              <a:t>ЖИГУЛЕЙ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Загадка Жигулевских гор  Автор: А. Колдамасов, 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Жемчужены Жигулей  (Легенды, сказы, предания), С. Е. Кузменко, 198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biofile.ru/geo/483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https://ru.wikipedia.org/wiki/Жиг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ДО ЦТТ г.о. Толья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 ученица 2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ишина Алис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а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довкина Светлана Михайл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br>
              <a:rPr sz="8400"/>
            </a:br>
            <a:br>
              <a:rPr sz="8400"/>
            </a:br>
            <a:br>
              <a:rPr sz="8400"/>
            </a:br>
            <a:endParaRPr b="0" lang="en-US" sz="8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-27713" t="0" r="0" b="0"/>
          <a:stretch/>
        </p:blipFill>
        <p:spPr>
          <a:xfrm>
            <a:off x="-2743200" y="0"/>
            <a:ext cx="11887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2971800"/>
            <a:ext cx="86583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игулевские горы, являются частью Приволжской возвышенности. Несмотря на название «горы», Жигули по своей абсолютной высоте (высшая точка 381, 2 м) являются холмами. Однако рельеф здесь имеет по-настоящему горный характер: с утесами, скалами, крутыми обрывами и глубокими оврагами. Жигули являются единственными на Русской равнине молодыми растущими горами тектонического происхождения. Жигули растут на 1см за 100 лет.</a:t>
            </a:r>
            <a:br>
              <a:rPr sz="1400"/>
            </a:b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игулёвские горы на правобережье начинаются двумя холмами у села Усолье и тянуться на 75 километров. При слиянии реки Усы с Волгой находится одна из вершин – Молодецкий Курган, который поднимается на высоту 200 метров над уровнем Куйбышевского водохранилища. Одними из самых высоких точек Жигулей – это горы Безымянная и Стрельная. Глубокие овраги  расчленяют Жигулёвский массив на ряд живописных хребтов и вершин – Усинский курган, гора Лепёшка, Могутовы горы, Лысая гора. Овраги в Жигулях глубокие и узкие, как горные ущелья. Самым большим из оврагов является Ширяевский, он тянется на 35 киломе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Вид на Волгу с горы Стрель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49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53964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53964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Жигулевские горы имеют как скалистые хребты, так и склоны покрыты лесами. В основном преобладают лиственные породы. Растут здесь растения более 700 видов, а животный мир довольно  скудноват, так как  практически отсутствует вод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Жигулевский заповед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Жигулевские горы» появилось тогда, когда Екатерина II проводила реформу российских географических названий. По поводу происхождения Жигулевских  гор, было несколько верс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Жигули» восходят к слову «жиганы». Так называли вольных людей, которые в старину селились в районе Самарской Луки, промышляли там, нападая на с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юркская версия: в одном из тюркских говоров есть понятие «джигуле» - «запряженный». Так раньше называли бурла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имени одного из переселенцев села Жигули, Семена Григорьева сына по прозвищу Жегу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Легенды Жигулевских гор"/>
          <p:cNvPicPr/>
          <p:nvPr/>
        </p:nvPicPr>
        <p:blipFill>
          <a:blip r:embed="rId1"/>
          <a:stretch/>
        </p:blipFill>
        <p:spPr>
          <a:xfrm>
            <a:off x="0" y="0"/>
            <a:ext cx="9144000" cy="48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Одно из самых великолепных мест в Жигулях по своему необычному местоположению и богатой природе – это Стрельная гора. С площадки открывается прекрасный вид на Волгу, на природу вокруг, на заволжские дали. Вид дикой природы пробуждает мысли о далеком прошлом этого края.</a:t>
            </a: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гора стрельная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Жигулевские горы над Волгой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5181120" y="-609840"/>
            <a:ext cx="3962520" cy="746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ts val="16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С Жигулевскими горами связано много легенд и сказаний. Так, например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игулевские горы - места, где собиралась вольница Емельяна Пугачева, Степана Разина, Федора Шелудяка. Об этом говорят сохранившиеся названия: утес Шелудяк, Молодецкий курган, гора Стрельная, Воровской и Молебный овраги.  Не перечесть  всего, что видели, не рассказать обо всем, что слышали эти горы и овраг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ли мимо них к Булгарскому царству караваны арабских и персидских купцов. Плыли к Каспию челны с невольницами для ханских гаремов. К берегам приставали стремительные струги Ермака. Г</a:t>
            </a: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де-то Жигулевских горах знаменитый покоритель Сибири зарыл свои несметные сокровища.</a:t>
            </a: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78296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Жигули – живописнейшее место нашего края и европейской части России. Неповторимые формы рельефа, своеобразный микроклимат, удивительная красота гор, уникальная флора и фауна снискали Жигулям мировую известность. Красота Жигулей воспета в песнях, былинах и художественных произведениях, а также запечатлена на полотнах И. Е. Репина, И. Айвазовского и других. За необыкновенные по красоте уголки природы на берегу Волги территорию называют «Волжской Швейцарией». Древние горы Жигули справедливо считаются  жемчужиной Вол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600200"/>
          <a:ext cx="7846920" cy="2968920"/>
        </p:xfrm>
        <a:graphic>
          <a:graphicData uri="http://schemas.openxmlformats.org/drawingml/2006/table">
            <a:tbl>
              <a:tblPr/>
              <a:tblGrid>
                <a:gridCol w="7846920"/>
              </a:tblGrid>
              <a:tr h="29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1447920"/>
            <a:ext cx="533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юном сердце зреет с детства,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Что питал во цвете лет, -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Песню русскую в наследство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Мне оставил бедный дед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И еще – любовь большую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К Волге, к сизым Жигулям,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знак того, что Русь такую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В мире уж не встретить нам!..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Дмитрий Оку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6-11-15T06:17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