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2E1-3329-43CD-9958-97F0F027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E9E-A9E0-4865-84AE-77A1B04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30D-4CD7-4EC6-BE18-6120317B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B71-13E4-4A90-89BB-6F705D46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D19-286D-496E-BDD6-9FFDE419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382-2D04-4533-8C4B-47CC3485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EA3-94B2-41BF-9EAF-C8FBBF7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630-6A15-4C6D-9BBB-42F7AB37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426-59E2-40D3-B9B6-91AABD9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D6F-5AB5-4852-9C38-ED9A44C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BDA-A0A8-4942-87F2-5AE526A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7C7-4D0A-4806-9528-BE7BB17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5CD-0A43-4152-8615-F84A65A00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НЕБОЛЬШИЕ  СОЧНЫЕ ПЛОДЫ КУСТАРНИКОВ И Т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479736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ЯГ   Д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08360" cy="299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516640"/>
            <a:ext cx="720720" cy="64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35280" y="4797360"/>
            <a:ext cx="12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. Определите падеж имён существитель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Наступила вес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Ребята приш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Солнце свет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менительный пад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ительные отвечают на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508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едложении всегда явля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ДЛЕЖА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ОТРЕБЛЯЕТСЯ   БЕЗ   ПРЕД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1560600" cy="158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2843280" y="314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2119320" cy="197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27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84720" y="2924280"/>
            <a:ext cx="77292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48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руд кормит, а лень порти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4720" y="2706840"/>
            <a:ext cx="3436920" cy="309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3336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НЕБОЛЬШОЙ ПУГЛИВЫЙ ЗВЕРЁК СЕМЕЙСТВА ГРЫЗУНОВ, С ДЛИННЫМИ ЗАДНИМИ НОГАМИ И ДЛИННЫМИ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4941720"/>
            <a:ext cx="5400720" cy="18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ЗА   Ц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587700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56000" y="4941720"/>
            <a:ext cx="1079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ОМАШНЕЕ ЖИВОТНОЕ СЕМЕЙСТВА ПСОВЫХ, РОДСТВЕННОЕ ВО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486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С   БАК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555920"/>
            <a:ext cx="3671640" cy="313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73408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0920" y="4869000"/>
            <a:ext cx="12258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КРУПНОЕ   ДОМАШНЕЕ   ЖИВОТНОЕ, КОТОРОЕ  ДАЁТ 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486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К   РОВ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3889440" cy="350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48360" y="378936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587700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0920" y="4869000"/>
            <a:ext cx="12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33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ПЛОД НЕКОТОРЫХ ДЕРЕВЬЕВ ИЛИ КУСТАРНИКОВ СО СЪЕДОБНЫМ ЯДРОМ В ТВЁРДОЙ ОБОЛ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56000" y="4941720"/>
            <a:ext cx="4608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РЕХ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2305080" cy="225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3860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5950080"/>
            <a:ext cx="5745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42920" y="4869000"/>
            <a:ext cx="12956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681440" cy="289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333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КРУПНЫЙ ХИЩНЫЙ ЗВЕРЬ С ДЛИННОЙ ГУСТОЙ ШЕРСТЬЮ И КОРОТКИМИ ТОЛСТЫМ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4869000"/>
            <a:ext cx="7632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М   ДВЕДЬ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78936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73408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95640" y="4869000"/>
            <a:ext cx="108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гад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й член предложения, который подчёркивается двумя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неизменяемая часть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износимая  согласная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ая часть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а существительные бывают собственными и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ые молоко, пальто, метро имеют форму только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ффикс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риб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сная в слог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единительная гласная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зд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459640" y="1665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459640" y="224172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424720" y="2744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424720" y="5013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459640" y="3681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459640" y="3176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424720" y="4400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424720" y="555300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424720" y="605808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В каком падеже стоят существительные: «дочь», «мать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973240"/>
            <a:ext cx="8229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юбит дочь ма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280" y="1233000"/>
            <a:ext cx="78850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Тем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«Именительный падеж  имён существительных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51:28Z</dcterms:created>
  <dc:creator>Ученик</dc:creator>
  <dc:description/>
  <dc:language>en-US</dc:language>
  <cp:lastModifiedBy>User</cp:lastModifiedBy>
  <dcterms:modified xsi:type="dcterms:W3CDTF">2017-02-19T15:46:24Z</dcterms:modified>
  <cp:revision>55</cp:revision>
  <dc:subject/>
  <dc:title>Урок русского языка </dc:title>
</cp:coreProperties>
</file>