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9DA-0A0E-4345-AFB1-FB22F18B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5F0-BF9F-4FF7-A84C-7C5AB0D4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6E8-4E5B-4E7C-A79B-DC8DC727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FC0-A92C-49D8-8884-B8E0C105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EAB-B781-4C52-83EB-FFA2683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0C0-BE73-4603-97C3-12665B5A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998-9258-4A0D-B4D0-1B1B410C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F38-6DA1-4D50-8EF9-478129B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C36-F1DD-4B71-AEB6-5328773B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4E2-2B6F-4C3B-AD2D-ACD785E7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57F-B71C-434A-B7DA-25116750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E55-B093-4AB4-B130-CAEA9C2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095-D36B-4500-9633-3CA4098AD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НЕБОЛЬШИЕ  СОЧНЫЕ ПЛОДЫ КУСТАРНИКОВ И Т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479736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ЯГ   ДЫ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08360" cy="2993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516640"/>
            <a:ext cx="720720" cy="649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35280" y="4797360"/>
            <a:ext cx="129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пишите предложения. Определите падеж имён существитель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Наступила весн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Ребята пришл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Солнце свети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8692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менительный пад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ествительные отвечают на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508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едложении всегда являе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ДЛЕЖА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ОТРЕБЛЯЕТСЯ   БЕЗ   ПРЕД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1560600" cy="1582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2843280" y="314136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2119320" cy="197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22764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84720" y="2924280"/>
            <a:ext cx="77292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480"/>
                            </p:stCondLst>
                            <p:childTnLst>
                              <p:par>
                                <p:cTn id="2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Труд кормит, а лень порти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4720" y="2706840"/>
            <a:ext cx="3436920" cy="309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333360"/>
            <a:ext cx="88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НЕБОЛЬШОЙ ПУГЛИВЫЙ ЗВЕРЁК СЕМЕЙСТВА ГРЫЗУНОВ, С ДЛИННЫМИ ЗАДНИМИ НОГАМИ И ДЛИННЫМИ УШ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4941720"/>
            <a:ext cx="5400720" cy="180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ЗА   Ц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371628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5877000"/>
            <a:ext cx="57492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56000" y="4941720"/>
            <a:ext cx="10796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33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ДОМАШНЕЕ ЖИВОТНОЕ СЕМЕЙСТВА ПСОВЫХ, РОДСТВЕННОЕ ВО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5640" y="4869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С   БАК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555920"/>
            <a:ext cx="3671640" cy="313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32360" y="371628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734080"/>
            <a:ext cx="57492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50920" y="4869000"/>
            <a:ext cx="12258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33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КРУПНОЕ   ДОМАШНЕЕ   ЖИВОТНОЕ, КОТОРОЕ  ДАЁТ 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4869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К   РОВ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3889440" cy="350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48360" y="3789360"/>
            <a:ext cx="57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5877000"/>
            <a:ext cx="57492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0920" y="4869000"/>
            <a:ext cx="129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33336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ПЛОД НЕКОТОРЫХ ДЕРЕВЬЕВ ИЛИ КУСТАРНИКОВ СО СЪЕДОБНЫМ ЯДРОМ В ТВЁРДОЙ ОБОЛ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56000" y="4941720"/>
            <a:ext cx="4608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РЕХ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2305080" cy="2259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386064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5950080"/>
            <a:ext cx="574560" cy="57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42920" y="4869000"/>
            <a:ext cx="129564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4681440" cy="289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33336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КРУПНЫЙ ХИЩНЫЙ ЗВЕРЬ С ДЛИННОЙ ГУСТОЙ ШЕРСТЬЮ И КОРОТКИМИ ТОЛСТЫМ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5640" y="4869000"/>
            <a:ext cx="7632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М   ДВЕДЬ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789360"/>
            <a:ext cx="57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5734080"/>
            <a:ext cx="57492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95640" y="4869000"/>
            <a:ext cx="1081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гад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ый член предложения, который подчёркивается двумя че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неизменяемая часть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оизносимая  согласная в слов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л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емая часть с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а существительные бывают собственными и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ые молоко, пальто, метро имеют форму только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ффикс в слов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риб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сная в слог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единительная гласная в слов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езде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459640" y="166536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459640" y="224172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424720" y="274464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424720" y="501336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459640" y="368136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459640" y="317664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424720" y="440064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424720" y="555300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424720" y="6058080"/>
            <a:ext cx="2574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В каком падеже стоят существительные: «дочь», «мать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973240"/>
            <a:ext cx="822960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юбит дочь ма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9280" y="1233000"/>
            <a:ext cx="788508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Тема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«Именительный падеж  имён существительных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7:51:28Z</dcterms:created>
  <dc:creator>Ученик</dc:creator>
  <dc:description/>
  <dc:language>en-US</dc:language>
  <cp:lastModifiedBy>User</cp:lastModifiedBy>
  <dcterms:modified xsi:type="dcterms:W3CDTF">2017-02-19T15:46:24Z</dcterms:modified>
  <cp:revision>55</cp:revision>
  <dc:subject/>
  <dc:title>Урок русского языка </dc:title>
</cp:coreProperties>
</file>