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772-90E3-45BA-B36D-7ED27284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7B7-875C-4F0D-988C-2D881D58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517-5CA1-44C1-A1F5-FF739019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750-BED0-4C4A-867A-4639CB9E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08E-2AFD-47B0-9F32-51B001CA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362-DB81-4B69-88FE-56799C3A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5B9-1074-47AF-A927-FBB01FAB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34A-2C4A-4790-94DE-E8635569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C4D-2B8B-422F-B265-0B4F3C85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E2D-18A7-4EE0-A874-B605D1CA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DAA-FE2B-41E6-8339-C688B5B7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8F4-051F-4DB9-B671-D3B28ED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25435-B332-4C14-BE16-58888A3666E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perspektiva-olymp.ru/pony/main" TargetMode="Externa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kitendo.ru/events/leo/?utm_source=yandex&amp;utm_medium=cpc&amp;utm_campaign=nachalka&amp;utm_term=176&amp;yclid=2378588897774672440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s://syndychok-znaniy.ru/raspisaniye-meropriyatiy?_openstat=ZGlyZWN0LnlhbmRleC5ydTsxOTYyODk4MTsyMzU1MzE5MDY1O3lhbmRleC5ydTpwcmVtaXVt&amp;yclid=2378710276819129214" TargetMode="Externa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s://mega-talant.com/olimpiada-nachalnaya-shkola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ginger-cat.ru/olimpiady-dlya-1-4-klassov" TargetMode="Externa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mathkang.ru/" TargetMode="External"/><Relationship Id="rId4" Type="http://schemas.openxmlformats.org/officeDocument/2006/relationships/hyperlink" Target="http://nsportal.ru/nachalnaya-shkola/matematika/2016/11/28/chto-takoe-kenguru" TargetMode="External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s://ianews.ru/articles/92629/" TargetMode="Externa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runodog.ru/index/2016_2017/0-91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irc43.ru/olimpiada-muravejnik.html" TargetMode="Externa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лимпиады с 1 по 4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7640" y="1800360"/>
            <a:ext cx="3672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76360" y="2684520"/>
            <a:ext cx="67676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11840" y="1631880"/>
            <a:ext cx="4592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3743280"/>
            <a:ext cx="52563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89680" y="3743280"/>
            <a:ext cx="28306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4751280"/>
            <a:ext cx="97203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5616720"/>
            <a:ext cx="421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1320" y="5759280"/>
            <a:ext cx="536904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1640" y="6573960"/>
            <a:ext cx="259236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825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41560" y="2087640"/>
            <a:ext cx="6048360" cy="3828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11280" y="6408720"/>
            <a:ext cx="547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perspektiva-olymp.ru/pony/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118584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303640" y="3024360"/>
            <a:ext cx="5688000" cy="38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ЬВЁ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87640" y="1368360"/>
            <a:ext cx="3456000" cy="4751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3280" y="6480000"/>
            <a:ext cx="936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kitendo.ru/events/leo/?utm_source=yandex&amp;utm_medium=cpc&amp;utm_campaign=nachalka&amp;utm_term=176&amp;yclid=2378588897774672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УНДУЧОК ЗНА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89280" y="2519280"/>
            <a:ext cx="2935440" cy="2711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92000" y="6551640"/>
            <a:ext cx="878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syndychok-znaniy.ru/raspisaniye-meropriyatiy?_openstat=ZGlyZWN0LnlhbmRleC5ydTsxOTYyODk4MTsyMzU1MzE5MDY1O3lhbmRleC5ydTpwcmVtaXVt&amp;yclid=2378710276819129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609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ГА-ТАЛ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664000" y="2697120"/>
            <a:ext cx="4871880" cy="183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16000" y="6191280"/>
            <a:ext cx="656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mega-talant.com/olimpiada-nachalnaya-sh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6825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ЫЖИЙ К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2808360"/>
            <a:ext cx="5052960" cy="194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76360" y="6191280"/>
            <a:ext cx="577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ginger-cat.ru/olimpiady-dlya-1-4-klas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7440" y="9363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19280" y="2664000"/>
            <a:ext cx="4608720" cy="2087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6119640"/>
            <a:ext cx="234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thkang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360" y="6840360"/>
            <a:ext cx="9861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nsportal.ru/nachalnaya-shkola/matematika/2016/11/28/chto-takoe-ke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7538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УССКИЙ МЕДВЕЖОН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03640" y="2592360"/>
            <a:ext cx="5479920" cy="2535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16000" y="6478560"/>
            <a:ext cx="3930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ianews.ru/articles/9262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969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ОЛОТОЕ РУ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95640" y="2519280"/>
            <a:ext cx="3887640" cy="3168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32000" y="6551640"/>
            <a:ext cx="4943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runodog.ru/index/2016_2017/0-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9363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УРАВЕЙ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98600" y="2570040"/>
            <a:ext cx="5477040" cy="2541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28720" y="6048360"/>
            <a:ext cx="5119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irc43.ru/olimpiada-muravejni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3T07:53:33Z</dcterms:created>
  <dc:creator>Ирина Гулакова</dc:creator>
  <dc:description/>
  <dc:language>en-US</dc:language>
  <cp:lastModifiedBy/>
  <cp:revision>1</cp:revision>
  <dc:subject/>
  <dc:title/>
</cp:coreProperties>
</file>