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4D87-5516-4D45-AC5F-9F96A089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CDD-2910-4C78-8906-2DD3E77D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2503-8EB8-47AC-86C3-C065A337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E30B-4E9B-408B-8D36-720B66EC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3E9D-FCDE-4B51-AA8E-DABBBB14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5862-0D7A-4D35-93CD-53F8DF57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0CEA-3212-483B-8B0F-354AE24C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963-036F-4C4E-9744-8E688A01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77D5-5407-400E-A5F1-01C8C8F1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9FE5-A51A-48BC-849F-27621F81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C485-ED18-4190-B7B2-E8A66D2B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A6D-1476-47D7-9F31-21F2A053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7D80B-7B8D-4031-AF2D-6A3FFA706D5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http://www.perspektiva-olymp.ru/pony/main" TargetMode="External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kitendo.ru/events/leo/?utm_source=yandex&amp;utm_medium=cpc&amp;utm_campaign=nachalka&amp;utm_term=176&amp;yclid=2378588897774672440" TargetMode="External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s://syndychok-znaniy.ru/raspisaniye-meropriyatiy?_openstat=ZGlyZWN0LnlhbmRleC5ydTsxOTYyODk4MTsyMzU1MzE5MDY1O3lhbmRleC5ydTpwcmVtaXVt&amp;yclid=2378710276819129214" TargetMode="External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s://mega-talant.com/olimpiada-nachalnaya-shkola" TargetMode="External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ginger-cat.ru/olimpiady-dlya-1-4-klassov" TargetMode="External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http://mathkang.ru/" TargetMode="External"/><Relationship Id="rId4" Type="http://schemas.openxmlformats.org/officeDocument/2006/relationships/hyperlink" Target="http://nsportal.ru/nachalnaya-shkola/matematika/2016/11/28/chto-takoe-kenguru" TargetMode="External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s://ianews.ru/articles/92629/" TargetMode="External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runodog.ru/index/2016_2017/0-91" TargetMode="External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http://irc43.ru/olimpiada-muravejnik.html" TargetMode="External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Олимпиады с 1 по 4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7640" y="1800360"/>
            <a:ext cx="3672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76360" y="2684520"/>
            <a:ext cx="676764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11840" y="1631880"/>
            <a:ext cx="4592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3743280"/>
            <a:ext cx="525636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89680" y="3743280"/>
            <a:ext cx="28306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0360" y="4751280"/>
            <a:ext cx="972036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5616720"/>
            <a:ext cx="421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1320" y="5759280"/>
            <a:ext cx="5369040" cy="36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11640" y="6573960"/>
            <a:ext cx="2592360" cy="30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8254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ОН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041560" y="2087640"/>
            <a:ext cx="6048360" cy="3828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11280" y="6408720"/>
            <a:ext cx="5472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perspektiva-olymp.ru/pony/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640" y="1185840"/>
            <a:ext cx="9071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303640" y="3024360"/>
            <a:ext cx="5688000" cy="38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ЛЬВЁН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87640" y="1368360"/>
            <a:ext cx="3456000" cy="4751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3280" y="6480000"/>
            <a:ext cx="9360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kitendo.ru/events/leo/?utm_source=yandex&amp;utm_medium=cpc&amp;utm_campaign=nachalka&amp;utm_term=176&amp;yclid=23785888977746724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538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УНДУЧОК ЗНА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89280" y="2519280"/>
            <a:ext cx="2935440" cy="2711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92000" y="6551640"/>
            <a:ext cx="8783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s://syndychok-znaniy.ru/raspisaniye-meropriyatiy?_openstat=ZGlyZWN0LnlhbmRleC5ydTsxOTYyODk4MTsyMzU1MzE5MDY1O3lhbmRleC5ydTpwcmVtaXVt&amp;yclid=23787102768191292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6094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ЕГА-ТАЛАН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664000" y="2697120"/>
            <a:ext cx="4871880" cy="183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016000" y="6191280"/>
            <a:ext cx="6569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s://mega-talant.com/olimpiada-nachalnaya-shk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1640" y="682560"/>
            <a:ext cx="9071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ЫЖИЙ КО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362320" y="2808360"/>
            <a:ext cx="5052960" cy="1944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376360" y="6191280"/>
            <a:ext cx="577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ginger-cat.ru/olimpiady-dlya-1-4-klass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7440" y="9363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ЕНГУР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19280" y="2664000"/>
            <a:ext cx="4608720" cy="2087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95280" y="6119640"/>
            <a:ext cx="234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mathkang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4360" y="6840360"/>
            <a:ext cx="98614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nsportal.ru/nachalnaya-shkola/matematika/2016/11/28/chto-takoe-kengu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7538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УССКИЙ МЕДВЕЖОН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303640" y="2592360"/>
            <a:ext cx="5479920" cy="2535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016000" y="6478560"/>
            <a:ext cx="3930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s://ianews.ru/articles/92629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9698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ОЛОТОЕ РУ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095640" y="2519280"/>
            <a:ext cx="3887640" cy="3168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32000" y="6551640"/>
            <a:ext cx="4943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runodog.ru/index/2016_2017/0-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9363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УРАВЕЙ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98600" y="2570040"/>
            <a:ext cx="5477040" cy="2541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28720" y="6048360"/>
            <a:ext cx="5119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irc43.ru/olimpiada-muravejni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3T07:53:33Z</dcterms:created>
  <dc:creator>Ирина Гулакова</dc:creator>
  <dc:description/>
  <dc:language>en-US</dc:language>
  <cp:lastModifiedBy/>
  <cp:revision>1</cp:revision>
  <dc:subject/>
  <dc:title/>
</cp:coreProperties>
</file>