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7.jpeg" ContentType="image/jpeg"/>
  <Override PartName="/ppt/media/image13.png" ContentType="image/png"/>
  <Override PartName="/ppt/media/image41.jpeg" ContentType="image/jpeg"/>
  <Override PartName="/ppt/media/image45.jpeg" ContentType="image/jpeg"/>
  <Override PartName="/ppt/media/image11.png" ContentType="image/png"/>
  <Override PartName="/ppt/media/image39.jpeg" ContentType="image/jpeg"/>
  <Override PartName="/ppt/media/image8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0BB7-9790-4AA3-82FE-435C97FCE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C1ED-5EF4-4DA7-BC40-EC869A30DC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8249-7C37-44B4-9ACF-3D7BC63A57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90C5-E48F-45C2-9764-2A70C569C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69CB-F801-4D33-8B79-0D4E87971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77FE-3C74-4A60-8232-420D65C93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229C-0148-45B1-B811-D4462C91C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E7D5-24F6-4F8B-9182-9D1AA45C3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375F-9F36-4CFF-BC0F-2BA496704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96F8-C036-4726-A1EB-8CB268421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E102-ED2E-4A29-9A2D-FD554E65D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A969-16C0-4225-B771-39F275864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FD42-B395-4E8C-8BEE-51F06075F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17FA-71DE-4FEE-8CF8-05B218DAFE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A607-A85C-4363-BCFD-4FD70249E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35D4-69DB-4E6B-AAF5-50535158E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1AB2-698D-4587-83B0-4180FF663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5BFE-A507-4902-B99D-779EB235F2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8E01-2AA7-4143-910E-F061D54BC2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54D4-89CD-48D4-85A7-0337F1D3F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5A47-EDF5-4CC0-9536-B2A5B211A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D1D9-E7A0-415C-B209-44DB444A6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F8F8-FF9A-4688-B180-41E86EC8C4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B008-6E81-4141-8658-A6212CA12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F12D-5F97-4F94-8FB3-04856D9B9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8C8-8F4B-448A-B813-40AE229E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10E-2712-4F6F-9C57-E3307E86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50DF-A046-4182-BB12-F13AD1AF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837-2085-4158-91E8-D87501EF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604-CEA7-466B-BA62-DEB18858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EEA-7AB7-4707-B76B-D8F904CB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BCC-6F28-4721-919D-70A1BE3F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EDD-D964-493C-A711-5E2B9E45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A47-1D0A-4AD7-8656-175DCD65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06C-37C6-49C1-B7A8-B238AB9E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9B7-28BD-435C-9626-89E06F7A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D8F-3893-450C-8E8F-29DC170A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066E-C60A-4579-A208-DDE9B62E7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омплект для начальной школы «ПЕРСПЕКТИВА» 1 – 4 классы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усский язык, литературное чтение, математика, окружающий мир, технология, музы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611280" y="1989000"/>
            <a:ext cx="8086680" cy="4689360"/>
            <a:chOff x="611280" y="1989000"/>
            <a:chExt cx="8086680" cy="4689360"/>
          </a:xfrm>
        </p:grpSpPr>
        <p:grpSp>
          <p:nvGrpSpPr>
            <p:cNvPr id="50" name="Group 6"/>
            <p:cNvGrpSpPr/>
            <p:nvPr/>
          </p:nvGrpSpPr>
          <p:grpSpPr>
            <a:xfrm>
              <a:off x="611280" y="2060640"/>
              <a:ext cx="1071000" cy="1279080"/>
              <a:chOff x="611280" y="2060640"/>
              <a:chExt cx="1071000" cy="1279080"/>
            </a:xfrm>
          </p:grpSpPr>
          <p:pic>
            <p:nvPicPr>
              <p:cNvPr id="51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752760" y="2060640"/>
                <a:ext cx="929520" cy="11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2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611280" y="2190600"/>
                <a:ext cx="918000" cy="1149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53" name="Picture 9" descr="12"/>
            <p:cNvPicPr/>
            <p:nvPr/>
          </p:nvPicPr>
          <p:blipFill>
            <a:blip r:embed="rId3"/>
            <a:stretch/>
          </p:blipFill>
          <p:spPr>
            <a:xfrm>
              <a:off x="1116000" y="3068640"/>
              <a:ext cx="914400" cy="1160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54" name="Group 10"/>
            <p:cNvGrpSpPr/>
            <p:nvPr/>
          </p:nvGrpSpPr>
          <p:grpSpPr>
            <a:xfrm>
              <a:off x="4033800" y="1989000"/>
              <a:ext cx="1074600" cy="1288800"/>
              <a:chOff x="4033800" y="1989000"/>
              <a:chExt cx="1074600" cy="1288800"/>
            </a:xfrm>
          </p:grpSpPr>
          <p:pic>
            <p:nvPicPr>
              <p:cNvPr id="55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175640" y="1989000"/>
                <a:ext cx="932760" cy="1159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6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4033800" y="2118960"/>
                <a:ext cx="932760" cy="1158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57" name="Group 13"/>
            <p:cNvGrpSpPr/>
            <p:nvPr/>
          </p:nvGrpSpPr>
          <p:grpSpPr>
            <a:xfrm>
              <a:off x="5940360" y="1989000"/>
              <a:ext cx="1090440" cy="1290240"/>
              <a:chOff x="5940360" y="1989000"/>
              <a:chExt cx="1090440" cy="1290240"/>
            </a:xfrm>
          </p:grpSpPr>
          <p:pic>
            <p:nvPicPr>
              <p:cNvPr id="58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107040" y="1989000"/>
                <a:ext cx="923760" cy="112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9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940360" y="2118960"/>
                <a:ext cx="917640" cy="1160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60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812000" y="4508640"/>
              <a:ext cx="885960" cy="115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61" name="Group 17"/>
            <p:cNvGrpSpPr/>
            <p:nvPr/>
          </p:nvGrpSpPr>
          <p:grpSpPr>
            <a:xfrm>
              <a:off x="1403280" y="4149720"/>
              <a:ext cx="1177920" cy="1519200"/>
              <a:chOff x="1403280" y="4149720"/>
              <a:chExt cx="1177920" cy="1519200"/>
            </a:xfrm>
          </p:grpSpPr>
          <p:pic>
            <p:nvPicPr>
              <p:cNvPr id="62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3280" y="4149720"/>
                <a:ext cx="93528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3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4510080"/>
                <a:ext cx="8888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4" name="Group 20"/>
            <p:cNvGrpSpPr/>
            <p:nvPr/>
          </p:nvGrpSpPr>
          <p:grpSpPr>
            <a:xfrm>
              <a:off x="2268360" y="5157720"/>
              <a:ext cx="1173240" cy="1520640"/>
              <a:chOff x="2268360" y="5157720"/>
              <a:chExt cx="1173240" cy="1520640"/>
            </a:xfrm>
          </p:grpSpPr>
          <p:pic>
            <p:nvPicPr>
              <p:cNvPr id="65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68360" y="5157720"/>
                <a:ext cx="88920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6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2760" y="5518080"/>
                <a:ext cx="888840" cy="116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7" name="Group 23"/>
            <p:cNvGrpSpPr/>
            <p:nvPr/>
          </p:nvGrpSpPr>
          <p:grpSpPr>
            <a:xfrm>
              <a:off x="2268360" y="2060640"/>
              <a:ext cx="1198440" cy="1512720"/>
              <a:chOff x="2268360" y="2060640"/>
              <a:chExt cx="1198440" cy="1512720"/>
            </a:xfrm>
          </p:grpSpPr>
          <p:pic>
            <p:nvPicPr>
              <p:cNvPr id="68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68360" y="2060640"/>
                <a:ext cx="888840" cy="115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9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580840" y="2421000"/>
                <a:ext cx="885960" cy="1152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0" name="Group 26"/>
            <p:cNvGrpSpPr/>
            <p:nvPr/>
          </p:nvGrpSpPr>
          <p:grpSpPr>
            <a:xfrm>
              <a:off x="2916360" y="3429000"/>
              <a:ext cx="1317600" cy="1446120"/>
              <a:chOff x="2916360" y="3429000"/>
              <a:chExt cx="1317600" cy="1446120"/>
            </a:xfrm>
          </p:grpSpPr>
          <p:pic>
            <p:nvPicPr>
              <p:cNvPr id="71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55920" y="3429000"/>
                <a:ext cx="8780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2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16360" y="3716280"/>
                <a:ext cx="87768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3" name="Group 29"/>
            <p:cNvGrpSpPr/>
            <p:nvPr/>
          </p:nvGrpSpPr>
          <p:grpSpPr>
            <a:xfrm>
              <a:off x="4572000" y="3213000"/>
              <a:ext cx="1349280" cy="1576440"/>
              <a:chOff x="4572000" y="3213000"/>
              <a:chExt cx="1349280" cy="1576440"/>
            </a:xfrm>
          </p:grpSpPr>
          <p:pic>
            <p:nvPicPr>
              <p:cNvPr id="74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572000" y="321300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5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3640" y="357336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6" name="Group 32"/>
            <p:cNvGrpSpPr/>
            <p:nvPr/>
          </p:nvGrpSpPr>
          <p:grpSpPr>
            <a:xfrm>
              <a:off x="5148360" y="4653000"/>
              <a:ext cx="1285920" cy="1504440"/>
              <a:chOff x="5148360" y="4653000"/>
              <a:chExt cx="1285920" cy="1504440"/>
            </a:xfrm>
          </p:grpSpPr>
          <p:pic>
            <p:nvPicPr>
              <p:cNvPr id="77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48360" y="465300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8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08720" y="494172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9" name="Group 35"/>
            <p:cNvGrpSpPr/>
            <p:nvPr/>
          </p:nvGrpSpPr>
          <p:grpSpPr>
            <a:xfrm>
              <a:off x="6732720" y="2658960"/>
              <a:ext cx="1366560" cy="1539720"/>
              <a:chOff x="6732720" y="2658960"/>
              <a:chExt cx="1366560" cy="1539720"/>
            </a:xfrm>
          </p:grpSpPr>
          <p:pic>
            <p:nvPicPr>
              <p:cNvPr id="80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32720" y="26589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81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64360" y="29811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82" name="Picture 38" descr=""/>
            <p:cNvPicPr/>
            <p:nvPr/>
          </p:nvPicPr>
          <p:blipFill>
            <a:blip r:embed="rId23"/>
            <a:stretch/>
          </p:blipFill>
          <p:spPr>
            <a:xfrm>
              <a:off x="7093080" y="5084640"/>
              <a:ext cx="885600" cy="1160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ис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ой алфави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2-х част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ют образцы печатной и письменной буквы, простейшие структурно-семантические модели слов, включают упражнения на написание слов, предложений и небольших текстов, формируют начальные орфографические нав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Attachment"/>
          <p:cNvPicPr/>
          <p:nvPr/>
        </p:nvPicPr>
        <p:blipFill>
          <a:blip r:embed="rId1"/>
          <a:stretch/>
        </p:blipFill>
        <p:spPr>
          <a:xfrm>
            <a:off x="5292720" y="2133720"/>
            <a:ext cx="2519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ая тетрад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иши краси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а для закрепления каллиграфических навыков, развития мелкой мускулатуры руки, овладения письменным шриф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Attachment"/>
          <p:cNvPicPr/>
          <p:nvPr/>
        </p:nvPicPr>
        <p:blipFill>
          <a:blip r:embed="rId1"/>
          <a:stretch/>
        </p:blipFill>
        <p:spPr>
          <a:xfrm>
            <a:off x="5508720" y="2205000"/>
            <a:ext cx="2431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7480" y="1268280"/>
            <a:ext cx="476388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лоч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назнач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тработки навыка чт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я знаний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учебных ум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х учениками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е по учебнику «Азбу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гров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ых упра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фор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ыка чтения цел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ми, обогащает слова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с первоклассников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 их речь.</a:t>
            </a:r>
            <a:br>
              <a:rPr sz="2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chitalochka"/>
          <p:cNvPicPr/>
          <p:nvPr/>
        </p:nvPicPr>
        <p:blipFill>
          <a:blip r:embed="rId1"/>
          <a:stretch/>
        </p:blipFill>
        <p:spPr>
          <a:xfrm>
            <a:off x="5292720" y="2205000"/>
            <a:ext cx="261000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Прямоугольник 1"/>
          <p:cNvSpPr/>
          <p:nvPr/>
        </p:nvSpPr>
        <p:spPr>
          <a:xfrm>
            <a:off x="1502280" y="563400"/>
            <a:ext cx="68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ое пособие «Читалоч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собенности  программы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Климановой Л.Ф. «Литературное чтение»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ля 1 класса УМК«Перспектива»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и учебника «Литературное чтение» 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Attachment"/>
          <p:cNvPicPr/>
          <p:nvPr/>
        </p:nvPicPr>
        <p:blipFill>
          <a:blip r:embed="rId1"/>
          <a:stretch/>
        </p:blipFill>
        <p:spPr>
          <a:xfrm>
            <a:off x="5508720" y="2492280"/>
            <a:ext cx="2295360" cy="309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ttachment"/>
          <p:cNvPicPr/>
          <p:nvPr/>
        </p:nvPicPr>
        <p:blipFill>
          <a:blip r:embed="rId2"/>
          <a:stretch/>
        </p:blipFill>
        <p:spPr>
          <a:xfrm>
            <a:off x="1116000" y="2565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курса «Литературное чт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 начинающего читателя интерес к книге и потребность в систематическом чт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тературных произведений, понимание того, что художественное произведение — это произведение словесного искус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ь воображение ребенка, чувство эстетического переживания прочитан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навыка чтения, так как он является той основой, на которой развиваются все остальные коммуникативно-речевые ум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у учащихся нравственно-эстетического отношения к людям и окружающему ми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рики «Самостоятельное чтение», «Идем в библиотеку», «Наш театр», «Читалочка - обучалочка», «Маленькие и большие секреты страны Литературии», «Мои любимые писатели» предлагают различные формы работы с литературным произведением, систематизируют знания и обогащают практический опыт ребенка, в них представлена система работы с книгой как в урочной так и во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ами учебника «Литературное чтение» для 1 класса, во все разделы введена рубрика «Семейное чтение», в которую помещены более объемные тексты, чем те, которые может осилить первоклассник. Предполагается, что подобные произведения будут читать и обсуждать с детьми родители. А это значит укрепятся семейные связи, возрастет роль родителей в воспитании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16-3-3-1"/>
          <p:cNvPicPr/>
          <p:nvPr/>
        </p:nvPicPr>
        <p:blipFill>
          <a:blip r:embed="rId1"/>
          <a:stretch/>
        </p:blipFill>
        <p:spPr>
          <a:xfrm>
            <a:off x="4768920" y="260280"/>
            <a:ext cx="238608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16-3-3"/>
          <p:cNvPicPr/>
          <p:nvPr/>
        </p:nvPicPr>
        <p:blipFill>
          <a:blip r:embed="rId2"/>
          <a:stretch/>
        </p:blipFill>
        <p:spPr>
          <a:xfrm>
            <a:off x="6012000" y="3284640"/>
            <a:ext cx="2452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собенности  программы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лимановой Л.Ф. «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усский язык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ля 1 класса УМК«Перспектива»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и учебника «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усский язык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обучения грамоте начинается раздельное изучение русского языка и литературного ч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СВЕДЕНИЯ О ЯЗЫКЕ И РЕЧИ, УСВОЕННЫЕ ДЕТЬМИ ПРИ РАБОТЕ «Азбукой», в курсе русского языка закрепляются, обобщаются и получают дальнейше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ttachment"/>
          <p:cNvPicPr/>
          <p:nvPr/>
        </p:nvPicPr>
        <p:blipFill>
          <a:blip r:embed="rId1"/>
          <a:stretch/>
        </p:blipFill>
        <p:spPr>
          <a:xfrm>
            <a:off x="1332000" y="3357720"/>
            <a:ext cx="2158920" cy="280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Attachment"/>
          <p:cNvPicPr/>
          <p:nvPr/>
        </p:nvPicPr>
        <p:blipFill>
          <a:blip r:embed="rId2"/>
          <a:stretch/>
        </p:blipFill>
        <p:spPr>
          <a:xfrm>
            <a:off x="5148360" y="3357720"/>
            <a:ext cx="2233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систематического курса русского языка обеспеч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913932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нательное овладение (на доступном детям уровне) родным языком как средством общения и познания для свободного пользования им в различных ситуациях 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коммуникативно-речевых умений (писать и говорить, слушать и читать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бережного отношения к языку, его богатству, глубине и вырази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нтереса к родному языку, его изуч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стиля речевого общения учащихся, основанного на уважении к собеседнику и его мн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общение учащихся к духовно-нравственным ценностям русского языка и отечествен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 «Развитие реч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усматривает не только обогащение словаря, совершенствование грамматического строя речи (в устной и письменной форме), освоение различных видов работы с текстом, но и формирование представлений о речи в целом, о речевом общении, о средствах общения (вербальных и невербальны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систематического курса русского языка начинается с обобщения первоначальных сведений о речевом общении и языке как средстве коммуникации, полученных в период обучения грам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цель  УМК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kartinki2_002"/>
          <p:cNvPicPr/>
          <p:nvPr/>
        </p:nvPicPr>
        <p:blipFill>
          <a:blip r:embed="rId1"/>
          <a:stretch/>
        </p:blipFill>
        <p:spPr>
          <a:xfrm>
            <a:off x="3780000" y="2924280"/>
            <a:ext cx="4608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Математика «Учусь учиться»» автор Л. Г.Петерсо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Attachment"/>
          <p:cNvPicPr/>
          <p:nvPr/>
        </p:nvPicPr>
        <p:blipFill>
          <a:blip r:embed="rId1"/>
          <a:stretch/>
        </p:blipFill>
        <p:spPr>
          <a:xfrm>
            <a:off x="6084720" y="2349360"/>
            <a:ext cx="20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ttachment"/>
          <p:cNvPicPr/>
          <p:nvPr/>
        </p:nvPicPr>
        <p:blipFill>
          <a:blip r:embed="rId2"/>
          <a:stretch/>
        </p:blipFill>
        <p:spPr>
          <a:xfrm>
            <a:off x="90000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ttachment"/>
          <p:cNvPicPr/>
          <p:nvPr/>
        </p:nvPicPr>
        <p:blipFill>
          <a:blip r:embed="rId3"/>
          <a:stretch/>
        </p:blipFill>
        <p:spPr>
          <a:xfrm>
            <a:off x="3492360" y="3068640"/>
            <a:ext cx="20163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цели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 учащихся основ умения учить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х мышления, качеств личности, интереса к математи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возможностей для математической подготовки каждого ребёнка на высоком уров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комплекс «Окружающий мир» авторы А. А. Плешаков, М.Ю. Новиц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Attachment"/>
          <p:cNvPicPr/>
          <p:nvPr/>
        </p:nvPicPr>
        <p:blipFill>
          <a:blip r:embed="rId1"/>
          <a:stretch/>
        </p:blipFill>
        <p:spPr>
          <a:xfrm>
            <a:off x="1116000" y="1989000"/>
            <a:ext cx="2376360" cy="3529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Attachment"/>
          <p:cNvPicPr/>
          <p:nvPr/>
        </p:nvPicPr>
        <p:blipFill>
          <a:blip r:embed="rId2"/>
          <a:stretch/>
        </p:blipFill>
        <p:spPr>
          <a:xfrm>
            <a:off x="5435640" y="1989000"/>
            <a:ext cx="2592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изучения предмета «Окружающий мир» в начальной школ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целостной картины мира и осознание места в нём человека на основе единства рационально-научного познания и эмоционально-ценностного осмысления ребёнком личного опыта общения с людьми и прир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и воспитание личности гражданина России в условиях культурного многообразия российского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 музыка, ИЗО,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Attachment"/>
          <p:cNvPicPr/>
          <p:nvPr/>
        </p:nvPicPr>
        <p:blipFill>
          <a:blip r:embed="rId1"/>
          <a:stretch/>
        </p:blipFill>
        <p:spPr>
          <a:xfrm>
            <a:off x="755640" y="1916280"/>
            <a:ext cx="1655640" cy="2460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Attachment"/>
          <p:cNvPicPr/>
          <p:nvPr/>
        </p:nvPicPr>
        <p:blipFill>
          <a:blip r:embed="rId2"/>
          <a:stretch/>
        </p:blipFill>
        <p:spPr>
          <a:xfrm>
            <a:off x="2916360" y="1989000"/>
            <a:ext cx="1562040" cy="237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Attachment"/>
          <p:cNvPicPr/>
          <p:nvPr/>
        </p:nvPicPr>
        <p:blipFill>
          <a:blip r:embed="rId3"/>
          <a:stretch/>
        </p:blipFill>
        <p:spPr>
          <a:xfrm>
            <a:off x="4788000" y="206064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Attachment"/>
          <p:cNvPicPr/>
          <p:nvPr/>
        </p:nvPicPr>
        <p:blipFill>
          <a:blip r:embed="rId4"/>
          <a:stretch/>
        </p:blipFill>
        <p:spPr>
          <a:xfrm>
            <a:off x="6732720" y="2060640"/>
            <a:ext cx="1871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«Я в мире и мир во мн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ажно, чтобы обучение способствовало построению образа «Я», которое включает в себя самопознание, саморазвитие и самооценку, формирование гражданской идентичности личности, принятие и осмысление нравственных и культурных ц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Хочу учиться!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ебенок часто задает вопрос «почему?», ему интересно знать все и обо всем. Наша задача сохранить этот интерес и при этом научить ребенка самостоятельно находить ответы, планировать свою деятельность и доводить ее до конца, оценивать результат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Я общаюсь, значит, я учусь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оцесс обучения невозможен без общения. То есть, во-первых, учить ребенка свободно вести конструктивный диалог, слушать и слышать собеседника, а во-вторых, формировать информационную культуру — находить необходимые источники знаний учить получать информацию из различных источников, анализировать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«В здоровом теле здоровый дух!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десь важно научить детей самим заботиться о здоровье. Умение сопереживать, сочувствовать, заботиться о себе, о природе, об окружающих людях, беречь и чтить то, что ими созд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 УМК «Перспектива» формируют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детей к истории своей семь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ой и большой Роди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ям и обычаям народов России, культурному наслед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еятельности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59151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учебники включен: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ют применять полученные знания в практ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ют условия для реализации творческого потенциала уче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ют ценностное мировоззрение и нравственную позицию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учебник снабжен системой заданий, направленных на развитие как логического, так и образного мышления, воображени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имущества УМК «Перспекти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ясь по этой программе, ученик на каждом уроке приоткрывает для себя будущие темы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Times New Roman"/>
              </a:rPr>
              <a:t>Особенности программы </a:t>
            </a:r>
            <a:br>
              <a:rPr sz="2800"/>
            </a:br>
            <a:r>
              <a:rPr b="0" lang="ru-RU" sz="2800" spc="-1" strike="noStrike">
                <a:solidFill>
                  <a:srgbClr val="99cc00"/>
                </a:solidFill>
                <a:latin typeface="Times New Roman"/>
              </a:rPr>
              <a:t>«Обучение грамоте на коммуникативной основе» и учебника «Азбука» Л. Ф. Климан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4788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и УМК «Перспекти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ивают интерес  к русскому язы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вают секреты его «оживления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ят в мир науки о язы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ощутить его, как  стройную и гармоничную сист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ают ребят к искусству сл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младшему школьнику  понять и почувствовать эстетическую ц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Attachment"/>
          <p:cNvPicPr/>
          <p:nvPr/>
        </p:nvPicPr>
        <p:blipFill>
          <a:blip r:embed="rId1"/>
          <a:stretch/>
        </p:blipFill>
        <p:spPr>
          <a:xfrm>
            <a:off x="4788000" y="2060640"/>
            <a:ext cx="2063520" cy="345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ttachment"/>
          <p:cNvPicPr/>
          <p:nvPr/>
        </p:nvPicPr>
        <p:blipFill>
          <a:blip r:embed="rId2"/>
          <a:stretch/>
        </p:blipFill>
        <p:spPr>
          <a:xfrm>
            <a:off x="6975360" y="3400560"/>
            <a:ext cx="216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УМК отличает новый, нестандартный способ организации речевой творческой деятельности – обучения детей грамоте на коммуникативно-познавательной осн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 на каждом уроке создается коммуникативно-речевая ситуация, позволяющая вступать в сотрудничество со своими сверстниками и со взрослыми, что позволяет организовать постоянную речев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е занимательные иллюстрации вызывают у первоклассников горячее желание рассказать о своих любимых занятиях, выслушать выступления других реб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7-1-2"/>
          <p:cNvPicPr/>
          <p:nvPr/>
        </p:nvPicPr>
        <p:blipFill>
          <a:blip r:embed="rId1"/>
          <a:stretch/>
        </p:blipFill>
        <p:spPr>
          <a:xfrm>
            <a:off x="2050920" y="3645000"/>
            <a:ext cx="2163960" cy="285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7-1-1"/>
          <p:cNvPicPr/>
          <p:nvPr/>
        </p:nvPicPr>
        <p:blipFill>
          <a:blip r:embed="rId2"/>
          <a:stretch/>
        </p:blipFill>
        <p:spPr>
          <a:xfrm>
            <a:off x="4140360" y="3645000"/>
            <a:ext cx="2466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ая тетрадь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уй, думай, рассказыва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а для работы в подготовительный период обучения грамо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я с ней, дети име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рисо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ашивать, штрих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 т. п., что помогает укреп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лкую мускулатуру паль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ь координацию дв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и при письме и тем са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подготов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 написанию букв рус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а,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 предложений.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Attachment"/>
          <p:cNvPicPr/>
          <p:nvPr/>
        </p:nvPicPr>
        <p:blipFill>
          <a:blip r:embed="rId1"/>
          <a:stretch/>
        </p:blipFill>
        <p:spPr>
          <a:xfrm>
            <a:off x="5292720" y="2205000"/>
            <a:ext cx="2576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Екатерина Нуриева</cp:lastModifiedBy>
  <dcterms:modified xsi:type="dcterms:W3CDTF">2017-05-16T22:41:32Z</dcterms:modified>
  <cp:revision>12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