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7.jpeg" ContentType="image/jpeg"/>
  <Override PartName="/ppt/media/image13.png" ContentType="image/png"/>
  <Override PartName="/ppt/media/image41.jpeg" ContentType="image/jpeg"/>
  <Override PartName="/ppt/media/image45.jpeg" ContentType="image/jpeg"/>
  <Override PartName="/ppt/media/image11.png" ContentType="image/png"/>
  <Override PartName="/ppt/media/image39.jpeg" ContentType="image/jpeg"/>
  <Override PartName="/ppt/media/image8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C735-33E9-46FE-9FD8-106AAC0446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FD1E-7EDD-4ECD-84EC-677F6A5ECC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D9B2-D8C9-4060-BCAA-62FC47A9BD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007C-D068-4E65-A043-EBF6DEF7AB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2608-A985-4980-90AA-B685B59D35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206A-EDCD-437A-97A4-26AF72993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5C28-A140-4751-B3A7-854B6388D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3063-B438-4A40-B66A-6E30607D53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C0CA-7D50-41A4-9129-0D9AF9404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065C-3A2A-478F-A141-EDA60EFA9B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351A-1E37-45B9-AE0C-185C733F9D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47E6-9513-486E-8FB1-19DAA97F5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70BA-9BE7-4E13-88DD-6CCEF4EDB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FF6A-2EEC-4F7E-B964-2AD40504F6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16BE-3E61-4BD4-A36E-B07AFA9282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86EB-8DA5-4DEE-B2C5-E95C4C7F79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A19E-2F30-4EFA-9035-1396C3533C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A636-D679-4D07-A47E-4A4BE03ED7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51B3-BC9B-4F7F-BCA8-31C1D57D95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9CA2-DEC7-4E2E-9C60-9705539CE9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39B2-7284-4AC4-A902-209ACAF478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B745-8F5B-4B36-89A0-46B2FF054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9F7B-63D7-4BBE-AD88-7A0F1B69A7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AF85-49D2-4CC7-BE37-19855B0FB7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BB5F-E8CC-4A20-88C5-06B18031F8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2D0-BFA7-4866-993B-D9B60E6A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AC3-40A4-4CDB-9E59-032D7376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5F8-FFA8-40B2-AB91-4DFC5FEF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1ADD-2125-4D1E-8F21-4D954A36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08E-326A-4178-838B-96D6C7FC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11B-0766-4F6C-BB48-C1508A99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774-6D39-40CE-B227-6344FA03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421-ADE5-4B58-9E04-8D192009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061-161B-4E48-8AE0-1A0A02FE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E47-4060-4293-847A-D84595BB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68D-D640-4C5A-B0D5-C1A67AD4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524-382E-4198-836A-A3219F40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1BF9-C428-43F0-95BE-41BB445017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0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омплект для начальной школы «ПЕРСПЕКТИВА» 1 – 4 классы: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русский язык, литературное чтение, математика, окружающий мир, технология, музы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611280" y="1989000"/>
            <a:ext cx="8086680" cy="4689360"/>
            <a:chOff x="611280" y="1989000"/>
            <a:chExt cx="8086680" cy="4689360"/>
          </a:xfrm>
        </p:grpSpPr>
        <p:grpSp>
          <p:nvGrpSpPr>
            <p:cNvPr id="50" name="Group 6"/>
            <p:cNvGrpSpPr/>
            <p:nvPr/>
          </p:nvGrpSpPr>
          <p:grpSpPr>
            <a:xfrm>
              <a:off x="611280" y="2060640"/>
              <a:ext cx="1071000" cy="1279080"/>
              <a:chOff x="611280" y="2060640"/>
              <a:chExt cx="1071000" cy="1279080"/>
            </a:xfrm>
          </p:grpSpPr>
          <p:pic>
            <p:nvPicPr>
              <p:cNvPr id="51" name="Picture 7" descr="7"/>
              <p:cNvPicPr/>
              <p:nvPr/>
            </p:nvPicPr>
            <p:blipFill>
              <a:blip r:embed="rId1"/>
              <a:stretch/>
            </p:blipFill>
            <p:spPr>
              <a:xfrm>
                <a:off x="752760" y="2060640"/>
                <a:ext cx="929520" cy="116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2" name="Picture 8" descr="9"/>
              <p:cNvPicPr/>
              <p:nvPr/>
            </p:nvPicPr>
            <p:blipFill>
              <a:blip r:embed="rId2"/>
              <a:stretch/>
            </p:blipFill>
            <p:spPr>
              <a:xfrm>
                <a:off x="611280" y="2190600"/>
                <a:ext cx="918000" cy="1149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53" name="Picture 9" descr="12"/>
            <p:cNvPicPr/>
            <p:nvPr/>
          </p:nvPicPr>
          <p:blipFill>
            <a:blip r:embed="rId3"/>
            <a:stretch/>
          </p:blipFill>
          <p:spPr>
            <a:xfrm>
              <a:off x="1116000" y="3068640"/>
              <a:ext cx="914400" cy="1160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54" name="Group 10"/>
            <p:cNvGrpSpPr/>
            <p:nvPr/>
          </p:nvGrpSpPr>
          <p:grpSpPr>
            <a:xfrm>
              <a:off x="4033800" y="1989000"/>
              <a:ext cx="1074600" cy="1288800"/>
              <a:chOff x="4033800" y="1989000"/>
              <a:chExt cx="1074600" cy="1288800"/>
            </a:xfrm>
          </p:grpSpPr>
          <p:pic>
            <p:nvPicPr>
              <p:cNvPr id="55" name="Picture 11" descr="8"/>
              <p:cNvPicPr/>
              <p:nvPr/>
            </p:nvPicPr>
            <p:blipFill>
              <a:blip r:embed="rId4"/>
              <a:stretch/>
            </p:blipFill>
            <p:spPr>
              <a:xfrm>
                <a:off x="4175640" y="1989000"/>
                <a:ext cx="932760" cy="1159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6" name="Picture 12" descr="8"/>
              <p:cNvPicPr/>
              <p:nvPr/>
            </p:nvPicPr>
            <p:blipFill>
              <a:blip r:embed="rId5"/>
              <a:stretch/>
            </p:blipFill>
            <p:spPr>
              <a:xfrm>
                <a:off x="4033800" y="2118960"/>
                <a:ext cx="932760" cy="1158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57" name="Group 13"/>
            <p:cNvGrpSpPr/>
            <p:nvPr/>
          </p:nvGrpSpPr>
          <p:grpSpPr>
            <a:xfrm>
              <a:off x="5940360" y="1989000"/>
              <a:ext cx="1090440" cy="1290240"/>
              <a:chOff x="5940360" y="1989000"/>
              <a:chExt cx="1090440" cy="1290240"/>
            </a:xfrm>
          </p:grpSpPr>
          <p:pic>
            <p:nvPicPr>
              <p:cNvPr id="58" name="Picture 14" descr="okrmir"/>
              <p:cNvPicPr/>
              <p:nvPr/>
            </p:nvPicPr>
            <p:blipFill>
              <a:blip r:embed="rId6"/>
              <a:stretch/>
            </p:blipFill>
            <p:spPr>
              <a:xfrm>
                <a:off x="6107040" y="1989000"/>
                <a:ext cx="923760" cy="11206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9" name="Picture 15" descr="11&amp;14"/>
              <p:cNvPicPr/>
              <p:nvPr/>
            </p:nvPicPr>
            <p:blipFill>
              <a:blip r:embed="rId7"/>
              <a:stretch/>
            </p:blipFill>
            <p:spPr>
              <a:xfrm>
                <a:off x="5940360" y="2118960"/>
                <a:ext cx="917640" cy="1160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60" name="Picture 16" descr="технология_учебник_1класс"/>
            <p:cNvPicPr/>
            <p:nvPr/>
          </p:nvPicPr>
          <p:blipFill>
            <a:blip r:embed="rId8"/>
            <a:stretch/>
          </p:blipFill>
          <p:spPr>
            <a:xfrm>
              <a:off x="7812000" y="4508640"/>
              <a:ext cx="885960" cy="1152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61" name="Group 17"/>
            <p:cNvGrpSpPr/>
            <p:nvPr/>
          </p:nvGrpSpPr>
          <p:grpSpPr>
            <a:xfrm>
              <a:off x="1403280" y="4149720"/>
              <a:ext cx="1177920" cy="1519200"/>
              <a:chOff x="1403280" y="4149720"/>
              <a:chExt cx="1177920" cy="1519200"/>
            </a:xfrm>
          </p:grpSpPr>
          <p:pic>
            <p:nvPicPr>
              <p:cNvPr id="62" name="Pictur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3280" y="4149720"/>
                <a:ext cx="93528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3" name="Picture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4510080"/>
                <a:ext cx="8888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64" name="Group 20"/>
            <p:cNvGrpSpPr/>
            <p:nvPr/>
          </p:nvGrpSpPr>
          <p:grpSpPr>
            <a:xfrm>
              <a:off x="2268360" y="5157720"/>
              <a:ext cx="1173240" cy="1520640"/>
              <a:chOff x="2268360" y="5157720"/>
              <a:chExt cx="1173240" cy="1520640"/>
            </a:xfrm>
          </p:grpSpPr>
          <p:pic>
            <p:nvPicPr>
              <p:cNvPr id="65" name="Pictur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68360" y="5157720"/>
                <a:ext cx="88920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6" name="Picture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2760" y="5518080"/>
                <a:ext cx="888840" cy="11602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67" name="Group 23"/>
            <p:cNvGrpSpPr/>
            <p:nvPr/>
          </p:nvGrpSpPr>
          <p:grpSpPr>
            <a:xfrm>
              <a:off x="2268360" y="2060640"/>
              <a:ext cx="1198440" cy="1512720"/>
              <a:chOff x="2268360" y="2060640"/>
              <a:chExt cx="1198440" cy="1512720"/>
            </a:xfrm>
          </p:grpSpPr>
          <p:pic>
            <p:nvPicPr>
              <p:cNvPr id="68" name="Picture 2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68360" y="2060640"/>
                <a:ext cx="888840" cy="11574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9" name="Picture 25" descr="литературное_чтение_учебник_1часть_1класс"/>
              <p:cNvPicPr/>
              <p:nvPr/>
            </p:nvPicPr>
            <p:blipFill>
              <a:blip r:embed="rId14"/>
              <a:stretch/>
            </p:blipFill>
            <p:spPr>
              <a:xfrm>
                <a:off x="2580840" y="2421000"/>
                <a:ext cx="885960" cy="1152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0" name="Group 26"/>
            <p:cNvGrpSpPr/>
            <p:nvPr/>
          </p:nvGrpSpPr>
          <p:grpSpPr>
            <a:xfrm>
              <a:off x="2916360" y="3429000"/>
              <a:ext cx="1317600" cy="1446120"/>
              <a:chOff x="2916360" y="3429000"/>
              <a:chExt cx="1317600" cy="1446120"/>
            </a:xfrm>
          </p:grpSpPr>
          <p:pic>
            <p:nvPicPr>
              <p:cNvPr id="71" name="Picture 27" descr=""/>
              <p:cNvPicPr/>
              <p:nvPr/>
            </p:nvPicPr>
            <p:blipFill>
              <a:blip r:embed="rId15"/>
              <a:stretch/>
            </p:blipFill>
            <p:spPr>
              <a:xfrm>
                <a:off x="3355920" y="3429000"/>
                <a:ext cx="8780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2" name="Picture 28" descr=""/>
              <p:cNvPicPr/>
              <p:nvPr/>
            </p:nvPicPr>
            <p:blipFill>
              <a:blip r:embed="rId16"/>
              <a:stretch/>
            </p:blipFill>
            <p:spPr>
              <a:xfrm>
                <a:off x="2916360" y="3716280"/>
                <a:ext cx="87768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3" name="Group 29"/>
            <p:cNvGrpSpPr/>
            <p:nvPr/>
          </p:nvGrpSpPr>
          <p:grpSpPr>
            <a:xfrm>
              <a:off x="4572000" y="3213000"/>
              <a:ext cx="1349280" cy="1576440"/>
              <a:chOff x="4572000" y="3213000"/>
              <a:chExt cx="1349280" cy="1576440"/>
            </a:xfrm>
          </p:grpSpPr>
          <p:pic>
            <p:nvPicPr>
              <p:cNvPr id="74" name="Picture 30" descr=""/>
              <p:cNvPicPr/>
              <p:nvPr/>
            </p:nvPicPr>
            <p:blipFill>
              <a:blip r:embed="rId17"/>
              <a:stretch/>
            </p:blipFill>
            <p:spPr>
              <a:xfrm>
                <a:off x="4572000" y="321300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5" name="Picture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03640" y="357336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6" name="Group 32"/>
            <p:cNvGrpSpPr/>
            <p:nvPr/>
          </p:nvGrpSpPr>
          <p:grpSpPr>
            <a:xfrm>
              <a:off x="5148360" y="4653000"/>
              <a:ext cx="1285920" cy="1504440"/>
              <a:chOff x="5148360" y="4653000"/>
              <a:chExt cx="1285920" cy="1504440"/>
            </a:xfrm>
          </p:grpSpPr>
          <p:pic>
            <p:nvPicPr>
              <p:cNvPr id="77" name="Picture 3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48360" y="465300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8" name="Picture 34" descr=""/>
              <p:cNvPicPr/>
              <p:nvPr/>
            </p:nvPicPr>
            <p:blipFill>
              <a:blip r:embed="rId20"/>
              <a:stretch/>
            </p:blipFill>
            <p:spPr>
              <a:xfrm>
                <a:off x="5508720" y="494172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9" name="Group 35"/>
            <p:cNvGrpSpPr/>
            <p:nvPr/>
          </p:nvGrpSpPr>
          <p:grpSpPr>
            <a:xfrm>
              <a:off x="6732720" y="2658960"/>
              <a:ext cx="1366560" cy="1539720"/>
              <a:chOff x="6732720" y="2658960"/>
              <a:chExt cx="1366560" cy="1539720"/>
            </a:xfrm>
          </p:grpSpPr>
          <p:pic>
            <p:nvPicPr>
              <p:cNvPr id="80" name="Pictur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732720" y="26589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81" name="Pictur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7164360" y="29811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82" name="Picture 38" descr=""/>
            <p:cNvPicPr/>
            <p:nvPr/>
          </p:nvPicPr>
          <p:blipFill>
            <a:blip r:embed="rId23"/>
            <a:stretch/>
          </p:blipFill>
          <p:spPr>
            <a:xfrm>
              <a:off x="7093080" y="5084640"/>
              <a:ext cx="885600" cy="1160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ис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ой алфавит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2-х част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ют образцы печатной и письменной буквы, простейшие структурно-семантические модели слов, включают упражнения на написание слов, предложений и небольших текстов, формируют начальные орфографические навы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Attachment"/>
          <p:cNvPicPr/>
          <p:nvPr/>
        </p:nvPicPr>
        <p:blipFill>
          <a:blip r:embed="rId1"/>
          <a:stretch/>
        </p:blipFill>
        <p:spPr>
          <a:xfrm>
            <a:off x="5292720" y="2133720"/>
            <a:ext cx="25192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ая тетрад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иши краси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назначена для закрепления каллиграфических навыков, развития мелкой мускулатуры руки, овладения письменным шриф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Attachment"/>
          <p:cNvPicPr/>
          <p:nvPr/>
        </p:nvPicPr>
        <p:blipFill>
          <a:blip r:embed="rId1"/>
          <a:stretch/>
        </p:blipFill>
        <p:spPr>
          <a:xfrm>
            <a:off x="5508720" y="2205000"/>
            <a:ext cx="2431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7480" y="1268280"/>
            <a:ext cx="476388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дакт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талоч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назнач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тработки навыка чт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ения знаний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учебных ум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ых учениками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е по учебнику «Азбу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игров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ых упраж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ет форм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ыка чтения цел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ми, обогащает слова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ас первоклассников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ет их речь.</a:t>
            </a:r>
            <a:br>
              <a:rPr sz="24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chitalochka"/>
          <p:cNvPicPr/>
          <p:nvPr/>
        </p:nvPicPr>
        <p:blipFill>
          <a:blip r:embed="rId1"/>
          <a:stretch/>
        </p:blipFill>
        <p:spPr>
          <a:xfrm>
            <a:off x="5292720" y="2205000"/>
            <a:ext cx="261000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Прямоугольник 1"/>
          <p:cNvSpPr/>
          <p:nvPr/>
        </p:nvSpPr>
        <p:spPr>
          <a:xfrm>
            <a:off x="1502280" y="563400"/>
            <a:ext cx="68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ое пособие «Читалоч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Особенности  программы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Климановой Л.Ф. «Литературное чтение»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ля 1 класса УМК«Перспектива»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и учебника «Литературное чтение» 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Attachment"/>
          <p:cNvPicPr/>
          <p:nvPr/>
        </p:nvPicPr>
        <p:blipFill>
          <a:blip r:embed="rId1"/>
          <a:stretch/>
        </p:blipFill>
        <p:spPr>
          <a:xfrm>
            <a:off x="5508720" y="2492280"/>
            <a:ext cx="2295360" cy="309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Attachment"/>
          <p:cNvPicPr/>
          <p:nvPr/>
        </p:nvPicPr>
        <p:blipFill>
          <a:blip r:embed="rId2"/>
          <a:stretch/>
        </p:blipFill>
        <p:spPr>
          <a:xfrm>
            <a:off x="1116000" y="256536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курса «Литературное чт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у начинающего читателя интерес к книге и потребность в систематическом чте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тературных произведений, понимание того, что художественное произведение — это произведение словесного искусств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ь воображение ребенка, чувство эстетического переживания прочитан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навыка чтения, так как он является той основой, на которой развиваются все остальные коммуникативно-речевые ум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у учащихся нравственно-эстетического отношения к людям и окружающему ми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рики «Самостоятельное чтение», «Идем в библиотеку», «Наш театр», «Читалочка - обучалочка», «Маленькие и большие секреты страны Литературии», «Мои любимые писатели» предлагают различные формы работы с литературным произведением, систематизируют знания и обогащают практический опыт ребенка, в них представлена система работы с книгой как в урочной так и во внеурочн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ами учебника «Литературное чтение» для 1 класса, во все разделы введена рубрика «Семейное чтение», в которую помещены более объемные тексты, чем те, которые может осилить первоклассник. Предполагается, что подобные произведения будут читать и обсуждать с детьми родители. А это значит укрепятся семейные связи, возрастет роль родителей в воспитании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16-3-3-1"/>
          <p:cNvPicPr/>
          <p:nvPr/>
        </p:nvPicPr>
        <p:blipFill>
          <a:blip r:embed="rId1"/>
          <a:stretch/>
        </p:blipFill>
        <p:spPr>
          <a:xfrm>
            <a:off x="4768920" y="260280"/>
            <a:ext cx="2386080" cy="326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16-3-3"/>
          <p:cNvPicPr/>
          <p:nvPr/>
        </p:nvPicPr>
        <p:blipFill>
          <a:blip r:embed="rId2"/>
          <a:stretch/>
        </p:blipFill>
        <p:spPr>
          <a:xfrm>
            <a:off x="6012000" y="3284640"/>
            <a:ext cx="2452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собенности  программы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лимановой Л.Ф. «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усский язык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ля 1 класса УМК«Перспектива»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и учебника «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усский язык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 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обучения грамоте начинается раздельное изучение русского языка и литературного чт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СВЕДЕНИЯ О ЯЗЫКЕ И РЕЧИ, УСВОЕННЫЕ ДЕТЬМИ ПРИ РАБОТЕ «Азбукой», в курсе русского языка закрепляются, обобщаются и получают дальнейше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Attachment"/>
          <p:cNvPicPr/>
          <p:nvPr/>
        </p:nvPicPr>
        <p:blipFill>
          <a:blip r:embed="rId1"/>
          <a:stretch/>
        </p:blipFill>
        <p:spPr>
          <a:xfrm>
            <a:off x="1332000" y="3357720"/>
            <a:ext cx="2158920" cy="280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Attachment"/>
          <p:cNvPicPr/>
          <p:nvPr/>
        </p:nvPicPr>
        <p:blipFill>
          <a:blip r:embed="rId2"/>
          <a:stretch/>
        </p:blipFill>
        <p:spPr>
          <a:xfrm>
            <a:off x="5148360" y="3357720"/>
            <a:ext cx="2233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ение систематического курса русского языка обеспечи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913932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нательное овладение (на доступном детям уровне) родным языком как средством общения и познания для свободного пользования им в различных ситуациях об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коммуникативно-речевых умений (писать и говорить, слушать и читать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бережного отношения к языку, его богатству, глубине и вырази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нтереса к родному языку, его изуч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стиля речевого общения учащихся, основанного на уважении к собеседнику и его мн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общение учащихся к духовно-нравственным ценностям русского языка и отечествен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 «Развитие реч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усматривает не только обогащение словаря, совершенствование грамматического строя речи (в устной и письменной форме), освоение различных видов работы с текстом, но и формирование представлений о речи в целом, о речевом общении, о средствах общения (вербальных и невербальны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систематического курса русского языка начинается с обобщения первоначальных сведений о речевом общении и языке как средстве коммуникации, полученных в период обучения грам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цель  УМК 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стороннее гармоничное развитие личности (духовно-нравственное, познавательное, эстетическое), реализуемое в процессе усвоения школьных предметных дисципл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kartinki2_002"/>
          <p:cNvPicPr/>
          <p:nvPr/>
        </p:nvPicPr>
        <p:blipFill>
          <a:blip r:embed="rId1"/>
          <a:stretch/>
        </p:blipFill>
        <p:spPr>
          <a:xfrm>
            <a:off x="3780000" y="2924280"/>
            <a:ext cx="4608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о-методический комплек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Математика «Учусь учиться»» автор Л. Г.Петерсо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Attachment"/>
          <p:cNvPicPr/>
          <p:nvPr/>
        </p:nvPicPr>
        <p:blipFill>
          <a:blip r:embed="rId1"/>
          <a:stretch/>
        </p:blipFill>
        <p:spPr>
          <a:xfrm>
            <a:off x="6084720" y="2349360"/>
            <a:ext cx="20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Attachment"/>
          <p:cNvPicPr/>
          <p:nvPr/>
        </p:nvPicPr>
        <p:blipFill>
          <a:blip r:embed="rId2"/>
          <a:stretch/>
        </p:blipFill>
        <p:spPr>
          <a:xfrm>
            <a:off x="900000" y="2276640"/>
            <a:ext cx="2087640" cy="28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ttachment"/>
          <p:cNvPicPr/>
          <p:nvPr/>
        </p:nvPicPr>
        <p:blipFill>
          <a:blip r:embed="rId3"/>
          <a:stretch/>
        </p:blipFill>
        <p:spPr>
          <a:xfrm>
            <a:off x="3492360" y="3068640"/>
            <a:ext cx="20163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цели кур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 учащихся основ умения учить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х мышления, качеств личности, интереса к математик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возможностей для математической подготовки каждого ребёнка на высоком уров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о-методический комплекс «Окружающий мир» авторы А. А. Плешаков, М.Ю. Новиц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Attachment"/>
          <p:cNvPicPr/>
          <p:nvPr/>
        </p:nvPicPr>
        <p:blipFill>
          <a:blip r:embed="rId1"/>
          <a:stretch/>
        </p:blipFill>
        <p:spPr>
          <a:xfrm>
            <a:off x="1116000" y="1989000"/>
            <a:ext cx="2376360" cy="3529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Attachment"/>
          <p:cNvPicPr/>
          <p:nvPr/>
        </p:nvPicPr>
        <p:blipFill>
          <a:blip r:embed="rId2"/>
          <a:stretch/>
        </p:blipFill>
        <p:spPr>
          <a:xfrm>
            <a:off x="5435640" y="1989000"/>
            <a:ext cx="2592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изучения предмета «Окружающий мир» в начальной школ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целостной картины мира и осознание места в нём человека на основе единства рационально-научного познания и эмоционально-ценностного осмысления ребёнком личного опыта общения с людьми и природ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овно-нравственное развитие и воспитание личности гражданина России в условиях культурного многообразия российского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ики музыка, ИЗО, 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Attachment"/>
          <p:cNvPicPr/>
          <p:nvPr/>
        </p:nvPicPr>
        <p:blipFill>
          <a:blip r:embed="rId1"/>
          <a:stretch/>
        </p:blipFill>
        <p:spPr>
          <a:xfrm>
            <a:off x="755640" y="1916280"/>
            <a:ext cx="1655640" cy="2460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Attachment"/>
          <p:cNvPicPr/>
          <p:nvPr/>
        </p:nvPicPr>
        <p:blipFill>
          <a:blip r:embed="rId2"/>
          <a:stretch/>
        </p:blipFill>
        <p:spPr>
          <a:xfrm>
            <a:off x="2916360" y="1989000"/>
            <a:ext cx="1562040" cy="237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Attachment"/>
          <p:cNvPicPr/>
          <p:nvPr/>
        </p:nvPicPr>
        <p:blipFill>
          <a:blip r:embed="rId3"/>
          <a:stretch/>
        </p:blipFill>
        <p:spPr>
          <a:xfrm>
            <a:off x="4788000" y="2060640"/>
            <a:ext cx="1655640" cy="237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Attachment"/>
          <p:cNvPicPr/>
          <p:nvPr/>
        </p:nvPicPr>
        <p:blipFill>
          <a:blip r:embed="rId4"/>
          <a:stretch/>
        </p:blipFill>
        <p:spPr>
          <a:xfrm>
            <a:off x="6732720" y="2060640"/>
            <a:ext cx="1871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«Я в мире и мир во мне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ажно, чтобы обучение способствовало построению образа «Я», которое включает в себя самопознание, саморазвитие и самооценку, формирование гражданской идентичности личности, принятие и осмысление нравственных и культурных це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Хочу учиться!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ебенок часто задает вопрос «почему?», ему интересно знать все и обо всем. Наша задача сохранить этот интерес и при этом научить ребенка самостоятельно находить ответы, планировать свою деятельность и доводить ее до конца, оценивать результат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Я общаюсь, значит, я учусь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оцесс обучения невозможен без общения. То есть, во-первых, учить ребенка свободно вести конструктивный диалог, слушать и слышать собеседника, а во-вторых, формировать информационную культуру — находить необходимые источники знаний учить получать информацию из различных источников, анализировать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«В здоровом теле здоровый дух!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здесь важно научить детей самим заботиться о здоровье. Умение сопереживать, сочувствовать, заботиться о себе, о природе, об окружающих людях, беречь и чтить то, что ими созд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ики УМК «Перспектива» формируют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детей к истории своей семь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ой и большой Родин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дициям и обычаям народов России, культурному наслед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ой деятельности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59151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учебники включен: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етический материал, к которому предложены практические, исследовательские и творческие задания, которые позволяют активизировать деятельность ребе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яют применять полученные знания в практи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ют условия для реализации творческого потенциала учен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ют ценностное мировоззрение и нравственную позицию ли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учебник снабжен системой заданий, направленных на развитие как логического, так и образного мышления, воображения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имущества УМК «Перспекти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аясь по этой программе, ученик на каждом уроке приоткрывает для себя будущие темы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строится по диалектическому принципу, когда введение новых понятий и идей, первоначально представленных в наглядно-образной форме или в виде проблемной ситуации, предшествует их детальному изуч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Times New Roman"/>
              </a:rPr>
              <a:t>Особенности программы </a:t>
            </a:r>
            <a:br>
              <a:rPr sz="2800"/>
            </a:br>
            <a:r>
              <a:rPr b="0" lang="ru-RU" sz="2800" spc="-1" strike="noStrike">
                <a:solidFill>
                  <a:srgbClr val="99cc00"/>
                </a:solidFill>
                <a:latin typeface="Times New Roman"/>
              </a:rPr>
              <a:t>«Обучение грамоте на коммуникативной основе» и учебника «Азбука» Л. Ф. Климан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4788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и УМК «Перспекти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ивают интерес  к русскому язы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вают секреты его «оживления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одят в мир науки о язы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ощутить его, как  стройную и гармоничную систе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щают ребят к искусству сл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младшему школьнику  понять и почувствовать эстетическую ц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Attachment"/>
          <p:cNvPicPr/>
          <p:nvPr/>
        </p:nvPicPr>
        <p:blipFill>
          <a:blip r:embed="rId1"/>
          <a:stretch/>
        </p:blipFill>
        <p:spPr>
          <a:xfrm>
            <a:off x="4788000" y="2060640"/>
            <a:ext cx="2063520" cy="345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Attachment"/>
          <p:cNvPicPr/>
          <p:nvPr/>
        </p:nvPicPr>
        <p:blipFill>
          <a:blip r:embed="rId2"/>
          <a:stretch/>
        </p:blipFill>
        <p:spPr>
          <a:xfrm>
            <a:off x="6975360" y="3400560"/>
            <a:ext cx="216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УМК отличает новый, нестандартный способ организации речевой творческой деятельности – обучения детей грамоте на коммуникативно-познавательной осн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 на каждом уроке создается коммуникативно-речевая ситуация, позволяющая вступать в сотрудничество со своими сверстниками и со взрослыми, что позволяет организовать постоянную речевую деятельность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е занимательные иллюстрации вызывают у первоклассников горячее желание рассказать о своих любимых занятиях, выслушать выступления других реб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7-1-2"/>
          <p:cNvPicPr/>
          <p:nvPr/>
        </p:nvPicPr>
        <p:blipFill>
          <a:blip r:embed="rId1"/>
          <a:stretch/>
        </p:blipFill>
        <p:spPr>
          <a:xfrm>
            <a:off x="2050920" y="3645000"/>
            <a:ext cx="2163960" cy="2852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7-1-1"/>
          <p:cNvPicPr/>
          <p:nvPr/>
        </p:nvPicPr>
        <p:blipFill>
          <a:blip r:embed="rId2"/>
          <a:stretch/>
        </p:blipFill>
        <p:spPr>
          <a:xfrm>
            <a:off x="4140360" y="3645000"/>
            <a:ext cx="2466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ая тетрадь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суй, думай, рассказыва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назначена для работы в подготовительный период обучения грамо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я с ней, дети име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рисо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ашивать, штрих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 т. п., что помогает укреп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лкую мускулатуру пальц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ь координацию дв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и при письме и тем са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подготов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 написанию букв рус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а,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 предложений.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Attachment"/>
          <p:cNvPicPr/>
          <p:nvPr/>
        </p:nvPicPr>
        <p:blipFill>
          <a:blip r:embed="rId1"/>
          <a:stretch/>
        </p:blipFill>
        <p:spPr>
          <a:xfrm>
            <a:off x="5292720" y="2205000"/>
            <a:ext cx="2576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3:00:40Z</dcterms:created>
  <dc:creator>привет</dc:creator>
  <dc:description/>
  <dc:language>en-US</dc:language>
  <cp:lastModifiedBy>Екатерина Нуриева</cp:lastModifiedBy>
  <dcterms:modified xsi:type="dcterms:W3CDTF">2017-05-16T22:41:32Z</dcterms:modified>
  <cp:revision>12</cp:revision>
  <dc:subject/>
  <dc:title>Комплект для начальной школы «ПЕРСПЕКТИВА» 1 – 4 классы: русский язык, литературное чтение, математика, окружающий мир, технология</dc:title>
</cp:coreProperties>
</file>