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F4E-AF64-4C50-8C98-72D6BF6B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B48-8A5F-4023-BE48-B06A8B9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920-1A6C-4F31-B47B-79DE13BC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F4D-560F-44E4-9F33-17D16B63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198-D0D3-418E-B217-8F356A97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A2B7-A6FC-4649-B116-A6628009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269-3EA4-494C-A87A-DD7373EF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971-6FEA-417A-AA75-4F6B49A2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5AD3-5FD2-482B-ADE6-E8A2F832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0530-2F45-4FA7-AB25-FA19556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8A1-26D9-4E7D-B9F6-E2DB394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926-AAC1-46DB-BA52-97C6D86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CE9-250D-442D-8CD8-2F70538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1A2-6C29-40DA-AA43-8386696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940-3433-4254-8163-9C46CAC9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961-05E2-44C7-8248-5CF7ACC3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DB2D-0BB5-4E42-8063-A6346117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94F0-BCEF-4789-8C40-47EFE6D3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347E-49E6-479A-A759-C5BF8F5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7D5E-F712-4708-A87D-DB84B53B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374F-5905-410D-BB6F-BD42ED9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575B-1C5A-4E9B-A69D-C9ADE37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0BB-C3C4-454C-9FCE-6AC02AE5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0ED2-ECB1-4B1D-8224-08DC5E4E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7C08-AD04-42E0-B44C-23E9733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90A8-B538-4766-89BC-79E729B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F5E0-C0F1-42EC-92C3-8977C51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A3BD-EA7A-442A-B63C-7F622125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42D4-4436-4B03-9549-7F6A642A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C0CB-8702-4F49-AA4A-AEAFFF6A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F785-D833-40D9-BA99-DD368322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84A6-E8D5-4093-90B9-D3000E9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CF5C-6BD7-4685-BD93-9793498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B9E-952D-4E7C-B426-A96A65B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1B97-A9DC-46BF-A946-F979B3D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2E13-1A82-41C5-93C3-E0C32DF0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46CF-CE60-4C44-914A-105EC5E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73A1-BBF1-489F-AA55-8CEE52E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3178-5314-42F4-AB5C-902E046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18BE-1B1A-4C9E-B31D-B2DA4BB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320E-D0CF-478F-8D7A-940FCC7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4B22-819D-40DD-A2C9-2DA5937E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2569-2561-4C9E-A9BE-10F18D45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A29C-BDE9-41A8-B19C-473EC7BE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33E-E216-4832-AA55-3E6BAD5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B183-8686-413D-B840-19F8B67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A04B-3AF4-433E-A35C-905A86F8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BA43-3E98-4BA0-8BFD-F445A89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2E97-E850-4FA1-9D89-C79695C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91A5-E732-4A21-A205-E26B224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BC8C-399F-4AD5-844C-C7F7AB2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DDEB1-DAAE-4A43-9860-FB378B5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AB79-159C-4894-8DBA-294703B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CD35-E2AF-471A-BA39-2CA10CE3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53C0-9EAA-424A-8216-0F098C41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523-3BE3-469E-88D3-85C4D43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49ED-904C-422A-95A3-D29CFE3C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862-1785-44EE-B655-B2BB860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068-24A8-47FF-84D6-A389FE0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9AD-BB56-486F-8330-0712AF5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F57C-090F-427A-809E-7418730A2C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9D2-4830-4299-B46E-D15D2BC696B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C01B-A999-4B91-B3CA-29DCF2715B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A7A-2B19-4CB0-AFE6-4718411B42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95C-608B-4256-999A-EE116F4C5C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УМК «Перспективная начальная школа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24000" y="404640"/>
            <a:ext cx="871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Авторы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збука.  Авторы: Агаркова Н.Г., Агарков Ю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ий язык. Авторы: Чуракова Н.А., Каленчук М.Л., Малаховская О.В., Байкова Т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тературное чтение.  Автор: Чуракова Н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матика.  Автор: Чекин А.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тика (2-4 классы).  Авторы:  Бененсон Е.П., Паутова А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кружающий мир.  Авторы:  Федотова О.Н., Трафимова Г.В., Трафимов С.А., Царева Л. 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. Авторы: Челышева Т.В., Кузнецова В.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я.   Авторы:  Рагозина Т.М., Гринева А.А., Голованова И.Л., Мылова И.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глийский язык (2-4 классы).  Авторы: Тер-Минасова  С.Г., Узунова Л.М., Обукаускайте Д.С., Сухина Е.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384120" y="33336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Основная идея программы «Перспективная начальная школа»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— 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41200" y="189000"/>
            <a:ext cx="849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Основные принципы концепции «Перспективная начальная школа»: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епрерывного обще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аждого ребен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и картины мир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учета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дивидуальных возможностей и способностей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школьник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ы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рочности и наглядност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храны и укрепления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сихического и физического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здоровь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дет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24000" y="1628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ически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свойства программ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ерспективная начальная школа»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лектно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ментально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активнос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385920" y="620640"/>
            <a:ext cx="835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МК "Перспективная начальная школа"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предметные связи: 2 часть русского языка включает в себя ряд словарей для использования на всех предме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нятия в форме заседания клуб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я направленны на самостоятельную деятельность уче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9070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0:46:16Z</dcterms:created>
  <dc:creator>Екатерина Нуриева</dc:creator>
  <dc:description/>
  <dc:language>en-US</dc:language>
  <cp:lastModifiedBy>Екатерина Нуриева</cp:lastModifiedBy>
  <dcterms:modified xsi:type="dcterms:W3CDTF">2017-05-16T21:04:21Z</dcterms:modified>
  <cp:revision>2</cp:revision>
  <dc:subject/>
  <dc:title>УМК «Перспективная начальная школа»</dc:title>
</cp:coreProperties>
</file>