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63-98AE-4FED-ADE4-D3044DE1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DA0-87FA-4B33-8A11-F68C4BB6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74C-51ED-4B87-BA1B-822B613C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5F8-DB00-4C4E-961B-B78A0824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7F52-BFA1-4D19-8604-7F251606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5129-C750-482F-A1A8-0A69164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AEB-FEB9-4A5D-A6C9-DC6FC9E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78D0-8508-4B2A-A466-095DCD9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C0E7-D696-4332-A897-E246E759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602-0A15-475E-8399-D954E6B8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71A-C885-49CF-B82B-AE217B6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BB5-82BF-487F-B3B5-99FCE5C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091-8322-41E6-981B-7B3EF05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CA2-209F-4E84-AA2D-B10A1CF3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3A3C-E399-4D8F-A2CC-389024A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1DE-9A28-415F-93EE-131544EE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5780-2286-4D16-BF27-243ADE63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E1D4-03A9-4886-A4DC-5CD75FD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6374-6469-4F23-9D4C-4F7D06F4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8C94-7CB0-4217-B71F-BF6833B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CE5B-E096-4138-9A48-707947AC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627C-D73E-4322-AD27-FE1CF96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B75-5FCD-4CC4-95D6-34121DD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DB77-8716-4EB4-BD9A-939E903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9CEB-9963-46EF-8761-C955207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E6C8-1EDB-47F3-963F-B0887BB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5D45-7744-46D3-B811-911079F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A16B-BE46-45A8-9BAA-838F9EB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2AC5-A58B-4DE9-A01D-3B3B91CD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2D05-4316-4F63-93CE-53A9CAAB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CC03-6E4E-42DE-A598-09F8F96B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FB0C-0501-426E-B2C5-871A30A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0518-BBB0-4C80-B901-63CB54D6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660-395C-4705-9A03-15695B5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FC30-1092-4F32-9F4F-025DEC7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4425-925B-46BB-A980-3FB45770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B939-3A5D-4CBF-B2AC-AF698DD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9BE8-0814-4643-B152-7FD6DD3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CFDB-8846-4912-AE9C-9E5B7A33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8A1A-0BE3-46EA-9099-D320771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0A07-04CF-4986-9D9D-7077F6B0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5E95-7CEC-4FB1-A80C-3FECEB32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DE33-AE45-42AC-9437-48996664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F042-F669-4672-BB33-440F4D0E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ECD-3018-4CA6-AFB3-5A7FE72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7140-A77F-4BB3-83A3-D1E37B6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520E4-ADE4-4C16-9328-361A45D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FBDC-C9C3-473D-B18D-5BD4F3BF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37F6-C391-4A31-9E8C-D2D90238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56EC6-328F-4305-AF93-3B7C2DA8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9F86-98DF-409E-8D52-6C53ACDE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B60E-339C-4462-9230-A27F1DE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6AA6-4C80-449F-B7CA-960525E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3551-389C-443D-B23A-6EB2A28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60B5-A35D-4230-B726-20DD2556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DFC-7348-49DA-A4D5-00F7818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BC6D-35D6-4061-8400-59FB83B1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503-D1BA-40BB-866A-8836288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38F-3166-4400-B685-28BA332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142-8A19-426A-B858-699FAFD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146B-8AF1-4619-9BF2-0F3C6D3859F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2D02-0C07-4F91-9EB8-6144E72A1F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2A0-D9C6-4ED3-A80B-E5FBB8DC35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1F5-1828-4731-B6F1-EB87E35F60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836-5A4F-4247-819B-2436AA62F0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8d3e"/>
                </a:solidFill>
                <a:latin typeface="Verdana"/>
              </a:rPr>
              <a:t>УМК «Перспективная начальная школа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24000" y="404640"/>
            <a:ext cx="871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Авторы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збука.  Авторы: Агаркова Н.Г., Агарков Ю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ий язык. Авторы: Чуракова Н.А., Каленчук М.Л., Малаховская О.В., Байкова Т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тературное чтение.  Автор: Чуракова Н.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матика.  Автор: Чекин А.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тика (2-4 классы).  Авторы:  Бененсон Е.П., Паутова А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кружающий мир.  Авторы:  Федотова О.Н., Трафимова Г.В., Трафимов С.А., Царева Л. 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. Авторы: Челышева Т.В., Кузнецова В.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я.   Авторы:  Рагозина Т.М., Гринева А.А., Голованова И.Л., Мылова И.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глийский язык (2-4 классы).  Авторы: Тер-Минасова  С.Г., Узунова Л.М., Обукаускайте Д.С., Сухина Е.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384120" y="33336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Основная идея программы «Перспективная начальная школа»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— 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41200" y="189000"/>
            <a:ext cx="849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Основные принципы концепции «Перспективная начальная школа»: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епрерывного обще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аждого ребен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и картины мир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учета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индивидуальных возможностей и способностей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школьник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ы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прочности и наглядност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цип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храны и укрепления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сихического и физического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здоровь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дете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24000" y="1628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ически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свойства программ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ерспективная начальная школа»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лектно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ментально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активнос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385920" y="620640"/>
            <a:ext cx="835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МК "Перспективная начальная школа"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предметные связи: 2 часть русского языка включает в себя ряд словарей для использования на всех предме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нятия в форме заседания клуб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я направленны на самостоятельную деятельность уче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9070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0:46:16Z</dcterms:created>
  <dc:creator>Екатерина Нуриева</dc:creator>
  <dc:description/>
  <dc:language>en-US</dc:language>
  <cp:lastModifiedBy>Екатерина Нуриева</cp:lastModifiedBy>
  <dcterms:modified xsi:type="dcterms:W3CDTF">2017-05-16T21:04:21Z</dcterms:modified>
  <cp:revision>2</cp:revision>
  <dc:subject/>
  <dc:title>УМК «Перспективная начальная школа»</dc:title>
</cp:coreProperties>
</file>