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8CD786-BF75-4BAA-844E-355609BB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6FFB38-B4E2-410F-8425-5C1B6E4D0AA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014-9E06-455B-A70C-E2E7A213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BA2-ED6C-4960-85D5-CC3E296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F11-A596-4723-A383-9AA1A46E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A93-C3D6-471C-A68E-10C29BD9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B4F0-FA23-46C2-BD05-82590B0A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CBEB-3AED-436A-80C0-F5608C5D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70B2-E26C-4422-8FE1-2D4AB11C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8158-A34D-4499-8528-E5E99DE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0E4-A52F-4757-9AC7-4314BDE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C7EB-D71B-423A-80B9-14B8768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03B1-8FB1-4C00-ABE2-D367132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CCD-457E-4902-A172-52BB0DFD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6FB3-60B4-4295-B68F-FD5B1521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BA70-724F-4991-A15B-9953F9B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5FF3-D804-46D4-B3F6-0C128047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F621-6C1E-4C91-A529-36EA5837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1BA3-BB11-49B6-8109-A7340B38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150-1090-4976-B2BD-C18F2233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788-6B99-4B9B-B9F0-53AC63F9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6D8-BB5C-4381-B338-EC6B0981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E12-8FD8-4318-BA26-79CC3077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E66-F0A7-4A69-8F2E-0C4B7CF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BEC-02B9-48B6-9DC3-424483B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70B-4C53-4B31-A8F7-B7675B57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05B967-A1F1-4EFA-A001-A8B12C872C9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4C421-A2FC-4F2F-9920-2F8465858E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C:/Users/&#1040;&#1088;&#1090;&#1105;&#1084;/Downloads/melodiya_dushi_turetskaya_skripka_muzyka_dushi%20(freemp3now.me).mp3" TargetMode="External"/><Relationship Id="rId3" Type="http://schemas.microsoft.com/office/2007/relationships/media" Target="file:///C:/Users/&#1040;&#1088;&#1090;&#1105;&#1084;/Downloads/melodiya_dushi_turetskaya_skripka_muzyka_dushi%20(freemp3now.me).mp3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Винокуровой  Дарьи 4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&lt;&lt;</a:t>
            </a: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&gt;&gt;</a:t>
            </a: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 класса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c.pics.livejournal.com/kandrcat/48746771/250058/250058_origi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11640" y="1772640"/>
            <a:ext cx="9432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000" spc="-1" strike="noStrike">
                <a:solidFill>
                  <a:srgbClr val="ff0000"/>
                </a:solidFill>
                <a:latin typeface="Calibri"/>
              </a:rPr>
              <a:t>Искусство эбр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356000" y="5143680"/>
            <a:ext cx="453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рванина Т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эбру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357200"/>
            <a:ext cx="3888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бру — это особая техника создания невероятно красивых картин. Эбру – искусство обработки бумаги, называемое «турецким мраморированием». Вначале изображение делается на воде, а затем переносится на бумагу или ткань. Эбру — это танец красок, которые, переплетаясь между собой, создают уникальные узор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Елена\Desktop\рисунки\IMG_1237.JPG"/>
          <p:cNvPicPr/>
          <p:nvPr/>
        </p:nvPicPr>
        <p:blipFill>
          <a:blip r:embed="rId1"/>
          <a:stretch/>
        </p:blipFill>
        <p:spPr>
          <a:xfrm>
            <a:off x="4716000" y="1340640"/>
            <a:ext cx="3996000" cy="5328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357120" y="5072040"/>
            <a:ext cx="4571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бру» произошло от персидского слова «ebri», которое переводится как «облако». Ведь рисунки на воде, сделанные в технике эбру, очень похожи на обл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рия возникновения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46400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уют разные версии о месте происхождения эбру - Северный Китай, Южная Сибирь, Туркменистан, Персия, Индия, Пакистан и даже Древний Египет. И даже пусть достоверно неизвестно, в какой стране зародилось  марморирование, точно известно, что  марморирование – это характерный для восточных стран вид искусств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, родиной Эбру принято считать Турцию. Самая древнейшая официальная работа этой техники находится в Стамбуле, дворце Топкапы. Эта работа 1554 года, подписанная художниками Мехмет Киатчи и Угур Дэрман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C:\Users\Елена\Desktop\рисунки\IMG_1241.JPG"/>
          <p:cNvPicPr/>
          <p:nvPr/>
        </p:nvPicPr>
        <p:blipFill>
          <a:blip r:embed="rId1"/>
          <a:stretch/>
        </p:blipFill>
        <p:spPr>
          <a:xfrm>
            <a:off x="5220000" y="1412640"/>
            <a:ext cx="3744000" cy="499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29080" y="3286080"/>
            <a:ext cx="4377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струменты для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Специальные краски для эбру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очень жидкие, по сути цвет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д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Кист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Шило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Греб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Лото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C:\Users\Елена\Documents\Школа\4 класс\краски.jpg"/>
          <p:cNvPicPr/>
          <p:nvPr/>
        </p:nvPicPr>
        <p:blipFill>
          <a:blip r:embed="rId1"/>
          <a:stretch/>
        </p:blipFill>
        <p:spPr>
          <a:xfrm>
            <a:off x="6228360" y="1700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Елена\Documents\Школа\4 класс\кисти2.jpg"/>
          <p:cNvPicPr/>
          <p:nvPr/>
        </p:nvPicPr>
        <p:blipFill>
          <a:blip r:embed="rId2"/>
          <a:stretch/>
        </p:blipFill>
        <p:spPr>
          <a:xfrm>
            <a:off x="3636000" y="2493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Елена\Documents\Школа\4 класс\шило.jpg"/>
          <p:cNvPicPr/>
          <p:nvPr/>
        </p:nvPicPr>
        <p:blipFill>
          <a:blip r:embed="rId3"/>
          <a:stretch/>
        </p:blipFill>
        <p:spPr>
          <a:xfrm>
            <a:off x="899640" y="4221000"/>
            <a:ext cx="2393280" cy="239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Елена\Documents\Школа\4 класс\гребень.jpg"/>
          <p:cNvPicPr/>
          <p:nvPr/>
        </p:nvPicPr>
        <p:blipFill>
          <a:blip r:embed="rId4"/>
          <a:stretch/>
        </p:blipFill>
        <p:spPr>
          <a:xfrm>
            <a:off x="6660360" y="4365000"/>
            <a:ext cx="2160000" cy="216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хника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356000" y="1628640"/>
            <a:ext cx="4032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бру – это рисунок одной жидкостью на поверхности другой. Это возможно только, если у этих жидкостей разное поверхностное натяжение, т.е. краска не тонет и не расползается по поверхности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воду, на которой будет выполняться рисунок, необходимо загус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честве загустителя используется экстракт растения гевен или морской красной водоро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Картинки по запросу фото эбру картинки"/>
          <p:cNvPicPr/>
          <p:nvPr/>
        </p:nvPicPr>
        <p:blipFill>
          <a:blip r:embed="rId1"/>
          <a:stretch/>
        </p:blipFill>
        <p:spPr>
          <a:xfrm>
            <a:off x="482040" y="1285920"/>
            <a:ext cx="3696480" cy="4928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3960720" cy="50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бру прекрасно то, что даже человек, совершенно не умеющий рисовать, с первого раза создает что-то красивое. Сама вода помогает творить прекрасное, если только человек готов научиться понять ее язык и научиться свободно «говорить» на не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Елена\Desktop\рисунки\IMG_1239.JPG"/>
          <p:cNvPicPr/>
          <p:nvPr/>
        </p:nvPicPr>
        <p:blipFill>
          <a:blip r:embed="rId1"/>
          <a:stretch/>
        </p:blipFill>
        <p:spPr>
          <a:xfrm>
            <a:off x="5076000" y="1412640"/>
            <a:ext cx="3563640" cy="475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  <Words>237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8:03:22Z</dcterms:created>
  <dc:creator>Елена</dc:creator>
  <dc:description/>
  <dc:language>en-US</dc:language>
  <cp:lastModifiedBy>Microsoft Office</cp:lastModifiedBy>
  <dcterms:modified xsi:type="dcterms:W3CDTF">2017-05-16T11:48:39Z</dcterms:modified>
  <cp:revision>48</cp:revision>
  <dc:subject/>
  <dc:title>ИСКУССТВО ЭБР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6</vt:r8>
  </property>
</Properties>
</file>