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962A0-BC98-4423-9A46-0BC213CD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4120C9-0D67-413C-A029-CB1A498118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120-AD51-47B1-91DE-7518D703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600-38B9-46A4-A341-7288590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812-9799-4A17-91E9-2C52C596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A47-E8AB-4F22-ADE1-DC13849B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F38A-45B3-4D6E-9C5F-4534C56C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87D7-140A-4BBF-8447-D262DED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27E-7C9A-45D1-9DEB-D1E88C52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A61-E975-4B87-B971-488D46F6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956-4990-4E86-A72E-5966087F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F2DB-D6D9-4A43-AD19-2B77FD2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468-8426-4B9F-A655-7E70C66D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03B-F238-4C19-BD20-15A77AE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0ACB-65D1-420F-AD99-DC76E7B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836-1216-46C9-9792-84099CFA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32A2-4050-4E3D-87DA-EBE028B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059-6555-4163-BFCB-571CBD73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8C9-F60C-4A3A-8DE1-5B298C47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036-86E8-4763-BD9D-55180DD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424-428F-43FE-9AEB-44CF54E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C07-0492-4B2F-86AA-5A5D4356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61E-F5DD-4826-AACE-187D4C8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32F-8EE8-4547-AD74-2F0F35C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CFF-967C-48CA-A38A-633D4A6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369-634B-41B3-AEFD-F624DBE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A0123A-0EFA-4AE4-BF43-6896AB41EDF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AD7F66-7FC5-49B4-9272-135D739EC4A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C:/Users/&#1040;&#1088;&#1090;&#1105;&#1084;/Downloads/melodiya_dushi_turetskaya_skripka_muzyka_dushi%20(freemp3now.me).mp3" TargetMode="External"/><Relationship Id="rId3" Type="http://schemas.microsoft.com/office/2007/relationships/media" Target="file:///C:/Users/&#1040;&#1088;&#1090;&#1105;&#1084;/Downloads/melodiya_dushi_turetskaya_skripka_muzyka_dushi%20(freemp3now.me).mp3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Винокуровой  Дарьи 4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&lt;&lt;</a:t>
            </a: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&gt;&gt;</a:t>
            </a: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 класса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c.pics.livejournal.com/kandrcat/48746771/250058/250058_origi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11640" y="1772640"/>
            <a:ext cx="9432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000" spc="-1" strike="noStrike">
                <a:solidFill>
                  <a:srgbClr val="ff0000"/>
                </a:solidFill>
                <a:latin typeface="Calibri"/>
              </a:rPr>
              <a:t>Искусство эбр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356000" y="5143680"/>
            <a:ext cx="453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рванина Т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эбру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357200"/>
            <a:ext cx="3888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бру — это особая техника создания невероятно красивых картин. Эбру – искусство обработки бумаги, называемое «турецким мраморированием». Вначале изображение делается на воде, а затем переносится на бумагу или ткань. Эбру — это танец красок, которые, переплетаясь между собой, создают уникальные узор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Елена\Desktop\рисунки\IMG_1237.JPG"/>
          <p:cNvPicPr/>
          <p:nvPr/>
        </p:nvPicPr>
        <p:blipFill>
          <a:blip r:embed="rId1"/>
          <a:stretch/>
        </p:blipFill>
        <p:spPr>
          <a:xfrm>
            <a:off x="4716000" y="1340640"/>
            <a:ext cx="3996000" cy="5328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357120" y="507204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бру» произошло от персидского слова «ebri», которое переводится как «облако». Ведь рисунки на воде, сделанные в технике эбру, очень похожи на обл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рия возникновения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46400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уют разные версии о месте происхождения эбру - Северный Китай, Южная Сибирь, Туркменистан, Персия, Индия, Пакистан и даже Древний Египет. И даже пусть достоверно неизвестно, в какой стране зародилось  марморирование, точно известно, что  марморирование – это характерный для восточных стран вид искусств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, родиной Эбру принято считать Турцию. Самая древнейшая официальная работа этой техники находится в Стамбуле, дворце Топкапы. Эта работа 1554 года, подписанная художниками Мехмет Киатчи и Угур Дэрман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C:\Users\Елена\Desktop\рисунки\IMG_1241.JPG"/>
          <p:cNvPicPr/>
          <p:nvPr/>
        </p:nvPicPr>
        <p:blipFill>
          <a:blip r:embed="rId1"/>
          <a:stretch/>
        </p:blipFill>
        <p:spPr>
          <a:xfrm>
            <a:off x="5220000" y="1412640"/>
            <a:ext cx="3744000" cy="499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29080" y="3286080"/>
            <a:ext cx="4377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струменты для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пециальные краски для эбру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очень жидкие, по сути цвет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Кист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Шило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Греб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Лото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C:\Users\Елена\Documents\Школа\4 класс\краски.jpg"/>
          <p:cNvPicPr/>
          <p:nvPr/>
        </p:nvPicPr>
        <p:blipFill>
          <a:blip r:embed="rId1"/>
          <a:stretch/>
        </p:blipFill>
        <p:spPr>
          <a:xfrm>
            <a:off x="6228360" y="1700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Елена\Documents\Школа\4 класс\кисти2.jpg"/>
          <p:cNvPicPr/>
          <p:nvPr/>
        </p:nvPicPr>
        <p:blipFill>
          <a:blip r:embed="rId2"/>
          <a:stretch/>
        </p:blipFill>
        <p:spPr>
          <a:xfrm>
            <a:off x="3636000" y="2493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Елена\Documents\Школа\4 класс\шило.jpg"/>
          <p:cNvPicPr/>
          <p:nvPr/>
        </p:nvPicPr>
        <p:blipFill>
          <a:blip r:embed="rId3"/>
          <a:stretch/>
        </p:blipFill>
        <p:spPr>
          <a:xfrm>
            <a:off x="899640" y="4221000"/>
            <a:ext cx="2393280" cy="239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Елена\Documents\Школа\4 класс\гребень.jpg"/>
          <p:cNvPicPr/>
          <p:nvPr/>
        </p:nvPicPr>
        <p:blipFill>
          <a:blip r:embed="rId4"/>
          <a:stretch/>
        </p:blipFill>
        <p:spPr>
          <a:xfrm>
            <a:off x="6660360" y="4365000"/>
            <a:ext cx="2160000" cy="216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хника эбр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356000" y="1628640"/>
            <a:ext cx="4032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бру – это рисунок одной жидкостью на поверхности другой. Это возможно только, если у этих жидкостей разное поверхностное натяжение, т.е. краска не тонет и не расползается по поверхности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воду, на которой будет выполняться рисунок, необходимо загус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честве загустителя используется экстракт растения гевен или морской красной водоро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Картинки по запросу фото эбру картинки"/>
          <p:cNvPicPr/>
          <p:nvPr/>
        </p:nvPicPr>
        <p:blipFill>
          <a:blip r:embed="rId1"/>
          <a:stretch/>
        </p:blipFill>
        <p:spPr>
          <a:xfrm>
            <a:off x="482040" y="1285920"/>
            <a:ext cx="369648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3960720" cy="50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бру прекрасно то, что даже человек, совершенно не умеющий рисовать, с первого раза создает что-то красивое. Сама вода помогает творить прекрасное, если только человек готов научиться понять ее язык и научиться свободно «говорить» на не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Елена\Desktop\рисунки\IMG_1239.JPG"/>
          <p:cNvPicPr/>
          <p:nvPr/>
        </p:nvPicPr>
        <p:blipFill>
          <a:blip r:embed="rId1"/>
          <a:stretch/>
        </p:blipFill>
        <p:spPr>
          <a:xfrm>
            <a:off x="5076000" y="1412640"/>
            <a:ext cx="3563640" cy="475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  <Words>237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8:03:22Z</dcterms:created>
  <dc:creator>Елена</dc:creator>
  <dc:description/>
  <dc:language>en-US</dc:language>
  <cp:lastModifiedBy>Microsoft Office</cp:lastModifiedBy>
  <dcterms:modified xsi:type="dcterms:W3CDTF">2017-05-16T11:48:39Z</dcterms:modified>
  <cp:revision>48</cp:revision>
  <dc:subject/>
  <dc:title>ИСКУССТВО ЭБР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6</vt:r8>
  </property>
</Properties>
</file>