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344-34DF-48E7-B29F-35B90A44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093-4DB7-4BC3-A893-C5632DBD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51C-588B-4A00-8688-6B0DC544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BB6-885D-4EBC-A9B7-30158D58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6AC6-E9DC-45EF-AB37-B6E0687D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707-85CE-4910-8048-F24CAB8B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A7A0-BD12-4078-BEA7-2D9C4196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CEF0-AA31-441E-99E7-78A5816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FC53-5FE8-40FE-A3D1-FDCDFA6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B1C-BA38-46EF-9C03-48BAC88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81EE-0DB0-49A3-854E-5F6A181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96A-7701-4127-B77F-062BD65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264-4F44-4DC8-A9D2-A83759F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E59E-E607-42A0-A980-9D38A0E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A99A-86AC-439F-8D1D-868A3CA5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6135-C86A-4008-8D7E-A528350E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E5CE-5B0D-461E-BF48-DA185EB5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185-B31F-4565-8551-420D6CB8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026-95F3-4165-98F1-4CD671C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7CA-B99C-4558-939E-87CED71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1B8-F120-4933-81B6-9013C0E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517-F00B-4D20-8827-EE7FD99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DFB-1613-494A-B395-E1DF124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7BF-050F-45C5-871C-7324ACB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62BD-949E-4ACB-A1BB-0194643CA8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4682-8AF7-41FD-A083-53891EBB10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830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тематик кич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ә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8680" y="2743200"/>
            <a:ext cx="61470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ешенең бөеклеге аның фикерләү сәләтендә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В.Паскал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261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Нинди сүз яшеренгән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2120" y="1981080"/>
          <a:ext cx="7543800" cy="342900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695600"/>
                <a:gridCol w="18860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ны 15 кә тигез булган санны табыгыз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ның 30% тын табыгы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нең 100гә чагыштырмас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Сүзне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828800"/>
          <a:ext cx="6781680" cy="3048120"/>
        </p:xfrm>
        <a:graphic>
          <a:graphicData uri="http://schemas.openxmlformats.org/drawingml/2006/table">
            <a:tbl>
              <a:tblPr/>
              <a:tblGrid>
                <a:gridCol w="2819520"/>
                <a:gridCol w="914400"/>
                <a:gridCol w="1143000"/>
                <a:gridCol w="838080"/>
                <a:gridCol w="1066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70 нең 30% ты күпме бу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22,5 кә тигез булган санны табыгы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% ты 315 кә тигез булган са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ның 100 гә чагыштырма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Җав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ПРОЦЕНТ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йөздә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өле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tt-RU" sz="5400" spc="-1" strike="noStrike">
                <a:solidFill>
                  <a:srgbClr val="000000"/>
                </a:solidFill>
                <a:latin typeface="Comic Sans MS"/>
              </a:rPr>
              <a:t>әхмәт</a:t>
            </a: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18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ичәнең тема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   7 : 2 =          Н  1 : 4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   6,4 : 4 =       П  3 : 2 =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   4,3 : 4,3 =     Ц  0,2 : 2 -0,2*0,2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  80 : 100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25560" y="4643280"/>
          <a:ext cx="5772240" cy="911520"/>
        </p:xfrm>
        <a:graphic>
          <a:graphicData uri="http://schemas.openxmlformats.org/drawingml/2006/table">
            <a:tbl>
              <a:tblPr/>
              <a:tblGrid>
                <a:gridCol w="825480"/>
                <a:gridCol w="824040"/>
                <a:gridCol w="824040"/>
                <a:gridCol w="825480"/>
                <a:gridCol w="823680"/>
                <a:gridCol w="986040"/>
                <a:gridCol w="663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Дөрес җавапны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1) 55 нең 20%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20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15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2) 1% ты  85 кә тигез булган санны та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8,5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8500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0,8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3)   Бер укучы класстагы балалар санының  4% тына тигез. Класста барлыгы ничә укуч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40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25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4)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әһәр белән авыл арасы  5 км. Турист 3 км юлны үтте. Турист барлык юлның күпме өлешен үткән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40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%      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60%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5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Хәтергә ярыш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,                 41,                 75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8,          9,               37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,       53,            99,          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,          74,          86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Дәвам итәргә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55680" y="2016000"/>
                <a:ext cx="2494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19640" y="2203560"/>
                <a:ext cx="784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41520" y="3643200"/>
                <a:ext cx="782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81680" y="1981080"/>
                <a:ext cx="83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14800" y="3733920"/>
                <a:ext cx="838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10280" y="3733920"/>
                <a:ext cx="9208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4240" y="5148360"/>
                <a:ext cx="9968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52880" y="5105520"/>
                <a:ext cx="885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181480" y="5105520"/>
                <a:ext cx="838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086600" y="5105520"/>
                <a:ext cx="914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Кем тизрә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 + 75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 + 408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lain" startAt="2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3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1 + 39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65 + 53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2 + 62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Җавапны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1.  Участок  :                              350 га -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Кишер :                                   ?        -    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2. Укучылар саны :                     ?        - 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«5» ле билгесе алучылар:     5 укучы  -     2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tt-RU" sz="2000" spc="-1" strike="noStrike">
                <a:solidFill>
                  <a:srgbClr val="990000"/>
                </a:solidFill>
                <a:latin typeface="Comic Sans MS"/>
              </a:rPr>
              <a:t>3.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Кошлар саны:                       25        - 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Очып китте:                          5         -       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Нинди сүз яшеренгән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523880"/>
          <a:ext cx="8305560" cy="4927680"/>
        </p:xfrm>
        <a:graphic>
          <a:graphicData uri="http://schemas.openxmlformats.org/drawingml/2006/table">
            <a:tbl>
              <a:tblPr/>
              <a:tblGrid>
                <a:gridCol w="1600200"/>
                <a:gridCol w="914400"/>
                <a:gridCol w="1143000"/>
                <a:gridCol w="990360"/>
                <a:gridCol w="914400"/>
                <a:gridCol w="990720"/>
                <a:gridCol w="9907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 ның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75 тигез булган с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ты 170 тигез булган с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неә 100гә чагыштырм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0 не 20% арттырганн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 тән 72% ны это за месяц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нди санның 50% ты 350 тиг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Сүзне тап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828800"/>
          <a:ext cx="7696080" cy="389412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990720"/>
                <a:gridCol w="1066680"/>
                <a:gridCol w="914400"/>
                <a:gridCol w="762120"/>
                <a:gridCol w="8380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55 тән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85 кә тигез булган са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% ты 275 кә тигез булган с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не</a:t>
                      </a: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ң 10 га чагыштырмас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ны</a:t>
                      </a: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ң 30% 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не 50% ка арттыргач нинди сан барлыкка кил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3-18T06:15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