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image5.jpeg" ContentType="image/jpeg"/>
  <Override PartName="/ppt/media/image36.jpeg" ContentType="image/jpeg"/>
  <Override PartName="/ppt/media/image2.jpeg" ContentType="image/jpeg"/>
  <Override PartName="/ppt/media/image1.png" ContentType="image/pn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5C6-9E4F-4ECD-9A68-59AB9656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D3E-A4C6-4CE4-B7E4-C9C807FE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F74-3F57-4BD2-B10C-729A05E7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EA1-20D8-467A-9200-DB1C3A83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A083-2F1D-4154-9C7B-A32DA48B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EBFC-743A-4757-ADD5-2209655F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DFF1-7E7E-49EA-9481-3A12418B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659C-7104-41E3-84B2-5E7B718C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5D6B-98CB-410A-BEC2-BE1AFCDC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2056-F06B-47EB-B4E8-4EE09444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A0F3-9AC0-4B8F-B80C-DAB647B2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560-3BA6-4B54-A745-9BC69C50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964B-A3DD-422A-A7FE-D91D4F4D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11DA-8F95-40C6-939D-F87EEE20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53A8-C9EA-4DCF-9630-6F90212F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F03A-9713-4757-B0A1-D88F5A96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68B5-8CCF-47DD-B1BA-C0782297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E67E-7641-46DC-8BF0-18DF71EB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785E-A9DF-417F-AF8D-2B4E8EF3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42548-2713-454B-A32D-64CD689F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DF0C-9C67-4717-935A-64EE87FD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074BA-F95E-44CA-B2BA-F539FDE6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28E-77D4-455E-89E0-10EC1184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EBCA2-54AA-42C7-9435-8A59DACC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B961-037C-4099-94C6-9CCAEEDD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237B-0B0B-46B1-A64C-6340BBCB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9A81-9C1F-46A3-8A48-06F1C2BA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4B81A-EA35-4392-ABD5-916794F1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6617-CC4F-4764-8779-398F2893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53362-FBF3-4592-A18F-84A666C0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2E4B0-0EDB-479A-A05B-FE809A01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61CDF-32B6-4DA8-90BA-CE194664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2CDF-13BC-4719-BB50-B90C5DE0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D40-079A-4BD5-8DDF-27566C2A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00652-E7E0-41B3-8D05-503AC37B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67429-9921-4788-95F6-2F64C0F8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C7A92-29E5-451B-879E-3F890527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1180E-58C1-438A-A4F5-AB7E50A3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D274-FC73-496D-A98F-563CFE0D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AC8D5-7BC1-4442-A03B-2478173A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9FFC8-D27B-4700-924A-2F51D6F6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05AD1-97FA-46F6-898F-1B941872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284C9-7E30-4680-BFA7-C20ADA36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B4F23-47C0-43BD-939D-A0C9099C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EE1-6320-4C79-AD1F-280D9381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3AB10-CFC2-4888-B8A1-4A3FA141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52391-A6A4-463D-8C18-E6B97CDE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6B51F-6D54-4233-B7AE-39840E02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697A7-A118-4AB6-858C-8FE325C4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5FA3C-4280-4334-9B30-470886E8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B1EF1-8871-4B77-BBD2-911C22DE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1F41D-1448-4BBB-B69B-A2BB47DD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6A27-E999-456D-A026-29C0DCF4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BC3E2-77A3-4226-B205-0273138E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7816C-6D0E-4045-A74E-41C6412F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DED-EBED-47BE-9CF1-3DE6A4AB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91465-8B41-4B4A-A270-D8B5D3D0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02E07-59DA-4D4D-9419-251AC155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692F8-EB11-4A57-A2E1-90B934F4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8DC2A-2272-4869-9A55-87BABD75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684DA-E0C7-4115-9797-A545E3C6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63710-6E87-47FD-AE0C-8FD91621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2285D-F685-4F51-9224-E4077CE5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1837C-FE97-4CC7-8DFA-73525DD2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2770E-417B-49AE-BA2B-6D47B2BF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98399-525D-40DC-8A12-6333C830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628-3A29-40EB-BE5E-8B5B1C5A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1F57C-3A68-40B9-906C-F9E68380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B5427-1A39-4D4C-8CD1-3F4A8B10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70733-6C53-4C7B-AAA4-57DC221E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464F6-13D7-45E3-95ED-C9B55A6A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5E51D-9960-4922-A7BA-595A698A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636DF-56BA-4690-AC0A-23C98F3E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DFC96-CD0C-4D72-B553-594D1349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0438D-EA83-49D2-BA63-669AC5A7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E1BF6-4A58-4CFE-9AC8-B924E301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AB6FE-1D7A-46B9-89C7-149A1F0D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FD6-BCC4-436D-8CB1-B43AFAF3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EBB06-EDD9-45E0-AE09-CF04292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DCCFE-ACC9-41A3-B683-F4B9CE4F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EC3B9-9374-48C5-A810-4E87A4FD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DDC9E-7A50-42C6-9922-EA41AB20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50721-8599-42CD-A2FB-2DFD1404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AF6-35F4-4307-A587-43B32492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D175-14EC-4718-A2A5-2102505414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2C6C-17CD-4392-A181-112DEB8D050D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0313-1D9A-44A7-B398-59B13F0884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5D94-CD3B-4AD2-B7D9-848B7E6797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B2CC-4867-43E1-B099-60F74814C2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91DC-1410-4F39-8F6E-31757B2990FF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081C-9BD2-4E7D-B8A0-633E5EC5A1E4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ru.wikipedia.org/wiki/&#1044;&#1077;&#1082;&#1086;&#1088;&#1072;&#1090;&#1080;&#1074;&#1085;&#1086;-&#1087;&#1088;&#1080;&#1082;&#1083;&#1072;&#1076;&#1085;&#1086;&#1077;_&#1080;&#1089;&#1082;&#1091;&#1089;&#1089;&#1090;&#1074;&#1086;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одзаголовок 2" descr=""/>
          <p:cNvPicPr/>
          <p:nvPr/>
        </p:nvPicPr>
        <p:blipFill>
          <a:blip r:embed="rId1"/>
          <a:stretch/>
        </p:blipFill>
        <p:spPr>
          <a:xfrm>
            <a:off x="244440" y="3713040"/>
            <a:ext cx="8637480" cy="27972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6"/>
          <p:cNvSpPr/>
          <p:nvPr/>
        </p:nvSpPr>
        <p:spPr>
          <a:xfrm>
            <a:off x="324000" y="1921320"/>
            <a:ext cx="8424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698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ff5698"/>
                </a:solidFill>
                <a:latin typeface="Arial"/>
              </a:rPr>
              <a:t>Художественная обработка древеси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bbf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1159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364600" cy="15602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1" descr=""/>
          <p:cNvPicPr/>
          <p:nvPr/>
        </p:nvPicPr>
        <p:blipFill>
          <a:blip r:embed="rId2"/>
          <a:stretch/>
        </p:blipFill>
        <p:spPr>
          <a:xfrm>
            <a:off x="826920" y="2116080"/>
            <a:ext cx="1435320" cy="190512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2" descr=""/>
          <p:cNvPicPr/>
          <p:nvPr/>
        </p:nvPicPr>
        <p:blipFill>
          <a:blip r:embed="rId3"/>
          <a:stretch/>
        </p:blipFill>
        <p:spPr>
          <a:xfrm>
            <a:off x="2843280" y="2046240"/>
            <a:ext cx="2700360" cy="20210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"/>
          <p:cNvPicPr/>
          <p:nvPr/>
        </p:nvPicPr>
        <p:blipFill>
          <a:blip r:embed="rId4"/>
          <a:stretch/>
        </p:blipFill>
        <p:spPr>
          <a:xfrm>
            <a:off x="6178680" y="2095560"/>
            <a:ext cx="2381040" cy="168588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" descr=""/>
          <p:cNvPicPr/>
          <p:nvPr/>
        </p:nvPicPr>
        <p:blipFill>
          <a:blip r:embed="rId5"/>
          <a:stretch/>
        </p:blipFill>
        <p:spPr>
          <a:xfrm>
            <a:off x="250920" y="4711680"/>
            <a:ext cx="2790720" cy="16099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2" descr=""/>
          <p:cNvPicPr/>
          <p:nvPr/>
        </p:nvPicPr>
        <p:blipFill>
          <a:blip r:embed="rId6"/>
          <a:stretch/>
        </p:blipFill>
        <p:spPr>
          <a:xfrm>
            <a:off x="3343320" y="4711680"/>
            <a:ext cx="2381040" cy="17812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3" descr=""/>
          <p:cNvPicPr/>
          <p:nvPr/>
        </p:nvPicPr>
        <p:blipFill>
          <a:blip r:embed="rId7"/>
          <a:stretch/>
        </p:blipFill>
        <p:spPr>
          <a:xfrm>
            <a:off x="6059520" y="4711680"/>
            <a:ext cx="266364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52000" cy="140796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3" descr=""/>
          <p:cNvPicPr/>
          <p:nvPr/>
        </p:nvPicPr>
        <p:blipFill>
          <a:blip r:embed="rId2"/>
          <a:stretch/>
        </p:blipFill>
        <p:spPr>
          <a:xfrm>
            <a:off x="4356000" y="1709640"/>
            <a:ext cx="2291040" cy="194472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2" descr=""/>
          <p:cNvPicPr/>
          <p:nvPr/>
        </p:nvPicPr>
        <p:blipFill>
          <a:blip r:embed="rId3"/>
          <a:stretch/>
        </p:blipFill>
        <p:spPr>
          <a:xfrm>
            <a:off x="5364000" y="3813120"/>
            <a:ext cx="3016440" cy="290664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3" descr=""/>
          <p:cNvPicPr/>
          <p:nvPr/>
        </p:nvPicPr>
        <p:blipFill>
          <a:blip r:embed="rId4"/>
          <a:stretch/>
        </p:blipFill>
        <p:spPr>
          <a:xfrm>
            <a:off x="249120" y="1716120"/>
            <a:ext cx="32403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3481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работе лобзиком необходимо сидеть  так, чтобы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е плечо находилось против треугольного выреза в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иловочном столе, а чтобы выбрать правильное положе-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ие тела при выпиливании, столик должен располагатьс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ысоте середины плеч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неру прижимают  левой рукой к выпиловочному сто-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ку так, чтобы большой палец с указательным образовы-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 прямой угол, в котором производится движение пилк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пилени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выпиливании лобзик необходимо держать на одном месте, а фанеру с рисунком надвигать левой рукой на пилку, то есть «пилить на месте», при этом добивайтесь такого положения, чтобы линия пропиливания шла строго по линии (контуру) рисунка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поворотах движение лобзика должно быть частым и коротким  особенно при обратном пропиле в узких проемах внутреннего контура и острых углах, не спеша, поворачивают фанеру, а не лобзик.   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получения четкого пропиливания рисунка и увеличения скорости выполнения работ движение пилки должно производиться на всю ее длину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 заедание пилки в детали, нужно слегка повернуть пилку в сторону и устранить задержку,    или же освободить верхний конец пилки и извлечь ее из пропил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4" descr="lobzik-4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6588000" y="1125360"/>
            <a:ext cx="2232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ьзоваться только исправным инструментом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ить надежность и правильность закрепления пилочк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ежно закрепите выпиловочный столик к верстак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илении нельзя наклонять пилку в стороны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делать резких движений лобзиком при выпиливании и не давить на пилочк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наклоняться низко над заготовкой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твлекайтесь во время работы, следите за правилами техники безопасност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-360" y="1052640"/>
            <a:ext cx="6156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Э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древнейшее ремесло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еревянном зодчестве человек находил пользу и красоту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крашал жилище резными деревянными изделиями, а дом декоративной резьбой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616320" y="476280"/>
            <a:ext cx="74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bbfd"/>
                </a:solidFill>
                <a:latin typeface="Arial"/>
              </a:rPr>
              <a:t>ХУДОЖЕСТВЕННАЯ ОБРАБОТКА ДРЕВЕСИНЫ</a:t>
            </a:r>
            <a:r>
              <a:rPr b="1" lang="ru-RU" sz="2400" spc="-1" strike="noStrike">
                <a:solidFill>
                  <a:srgbClr val="d2d2d2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Рисунок 1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962520" cy="381636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2" descr=""/>
          <p:cNvPicPr/>
          <p:nvPr/>
        </p:nvPicPr>
        <p:blipFill>
          <a:blip r:embed="rId2"/>
          <a:stretch/>
        </p:blipFill>
        <p:spPr>
          <a:xfrm>
            <a:off x="5435640" y="4376880"/>
            <a:ext cx="3243240" cy="218592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3" descr=""/>
          <p:cNvPicPr/>
          <p:nvPr/>
        </p:nvPicPr>
        <p:blipFill>
          <a:blip r:embed="rId3"/>
          <a:stretch/>
        </p:blipFill>
        <p:spPr>
          <a:xfrm>
            <a:off x="6230880" y="1076400"/>
            <a:ext cx="2733840" cy="278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0" y="404640"/>
            <a:ext cx="8686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готовлял игрушки, деревянную посуду и сувениры.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Picture 12" descr="D:\Temporary Internet Files\Content.IE5\TKZE976Z\MP900443047[1].jpg"/>
          <p:cNvPicPr/>
          <p:nvPr/>
        </p:nvPicPr>
        <p:blipFill>
          <a:blip r:embed="rId1"/>
          <a:stretch/>
        </p:blipFill>
        <p:spPr>
          <a:xfrm>
            <a:off x="5796000" y="3789360"/>
            <a:ext cx="2592360" cy="306864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1" descr=""/>
          <p:cNvPicPr/>
          <p:nvPr/>
        </p:nvPicPr>
        <p:blipFill>
          <a:blip r:embed="rId2"/>
          <a:stretch/>
        </p:blipFill>
        <p:spPr>
          <a:xfrm>
            <a:off x="611280" y="3956040"/>
            <a:ext cx="4768920" cy="27352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2" descr=""/>
          <p:cNvPicPr/>
          <p:nvPr/>
        </p:nvPicPr>
        <p:blipFill>
          <a:blip r:embed="rId3"/>
          <a:stretch/>
        </p:blipFill>
        <p:spPr>
          <a:xfrm>
            <a:off x="3132000" y="105264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" descr=""/>
          <p:cNvPicPr/>
          <p:nvPr/>
        </p:nvPicPr>
        <p:blipFill>
          <a:blip r:embed="rId4"/>
          <a:stretch/>
        </p:blipFill>
        <p:spPr>
          <a:xfrm>
            <a:off x="611280" y="1052640"/>
            <a:ext cx="2232000" cy="266364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2" descr=""/>
          <p:cNvPicPr/>
          <p:nvPr/>
        </p:nvPicPr>
        <p:blipFill>
          <a:blip r:embed="rId5"/>
          <a:stretch/>
        </p:blipFill>
        <p:spPr>
          <a:xfrm>
            <a:off x="6156360" y="1001880"/>
            <a:ext cx="2521080" cy="26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4679640" cy="273672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2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2698920" cy="302400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-6480" y="1359000"/>
            <a:ext cx="8699760" cy="896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2332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зьба по дерев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это вид 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Arial"/>
                <a:hlinkClick r:id="rId2"/>
              </a:rPr>
              <a:t>декоративно-прикладного искусст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орая является одним из видов художественной обработки дерева наряду с выпиливанием и токарным дело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ществует много видов резьбы. Среди них наибольшее распространение получили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сковыемчатая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ометрическая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резна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804040" y="50148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bbfd"/>
                </a:solidFill>
                <a:latin typeface="Arial"/>
              </a:rPr>
              <a:t>РЕЗЬБА ПО ДЕРЕ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304920" y="1554120"/>
            <a:ext cx="868680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актерна тем, что её основой служит плоский фон, а элементы резьбы углубляются в него, то есть нижний уровень резных элементов лежит ниже уровня фона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1916280" y="5717880"/>
            <a:ext cx="62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деляют несколько подвидов такой резьбы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Рисунок 2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42674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0" y="12679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же является разновидностью плосковыемчатой резьбы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один из самых древних и распространенных видов резьбы по дереву. Из-за простоты выполнения, во второй половине XVII века в России, она получила наиболее широкое применение. Ее выполняют в виде различных выемок, образующих на плоскости геометрический орнамент, отсюда и её название «геометрическая»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ым элементом геометрической выемчатой резьбы является: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рехгранни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 прямыми, вогнутыми или выпуклыми сторонами, грани которого образуют пирамиду, опрокинутую вершиной вниз; отсюда и название – трехгранно-выемчатая резьба, а такж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вухгран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етырехгран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огогран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емки с прямыми и изогнутыми сторонами.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7" descr="Фото Трехгранники с прямыми сторонами"/>
          <p:cNvPicPr/>
          <p:nvPr/>
        </p:nvPicPr>
        <p:blipFill>
          <a:blip r:embed="rId2"/>
          <a:stretch/>
        </p:blipFill>
        <p:spPr>
          <a:xfrm>
            <a:off x="684360" y="4653000"/>
            <a:ext cx="1709640" cy="5079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Фото виды резьбы по дереву"/>
          <p:cNvPicPr/>
          <p:nvPr/>
        </p:nvPicPr>
        <p:blipFill>
          <a:blip r:embed="rId3"/>
          <a:stretch/>
        </p:blipFill>
        <p:spPr>
          <a:xfrm>
            <a:off x="684360" y="5300640"/>
            <a:ext cx="1804680" cy="1068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Фото виды резьбы по дереву"/>
          <p:cNvPicPr/>
          <p:nvPr/>
        </p:nvPicPr>
        <p:blipFill>
          <a:blip r:embed="rId4"/>
          <a:stretch/>
        </p:blipFill>
        <p:spPr>
          <a:xfrm>
            <a:off x="3851280" y="4724280"/>
            <a:ext cx="1657440" cy="511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Фото виды резьбы по дереву"/>
          <p:cNvPicPr/>
          <p:nvPr/>
        </p:nvPicPr>
        <p:blipFill>
          <a:blip r:embed="rId5"/>
          <a:stretch/>
        </p:blipFill>
        <p:spPr>
          <a:xfrm>
            <a:off x="3851280" y="5373720"/>
            <a:ext cx="1739880" cy="1066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Фото виды резьбы по дереву"/>
          <p:cNvPicPr/>
          <p:nvPr/>
        </p:nvPicPr>
        <p:blipFill>
          <a:blip r:embed="rId6"/>
          <a:stretch/>
        </p:blipFill>
        <p:spPr>
          <a:xfrm>
            <a:off x="7020000" y="4653000"/>
            <a:ext cx="7030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052640"/>
            <a:ext cx="86868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середины XIX века одной из самых распространенных традиций на Руси, была традиция украшать деревянные дома резьбой. Карнизы, оконные и дверные наличники, ставни в деревянных домах любого достатка, покоряли филигранной вязью ручной работы, причудливо сплетавшейся в такие удивительные узоры, что трудно даже вообразить, что они действительно созданы руками человека. До сих пор сохранились и дошли до нас отдельные образцы резьбы по дереву, напоминающей кружевные сплетения.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Рисунок 1" descr=""/>
          <p:cNvPicPr/>
          <p:nvPr/>
        </p:nvPicPr>
        <p:blipFill>
          <a:blip r:embed="rId2"/>
          <a:stretch/>
        </p:blipFill>
        <p:spPr>
          <a:xfrm>
            <a:off x="3564000" y="3860640"/>
            <a:ext cx="4537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0" y="260280"/>
            <a:ext cx="868680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ременные мастера талантливо продолжают традиции предков. Широко применяя при отделке строений ажурное выпиливание из тонких досок (коньки, карнизы, затейливые наличники на окнах и дверях и т.д.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24000" y="1368360"/>
            <a:ext cx="781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резная и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пильна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квозная ажурна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зьба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ид декоративной обработки древеси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котором намеченные на плоской поверх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оры выпиливаются с помощью лобз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ли выкрутной пил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опильной резьбе декоратив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стигается ажурной сет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ивы узоры пропильных деревянных полос, украшающих фасады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мов. Завитки сквозного растительного или геометрического   орнамента прекрасносно смотрятся на фоне стены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324000" y="56674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пильная резьб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является наиболее простой.  Эта работа не требует больших материальных затрат, а по простоте и легкости исполнения является наиболее доступным ремеслом для любого школьник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Рисунок 1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5909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2:30Z</dcterms:created>
  <dc:creator>IRBIS</dc:creator>
  <dc:description/>
  <dc:language>en-US</dc:language>
  <cp:lastModifiedBy>user</cp:lastModifiedBy>
  <dcterms:modified xsi:type="dcterms:W3CDTF">2017-05-16T18:55:04Z</dcterms:modified>
  <cp:revision>69</cp:revision>
  <dc:subject/>
  <dc:title>Волгоградское государственная академия повышения квалификации и переподготовки работников образования  Кафедра теории и методики непрерывного профессионального образования  Контрольная работа Тема: «Активизация самостоятельной познавательной деятельности учащихся с использованием модульно-кейсовой технологии обучения» Разработка учебного кейса по разделу: «Ручная обработка металла». Тема:  «Опиливание»</dc:title>
</cp:coreProperties>
</file>