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7.jpeg" ContentType="image/jpeg"/>
  <Override PartName="/ppt/media/image38.jpeg" ContentType="image/jpeg"/>
  <Override PartName="/ppt/media/image5.jpeg" ContentType="image/jpeg"/>
  <Override PartName="/ppt/media/image36.jpeg" ContentType="image/jpeg"/>
  <Override PartName="/ppt/media/image2.jpeg" ContentType="image/jpeg"/>
  <Override PartName="/ppt/media/image1.png" ContentType="image/pn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203-DBB8-4434-8473-3426968A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3F6-197F-41CC-BE9B-B0AD9CE8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39D-373F-4331-8050-6BBF8633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9D8-9E39-49DC-A7D3-C3910AF6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C443-871E-4CA7-8426-E2B4227E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25BB-07FE-497C-8EE6-5FCDC16E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8D6A-7597-4A4D-99C2-98C30369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0F0F-042E-4768-A55E-6601778E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E050-7BBD-405A-8271-B969D2AF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E2A6-D1EC-4949-AFF7-3E99F330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47BD-6E1A-4EFE-85E0-11C6FF16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A2D-7DFE-48F3-A4BA-D612324B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9088-089D-49E1-B211-E3F342C8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3307-B2F7-4102-B470-B3F1A39B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4CA7-017C-4527-A93D-6762D40F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7451-1E32-4C06-8261-6C768F9E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BD6C-C4D0-4FB5-AF70-8EAA12FC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6C061-D96D-4471-BA29-80281F98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143F9-7156-4CF2-8CB9-371D7B08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F1C4-4511-447E-861E-F837235A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F5DCF-C68D-48BA-B4BD-A1EBCA2E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ACB0B-F926-4885-982E-566009DC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D96-A24C-49CE-AAF8-D700BF45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6D465-9D6B-482F-A987-93C81ECD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0FD5E-9EF0-4C6F-AF0C-A6A63112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B605B-F68B-46A9-AF8C-D82DC803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548B-1E26-43BB-9517-61C2BF03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5419D-21D5-4617-BD0C-DF8CA363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0A5BA-FE05-4485-A65B-03D9E657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AB4A3-173F-4E48-ACFA-18DACDF2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29D62-2873-41CA-926E-C22528C1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438AE-B02E-41E8-8E85-6B6F7275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E0558-8CE2-4839-AC4F-C6863054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072-8BE4-4EC6-B9B5-F2324DA2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67093-5B9D-4170-BA57-8AFB6F3B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9D175-4764-4822-90CC-F95BE211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D4567-F100-4587-8CD0-A7AE4863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9C242-741D-44E6-8784-BA8762BB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E6B65-CC00-4437-8A28-C0414199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9920-54D8-4A79-A6D0-F68E2D01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997AA-7B24-4809-8AB7-EBAD845F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EBD1F-9122-4A4D-B7C0-ADCE6C6D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1EB98-C0C1-48FE-BC32-E7E3580F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9733B-39F6-42EB-8EE8-CB659FCD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F97-7A72-408F-B3EF-330A0F43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46B3F-6B2A-4822-8013-E2DD0F61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A651A-F30C-49F7-A22E-E4D323A2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0A6BC-E9C7-49A0-B3EF-B10D2AC5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A3EBB-0FC2-402B-AF7D-C72607E1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A1B8E-498D-4F47-8D5D-B63EE929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BD0D6-1CC4-4E42-B08D-23138EC0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E685B-85AC-47DF-BB13-70D3CD41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98A3D-2FE4-4AE2-8A15-DCBACA15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33677-192A-4393-A3EB-ED6C037B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AA389-05E9-4530-8C67-6B0BEEE8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A51-B31E-41BA-B82F-06D47F5E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CF2B6-83FB-458B-A0A0-BCA010D0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B7AC8-C5D7-42AA-B752-542BDD5C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468A3-953C-4161-86F9-A916E9D3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D9ECC-3AC2-4178-BEDA-867B5A98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EFE75-5722-4BA7-B7A0-EF690E66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9DFB0-4D59-469F-A9FE-026F4163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A97B2-F64F-4594-B9E0-6390FFC5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CA883-43B4-415A-835B-6500FBAE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0DB41-8E45-40B6-85FE-767F850B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78932-156B-40F0-84C8-05471664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A8C-5267-4A6F-9BCA-DA2322EA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4ACFC-5372-4709-B232-9DECFC20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79D80-E1A5-4AFC-86EC-9DB442C3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B3EE4-792C-4247-BA7F-D30CA081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6443E-0998-4D70-8B0D-FBB2A69A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2A505-8838-46B5-A742-275CC3C7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CBF14-DAB9-4CF9-901B-9BA79F23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91E5B-85EB-4DA0-9413-C7C17BE0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6A92D-52CA-430C-B98A-9BA0AADE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CC769-2351-44AE-81FC-0BE44525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2222E-A303-4E87-BF55-EAE451E1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475-7556-4298-81E3-D99F962B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43F84-CE79-4463-A375-73E2FF3E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B24BD-C60D-491A-932B-188FD1EE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E2D25-3343-4755-86A9-E6DD6EFD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BEF28-5737-4E4B-844B-67AA315D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A1D02-A2B0-4820-BB57-3A9F4928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E2C-5487-4376-8A3F-58C6DE3F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A845-B8BF-421C-A2ED-714864479B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C4E4-E81F-4E64-84E3-807B92DEDB06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8269-03C9-4929-A72D-D034F5FB8D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8092-3583-4C09-880B-FBC6ECF938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410A-8AAD-4995-88FF-86D4D263CA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89BD-F3BB-417F-AF6F-DFE0DEB52EB7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9A5B-EB6E-479B-833F-A872682C72D3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ru.wikipedia.org/wiki/&#1044;&#1077;&#1082;&#1086;&#1088;&#1072;&#1090;&#1080;&#1074;&#1085;&#1086;-&#1087;&#1088;&#1080;&#1082;&#1083;&#1072;&#1076;&#1085;&#1086;&#1077;_&#1080;&#1089;&#1082;&#1091;&#1089;&#1089;&#1090;&#1074;&#1086;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одзаголовок 2" descr=""/>
          <p:cNvPicPr/>
          <p:nvPr/>
        </p:nvPicPr>
        <p:blipFill>
          <a:blip r:embed="rId1"/>
          <a:stretch/>
        </p:blipFill>
        <p:spPr>
          <a:xfrm>
            <a:off x="244440" y="3713040"/>
            <a:ext cx="8637480" cy="27972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6"/>
          <p:cNvSpPr/>
          <p:nvPr/>
        </p:nvSpPr>
        <p:spPr>
          <a:xfrm>
            <a:off x="324000" y="1921320"/>
            <a:ext cx="8424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698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ff5698"/>
                </a:solidFill>
                <a:latin typeface="Arial"/>
              </a:rPr>
              <a:t>Художественная обработка древеси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bbf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1159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364600" cy="15602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1" descr=""/>
          <p:cNvPicPr/>
          <p:nvPr/>
        </p:nvPicPr>
        <p:blipFill>
          <a:blip r:embed="rId2"/>
          <a:stretch/>
        </p:blipFill>
        <p:spPr>
          <a:xfrm>
            <a:off x="826920" y="2116080"/>
            <a:ext cx="1435320" cy="190512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2" descr=""/>
          <p:cNvPicPr/>
          <p:nvPr/>
        </p:nvPicPr>
        <p:blipFill>
          <a:blip r:embed="rId3"/>
          <a:stretch/>
        </p:blipFill>
        <p:spPr>
          <a:xfrm>
            <a:off x="2843280" y="2046240"/>
            <a:ext cx="2700360" cy="202104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" descr=""/>
          <p:cNvPicPr/>
          <p:nvPr/>
        </p:nvPicPr>
        <p:blipFill>
          <a:blip r:embed="rId4"/>
          <a:stretch/>
        </p:blipFill>
        <p:spPr>
          <a:xfrm>
            <a:off x="6178680" y="2095560"/>
            <a:ext cx="2381040" cy="168588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" descr=""/>
          <p:cNvPicPr/>
          <p:nvPr/>
        </p:nvPicPr>
        <p:blipFill>
          <a:blip r:embed="rId5"/>
          <a:stretch/>
        </p:blipFill>
        <p:spPr>
          <a:xfrm>
            <a:off x="250920" y="4711680"/>
            <a:ext cx="2790720" cy="160992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2" descr=""/>
          <p:cNvPicPr/>
          <p:nvPr/>
        </p:nvPicPr>
        <p:blipFill>
          <a:blip r:embed="rId6"/>
          <a:stretch/>
        </p:blipFill>
        <p:spPr>
          <a:xfrm>
            <a:off x="3343320" y="4711680"/>
            <a:ext cx="2381040" cy="178128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3" descr=""/>
          <p:cNvPicPr/>
          <p:nvPr/>
        </p:nvPicPr>
        <p:blipFill>
          <a:blip r:embed="rId7"/>
          <a:stretch/>
        </p:blipFill>
        <p:spPr>
          <a:xfrm>
            <a:off x="6059520" y="4711680"/>
            <a:ext cx="266364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52000" cy="140796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3" descr=""/>
          <p:cNvPicPr/>
          <p:nvPr/>
        </p:nvPicPr>
        <p:blipFill>
          <a:blip r:embed="rId2"/>
          <a:stretch/>
        </p:blipFill>
        <p:spPr>
          <a:xfrm>
            <a:off x="4356000" y="1709640"/>
            <a:ext cx="2291040" cy="194472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2" descr=""/>
          <p:cNvPicPr/>
          <p:nvPr/>
        </p:nvPicPr>
        <p:blipFill>
          <a:blip r:embed="rId3"/>
          <a:stretch/>
        </p:blipFill>
        <p:spPr>
          <a:xfrm>
            <a:off x="5364000" y="3813120"/>
            <a:ext cx="3016440" cy="290664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3" descr=""/>
          <p:cNvPicPr/>
          <p:nvPr/>
        </p:nvPicPr>
        <p:blipFill>
          <a:blip r:embed="rId4"/>
          <a:stretch/>
        </p:blipFill>
        <p:spPr>
          <a:xfrm>
            <a:off x="249120" y="1716120"/>
            <a:ext cx="32403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197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3481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работе лобзиком необходимо сидеть  так, чтобы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е плечо находилось против треугольного выреза в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иловочном столе, а чтобы выбрать правильное положе-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ие тела при выпиливании, столик должен располагатьс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ысоте середины плеч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анеру прижимают  левой рукой к выпиловочному сто-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ку так, чтобы большой палец с указательным образовы-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л прямой угол, в котором производится движение пилк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пилени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выпиливании лобзик необходимо держать на одном месте, а фанеру с рисунком надвигать левой рукой на пилку, то есть «пилить на месте», при этом добивайтесь такого положения, чтобы линия пропиливания шла строго по линии (контуру) рисунка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поворотах движение лобзика должно быть частым и коротким  особенно при обратном пропиле в узких проемах внутреннего контура и острых углах, не спеша, поворачивают фанеру, а не лобзик.   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получения четкого пропиливания рисунка и увеличения скорости выполнения работ движение пилки должно производиться на всю ее длину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 заедание пилки в детали, нужно слегка повернуть пилку в сторону и устранить задержку,    или же освободить верхний конец пилки и извлечь ее из пропил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Picture 4" descr="lobzik-4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6588000" y="1125360"/>
            <a:ext cx="2232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ьзоваться только исправным инструментом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ить надежность и правильность закрепления пилочк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ежно закрепите выпиловочный столик к верстак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пилении нельзя наклонять пилку в стороны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делать резких движений лобзиком при выпиливании и не давить на пилочк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наклоняться низко над заготовкой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твлекайтесь во время работы, следите за правилами техники безопасност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-360" y="1052640"/>
            <a:ext cx="6156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Эт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древнейшее ремесло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деревянном зодчестве человек находил пользу и красоту,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крашал жилище резными деревянными изделиями, а дом декоративной резьбой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616320" y="476280"/>
            <a:ext cx="74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bbfd"/>
                </a:solidFill>
                <a:latin typeface="Arial"/>
              </a:rPr>
              <a:t>ХУДОЖЕСТВЕННАЯ ОБРАБОТКА ДРЕВЕСИНЫ</a:t>
            </a:r>
            <a:r>
              <a:rPr b="1" lang="ru-RU" sz="2400" spc="-1" strike="noStrike">
                <a:solidFill>
                  <a:srgbClr val="d2d2d2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Рисунок 1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962520" cy="381636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2" descr=""/>
          <p:cNvPicPr/>
          <p:nvPr/>
        </p:nvPicPr>
        <p:blipFill>
          <a:blip r:embed="rId2"/>
          <a:stretch/>
        </p:blipFill>
        <p:spPr>
          <a:xfrm>
            <a:off x="5435640" y="4376880"/>
            <a:ext cx="3243240" cy="218592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3" descr=""/>
          <p:cNvPicPr/>
          <p:nvPr/>
        </p:nvPicPr>
        <p:blipFill>
          <a:blip r:embed="rId3"/>
          <a:stretch/>
        </p:blipFill>
        <p:spPr>
          <a:xfrm>
            <a:off x="6230880" y="1076400"/>
            <a:ext cx="2733840" cy="278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0" y="404640"/>
            <a:ext cx="8686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готовлял игрушки, деревянную посуду и сувениры.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Picture 12" descr="D:\Temporary Internet Files\Content.IE5\TKZE976Z\MP900443047[1].jpg"/>
          <p:cNvPicPr/>
          <p:nvPr/>
        </p:nvPicPr>
        <p:blipFill>
          <a:blip r:embed="rId1"/>
          <a:stretch/>
        </p:blipFill>
        <p:spPr>
          <a:xfrm>
            <a:off x="5796000" y="3789360"/>
            <a:ext cx="2592360" cy="306864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1" descr=""/>
          <p:cNvPicPr/>
          <p:nvPr/>
        </p:nvPicPr>
        <p:blipFill>
          <a:blip r:embed="rId2"/>
          <a:stretch/>
        </p:blipFill>
        <p:spPr>
          <a:xfrm>
            <a:off x="611280" y="3956040"/>
            <a:ext cx="4768920" cy="273528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2" descr=""/>
          <p:cNvPicPr/>
          <p:nvPr/>
        </p:nvPicPr>
        <p:blipFill>
          <a:blip r:embed="rId3"/>
          <a:stretch/>
        </p:blipFill>
        <p:spPr>
          <a:xfrm>
            <a:off x="3132000" y="105264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" descr=""/>
          <p:cNvPicPr/>
          <p:nvPr/>
        </p:nvPicPr>
        <p:blipFill>
          <a:blip r:embed="rId4"/>
          <a:stretch/>
        </p:blipFill>
        <p:spPr>
          <a:xfrm>
            <a:off x="611280" y="1052640"/>
            <a:ext cx="2232000" cy="266364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2" descr=""/>
          <p:cNvPicPr/>
          <p:nvPr/>
        </p:nvPicPr>
        <p:blipFill>
          <a:blip r:embed="rId5"/>
          <a:stretch/>
        </p:blipFill>
        <p:spPr>
          <a:xfrm>
            <a:off x="6156360" y="1001880"/>
            <a:ext cx="2521080" cy="26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4679640" cy="273672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2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2698920" cy="302400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38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-6480" y="1359000"/>
            <a:ext cx="8699760" cy="8967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2332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зьба по дерев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это вид </a:t>
            </a:r>
            <a:r>
              <a:rPr b="0" lang="ru-RU" sz="2400" spc="-1" strike="noStrike" u="sng">
                <a:solidFill>
                  <a:srgbClr val="17bbfd"/>
                </a:solidFill>
                <a:uFillTx/>
                <a:latin typeface="Arial"/>
                <a:hlinkClick r:id="rId2"/>
              </a:rPr>
              <a:t>декоративно-прикладного искусст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торая является одним из видов художественной обработки дерева наряду с выпиливанием и токарным делом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ществует много видов резьбы. Среди них наибольшее распространение получили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сковыемчатая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ометрическая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резна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804040" y="50148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bbfd"/>
                </a:solidFill>
                <a:latin typeface="Arial"/>
              </a:rPr>
              <a:t>РЕЗЬБА ПО ДЕРЕ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304920" y="1554120"/>
            <a:ext cx="868680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арактерна тем, что её основой служит плоский фон, а элементы резьбы углубляются в него, то есть нижний уровень резных элементов лежит ниже уровня фона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1916280" y="5717880"/>
            <a:ext cx="62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деляют несколько подвидов такой резьбы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Рисунок 2" descr=""/>
          <p:cNvPicPr/>
          <p:nvPr/>
        </p:nvPicPr>
        <p:blipFill>
          <a:blip r:embed="rId2"/>
          <a:stretch/>
        </p:blipFill>
        <p:spPr>
          <a:xfrm>
            <a:off x="2771640" y="2852640"/>
            <a:ext cx="42674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0" y="12679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же является разновидностью плосковыемчатой резьбы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один из самых древних и распространенных видов резьбы по дереву. Из-за простоты выполнения, во второй половине XVII века в России, она получила наиболее широкое применение. Ее выполняют в виде различных выемок, образующих на плоскости геометрический орнамент, отсюда и её название «геометрическая»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ым элементом геометрической выемчатой резьбы является: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рехгранни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 прямыми, вогнутыми или выпуклыми сторонами, грани которого образуют пирамиду, опрокинутую вершиной вниз; отсюда и название – трехгранно-выемчатая резьба, а такж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вухгранн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четырехгранн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ногогранн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емки с прямыми и изогнутыми сторонами.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7" descr="Фото Трехгранники с прямыми сторонами"/>
          <p:cNvPicPr/>
          <p:nvPr/>
        </p:nvPicPr>
        <p:blipFill>
          <a:blip r:embed="rId2"/>
          <a:stretch/>
        </p:blipFill>
        <p:spPr>
          <a:xfrm>
            <a:off x="684360" y="4653000"/>
            <a:ext cx="1709640" cy="5079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Фото виды резьбы по дереву"/>
          <p:cNvPicPr/>
          <p:nvPr/>
        </p:nvPicPr>
        <p:blipFill>
          <a:blip r:embed="rId3"/>
          <a:stretch/>
        </p:blipFill>
        <p:spPr>
          <a:xfrm>
            <a:off x="684360" y="5300640"/>
            <a:ext cx="1804680" cy="1068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Фото виды резьбы по дереву"/>
          <p:cNvPicPr/>
          <p:nvPr/>
        </p:nvPicPr>
        <p:blipFill>
          <a:blip r:embed="rId4"/>
          <a:stretch/>
        </p:blipFill>
        <p:spPr>
          <a:xfrm>
            <a:off x="3851280" y="4724280"/>
            <a:ext cx="1657440" cy="511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Фото виды резьбы по дереву"/>
          <p:cNvPicPr/>
          <p:nvPr/>
        </p:nvPicPr>
        <p:blipFill>
          <a:blip r:embed="rId5"/>
          <a:stretch/>
        </p:blipFill>
        <p:spPr>
          <a:xfrm>
            <a:off x="3851280" y="5373720"/>
            <a:ext cx="1739880" cy="1066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3" descr="Фото виды резьбы по дереву"/>
          <p:cNvPicPr/>
          <p:nvPr/>
        </p:nvPicPr>
        <p:blipFill>
          <a:blip r:embed="rId6"/>
          <a:stretch/>
        </p:blipFill>
        <p:spPr>
          <a:xfrm>
            <a:off x="7020000" y="4653000"/>
            <a:ext cx="7030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052640"/>
            <a:ext cx="86868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363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середины XIX века одной из самых распространенных традиций на Руси, была традиция украшать деревянные дома резьбой. Карнизы, оконные и дверные наличники, ставни в деревянных домах любого достатка, покоряли филигранной вязью ручной работы, причудливо сплетавшейся в такие удивительные узоры, что трудно даже вообразить, что они действительно созданы руками человека. До сих пор сохранились и дошли до нас отдельные образцы резьбы по дереву, напоминающей кружевные сплетения.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Рисунок 1" descr=""/>
          <p:cNvPicPr/>
          <p:nvPr/>
        </p:nvPicPr>
        <p:blipFill>
          <a:blip r:embed="rId2"/>
          <a:stretch/>
        </p:blipFill>
        <p:spPr>
          <a:xfrm>
            <a:off x="3564000" y="3860640"/>
            <a:ext cx="4537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0" y="260280"/>
            <a:ext cx="868680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ременные мастера талантливо продолжают традиции предков. Широко применяя при отделке строений ажурное выпиливание из тонких досок (коньки, карнизы, затейливые наличники на окнах и дверях и т.д.)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24000" y="1368360"/>
            <a:ext cx="781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резная и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пильна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квозная ажурная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зьба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ид декоративной обработки древесин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котором намеченные на плоской поверх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зоры выпиливаются с помощью лобз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ли выкрутной пил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ропильной резьбе декоратив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стигается ажурной сет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сивы узоры пропильных деревянных полос, украшающих фасады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мов. Завитки сквозного растительного или геометрического   орнамента прекрасносно смотрятся на фоне стены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324000" y="56674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пильная резьб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является наиболее простой.  Эта работа не требует больших материальных затрат, а по простоте и легкости исполнения является наиболее доступным ремеслом для любого школьник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Рисунок 1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25909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2:30Z</dcterms:created>
  <dc:creator>IRBIS</dc:creator>
  <dc:description/>
  <dc:language>en-US</dc:language>
  <cp:lastModifiedBy>user</cp:lastModifiedBy>
  <dcterms:modified xsi:type="dcterms:W3CDTF">2017-05-16T18:55:04Z</dcterms:modified>
  <cp:revision>69</cp:revision>
  <dc:subject/>
  <dc:title>Волгоградское государственная академия повышения квалификации и переподготовки работников образования  Кафедра теории и методики непрерывного профессионального образования  Контрольная работа Тема: «Активизация самостоятельной познавательной деятельности учащихся с использованием модульно-кейсовой технологии обучения» Разработка учебного кейса по разделу: «Ручная обработка металла». Тема:  «Опиливание»</dc:title>
</cp:coreProperties>
</file>