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8B89-F3FA-417F-8555-D911BBC6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C38E-09F4-4595-9B44-2D01CC89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6F4A-562C-4329-B1B6-8131B8D8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CDF4-2A06-4A47-BAEC-BF5470BC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39400-0E07-44A2-B1BB-42411C86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888EC-EB7F-4F32-83F7-D57294AC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820C5-0F22-44BC-A769-16AFAB69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212ED-4558-4F56-9A0D-4D1C4E52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3D83E-B589-4A65-8015-D2AD6796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5F1EA-4D74-43C1-A6B1-87EF889C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01666-63A1-4336-B769-FC9A5A3D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6CA5-FF5F-4835-9B37-A58772F9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A0448-0DA4-42CF-A00E-33453D8C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4710C-2A2E-4AFB-A536-837ED9A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B0E8B-47DA-4A18-A603-64DCFE1B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F8827-9755-40D3-8D14-75DB77F3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4DC32-06C8-4035-A7B7-921131AA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D1C98-78F7-4195-9672-A68D8B50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DE7DF-A9BA-444C-B87A-25EB4BC1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43218-17E9-4562-8A59-FCFF65B4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8B471-8EAD-4BD4-BFFA-9155A0D0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C6FCF-4647-4D17-A0F3-6B9EF4E6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15E3-87CE-43D8-89AD-AE74BE4F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754C7-C3EA-4C38-9E1E-B31DC65C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3154E-2189-47C3-8B14-9677BAE2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944C9-E7FE-4D07-8A01-EACCC49A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33DC1-8D36-4DCA-A6DD-4885B4FD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0696E-F0BB-4124-B797-DD3016BE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D5204-DEC0-4DF1-AC62-31D2008B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631BC-D873-4259-933D-C3B6C4F4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FE93-C58E-4A77-BA7A-5E9D7C07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BE67-6A67-4016-BA0B-491BDB47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171E-A5C4-4A0B-B4C8-E53ED2C8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BF3B-08BA-4199-A56D-39F15232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3DE8-A625-4220-B741-263501D9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3EAA-2339-404D-85C4-85EFE902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AC0E-4C9C-4F60-B4EC-B596FDA1B769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DAC8-8D64-4819-A9C8-663F7B8B6F72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FBDA-D83C-4B01-8CD6-9E16D2D1CC33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-109440" y="1450800"/>
            <a:ext cx="698004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-19080" y="476280"/>
            <a:ext cx="869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абочих программах определены цели начального обучения по всем предметным линиям; рассмотрены подходы к структурированию учебного материала и к организации деятельности учащихся; представлены результаты изучения предметов, основное содержание курсов, тематическое планирование с характеристикой основных видов деятельности учащихся; дано описание материально-технического обеспе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19080" y="1197000"/>
            <a:ext cx="87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лавная концептуальная идея программы «Школа России»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сийская школа должна стать школой духовно-нравственного развития и воспитания гражданина нашего Отечества. Ее основа - это современные достижения педагогической теории и практики и лучшие традиции отечественной школы, их исключительная ценность и знач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0" y="112536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УМК «Школа России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воспитания гражданина России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ценностных ориентиров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обучения в деятельности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работы на результат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синтеза традиций и инноваций в образов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0" y="1268280"/>
            <a:ext cx="88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и УМК «Школа России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риентирован на личностно развивающее образование школьников младших класс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гражданско-ориентирован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глобально-ориентирован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экоадекватное образ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0" y="0"/>
            <a:ext cx="925200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збука. Авторы: Горецкий В.Г., Кирюшкин В.А., Виноградская Л.А. и д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сский язык. Авторы: Канакина В.П., Горецкий В.Г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Литературное чтение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лиманова Л.Ф., Горецкий В.Г., Голованова М.В. и др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ка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ры: Моро М.И., Волкова С.И., Степанова С.В., Бантова М.А., Бельтюкова Г.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тик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-4 классы). Авторы: Семенов А.Л., Рудченко Т.А.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Плешаков А.А., Крючкова Е.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азительное искусство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Неменская Л.А., Коротеева Е.И., Горяева Н.А., Питерских А.С. и др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ыка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итская Е.Д., Сергеева Г.П., Шмагина Т.С. (Учебники могут использоваться в составе систем учебников «Перспектива» и «Школа России»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. Авторы: Лутцева Е.А., Зуева Т.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. Автор: Лях В.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вторы: Винер И.А., Горбулина Н.М., Цыганкова О.Д. (Учебники могут использоваться в составе систем учебников «Школа России» и «Перспектива»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000" y="-20520"/>
            <a:ext cx="9090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21:43:10Z</dcterms:created>
  <dc:creator>Екатерина Нуриева</dc:creator>
  <dc:description/>
  <dc:language>en-US</dc:language>
  <cp:lastModifiedBy>Екатерина Нуриева</cp:lastModifiedBy>
  <dcterms:modified xsi:type="dcterms:W3CDTF">2017-05-16T21:51:38Z</dcterms:modified>
  <cp:revision>1</cp:revision>
  <dc:subject/>
  <dc:title>Учебно-методический комплект «Школа России»</dc:title>
</cp:coreProperties>
</file>