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7313-2982-4FBD-8E6A-EFAC68F9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5DFE-DEF0-4C1F-8A02-E7D700CB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671F-5763-4DC7-AC0F-F4260D32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1F52-359C-43F1-B6BB-16BF1480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F40BE-994B-4321-972F-286266F8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8ACDE-C96A-4348-90C8-89614CE7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48669-9661-40B3-B17A-FAAB0C78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55735-D574-4C59-8B03-F63EC0A2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440BD-10FC-452D-8522-871AE0F3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E1BCE-1A80-4306-83CB-04AE622C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FE06C-FD5E-47FC-8EBE-2E6FB575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48DF-D687-4946-94A1-683165A1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FE60E-825E-47E4-A18A-3D0BA11C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F6CA5-2DF3-4F78-913A-0644D069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5ED60-BF98-46DB-8787-2A6EFB37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EEB54-0AA0-4A38-BBC6-B7ED04A4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FFB74-6D37-4AB7-8ADB-A214DFFA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6212B-F72D-436A-95A8-24C714FC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DCA21-0E1A-430C-9D80-99B4516D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E96A4-5F6C-4179-9542-54619CF1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C726EF-0AEE-417C-98A0-E97B06E1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6D2A2-FE39-475E-B4DA-E5D37ABB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713C-332C-42F4-8581-BA48245D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5F470-C2A6-4375-8D3C-B81B7F95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CCFBE9-5999-4B73-9FF9-E72A6A81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014DA-F107-44DD-89D1-ACF8AE56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D8B3A-2E47-4C90-8EAC-3F343762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CAA46-69EC-4542-98E1-79B4993D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E78D43-4E8B-4891-AD71-6702FBD8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760CB-F627-4221-887C-9C0023ED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F216-A4D8-45B3-BE03-29053E98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9373-C286-42EE-9253-ECB8A133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F9B1-C0B0-4838-8378-0E03B249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57BD-5CEE-4753-B4C5-867412AC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2B21-EDB4-4591-8A51-75747CC3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CFAD-0618-4FDD-B8EF-3DA551EE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C73F-D943-4A3F-8A59-1D035D809287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87656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87512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sphere1.png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5827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415200" y="640044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C9E2-0DF2-474A-BA2F-C9FEA0F90F17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5812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sphere1.png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95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411624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E97D-DE42-4969-8E9D-B9D4B0619E7D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9"/>
          </p:nvPr>
        </p:nvSpPr>
        <p:spPr>
          <a:xfrm>
            <a:off x="8380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-109440" y="1450800"/>
            <a:ext cx="698004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-19080" y="476280"/>
            <a:ext cx="869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абочих программах определены цели начального обучения по всем предметным линиям; рассмотрены подходы к структурированию учебного материала и к организации деятельности учащихся; представлены результаты изучения предметов, основное содержание курсов, тематическое планирование с характеристикой основных видов деятельности учащихся; дано описание материально-технического обеспе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-19080" y="1197000"/>
            <a:ext cx="87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лавная концептуальная идея программы «Школа России»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ссийская школа должна стать школой духовно-нравственного развития и воспитания гражданина нашего Отечества. Ее основа - это современные достижения педагогической теории и практики и лучшие традиции отечественной школы, их исключительная ценность и знач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0" y="1125360"/>
            <a:ext cx="88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нципы УМК «Школа России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воспитания гражданина России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ценностных ориентиров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обучения в деятельности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работы на результат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синтеза традиций и инноваций в образов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0" y="1268280"/>
            <a:ext cx="882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собенности УМК «Школа России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риентирован на личностно развивающее образование школьников младших класс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ивает гражданско-ориентированно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ивает глобально-ориентированно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ивает экоадекватное образо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0" y="0"/>
            <a:ext cx="9252000" cy="67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збука. Авторы: Горецкий В.Г., Кирюшкин В.А., Виноградская Л.А. и др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усский язык. Авторы: Канакина В.П., Горецкий В.Г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Литературное чтение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лиманова Л.Ф., Горецкий В.Г., Голованова М.В. и др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матика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торы: Моро М.И., Волкова С.И., Степанова С.В., Бантова М.А., Бельтюкова Г.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орматик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-4 классы). Авторы: Семенов А.Л., Рудченко Т.А.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Плешаков А.А., Крючкова Е.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образительное искусство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Неменская Л.А., Коротеева Е.И., Горяева Н.А., Питерских А.С. и др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узыка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ритская Е.Д., Сергеева Г.П., Шмагина Т.С. (Учебники могут использоваться в составе систем учебников «Перспектива» и «Школа России»)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я. Авторы: Лутцева Е.А., Зуева Т.П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ая культура. Автор: Лях В.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ая культур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вторы: Винер И.А., Горбулина Н.М., Цыганкова О.Д. (Учебники могут использоваться в составе систем учебников «Школа России» и «Перспектива»)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7000" y="-20520"/>
            <a:ext cx="9090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6T21:43:10Z</dcterms:created>
  <dc:creator>Екатерина Нуриева</dc:creator>
  <dc:description/>
  <dc:language>en-US</dc:language>
  <cp:lastModifiedBy>Екатерина Нуриева</cp:lastModifiedBy>
  <dcterms:modified xsi:type="dcterms:W3CDTF">2017-05-16T21:51:38Z</dcterms:modified>
  <cp:revision>1</cp:revision>
  <dc:subject/>
  <dc:title>Учебно-методический комплект «Школа России»</dc:title>
</cp:coreProperties>
</file>