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5A3-E0CA-40F5-86DB-77B66F3B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AE1-F0D9-4300-8506-3E85B3F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34C-8CC8-46AC-8D03-5480BFA0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C8E-CEEA-4300-9378-C1C9084A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16EC-3748-45BF-BA77-4918DBEB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C01-0377-4D1D-BF99-1CBC4993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D8B-768D-4CAB-9C3E-9AD9B7A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0578-9AD8-496E-A93D-7687FE0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ED2-75CB-46A7-B339-94CAD76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57B-71BB-4F4A-BCB9-E3C5AC7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9ADC-3AEB-4042-A4CA-215168B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332-B9C8-47B4-BAA3-7F953DC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6251-9B40-4916-B5D5-867D5D2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9342-49D6-4FF1-9B85-D50300F0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455C-262E-4836-BCF4-78B48A8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01B2-E783-49C1-AF98-8E105A83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EE67-14CB-4F00-88FB-CB61EFAF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D1E32-2392-402B-B2A3-5E71FD78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F02EA-550B-4A73-BE39-16E259B4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188B3-DB18-4D10-92E0-E6CE7977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6E1C1-F3FD-4AC7-B8D6-8055A76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9ACAC-B03E-4F2E-BB42-F8F2CAF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833-378B-4E71-B5C6-5CF62E6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ABDA3-FD01-40F4-9C7E-8F396A0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6B6CF-6366-4481-BE58-A8CD910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9B0F3-3DD5-40AE-8631-4E19FAE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F2064-984F-49F2-9D31-0014F73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713A1-0BEF-4016-93F0-EF666F0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3EC08-A2E4-4225-B256-099CFB00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90D5C-8F81-4166-B63B-C805A189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1C9E-B5BB-4E64-9665-AD2E0E6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98AF-2F7C-4570-95AE-CBE9A0D1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7606-97D4-4D58-9B63-98C1EF8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48D-B696-48F7-8BA4-3D1B3D24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C842-25FE-4D31-AB7F-6A836C6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7EC7-AA71-4CE2-9ED5-1A22297F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B4DC-2AD5-419E-895B-35573B3A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4635-1BB3-493F-ADE7-E6EF2BB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2723-4621-4045-A663-D952153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8705-70D4-478B-ACEE-DB8A814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4E699-9988-4B44-9236-1FDB7CA4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1229-B474-4BE3-ADD9-79C275C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970D-BEB1-4976-9160-A68F6384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E6D-06E4-46B8-B934-3395FF7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454-AB55-48FE-A58D-BD0D567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077-DB26-4B51-934B-8C78436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4F7-4483-49D7-BAD5-06404B3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917-77E7-472A-A4E7-F4ECF3A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6F45-733A-4238-9007-832B5CC6B2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AEAA-399D-4C54-B49A-18B18B52DA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9754-2026-4BF2-98BA-7C5D9BBA48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662-54BF-41DB-B9B3-5C615324419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3340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резентация для дете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2-й младшей групп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«Самые интересные скульптуры животных в Санкт-Петербурге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дготовила воспитател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БДОУ №3 Петроградского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-на Санкт-Петербур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оорт О.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Бегемотиха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Зовут ее Тоня, установил ее автор зайца Петроничев в 2005 году. Двор филфака СПбГУ полон разных скульптур животных (среди прочего, там есть еще такса и «факультетский козел»), но Тоня — самая знаменитая. Ее гладят «на удачу» перед экзаменами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На постаменте установлена табличка, которая гласит: «По легенде девушка, которая мечтает найти жениха, должна подержаться за правое ухо бегемотихи, а молодой человек если хочет найти невесту, за левое»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двор филологического факультета СПбГу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post_photo" descr="http://cs837121.vk.me/v837121889/eb6e/mXglqAT21CY.jpg"/>
          <p:cNvPicPr/>
          <p:nvPr/>
        </p:nvPicPr>
        <p:blipFill>
          <a:blip r:embed="rId1"/>
          <a:stretch/>
        </p:blipFill>
        <p:spPr>
          <a:xfrm>
            <a:off x="2500200" y="3098880"/>
            <a:ext cx="51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Улитка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Еще одна скульптура авторства Петровичева, установленная во дворе филфака СПбГУ. Ее установили в 2006 году перед дверью кафедры фонетик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двор филологического факультета СПбГУ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post_photo" descr="http://cs837121.vk.me/v837121889/eb75/QwjEr3E2KdA.jpg"/>
          <p:cNvPicPr/>
          <p:nvPr/>
        </p:nvPicPr>
        <p:blipFill>
          <a:blip r:embed="rId1"/>
          <a:stretch/>
        </p:blipFill>
        <p:spPr>
          <a:xfrm>
            <a:off x="1571760" y="225432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638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Коты Елисей и Василиса </a:t>
            </a: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уселись на зданиях возле Малой Садовой в начале нулевых. И это не просто скульптуры абстрактных кошек. Дело в том, что эти усатые и пушистые создания в свое время спасли Ленинград от страшной напасти - крыс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Во время Блокады коты в городе повымерли: кто-то от голода, кого-то съели. В итоге резко выросло поголовье крыс, которые, как известно, являются разносчиками множества опасных заболеваний, а также поедают запасы еды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Тогда руководство Ленинграда приняло решение «заказать» в Ярославле четыре вагона дымчатых кошек. Их тут же распределили по основным точкам инфраструктуры. Кошки охотились на грызунов и таким образом спасали и городское продовольствие, и самих горожан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Малая Садовая улица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ost_photo" descr="http://cs837121.vk.me/v837121889/eb30/4Do534iWxIw.jpg"/>
          <p:cNvPicPr/>
          <p:nvPr/>
        </p:nvPicPr>
        <p:blipFill>
          <a:blip r:embed="rId1"/>
          <a:stretch/>
        </p:blipFill>
        <p:spPr>
          <a:xfrm>
            <a:off x="2143080" y="3643200"/>
            <a:ext cx="4608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4614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24456"/>
                </a:solidFill>
                <a:latin typeface="Georgia"/>
              </a:rPr>
              <a:t>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Медведи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Двое милых хозяев русского леса охраняют главный вход на завод Зигеля (крайне примечательный памятник архитектуры эпохи модерна). Их придумал скульптор Обер, а сами фигурки отливали на знаменитом заводе Сан-Гали. Скульптуры практически в неизменном виде дожили до наших дне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улица Достоевского, 44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ost_photo" descr="http://cs837121.vk.me/v837121889/eb39/-5UJJrR4TsM.jpg"/>
          <p:cNvPicPr/>
          <p:nvPr/>
        </p:nvPicPr>
        <p:blipFill>
          <a:blip r:embed="rId1"/>
          <a:stretch/>
        </p:blipFill>
        <p:spPr>
          <a:xfrm>
            <a:off x="5214960" y="857160"/>
            <a:ext cx="3643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Собака Му-му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Один из самых трогательных «литературных» памятников Петербурга. Установленный в 2006 году у кафе «Два му» скульптором Арамом Аревикяном, он изображает грустную собаку, видимо, ждущую своего хозяина (его сапоги и пальто тоже были отлиты). А тот, видимо, как раз решает ее судьбу, сидя в харчевн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перекресток улиц Тургенева и Садовой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ost_photo" descr="http://cs837121.vk.me/v837121889/eb41/zIDhInyEFOg.jpg"/>
          <p:cNvPicPr/>
          <p:nvPr/>
        </p:nvPicPr>
        <p:blipFill>
          <a:blip r:embed="rId1"/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Trebuchet MS"/>
              </a:rPr>
              <a:t>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Собака (Павлова)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Этот памятник безымянной собаке, которая внесла вклад в развитие науки, был установлен в 1936 году во дворе Института экспериментальной медицины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На постаменте памятника изображены различные эпизоды развития науки, в которых собаки принимали непосредственное участи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улица Академика Павлова, 12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ost_photo" descr="http://cs837121.vk.me/v837121889/eb48/jj6IMfKjm24.jpg"/>
          <p:cNvPicPr/>
          <p:nvPr/>
        </p:nvPicPr>
        <p:blipFill>
          <a:blip r:embed="rId1"/>
          <a:stretch/>
        </p:blipFill>
        <p:spPr>
          <a:xfrm>
            <a:off x="2190600" y="2816280"/>
            <a:ext cx="4762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Птичка Чижик-Пыжик 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Наверняка не все знают, что название Чижик-Пыжик в Санкт-Петербурге появилось еще в 19 столетии. Дело в том, что в 1835 году на набережной Фонтанки принцем Ольденбургским было основано Императорское училище правоведения. Его студентам предписывалось носить форменные пыжиковые шапки и зеленые мундиры с желтыми обшлагами и петлицами, поэтому с чьей-то легкой руки за ними закрепилось прозвище Чижики-Пыжики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Р</a:t>
            </a:r>
            <a:r>
              <a:rPr b="1" i="1" lang="ru-RU" sz="1600" spc="-1" strike="noStrike">
                <a:solidFill>
                  <a:srgbClr val="424456"/>
                </a:solidFill>
                <a:latin typeface="Trebuchet MS"/>
              </a:rPr>
              <a:t>ядом с Инженерным напротив наб. Фонтанки дома №12/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5" descr="http://famequotes.ru/images/1_299.jpg"/>
          <p:cNvPicPr/>
          <p:nvPr/>
        </p:nvPicPr>
        <p:blipFill>
          <a:blip r:embed="rId1"/>
          <a:stretch/>
        </p:blipFill>
        <p:spPr>
          <a:xfrm>
            <a:off x="2189160" y="3000240"/>
            <a:ext cx="4668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290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Кони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Конных скульптур в городе полно, но те, что стоят на Аничковом мосту — главные и лучшие. Их создавал талантливый скульптор-анималист Клодт, уже прославившийся своими зверушками у постамента памятнику Крылову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Эти скульптуры известны на весь мир, не только потому что являются визитной карточкой Петербурга, но и из-за того, что Николай Первый успел подарить копии коней европейским монархам. В частности, скульптуры можно увидеть в Берлин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Аничков мост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ost_photo" descr="http://cs837121.vk.me/v837121889/eb58/8S3gQnYpZss.jpg"/>
          <p:cNvPicPr/>
          <p:nvPr/>
        </p:nvPicPr>
        <p:blipFill>
          <a:blip r:embed="rId1"/>
          <a:stretch/>
        </p:blipFill>
        <p:spPr>
          <a:xfrm>
            <a:off x="4667400" y="3216240"/>
            <a:ext cx="4190760" cy="3070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КОНЬ.jpg"/>
          <p:cNvPicPr/>
          <p:nvPr/>
        </p:nvPicPr>
        <p:blipFill>
          <a:blip r:embed="rId2"/>
          <a:stretch/>
        </p:blipFill>
        <p:spPr>
          <a:xfrm>
            <a:off x="428760" y="3454560"/>
            <a:ext cx="39290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861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</a:t>
            </a:r>
            <a:r>
              <a:rPr b="0" i="1" lang="ru-RU" sz="16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Верблюд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В 1892 году Российское географическое общество установило памятник путешественнику Пржевальскому. У его постамента была сделана скульптура дикого верблюда, которого Пржевальский впервые описал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С этим памятником связана еще одна легенда. Многим ленинградцам Пржевальский казался слишком похожим на Сталина, после чего родилась легенда о том, что путешественник — настоящий отец генералиссимуса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Александровский сад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0" name="post_photo" descr="http://cs837121.vk.me/v837121889/eb60/6KBNzVk_VOE.jpg"/>
          <p:cNvPicPr/>
          <p:nvPr/>
        </p:nvPicPr>
        <p:blipFill>
          <a:blip r:embed="rId1"/>
          <a:stretch/>
        </p:blipFill>
        <p:spPr>
          <a:xfrm>
            <a:off x="1428840" y="2857680"/>
            <a:ext cx="6557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Заяц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Знаменитый ныне «Зайчик, спасшийся от наводнения» был установлен всего 11 лет назад, к 300 летию Петербурга. Скульптор Петровичев и архитектор Петченко поставили белого и пушистого на деревянный постамент, на котором есть отметки высоты подъема воды во время крупнейших наводнений в Петербурге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под Иоанновским мостом Петропавловской крепости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ost_photo" descr="http://cs837121.vk.me/v837121889/eb67/XbfrSyiHEuE.jpg"/>
          <p:cNvPicPr/>
          <p:nvPr/>
        </p:nvPicPr>
        <p:blipFill>
          <a:blip r:embed="rId1"/>
          <a:stretch/>
        </p:blipFill>
        <p:spPr>
          <a:xfrm>
            <a:off x="2000160" y="2770200"/>
            <a:ext cx="50720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2T10:38:30Z</dcterms:created>
  <dc:creator>1</dc:creator>
  <dc:description/>
  <dc:language>en-US</dc:language>
  <cp:lastModifiedBy>Чапельник</cp:lastModifiedBy>
  <dcterms:modified xsi:type="dcterms:W3CDTF">2017-05-14T21:04:40Z</dcterms:modified>
  <cp:revision>10</cp:revision>
  <dc:subject/>
  <dc:title>Презентация для детей  2-й младшей группы  «Самые интересные скульптуры животных в Санкт-Петербурге»</dc:title>
</cp:coreProperties>
</file>