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D62-E57F-4D70-8882-FBC71079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7A7-CD37-4A1E-8817-6C7375E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33C-C1CE-41A9-92BA-21778264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CD9-800D-4773-935E-7CD76297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90F2-7968-451C-BDE3-F5B12419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B34E-2DC7-4D5D-BF09-61D341E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34B-FF1A-4B2C-895E-A97E049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E9A-03DE-49CA-B106-D702619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F0B-436E-445D-8BE0-AC8F460F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81D2-8FB8-428D-B269-08EAA9CA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D72D-BAE0-41C2-A110-320A6AFD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1D9-BB6A-46AC-8A42-BEA64D01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8F07-016E-458D-8630-F3B2701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0A2C-6D35-465A-ACAC-AC3B66C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CD0-68B7-4362-A304-601F3945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E39-2DD0-43BC-A742-452D8AB9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1F46-DE28-4CC6-B7DA-42C8C299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E677C-F150-4BF2-AE5D-371E10AA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FC016-B280-4724-9B0C-26BDCC3E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FEA2B-4F4E-4B94-8B5A-D5950DA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93B2C-9948-4C74-85A6-FB229B48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F7B79-6FB4-499F-B921-E546A544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B31-64D2-403F-A7D3-C37D88FD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E0D04-6657-4619-BB5B-A407173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B96FF-9E67-47D2-BD25-87C842B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4C53E-EFF3-4895-9F6B-1809DA8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68495-B8CA-4947-9D2A-D80E43E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590A2-05FC-4D21-B25F-41925C7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5B1AF-5B3A-4EBE-BA38-6BC4F7F1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C5627-216F-4D68-AD83-ABACEC9D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2938-8A40-4FDB-B711-8CA58AB3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4DD5-8326-40EB-8254-96BEABB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DD49-52C9-4371-B001-50A5F9D4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790-3E9B-414A-91DE-AD2E2A0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DBE5-05EE-4AE3-8C9D-5A1B4838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BC27-2321-4968-ACDE-B5CBF3D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F3E1-151B-40C1-BB93-C0242A2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AC92-6A35-44EF-B3BD-01F35D6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29A67-11B7-4E33-8ED1-EAC8A58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5387-CB58-48F3-866C-F97CACDB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9FB0-1546-4982-B17B-776DDB6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0D9A-5734-47B2-A5A9-E593C05E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8781-3E23-4BE5-8D40-1EAC8C5E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02B-F58D-491D-9F7B-044F5B9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E58-B813-4E5E-B9A4-095F9EA0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C3E-1A89-4FDD-B14B-5DBEF37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2CA-AFAE-481C-826D-9DB4C193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9B0-CAC9-44C6-8A07-4ED578B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74A-839C-4AC2-9D70-8FD2AC3E144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828-0252-409B-9109-654050A6B93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79A-C9F3-46DF-8AD1-13DFD0A5BEA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5143-8288-49F6-AD62-67D89A14B5F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3340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резентация для дете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2-й младшей групп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«Самые интересные скульптуры животных в Санкт-Петербурге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дготовила воспитател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БДОУ №3 Петроградского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-на Санкт-Петербург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оорт О.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Бегемотиха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Зовут ее Тоня, установил ее автор зайца Петроничев в 2005 году. Двор филфака СПбГУ полон разных скульптур животных (среди прочего, там есть еще такса и «факультетский козел»), но Тоня — самая знаменитая. Ее гладят «на удачу» перед экзаменами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На постаменте установлена табличка, которая гласит: «По легенде девушка, которая мечтает найти жениха, должна подержаться за правое ухо бегемотихи, а молодой человек если хочет найти невесту, за левое»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двор филологического факультета СПбГу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post_photo" descr="http://cs837121.vk.me/v837121889/eb6e/mXglqAT21CY.jpg"/>
          <p:cNvPicPr/>
          <p:nvPr/>
        </p:nvPicPr>
        <p:blipFill>
          <a:blip r:embed="rId1"/>
          <a:stretch/>
        </p:blipFill>
        <p:spPr>
          <a:xfrm>
            <a:off x="2500200" y="3098880"/>
            <a:ext cx="51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Улитка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Еще одна скульптура авторства Петровичева, установленная во дворе филфака СПбГУ. Ее установили в 2006 году перед дверью кафедры фонетик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двор филологического факультета СПбГУ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post_photo" descr="http://cs837121.vk.me/v837121889/eb75/QwjEr3E2KdA.jpg"/>
          <p:cNvPicPr/>
          <p:nvPr/>
        </p:nvPicPr>
        <p:blipFill>
          <a:blip r:embed="rId1"/>
          <a:stretch/>
        </p:blipFill>
        <p:spPr>
          <a:xfrm>
            <a:off x="1571760" y="225432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638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Коты Елисей и Василиса </a:t>
            </a: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уселись на зданиях возле Малой Садовой в начале нулевых. И это не просто скульптуры абстрактных кошек. Дело в том, что эти усатые и пушистые создания в свое время спасли Ленинград от страшной напасти - крыс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Во время Блокады коты в городе повымерли: кто-то от голода, кого-то съели. В итоге резко выросло поголовье крыс, которые, как известно, являются разносчиками множества опасных заболеваний, а также поедают запасы еды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Тогда руководство Ленинграда приняло решение «заказать» в Ярославле четыре вагона дымчатых кошек. Их тут же распределили по основным точкам инфраструктуры. Кошки охотились на грызунов и таким образом спасали и городское продовольствие, и самих горожан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Малая Садовая улица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ost_photo" descr="http://cs837121.vk.me/v837121889/eb30/4Do534iWxIw.jpg"/>
          <p:cNvPicPr/>
          <p:nvPr/>
        </p:nvPicPr>
        <p:blipFill>
          <a:blip r:embed="rId1"/>
          <a:stretch/>
        </p:blipFill>
        <p:spPr>
          <a:xfrm>
            <a:off x="2143080" y="3643200"/>
            <a:ext cx="4608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4614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24456"/>
                </a:solidFill>
                <a:latin typeface="Georgia"/>
              </a:rPr>
              <a:t>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Медведи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Двое милых хозяев русского леса охраняют главный вход на завод Зигеля (крайне примечательный памятник архитектуры эпохи модерна). Их придумал скульптор Обер, а сами фигурки отливали на знаменитом заводе Сан-Гали. Скульптуры практически в неизменном виде дожили до наших дне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улица Достоевского, 44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ost_photo" descr="http://cs837121.vk.me/v837121889/eb39/-5UJJrR4TsM.jpg"/>
          <p:cNvPicPr/>
          <p:nvPr/>
        </p:nvPicPr>
        <p:blipFill>
          <a:blip r:embed="rId1"/>
          <a:stretch/>
        </p:blipFill>
        <p:spPr>
          <a:xfrm>
            <a:off x="5214960" y="857160"/>
            <a:ext cx="36432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Собака Му-му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Один из самых трогательных «литературных» памятников Петербурга. Установленный в 2006 году у кафе «Два му» скульптором Арамом Аревикяном, он изображает грустную собаку, видимо, ждущую своего хозяина (его сапоги и пальто тоже были отлиты). А тот, видимо, как раз решает ее судьбу, сидя в харчевне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перекресток улиц Тургенева и Садовой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ost_photo" descr="http://cs837121.vk.me/v837121889/eb41/zIDhInyEFOg.jpg"/>
          <p:cNvPicPr/>
          <p:nvPr/>
        </p:nvPicPr>
        <p:blipFill>
          <a:blip r:embed="rId1"/>
          <a:stretch/>
        </p:blipFill>
        <p:spPr>
          <a:xfrm>
            <a:off x="1689120" y="2249640"/>
            <a:ext cx="57657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Trebuchet MS"/>
              </a:rPr>
              <a:t> 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Собака (Павлова)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Этот памятник безымянной собаке, которая внесла вклад в развитие науки, был установлен в 1936 году во дворе Института экспериментальной медицины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На постаменте памятника изображены различные эпизоды развития науки, в которых собаки принимали непосредственное участие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улица Академика Павлова, 12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ost_photo" descr="http://cs837121.vk.me/v837121889/eb48/jj6IMfKjm24.jpg"/>
          <p:cNvPicPr/>
          <p:nvPr/>
        </p:nvPicPr>
        <p:blipFill>
          <a:blip r:embed="rId1"/>
          <a:stretch/>
        </p:blipFill>
        <p:spPr>
          <a:xfrm>
            <a:off x="2190600" y="2816280"/>
            <a:ext cx="4762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Птичка Чижик-Пыжик 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Наверняка не все знают, что название Чижик-Пыжик в Санкт-Петербурге появилось еще в 19 столетии. Дело в том, что в 1835 году на набережной Фонтанки принцем Ольденбургским было основано Императорское училище правоведения. Его студентам предписывалось носить форменные пыжиковые шапки и зеленые мундиры с желтыми обшлагами и петлицами, поэтому с чьей-то легкой руки за ними закрепилось прозвище Чижики-Пыжики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Р</a:t>
            </a:r>
            <a:r>
              <a:rPr b="1" i="1" lang="ru-RU" sz="1600" spc="-1" strike="noStrike">
                <a:solidFill>
                  <a:srgbClr val="424456"/>
                </a:solidFill>
                <a:latin typeface="Trebuchet MS"/>
              </a:rPr>
              <a:t>ядом с Инженерным напротив наб. Фонтанки дома №12/1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5" descr="http://famequotes.ru/images/1_299.jpg"/>
          <p:cNvPicPr/>
          <p:nvPr/>
        </p:nvPicPr>
        <p:blipFill>
          <a:blip r:embed="rId1"/>
          <a:stretch/>
        </p:blipFill>
        <p:spPr>
          <a:xfrm>
            <a:off x="2189160" y="3000240"/>
            <a:ext cx="4668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290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Кони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Конных скульптур в городе полно, но те, что стоят на Аничковом мосту — главные и лучшие. Их создавал талантливый скульптор-анималист Клодт, уже прославившийся своими зверушками у постамента памятнику Крылову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Эти скульптуры известны на весь мир, не только потому что являются визитной карточкой Петербурга, но и из-за того, что Николай Первый успел подарить копии коней европейским монархам. В частности, скульптуры можно увидеть в Берлине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Аничков мост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ost_photo" descr="http://cs837121.vk.me/v837121889/eb58/8S3gQnYpZss.jpg"/>
          <p:cNvPicPr/>
          <p:nvPr/>
        </p:nvPicPr>
        <p:blipFill>
          <a:blip r:embed="rId1"/>
          <a:stretch/>
        </p:blipFill>
        <p:spPr>
          <a:xfrm>
            <a:off x="4667400" y="3216240"/>
            <a:ext cx="4190760" cy="3070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КОНЬ.jpg"/>
          <p:cNvPicPr/>
          <p:nvPr/>
        </p:nvPicPr>
        <p:blipFill>
          <a:blip r:embed="rId2"/>
          <a:stretch/>
        </p:blipFill>
        <p:spPr>
          <a:xfrm>
            <a:off x="428760" y="3454560"/>
            <a:ext cx="39290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861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 </a:t>
            </a:r>
            <a:r>
              <a:rPr b="0" i="1" lang="ru-RU" sz="16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Верблюд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В 1892 году Российское географическое общество установило памятник путешественнику Пржевальскому. У его постамента была сделана скульптура дикого верблюда, которого Пржевальский впервые описал.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С этим памятником связана еще одна легенда. Многим ленинградцам Пржевальский казался слишком похожим на Сталина, после чего родилась легенда о том, что путешественник — настоящий отец генералиссимуса.</a:t>
            </a: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Александровский сад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0" name="post_photo" descr="http://cs837121.vk.me/v837121889/eb60/6KBNzVk_VOE.jpg"/>
          <p:cNvPicPr/>
          <p:nvPr/>
        </p:nvPicPr>
        <p:blipFill>
          <a:blip r:embed="rId1"/>
          <a:stretch/>
        </p:blipFill>
        <p:spPr>
          <a:xfrm>
            <a:off x="1428840" y="2857680"/>
            <a:ext cx="65577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                                    </a:t>
            </a:r>
            <a:r>
              <a:rPr b="0" i="1" lang="ru-RU" sz="1800" spc="-1" strike="noStrike">
                <a:solidFill>
                  <a:srgbClr val="424456"/>
                </a:solidFill>
                <a:latin typeface="Georgia"/>
              </a:rPr>
              <a:t>Заяц</a:t>
            </a:r>
            <a:br>
              <a:rPr sz="1600"/>
            </a:b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     Знаменитый ныне «Зайчик, спасшийся от наводнения» был установлен всего 11 лет назад, к 300 летию Петербурга. Скульптор Петровичев и архитектор Петченко поставили белого и пушистого на деревянный постамент, на котором есть отметки высоты подъема воды во время крупнейших наводнений в Петербурге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424456"/>
                </a:solidFill>
                <a:latin typeface="Georgia"/>
              </a:rPr>
              <a:t>Адрес: под Иоанновским мостом Петропавловской крепости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ost_photo" descr="http://cs837121.vk.me/v837121889/eb67/XbfrSyiHEuE.jpg"/>
          <p:cNvPicPr/>
          <p:nvPr/>
        </p:nvPicPr>
        <p:blipFill>
          <a:blip r:embed="rId1"/>
          <a:stretch/>
        </p:blipFill>
        <p:spPr>
          <a:xfrm>
            <a:off x="2000160" y="2770200"/>
            <a:ext cx="50720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2T10:38:30Z</dcterms:created>
  <dc:creator>1</dc:creator>
  <dc:description/>
  <dc:language>en-US</dc:language>
  <cp:lastModifiedBy>Чапельник</cp:lastModifiedBy>
  <dcterms:modified xsi:type="dcterms:W3CDTF">2017-05-14T21:04:40Z</dcterms:modified>
  <cp:revision>10</cp:revision>
  <dc:subject/>
  <dc:title>Презентация для детей  2-й младшей группы  «Самые интересные скульптуры животных в Санкт-Петербурге»</dc:title>
</cp:coreProperties>
</file>