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039-E948-4CB3-80F7-E29AB031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624-19F9-4275-9ED8-0F568235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355-9A53-4107-B053-9AF52C67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8AD-E385-4035-B061-33241C8F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8F91-6C17-4AB7-88B7-2CB4A400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1C03-3902-4163-A053-6959723A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8A7E-B338-4936-885B-3BC25B96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23DD-447C-49C8-A3CB-BE799296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54E9-4F59-468D-B1B5-AC780137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4113-FEA9-4266-A2E7-04AF1AC2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1556-3590-4F2C-91EF-DCD62649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AE6-F980-44EC-A341-7028E2FB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F4F0-69C6-4EC5-8265-105407B1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7801-CD9F-4C29-989A-816F8B1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2955-F8BE-4E18-B3BF-651FAAC7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989C-C0F9-4FC6-890B-84820D83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B53C-3BDC-4FA4-827F-F19AD3C5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8664-857F-4C99-845E-D5936FB3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602D-DB70-43AD-8BAF-8F084F62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53F3-4BCC-40F5-AF95-8445324B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ECD8-7388-41A3-82F9-B46F66E5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5841-C6E5-4D32-B6F3-1DFE6FF6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78D-E4F0-402E-99D7-D95859F6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9124-692E-4D4E-ADE3-AE8F696C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A4FA-6850-4D3E-BE74-95CED2C4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1FBA-C7AB-4B04-AEB6-73917097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BB3C-6815-479A-A303-994404B3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013D-96C5-4D85-9251-2A6816C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ACA8-F70D-47FD-9FC9-4C60A200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54B0-F62F-4F8A-B39B-AEE9FE60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4AEB-7BE0-4927-811E-0A987487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1053-39EB-4C7E-8BBF-B8B446CF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960B-C3C7-4136-A109-F8EFDC01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8F9-CBA9-4052-9BDE-DB92A480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02F07-79F5-4887-9C61-6ADD141F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38B8-D6D7-4C1D-AC70-D315A1FC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CDEE-CFE9-49AD-8A64-4DE911B5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0929-2EA4-4746-BF03-277FDDA3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60BB2-50A1-41A8-B975-0F4934E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CEBF-3563-463B-AD3E-D216D437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C50C-C8B7-4377-B1AC-6145F15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896BA-357A-4C04-A850-D954F3CE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592A-3377-4AD4-A5D8-75221771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162-9A69-42BB-A308-A575A8B4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601-950F-4A30-A967-D0C8C7E9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3B1-8B3F-4399-97EA-634877DC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823-F6A9-475E-B012-5EE713A6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64E-A7DD-493A-BF48-DA1C16D4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4ED6-51E5-4B80-ABD1-AB4D2A8702FC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C1D6-DDE6-4CAC-AE8F-2D5BF962981D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53E4-033D-497F-9C34-2B9C64D8747E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DCD8-3769-489F-91FC-C50CAEEF0137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49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ТЕХНОЛОГИЯ ОЦЕНИВАНИЯ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УЧЕБНЫХ ДОСТИЖЕНИ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МЛАДШИХ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ШКОЛЬНИКОВ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УНИВЕРСАЛЬНЫЕ ВОПРОСЫ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grpSp>
        <p:nvGrpSpPr>
          <p:cNvPr id="234" name="Organization Chart 3"/>
          <p:cNvGrpSpPr/>
          <p:nvPr/>
        </p:nvGrpSpPr>
        <p:grpSpPr>
          <a:xfrm>
            <a:off x="457200" y="2259000"/>
            <a:ext cx="8152920" cy="3738960"/>
            <a:chOff x="457200" y="2259000"/>
            <a:chExt cx="8152920" cy="3738960"/>
          </a:xfrm>
        </p:grpSpPr>
        <p:cxnSp>
          <p:nvCxnSpPr>
            <p:cNvPr id="235" name="_s1028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5585760" y="2700720"/>
              <a:ext cx="748440" cy="285408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1029"/>
            <p:cNvCxnSpPr>
              <a:stCxn id="239" idx="0"/>
              <a:endCxn id="237" idx="2"/>
            </p:cNvCxnSpPr>
            <p:nvPr/>
          </p:nvCxnSpPr>
          <p:spPr>
            <a:xfrm flipV="1">
              <a:off x="4533480" y="3753720"/>
              <a:ext cx="360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1030"/>
            <p:cNvCxnSpPr>
              <a:stCxn id="241" idx="0"/>
              <a:endCxn id="237" idx="2"/>
            </p:cNvCxnSpPr>
            <p:nvPr/>
          </p:nvCxnSpPr>
          <p:spPr>
            <a:xfrm flipH="1" flipV="1" rot="5400000">
              <a:off x="2732760" y="2701080"/>
              <a:ext cx="748440" cy="285408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7" name="_s1031"/>
            <p:cNvSpPr/>
            <p:nvPr/>
          </p:nvSpPr>
          <p:spPr>
            <a:xfrm>
              <a:off x="3310560" y="2259000"/>
              <a:ext cx="2445840" cy="1495440"/>
            </a:xfrm>
            <a:prstGeom prst="roundRect">
              <a:avLst>
                <a:gd name="adj" fmla="val 16667"/>
              </a:avLst>
            </a:prstGeom>
            <a:solidFill>
              <a:srgbClr val="7a7a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ff"/>
                  </a:solidFill>
                  <a:latin typeface="Tahoma"/>
                  <a:ea typeface="Arial"/>
                </a:rPr>
                <a:t>Что такое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ff"/>
                  </a:solidFill>
                  <a:latin typeface="Tahoma"/>
                  <a:ea typeface="Arial"/>
                </a:rPr>
                <a:t>животные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1032"/>
            <p:cNvSpPr/>
            <p:nvPr/>
          </p:nvSpPr>
          <p:spPr>
            <a:xfrm>
              <a:off x="457200" y="4502520"/>
              <a:ext cx="2445840" cy="1495440"/>
            </a:xfrm>
            <a:prstGeom prst="roundRect">
              <a:avLst>
                <a:gd name="adj" fmla="val 16667"/>
              </a:avLst>
            </a:prstGeom>
            <a:solidFill>
              <a:srgbClr val="7a7a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I </a:t>
              </a:r>
              <a:r>
                <a:rPr b="0" lang="ru-RU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уровень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исунок 1-го 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животного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Это волк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_s1033"/>
            <p:cNvSpPr/>
            <p:nvPr/>
          </p:nvSpPr>
          <p:spPr>
            <a:xfrm>
              <a:off x="3310560" y="4502520"/>
              <a:ext cx="2445840" cy="1495440"/>
            </a:xfrm>
            <a:prstGeom prst="roundRect">
              <a:avLst>
                <a:gd name="adj" fmla="val 16667"/>
              </a:avLst>
            </a:prstGeom>
            <a:solidFill>
              <a:srgbClr val="7a7a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II </a:t>
              </a:r>
              <a:r>
                <a:rPr b="0" lang="ru-RU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уровень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исунок всех 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едставителей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-ти групп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_s1034"/>
            <p:cNvSpPr/>
            <p:nvPr/>
          </p:nvSpPr>
          <p:spPr>
            <a:xfrm>
              <a:off x="6164280" y="4502520"/>
              <a:ext cx="2445840" cy="1495440"/>
            </a:xfrm>
            <a:prstGeom prst="roundRect">
              <a:avLst>
                <a:gd name="adj" fmla="val 16667"/>
              </a:avLst>
            </a:prstGeom>
            <a:solidFill>
              <a:srgbClr val="7a7a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III </a:t>
              </a:r>
              <a:r>
                <a:rPr b="0" lang="ru-RU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уровень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ассказ в виде 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доказательства,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определение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457200" y="380880"/>
          <a:ext cx="8229600" cy="5715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3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фактологически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4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описательн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5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доказательн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5/5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творчески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282e"/>
                </a:solidFill>
                <a:latin typeface="Arial"/>
              </a:rPr>
              <a:t>ДЕСЯТИБАЛЛЬНЫЕ ШКАЛЫ ОЦЕНИВАНИЯ 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1905120"/>
          <a:ext cx="9144000" cy="4038480"/>
        </p:xfrm>
        <a:graphic>
          <a:graphicData uri="http://schemas.openxmlformats.org/drawingml/2006/table">
            <a:tbl>
              <a:tblPr/>
              <a:tblGrid>
                <a:gridCol w="831960"/>
                <a:gridCol w="831600"/>
                <a:gridCol w="830520"/>
                <a:gridCol w="830160"/>
                <a:gridCol w="831960"/>
                <a:gridCol w="933480"/>
                <a:gridCol w="730080"/>
                <a:gridCol w="938160"/>
                <a:gridCol w="722520"/>
                <a:gridCol w="831600"/>
                <a:gridCol w="8319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чень слаб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редств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довлетвори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достаточно удовлетвори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ч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крас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ликолеп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58"/>
          <p:cNvSpPr/>
          <p:nvPr/>
        </p:nvSpPr>
        <p:spPr>
          <a:xfrm>
            <a:off x="2193840" y="3384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1282e"/>
                </a:solidFill>
                <a:latin typeface="Arial Black"/>
              </a:rPr>
              <a:t>ПРИНЦИПЫ БЕЗОТМЕТОЧНОГО ОЦЕНИВАНИЯ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ценка ученика должна предшествовать учительской самооценк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ценка ученика должна постепенно дифференцироватьс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иваться должны только достижения учащихся, предъявляемые самими детьми для оценки, опираясь на правило «Добавлять, а не вычитать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тельное самооценивание должно быть неотрывно от умения себя контролирова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еся должны иметь право на самостоятельный выбор сложности контролируемых задан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иваться прежде всего должна динамика успешности учащихся относительно их сами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еся должны иметь право на сомнение и незнание, которое оформляется в классе и дома особым образ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итоговой аттестации учащихся должна использоваться накопительная система оцено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5148360" y="2060640"/>
            <a:ext cx="374472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83b18"/>
                </a:solidFill>
                <a:latin typeface="Tahoma"/>
              </a:rPr>
              <a:t>Учить можно</a:t>
            </a:r>
            <a:br>
              <a:rPr sz="3500"/>
            </a:br>
            <a:r>
              <a:rPr b="1" i="1" lang="ru-RU" sz="3500" spc="-1" strike="noStrike">
                <a:solidFill>
                  <a:srgbClr val="e83b18"/>
                </a:solidFill>
                <a:latin typeface="Tahoma"/>
              </a:rPr>
              <a:t>   без отметок не хуже, а лучше!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2-ka_5-ka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900000" y="5445000"/>
            <a:ext cx="24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Теперь тебе понятно, чем двойка отличается от пятёрки?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БЕЗОТМЕТОЧНОЕ ОБУЧЕНИЕ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7" name="Line 3"/>
          <p:cNvSpPr/>
          <p:nvPr/>
        </p:nvSpPr>
        <p:spPr>
          <a:xfrm flipV="1">
            <a:off x="826920" y="558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826920" y="558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2340000" y="472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1619280" y="51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61928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2340000" y="472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3132000" y="4292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313200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1"/>
          <p:cNvSpPr/>
          <p:nvPr/>
        </p:nvSpPr>
        <p:spPr>
          <a:xfrm flipV="1">
            <a:off x="3780000" y="393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3780000" y="393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457200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457200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5219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521964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601200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6012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680400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6804000" y="213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1"/>
          <p:cNvSpPr/>
          <p:nvPr/>
        </p:nvSpPr>
        <p:spPr>
          <a:xfrm flipV="1">
            <a:off x="7596360" y="155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7596360" y="1557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8532720" y="1557360"/>
            <a:ext cx="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826920" y="6093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5940360" y="1916280"/>
            <a:ext cx="792360" cy="6490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26"/>
          <p:cNvSpPr/>
          <p:nvPr/>
        </p:nvSpPr>
        <p:spPr>
          <a:xfrm>
            <a:off x="6156360" y="2205000"/>
            <a:ext cx="71280" cy="71640"/>
          </a:xfrm>
          <a:prstGeom prst="ellipse">
            <a:avLst/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27"/>
          <p:cNvSpPr/>
          <p:nvPr/>
        </p:nvSpPr>
        <p:spPr>
          <a:xfrm>
            <a:off x="6443640" y="2205000"/>
            <a:ext cx="73080" cy="71640"/>
          </a:xfrm>
          <a:prstGeom prst="ellipse">
            <a:avLst/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reeform 28"/>
          <p:cNvSpPr/>
          <p:nvPr/>
        </p:nvSpPr>
        <p:spPr>
          <a:xfrm>
            <a:off x="6227640" y="2349360"/>
            <a:ext cx="289080" cy="142920"/>
          </a:xfrm>
          <a:custGeom>
            <a:avLst/>
            <a:gdLst>
              <a:gd name="textAreaLeft" fmla="*/ 0 w 289080"/>
              <a:gd name="textAreaRight" fmla="*/ 289440 w 289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82" h="90">
                <a:moveTo>
                  <a:pt x="0" y="0"/>
                </a:moveTo>
                <a:cubicBezTo>
                  <a:pt x="30" y="45"/>
                  <a:pt x="61" y="90"/>
                  <a:pt x="91" y="90"/>
                </a:cubicBezTo>
                <a:cubicBezTo>
                  <a:pt x="121" y="90"/>
                  <a:pt x="167" y="15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2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НЕДОСТАТКИ СУЩЕСТВУЮЩЕЙ СИСТЕМЫ ОЦЕНИВАНИЯ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7720" y="1413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ъективность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удобство в применении к разным видам работ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зкий диапазон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сутствие индивидуального подхода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чёткость критериев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лая информативность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авмирующий эффект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теря внутреннего мотива обучения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локировка оценочной самостоятельности, что ведёт к зависимости от чужого мнения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Arial"/>
              </a:rPr>
              <a:t>Цель оценки</a:t>
            </a: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: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выявить, что уже получается, а над че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щё надо поработать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ТРЁХЦВЕТНЫЙ ИНДИКАТОР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не знаю, прошу помощи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омневаюсь, не уверен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наю, умею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755640" y="1905120"/>
            <a:ext cx="865080" cy="865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716040" y="3276720"/>
            <a:ext cx="86508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755640" y="4599000"/>
            <a:ext cx="86508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1282e"/>
                </a:solidFill>
                <a:latin typeface="Arial Black"/>
              </a:rPr>
              <a:t>ОБРАЗЕЦ РАБОТЫ ПО МАТЕМАТИКЕ С ОЦЕНОЧНЫМ ЛИСТОМ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917960" y="1905120"/>
          <a:ext cx="3927600" cy="4514760"/>
        </p:xfrm>
        <a:graphic>
          <a:graphicData uri="http://schemas.openxmlformats.org/drawingml/2006/table">
            <a:tbl>
              <a:tblPr/>
              <a:tblGrid>
                <a:gridCol w="1309680"/>
                <a:gridCol w="654120"/>
                <a:gridCol w="982800"/>
                <a:gridCol w="98100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у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 решать задачу по сх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 составлять схему к задач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 составлять все возможные схемы по форму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960" y="874800"/>
            <a:ext cx="4586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«Использование схем при решен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екст работ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Составь схемы к задачам и запиши формул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) Длина веревки А метров. Какой о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ет, если ее уменьшить на 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ров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) Маме А лет, а сыну В лет. Скольк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 ему исполнится через 3 года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еврати формулы в схемы к задачам (составь все возможные схемы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+ С = D               K – E = 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17600" y="1413000"/>
            <a:ext cx="42260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ценочный лист к работе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3"/>
          <p:cNvSpPr/>
          <p:nvPr/>
        </p:nvSpPr>
        <p:spPr>
          <a:xfrm>
            <a:off x="6948360" y="2997360"/>
            <a:ext cx="86544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7956720" y="2997360"/>
            <a:ext cx="86508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35"/>
          <p:cNvSpPr/>
          <p:nvPr/>
        </p:nvSpPr>
        <p:spPr>
          <a:xfrm>
            <a:off x="6948360" y="4076640"/>
            <a:ext cx="86544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36"/>
          <p:cNvSpPr/>
          <p:nvPr/>
        </p:nvSpPr>
        <p:spPr>
          <a:xfrm>
            <a:off x="7956720" y="4076640"/>
            <a:ext cx="86508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Oval 37"/>
          <p:cNvSpPr/>
          <p:nvPr/>
        </p:nvSpPr>
        <p:spPr>
          <a:xfrm>
            <a:off x="6948360" y="5157720"/>
            <a:ext cx="86544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38"/>
          <p:cNvSpPr/>
          <p:nvPr/>
        </p:nvSpPr>
        <p:spPr>
          <a:xfrm>
            <a:off x="7956720" y="5157720"/>
            <a:ext cx="86508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сканирование0004"/>
          <p:cNvPicPr/>
          <p:nvPr/>
        </p:nvPicPr>
        <p:blipFill>
          <a:blip r:embed="rId2"/>
          <a:stretch/>
        </p:blipFill>
        <p:spPr>
          <a:xfrm>
            <a:off x="108000" y="189000"/>
            <a:ext cx="892800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282e"/>
                </a:solidFill>
                <a:latin typeface="Arial Black"/>
              </a:rPr>
              <a:t>ПАМЯТКА ДЛЯ ОЦЕНИВАНИЯ РЕЗУЛЬТАТОВ РАБОТЫ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440" y="22860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Цена» зад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имальное количество балл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ый результ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ксация в «портфолио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239400"/>
            <a:ext cx="460836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УРОВНЕВЫЙ                     ПОДХОД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547640" y="5661000"/>
            <a:ext cx="6120000" cy="1008000"/>
          </a:xfrm>
          <a:prstGeom prst="rect">
            <a:avLst/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547640" y="5734080"/>
            <a:ext cx="64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ahoma"/>
                <a:ea typeface="Arial"/>
              </a:rPr>
              <a:t>Фактологический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- Кто это? Что это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Как называется (по определению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Выдели, выпиши. Дай опреде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124000" y="4149720"/>
            <a:ext cx="4969080" cy="1511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268360" y="4149720"/>
            <a:ext cx="463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ahoma"/>
                <a:ea typeface="Arial"/>
              </a:rPr>
              <a:t>Описательный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- Из чего состоит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Как происходит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Опиши. Срав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На что похож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Приведи свои пример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124000" y="2349360"/>
            <a:ext cx="4896000" cy="180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295000" y="2293920"/>
            <a:ext cx="458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ahoma"/>
                <a:ea typeface="Arial"/>
              </a:rPr>
              <a:t>Доказательный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- Почем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Выдели главно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От чего зависит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Что произойдёт, если …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Докаж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Дай своё опреде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2124000" y="260280"/>
            <a:ext cx="4896000" cy="2089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ahoma"/>
                <a:ea typeface="Arial"/>
              </a:rPr>
              <a:t>Творчески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Изобрази, как ты понимаеш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Объясни, как ты понимаеш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катерина Нуриева</dc:creator>
  <dc:description/>
  <dc:language>en-US</dc:language>
  <cp:lastModifiedBy>Екатерина Нуриева</cp:lastModifiedBy>
  <dcterms:modified xsi:type="dcterms:W3CDTF">2017-05-16T20:18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