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D0A6-17B6-4D5C-8464-B49931EA9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1C3C-4A71-4B30-8176-37E38865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556F-7BB5-4F1F-9BBB-7481462A0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8313-1091-4320-975D-623C36E82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A93B-7F97-4DB6-ABD2-64A5AF1C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19AE-B7CD-4ADD-A64C-C94361F4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5409-DB3D-48B1-B9EC-AA2E0F92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4763-62EA-4029-8B49-0AD841B4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F7EB-28D6-4A03-B7D9-9AB7CDE8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96CA-5C6A-4C1B-B382-48A710BE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493B-0CB7-4E8B-8C57-A6127B27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4E7E-66F9-4AB1-84DB-0F681DDC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148B-1130-475C-9904-71C2BF0B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7C28-7C25-4621-812C-708C153E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DD31-7FBC-429D-8CBA-46DA1388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5909-6DB7-45CB-88B3-6FDF9E869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C279-9A2D-45B2-A372-0B2658CD3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7986E-4570-431D-BA39-706A957FB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B7B3D-1375-4B77-8B01-20442241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A1090-A5EB-45A6-B5D2-30BC851C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9DC55-B731-4E8E-A90A-CEE33472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56898-1EEC-4065-9E62-E68DC2B8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C210-843B-410C-88D0-65D4EA37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123C0-25CE-4E85-B675-AC9CE3F2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9AAE9-8D68-4DCB-B12F-E3310D25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D2A00-6DDD-4496-838A-620ACCC2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E07CA-4D10-450C-BF68-B98A9828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BEC25-5C2C-4F2A-914E-4F7A9812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14E38-AB03-4B8A-A542-9A7DD02B0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DC655-C42A-41C8-9C0A-B7CC6A3C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6A674-AC0B-49FE-80FC-0CACBBC3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34D05-0F89-4473-BA3C-C9BEDF81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6B473-655B-4682-9F29-F6DD834F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AE81-9361-4431-BF1C-457A88F8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852BC-8C40-4DC7-B7F5-34DC30A5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4CD63-7E2F-4973-A427-39201CF5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C1B90-6017-4877-9148-9ACD4DBC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CCB89-EE71-49E4-B4D3-D7E63D9C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94DC3-ADC0-41BA-B31C-4A18E33B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35A65-0583-4005-BC79-900ECC60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455C3-7C69-4BCB-B69B-793335F1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FF9BA-C9F2-406C-A833-B665242B8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099E7-1B95-42C9-B336-F44F64DC9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89EA-9BFC-4F2E-9BA2-69610F28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B198-675D-4CA3-AD6E-A7750878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5266-6D69-409A-95F8-384496C2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F56B-9834-4F4D-B0CA-2C864CD4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F33B-9038-45A9-BE58-FC227AF7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D1F1-1EBA-4A87-A160-88D305DF7F2F}" type="slidenum">
              <a:rPr b="1" lang="ru-RU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6443-960A-4F0B-BC47-AA2F35B55A58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87DF-8243-466B-913C-A7DD0F1E4C78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681B-497A-4AE4-987C-182AD0AAE55F}" type="slidenum">
              <a:rPr b="1" lang="ru-RU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642160" cy="49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ТЕХНОЛОГИЯ ОЦЕНИВАНИЯ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 УЧЕБНЫХ ДОСТИЖЕНИЙ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 МЛАДШИХ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 ШКОЛЬНИКОВ</a:t>
            </a:r>
            <a:endParaRPr b="0" lang="en-US" sz="48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УНИВЕРСАЛЬНЫЕ ВОПРОСЫ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grpSp>
        <p:nvGrpSpPr>
          <p:cNvPr id="234" name="Organization Chart 3"/>
          <p:cNvGrpSpPr/>
          <p:nvPr/>
        </p:nvGrpSpPr>
        <p:grpSpPr>
          <a:xfrm>
            <a:off x="457200" y="2259000"/>
            <a:ext cx="8152920" cy="3738960"/>
            <a:chOff x="457200" y="2259000"/>
            <a:chExt cx="8152920" cy="3738960"/>
          </a:xfrm>
        </p:grpSpPr>
        <p:cxnSp>
          <p:nvCxnSpPr>
            <p:cNvPr id="235" name="_s1028"/>
            <p:cNvCxnSpPr>
              <a:stCxn id="236" idx="0"/>
              <a:endCxn id="237" idx="2"/>
            </p:cNvCxnSpPr>
            <p:nvPr/>
          </p:nvCxnSpPr>
          <p:spPr>
            <a:xfrm flipV="1" rot="16200000">
              <a:off x="5585760" y="2700720"/>
              <a:ext cx="748440" cy="2854080"/>
            </a:xfrm>
            <a:prstGeom prst="bentConnector3">
              <a:avLst>
                <a:gd name="adj1" fmla="val 139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8" name="_s1029"/>
            <p:cNvCxnSpPr>
              <a:stCxn id="239" idx="0"/>
              <a:endCxn id="237" idx="2"/>
            </p:cNvCxnSpPr>
            <p:nvPr/>
          </p:nvCxnSpPr>
          <p:spPr>
            <a:xfrm flipV="1">
              <a:off x="4533480" y="3753720"/>
              <a:ext cx="3600" cy="74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0" name="_s1030"/>
            <p:cNvCxnSpPr>
              <a:stCxn id="241" idx="0"/>
              <a:endCxn id="237" idx="2"/>
            </p:cNvCxnSpPr>
            <p:nvPr/>
          </p:nvCxnSpPr>
          <p:spPr>
            <a:xfrm flipH="1" flipV="1" rot="5400000">
              <a:off x="2732760" y="2701080"/>
              <a:ext cx="748440" cy="2854080"/>
            </a:xfrm>
            <a:prstGeom prst="bentConnector3">
              <a:avLst>
                <a:gd name="adj1" fmla="val 139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7" name="_s1031"/>
            <p:cNvSpPr/>
            <p:nvPr/>
          </p:nvSpPr>
          <p:spPr>
            <a:xfrm>
              <a:off x="3310560" y="2259000"/>
              <a:ext cx="2445840" cy="1495440"/>
            </a:xfrm>
            <a:prstGeom prst="roundRect">
              <a:avLst>
                <a:gd name="adj" fmla="val 16667"/>
              </a:avLst>
            </a:prstGeom>
            <a:solidFill>
              <a:srgbClr val="7a7a7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ff"/>
                  </a:solidFill>
                  <a:latin typeface="Tahoma"/>
                  <a:ea typeface="Arial"/>
                </a:rPr>
                <a:t>Что такое 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ff"/>
                  </a:solidFill>
                  <a:latin typeface="Tahoma"/>
                  <a:ea typeface="Arial"/>
                </a:rPr>
                <a:t>животные?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_s1032"/>
            <p:cNvSpPr/>
            <p:nvPr/>
          </p:nvSpPr>
          <p:spPr>
            <a:xfrm>
              <a:off x="457200" y="4502520"/>
              <a:ext cx="2445840" cy="1495440"/>
            </a:xfrm>
            <a:prstGeom prst="roundRect">
              <a:avLst>
                <a:gd name="adj" fmla="val 16667"/>
              </a:avLst>
            </a:prstGeom>
            <a:solidFill>
              <a:srgbClr val="7a7a7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e83b18"/>
                  </a:solidFill>
                  <a:latin typeface="Tahoma"/>
                  <a:ea typeface="Arial"/>
                </a:rPr>
                <a:t>I </a:t>
              </a:r>
              <a:r>
                <a:rPr b="0" lang="ru-RU" sz="2100" spc="-1" strike="noStrike">
                  <a:solidFill>
                    <a:srgbClr val="e83b18"/>
                  </a:solidFill>
                  <a:latin typeface="Tahoma"/>
                  <a:ea typeface="Arial"/>
                </a:rPr>
                <a:t>уровень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Рисунок 1-го 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животного.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Это волк.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_s1033"/>
            <p:cNvSpPr/>
            <p:nvPr/>
          </p:nvSpPr>
          <p:spPr>
            <a:xfrm>
              <a:off x="3310560" y="4502520"/>
              <a:ext cx="2445840" cy="1495440"/>
            </a:xfrm>
            <a:prstGeom prst="roundRect">
              <a:avLst>
                <a:gd name="adj" fmla="val 16667"/>
              </a:avLst>
            </a:prstGeom>
            <a:solidFill>
              <a:srgbClr val="7a7a7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e83b18"/>
                  </a:solidFill>
                  <a:latin typeface="Tahoma"/>
                  <a:ea typeface="Arial"/>
                </a:rPr>
                <a:t>II </a:t>
              </a:r>
              <a:r>
                <a:rPr b="0" lang="ru-RU" sz="2100" spc="-1" strike="noStrike">
                  <a:solidFill>
                    <a:srgbClr val="e83b18"/>
                  </a:solidFill>
                  <a:latin typeface="Tahoma"/>
                  <a:ea typeface="Arial"/>
                </a:rPr>
                <a:t>уровень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Рисунок всех 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представителей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6-ти групп.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_s1034"/>
            <p:cNvSpPr/>
            <p:nvPr/>
          </p:nvSpPr>
          <p:spPr>
            <a:xfrm>
              <a:off x="6164280" y="4502520"/>
              <a:ext cx="2445840" cy="1495440"/>
            </a:xfrm>
            <a:prstGeom prst="roundRect">
              <a:avLst>
                <a:gd name="adj" fmla="val 16667"/>
              </a:avLst>
            </a:prstGeom>
            <a:solidFill>
              <a:srgbClr val="7a7a7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e83b18"/>
                  </a:solidFill>
                  <a:latin typeface="Tahoma"/>
                  <a:ea typeface="Arial"/>
                </a:rPr>
                <a:t>III </a:t>
              </a:r>
              <a:r>
                <a:rPr b="0" lang="ru-RU" sz="2100" spc="-1" strike="noStrike">
                  <a:solidFill>
                    <a:srgbClr val="e83b18"/>
                  </a:solidFill>
                  <a:latin typeface="Tahoma"/>
                  <a:ea typeface="Arial"/>
                </a:rPr>
                <a:t>уровень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Рассказ в виде 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доказательства,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определение.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457200" y="380880"/>
          <a:ext cx="8229600" cy="5715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3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(фактологический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4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(описательный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5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доказательный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5/5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творческий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1282e"/>
                </a:solidFill>
                <a:latin typeface="Arial"/>
              </a:rPr>
              <a:t>ДЕСЯТИБАЛЛЬНЫЕ ШКАЛЫ ОЦЕНИВАНИЯ </a:t>
            </a:r>
            <a:endParaRPr b="0" lang="en-US" sz="4000" spc="-1" strike="noStrike">
              <a:solidFill>
                <a:srgbClr val="d1282e"/>
              </a:solidFill>
              <a:latin typeface="Arial Black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0" y="1905120"/>
          <a:ext cx="9144000" cy="4038480"/>
        </p:xfrm>
        <a:graphic>
          <a:graphicData uri="http://schemas.openxmlformats.org/drawingml/2006/table">
            <a:tbl>
              <a:tblPr/>
              <a:tblGrid>
                <a:gridCol w="831960"/>
                <a:gridCol w="831600"/>
                <a:gridCol w="830520"/>
                <a:gridCol w="830160"/>
                <a:gridCol w="831960"/>
                <a:gridCol w="933480"/>
                <a:gridCol w="730080"/>
                <a:gridCol w="938160"/>
                <a:gridCol w="722520"/>
                <a:gridCol w="831600"/>
                <a:gridCol w="83196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чень слаб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лаб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средствен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довлетворит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достаточно удовлетворит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орош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ч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орош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екрас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еликолеп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Text Box 58"/>
          <p:cNvSpPr/>
          <p:nvPr/>
        </p:nvSpPr>
        <p:spPr>
          <a:xfrm>
            <a:off x="2193840" y="3384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d1282e"/>
                </a:solidFill>
                <a:latin typeface="Arial Black"/>
              </a:rPr>
              <a:t>ПРИНЦИПЫ БЕЗОТМЕТОЧНОГО ОЦЕНИВАНИЯ</a:t>
            </a:r>
            <a:endParaRPr b="0" lang="en-US" sz="29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оценка ученика должна предшествовать учительской самооценк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оценка ученика должна постепенно дифференцироватьс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цениваться должны только достижения учащихся, предъявляемые самими детьми для оценки, опираясь на правило «Добавлять, а не вычитать»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держательное самооценивание должно быть неотрывно от умения себя контролировать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ащиеся должны иметь право на самостоятельный выбор сложности контролируемых заданий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цениваться прежде всего должна динамика успешности учащихся относительно их самих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ащиеся должны иметь право на сомнение и незнание, которое оформляется в классе и дома особым образо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итоговой аттестации учащихся должна использоваться накопительная система оценок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5148360" y="2060640"/>
            <a:ext cx="374472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e83b18"/>
                </a:solidFill>
                <a:latin typeface="Tahoma"/>
              </a:rPr>
              <a:t>Учить можно</a:t>
            </a:r>
            <a:br>
              <a:rPr sz="3500"/>
            </a:br>
            <a:r>
              <a:rPr b="1" i="1" lang="ru-RU" sz="3500" spc="-1" strike="noStrike">
                <a:solidFill>
                  <a:srgbClr val="e83b18"/>
                </a:solidFill>
                <a:latin typeface="Tahoma"/>
              </a:rPr>
              <a:t>   без отметок не хуже, а лучше!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4" descr="2-ka_5-ka"/>
          <p:cNvPicPr/>
          <p:nvPr/>
        </p:nvPicPr>
        <p:blipFill>
          <a:blip r:embed="rId1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5"/>
          <p:cNvSpPr/>
          <p:nvPr/>
        </p:nvSpPr>
        <p:spPr>
          <a:xfrm>
            <a:off x="900000" y="5445000"/>
            <a:ext cx="244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Tahoma"/>
              </a:rPr>
              <a:t>Теперь тебе понятно, чем двойка отличается от пятёрки?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БЕЗОТМЕТОЧНОЕ ОБУЧЕНИЕ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7" name="Line 3"/>
          <p:cNvSpPr/>
          <p:nvPr/>
        </p:nvSpPr>
        <p:spPr>
          <a:xfrm flipV="1">
            <a:off x="826920" y="5589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826920" y="5589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Line 5"/>
          <p:cNvSpPr/>
          <p:nvPr/>
        </p:nvSpPr>
        <p:spPr>
          <a:xfrm flipV="1">
            <a:off x="2340000" y="4724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1619280" y="5157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1619280" y="5157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Line 8"/>
          <p:cNvSpPr/>
          <p:nvPr/>
        </p:nvSpPr>
        <p:spPr>
          <a:xfrm>
            <a:off x="2340000" y="4724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Line 9"/>
          <p:cNvSpPr/>
          <p:nvPr/>
        </p:nvSpPr>
        <p:spPr>
          <a:xfrm flipV="1">
            <a:off x="3132000" y="4292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Line 10"/>
          <p:cNvSpPr/>
          <p:nvPr/>
        </p:nvSpPr>
        <p:spPr>
          <a:xfrm>
            <a:off x="3132000" y="4292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11"/>
          <p:cNvSpPr/>
          <p:nvPr/>
        </p:nvSpPr>
        <p:spPr>
          <a:xfrm flipV="1">
            <a:off x="3780000" y="393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12"/>
          <p:cNvSpPr/>
          <p:nvPr/>
        </p:nvSpPr>
        <p:spPr>
          <a:xfrm>
            <a:off x="3780000" y="3933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13"/>
          <p:cNvSpPr/>
          <p:nvPr/>
        </p:nvSpPr>
        <p:spPr>
          <a:xfrm flipV="1">
            <a:off x="4572000" y="35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14"/>
          <p:cNvSpPr/>
          <p:nvPr/>
        </p:nvSpPr>
        <p:spPr>
          <a:xfrm>
            <a:off x="4572000" y="3500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Line 15"/>
          <p:cNvSpPr/>
          <p:nvPr/>
        </p:nvSpPr>
        <p:spPr>
          <a:xfrm flipV="1">
            <a:off x="5219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Line 16"/>
          <p:cNvSpPr/>
          <p:nvPr/>
        </p:nvSpPr>
        <p:spPr>
          <a:xfrm>
            <a:off x="5219640" y="3141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Line 17"/>
          <p:cNvSpPr/>
          <p:nvPr/>
        </p:nvSpPr>
        <p:spPr>
          <a:xfrm flipV="1">
            <a:off x="6012000" y="26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Line 18"/>
          <p:cNvSpPr/>
          <p:nvPr/>
        </p:nvSpPr>
        <p:spPr>
          <a:xfrm>
            <a:off x="6012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Line 19"/>
          <p:cNvSpPr/>
          <p:nvPr/>
        </p:nvSpPr>
        <p:spPr>
          <a:xfrm flipV="1">
            <a:off x="6804000" y="213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Line 20"/>
          <p:cNvSpPr/>
          <p:nvPr/>
        </p:nvSpPr>
        <p:spPr>
          <a:xfrm>
            <a:off x="6804000" y="2133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Line 21"/>
          <p:cNvSpPr/>
          <p:nvPr/>
        </p:nvSpPr>
        <p:spPr>
          <a:xfrm flipV="1">
            <a:off x="7596360" y="1557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Line 22"/>
          <p:cNvSpPr/>
          <p:nvPr/>
        </p:nvSpPr>
        <p:spPr>
          <a:xfrm>
            <a:off x="7596360" y="1557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Line 23"/>
          <p:cNvSpPr/>
          <p:nvPr/>
        </p:nvSpPr>
        <p:spPr>
          <a:xfrm>
            <a:off x="8532720" y="1557360"/>
            <a:ext cx="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Line 24"/>
          <p:cNvSpPr/>
          <p:nvPr/>
        </p:nvSpPr>
        <p:spPr>
          <a:xfrm>
            <a:off x="826920" y="609300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Oval 25"/>
          <p:cNvSpPr/>
          <p:nvPr/>
        </p:nvSpPr>
        <p:spPr>
          <a:xfrm>
            <a:off x="5940360" y="1916280"/>
            <a:ext cx="792360" cy="6490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Oval 26"/>
          <p:cNvSpPr/>
          <p:nvPr/>
        </p:nvSpPr>
        <p:spPr>
          <a:xfrm>
            <a:off x="6156360" y="2205000"/>
            <a:ext cx="71280" cy="71640"/>
          </a:xfrm>
          <a:prstGeom prst="ellipse">
            <a:avLst/>
          </a:prstGeom>
          <a:solidFill>
            <a:srgbClr val="7a7a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Oval 27"/>
          <p:cNvSpPr/>
          <p:nvPr/>
        </p:nvSpPr>
        <p:spPr>
          <a:xfrm>
            <a:off x="6443640" y="2205000"/>
            <a:ext cx="73080" cy="71640"/>
          </a:xfrm>
          <a:prstGeom prst="ellipse">
            <a:avLst/>
          </a:prstGeom>
          <a:solidFill>
            <a:srgbClr val="7a7a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Freeform 28"/>
          <p:cNvSpPr/>
          <p:nvPr/>
        </p:nvSpPr>
        <p:spPr>
          <a:xfrm>
            <a:off x="6227640" y="2349360"/>
            <a:ext cx="289080" cy="142920"/>
          </a:xfrm>
          <a:custGeom>
            <a:avLst/>
            <a:gdLst>
              <a:gd name="textAreaLeft" fmla="*/ 0 w 289080"/>
              <a:gd name="textAreaRight" fmla="*/ 289440 w 2890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82" h="90">
                <a:moveTo>
                  <a:pt x="0" y="0"/>
                </a:moveTo>
                <a:cubicBezTo>
                  <a:pt x="30" y="45"/>
                  <a:pt x="61" y="90"/>
                  <a:pt x="91" y="90"/>
                </a:cubicBezTo>
                <a:cubicBezTo>
                  <a:pt x="121" y="90"/>
                  <a:pt x="167" y="15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12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НЕДОСТАТКИ СУЩЕСТВУЮЩЕЙ СИСТЕМЫ ОЦЕНИВАНИЯ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37720" y="1413000"/>
            <a:ext cx="8007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еобъективность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еудобство в применении к разным видам работ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зкий диапазон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тсутствие индивидуального подхода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ечёткость критериев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алая информативность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равмирующий эффект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теря внутреннего мотива обучения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блокировка оценочной самостоятельности, что ведёт к зависимости от чужого мнения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70c0"/>
                </a:solidFill>
                <a:uFillTx/>
                <a:latin typeface="Arial"/>
              </a:rPr>
              <a:t>Цель оценки</a:t>
            </a:r>
            <a:r>
              <a:rPr b="1" lang="ru-RU" sz="2200" spc="-1" strike="noStrike">
                <a:solidFill>
                  <a:srgbClr val="6600ff"/>
                </a:solidFill>
                <a:latin typeface="Arial"/>
              </a:rPr>
              <a:t>:</a:t>
            </a:r>
            <a:r>
              <a:rPr b="1" lang="ru-RU" sz="2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выявить, что уже получается, а над че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                      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ещё надо поработать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2000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2000"/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ТРЁХЦВЕТНЫЙ ИНДИКАТОР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Я не знаю, прошу помощи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Сомневаюсь, не уверен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Знаю, умею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4"/>
          <p:cNvSpPr/>
          <p:nvPr/>
        </p:nvSpPr>
        <p:spPr>
          <a:xfrm>
            <a:off x="755640" y="1905120"/>
            <a:ext cx="865080" cy="865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Oval 5"/>
          <p:cNvSpPr/>
          <p:nvPr/>
        </p:nvSpPr>
        <p:spPr>
          <a:xfrm>
            <a:off x="716040" y="3276720"/>
            <a:ext cx="86508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Oval 6"/>
          <p:cNvSpPr/>
          <p:nvPr/>
        </p:nvSpPr>
        <p:spPr>
          <a:xfrm>
            <a:off x="755640" y="4599000"/>
            <a:ext cx="865080" cy="8650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1404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d1282e"/>
                </a:solidFill>
                <a:latin typeface="Arial Black"/>
              </a:rPr>
              <a:t>ОБРАЗЕЦ РАБОТЫ ПО МАТЕМАТИКЕ С ОЦЕНОЧНЫМ ЛИСТОМ</a:t>
            </a:r>
            <a:endParaRPr b="0" lang="en-US" sz="2900" spc="-1" strike="noStrike">
              <a:solidFill>
                <a:srgbClr val="d1282e"/>
              </a:solidFill>
              <a:latin typeface="Arial Black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917960" y="1905120"/>
          <a:ext cx="3927600" cy="4514760"/>
        </p:xfrm>
        <a:graphic>
          <a:graphicData uri="http://schemas.openxmlformats.org/drawingml/2006/table">
            <a:tbl>
              <a:tblPr/>
              <a:tblGrid>
                <a:gridCol w="1309680"/>
                <a:gridCol w="654120"/>
                <a:gridCol w="982800"/>
                <a:gridCol w="981000"/>
              </a:tblGrid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ум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но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че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в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ю решать задачу по схе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ю составлять схему к задач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ю составлять все возможные схемы по форму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5960" y="874800"/>
            <a:ext cx="45860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Тем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 «Использование схем при решени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ач»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Текст работы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Составь схемы к задачам и запиши формул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a) Длина веревки А метров. Какой он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анет, если ее уменьшить на В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тров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b) Маме А лет, а сыну В лет. Сколько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т ему исполнится через 3 года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Преврати формулы в схемы к задачам (составь все возможные схемы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+ С = D               K – E = 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17600" y="1413000"/>
            <a:ext cx="42260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ценочный лист к работе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33"/>
          <p:cNvSpPr/>
          <p:nvPr/>
        </p:nvSpPr>
        <p:spPr>
          <a:xfrm>
            <a:off x="6948360" y="2997360"/>
            <a:ext cx="865440" cy="8650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Oval 34"/>
          <p:cNvSpPr/>
          <p:nvPr/>
        </p:nvSpPr>
        <p:spPr>
          <a:xfrm>
            <a:off x="7956720" y="2997360"/>
            <a:ext cx="865080" cy="8650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Oval 35"/>
          <p:cNvSpPr/>
          <p:nvPr/>
        </p:nvSpPr>
        <p:spPr>
          <a:xfrm>
            <a:off x="6948360" y="4076640"/>
            <a:ext cx="865440" cy="8650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Oval 36"/>
          <p:cNvSpPr/>
          <p:nvPr/>
        </p:nvSpPr>
        <p:spPr>
          <a:xfrm>
            <a:off x="7956720" y="4076640"/>
            <a:ext cx="865080" cy="8650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Oval 37"/>
          <p:cNvSpPr/>
          <p:nvPr/>
        </p:nvSpPr>
        <p:spPr>
          <a:xfrm>
            <a:off x="6948360" y="5157720"/>
            <a:ext cx="865440" cy="8650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Oval 38"/>
          <p:cNvSpPr/>
          <p:nvPr/>
        </p:nvSpPr>
        <p:spPr>
          <a:xfrm>
            <a:off x="7956720" y="5157720"/>
            <a:ext cx="86508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6840" y="1752120"/>
            <a:ext cx="7620120" cy="4373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сканирование0004"/>
          <p:cNvPicPr/>
          <p:nvPr/>
        </p:nvPicPr>
        <p:blipFill>
          <a:blip r:embed="rId2"/>
          <a:stretch/>
        </p:blipFill>
        <p:spPr>
          <a:xfrm>
            <a:off x="108000" y="189000"/>
            <a:ext cx="8928000" cy="64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1282e"/>
                </a:solidFill>
                <a:latin typeface="Arial Black"/>
              </a:rPr>
              <a:t>ПАМЯТКА ДЛЯ ОЦЕНИВАНИЯ РЕЗУЛЬТАТОВ РАБОТЫ</a:t>
            </a:r>
            <a:endParaRPr b="0" lang="en-US" sz="40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85440" y="228600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-361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Цена» зада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ксимальное количество балл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чный результа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ксация в «портфолио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239400"/>
            <a:ext cx="4608360" cy="10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УРОВНЕВЫЙ                     ПОДХОД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1547640" y="5661000"/>
            <a:ext cx="6120000" cy="1008000"/>
          </a:xfrm>
          <a:prstGeom prst="rect">
            <a:avLst/>
          </a:prstGeom>
          <a:solidFill>
            <a:srgbClr val="7a7a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547640" y="5734080"/>
            <a:ext cx="64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Tahoma"/>
                <a:ea typeface="Arial"/>
              </a:rPr>
              <a:t>Фактологический: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 - Кто это? Что это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- Как называется (по определению)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- Выдели, выпиши. Дай определен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2124000" y="4149720"/>
            <a:ext cx="4969080" cy="151128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2268360" y="4149720"/>
            <a:ext cx="463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Tahoma"/>
                <a:ea typeface="Arial"/>
              </a:rPr>
              <a:t>Описательный: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 - Из чего состоит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- Как происходит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- Опиши. Сравн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- На что похоже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- Приведи свои пример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2124000" y="2349360"/>
            <a:ext cx="4896000" cy="1800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2295000" y="2293920"/>
            <a:ext cx="458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Tahoma"/>
                <a:ea typeface="Arial"/>
              </a:rPr>
              <a:t>Доказательный: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 - Почему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- Выдели главно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- От чего зависит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- Что произойдёт, если …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- Докаж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- Дай своё определен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AutoShape 9"/>
          <p:cNvSpPr/>
          <p:nvPr/>
        </p:nvSpPr>
        <p:spPr>
          <a:xfrm>
            <a:off x="2124000" y="260280"/>
            <a:ext cx="4896000" cy="2089080"/>
          </a:xfrm>
          <a:prstGeom prst="triangle">
            <a:avLst>
              <a:gd name="adj" fmla="val 50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Tahoma"/>
                <a:ea typeface="Arial"/>
              </a:rPr>
              <a:t>Творческий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Изобрази, как ты понимаеш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Объясни, как ты понимаеш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2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2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2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катерина Нуриева</dc:creator>
  <dc:description/>
  <dc:language>en-US</dc:language>
  <cp:lastModifiedBy>Екатерина Нуриева</cp:lastModifiedBy>
  <dcterms:modified xsi:type="dcterms:W3CDTF">2017-05-16T20:18:5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