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3.png" ContentType="image/png"/>
  <Override PartName="/ppt/media/image4.jpeg" ContentType="image/jpeg"/>
  <Override PartName="/ppt/media/image2.png" ContentType="image/png"/>
  <Override PartName="/ppt/media/image5.png" ContentType="image/png"/>
  <Override PartName="/ppt/media/image10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83116-9FC1-4C64-B351-BBD2C7D78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95238-D994-4B37-93C5-8A09EB661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AAB51-2686-451E-B762-CD812D638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BD1A0-D0E4-4D2C-9639-5A8A12375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732C3-0B20-45F2-A1DF-2513A9390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D2B09-BAAA-4525-A35B-FFA59AE41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43AE4-252C-4B73-9066-737B69E49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B4635-1B06-4D60-8254-997BDBB27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75294-C741-4CD4-BEFD-1F6B080FC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B72AB-86BB-4289-AC2F-A640889EA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F6A5F-808A-4012-ABDC-7DB658CFC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EE938-A4C8-4715-A078-EC25C2252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6771A-3D05-4D6A-BD10-8099DAA6726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58560" y="3428640"/>
            <a:ext cx="7358040" cy="2505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РИЗ в развитии творческой активности дошкольников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6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1 этап </a:t>
            </a:r>
            <a:r>
              <a:rPr b="1" lang="ru-RU" sz="3200" spc="-1" strike="noStrike">
                <a:solidFill>
                  <a:srgbClr val="17375e"/>
                </a:solidFill>
                <a:latin typeface="Calibri"/>
              </a:rPr>
              <a:t>- занятия даются не как форма, а как поиск истины и сути. Ребенка подводят к проблеме многофункционального использования объекта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Например: </a:t>
            </a:r>
            <a:r>
              <a:rPr b="1" lang="ru-RU" sz="3200" spc="-1" strike="noStrike">
                <a:solidFill>
                  <a:srgbClr val="17375e"/>
                </a:solidFill>
                <a:latin typeface="Calibri"/>
              </a:rPr>
              <a:t>мяч- как можно использовать предмет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Прямоугольник 3" descr=""/>
          <p:cNvPicPr/>
          <p:nvPr/>
        </p:nvPicPr>
        <p:blipFill>
          <a:blip r:embed="rId1"/>
          <a:stretch/>
        </p:blipFill>
        <p:spPr>
          <a:xfrm>
            <a:off x="1182600" y="-347760"/>
            <a:ext cx="7066080" cy="1103400"/>
          </a:xfrm>
          <a:prstGeom prst="rect">
            <a:avLst/>
          </a:prstGeom>
          <a:ln w="0">
            <a:noFill/>
          </a:ln>
        </p:spPr>
      </p:pic>
    </p:spTree>
  </p:cSld>
  <p:transition spd="slow" advTm="17000">
    <p:fade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Прямоугольник 3"/>
          <p:cNvSpPr/>
          <p:nvPr/>
        </p:nvSpPr>
        <p:spPr>
          <a:xfrm>
            <a:off x="324000" y="1844640"/>
            <a:ext cx="8712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2 этап </a:t>
            </a: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– это «тайна двойного» или выявление противоречий в объекте, явлении, когда что-то в нем хорошо, а что-то плохо, что-то вредно, что-то мешает, а что-то нужн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Например: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«Хорошо-плохо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оугольник 4"/>
          <p:cNvSpPr/>
          <p:nvPr/>
        </p:nvSpPr>
        <p:spPr>
          <a:xfrm>
            <a:off x="539640" y="4941720"/>
            <a:ext cx="8280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3 этап </a:t>
            </a: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– разрешение противоречий. </a:t>
            </a: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Например, задача: </a:t>
            </a: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«Как можно перенести воду в решете?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3000">
    <p:fade/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457200" y="1599840"/>
            <a:ext cx="8507520" cy="514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Calibri"/>
              </a:rPr>
              <a:t>4 этап </a:t>
            </a: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– изобретательство.                                  Основная задача: научить детей искать и находить свое решение. Изобретательство детей выражается в творческой фантазии, в соображении, в придумывании чего-то нового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Calibri"/>
              </a:rPr>
              <a:t>Например : </a:t>
            </a: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придумайте новый учебный стул, на котором вам хотелось бы сидеть. Придумайте новую игрушку и др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25000">
    <p:fade/>
  </p:transition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39528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Calibri"/>
              </a:rPr>
              <a:t>5 этап </a:t>
            </a: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- это решение сказочных задач и придумывание новых сказок с помощью специальных методов. Вся эта работа включает в себя разные виды детской деятельности – игровую деятельность, речевую, рисование, лепку, аппликацию, конструирование и т.д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17000">
    <p:fade/>
  </p:transition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468360" y="1782360"/>
            <a:ext cx="8515440" cy="50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Calibri"/>
              </a:rPr>
              <a:t>6 этап </a:t>
            </a: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- опираясь на полученные знания, интуицию, используя оригинальные решения проблем, малыш учится находить выход из любой сложной ситуации. Здесь воспитатель только наблюдает, ребенок рассчитывает на собственные силы, свой умственный и творческий потенциалы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20000">
    <p:fade/>
  </p:transition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457200" y="1988640"/>
            <a:ext cx="8686800" cy="535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Calibri"/>
              </a:rPr>
              <a:t>1. </a:t>
            </a: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Решение творческих и изобретательских задач любой сложности и направленности без перебора варианто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Calibri"/>
              </a:rPr>
              <a:t>2. </a:t>
            </a: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Прогнозирование развития технических систем (ТС) и получение перспективных решений (в том числе и принципиально новых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Calibri"/>
              </a:rPr>
              <a:t>3. </a:t>
            </a: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Развитие качеств творческой личности.</a:t>
            </a: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Прямоугольник 3" descr=""/>
          <p:cNvPicPr/>
          <p:nvPr/>
        </p:nvPicPr>
        <p:blipFill>
          <a:blip r:embed="rId1"/>
          <a:stretch/>
        </p:blipFill>
        <p:spPr>
          <a:xfrm>
            <a:off x="-6480" y="-146160"/>
            <a:ext cx="8686800" cy="987480"/>
          </a:xfrm>
          <a:prstGeom prst="rect">
            <a:avLst/>
          </a:prstGeom>
          <a:ln w="0">
            <a:noFill/>
          </a:ln>
        </p:spPr>
      </p:pic>
    </p:spTree>
  </p:cSld>
  <p:transition spd="slow" advTm="26000">
    <p:fade/>
  </p:transition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5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5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144360" y="1699920"/>
            <a:ext cx="91440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ru-RU" sz="2600" spc="-1" strike="noStrike">
                <a:solidFill>
                  <a:srgbClr val="002060"/>
                </a:solidFill>
                <a:latin typeface="Calibri"/>
              </a:rPr>
              <a:t>Минимум сообщения информации, максимум рассуждений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ru-RU" sz="2600" spc="-1" strike="noStrike">
                <a:solidFill>
                  <a:srgbClr val="002060"/>
                </a:solidFill>
                <a:latin typeface="Calibri"/>
              </a:rPr>
              <a:t>Оптимальная форма организации обсуждения проблемных ситуаций — мозговой штурм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2060"/>
                </a:solidFill>
                <a:latin typeface="Calibri"/>
              </a:rPr>
              <a:t>Системный подход (все в мире взаимосвязано, и любое явление должно рассматриваться в развитии)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ru-RU" sz="2600" spc="-1" strike="noStrike">
                <a:solidFill>
                  <a:srgbClr val="002060"/>
                </a:solidFill>
                <a:latin typeface="Calibri"/>
              </a:rPr>
              <a:t>Включение в процессе познания всех доступных для ребенка мыслительных операций и средств восприятия(анализаторов, причинно-следственных выводов и заключений, сделанных самостоятельно; предметно-схематичной наглядности)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ru-RU" sz="2600" spc="-1" strike="noStrike">
                <a:solidFill>
                  <a:srgbClr val="002060"/>
                </a:solidFill>
                <a:latin typeface="Calibri"/>
              </a:rPr>
              <a:t>Обязательная активизация творческого воображения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Прямоугольник 3" descr=""/>
          <p:cNvPicPr/>
          <p:nvPr/>
        </p:nvPicPr>
        <p:blipFill>
          <a:blip r:embed="rId1"/>
          <a:stretch/>
        </p:blipFill>
        <p:spPr>
          <a:xfrm>
            <a:off x="-189000" y="-133200"/>
            <a:ext cx="9607680" cy="1584000"/>
          </a:xfrm>
          <a:prstGeom prst="rect">
            <a:avLst/>
          </a:prstGeom>
          <a:ln w="0">
            <a:noFill/>
          </a:ln>
        </p:spPr>
      </p:pic>
    </p:spTree>
  </p:cSld>
  <p:transition spd="slow" advTm="40000">
    <p:fade/>
  </p:transition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5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5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5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500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457200" y="183348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Возможность проявить себ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Стремление получать новую информацию об окружающе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Развивает потребность в познавательной деятельност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Дает возможность созидать, творить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Способствует развитию аналитических способносте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Формировать умение развивать и доказывать свою точку зрения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Прямоугольник 3" descr=""/>
          <p:cNvPicPr/>
          <p:nvPr/>
        </p:nvPicPr>
        <p:blipFill>
          <a:blip r:embed="rId1"/>
          <a:stretch/>
        </p:blipFill>
        <p:spPr>
          <a:xfrm>
            <a:off x="6480" y="-128520"/>
            <a:ext cx="9156600" cy="903240"/>
          </a:xfrm>
          <a:prstGeom prst="rect">
            <a:avLst/>
          </a:prstGeom>
          <a:ln w="0">
            <a:noFill/>
          </a:ln>
        </p:spPr>
      </p:pic>
    </p:spTree>
  </p:cSld>
  <p:transition spd="slow" advTm="24000">
    <p:fade/>
  </p:transition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5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" dur="5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500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4" dur="500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500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395280" y="1844640"/>
            <a:ext cx="8229600" cy="50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3300"/>
                </a:solidFill>
                <a:uFillTx/>
                <a:latin typeface="Calibri"/>
              </a:rPr>
              <a:t>1. Поиск сути. </a:t>
            </a: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Перед детьми ставится проблема (вопрос), которую надо решить. И все ищут разные варианты решения, то, что является истино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3300"/>
                </a:solidFill>
                <a:uFillTx/>
                <a:latin typeface="Calibri"/>
              </a:rPr>
              <a:t>2. «Тайна двойного» </a:t>
            </a: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- выявление противоречий: хорошо-плохо. Например: солнце – это хорошо и плохо. Хорошо- греет, плохо- может сжеч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3300"/>
                </a:solidFill>
                <a:uFillTx/>
                <a:latin typeface="Calibri"/>
              </a:rPr>
              <a:t>3. Разрешение противоречий </a:t>
            </a: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(при помощи игр и сказок). Например: зонт нужен большой, чтобы скрыться под ним от дождя, но он нужен и маленький, чтобы носить его в сумке. Решение этого противоречия – складной зонтик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Прямоугольник 3" descr=""/>
          <p:cNvPicPr/>
          <p:nvPr/>
        </p:nvPicPr>
        <p:blipFill>
          <a:blip r:embed="rId1"/>
          <a:stretch/>
        </p:blipFill>
        <p:spPr>
          <a:xfrm>
            <a:off x="103320" y="-158760"/>
            <a:ext cx="9216720" cy="1579680"/>
          </a:xfrm>
          <a:prstGeom prst="rect">
            <a:avLst/>
          </a:prstGeom>
          <a:ln w="0">
            <a:noFill/>
          </a:ln>
        </p:spPr>
      </p:pic>
    </p:spTree>
  </p:cSld>
  <p:transition spd="slow" advTm="41000">
    <p:fade/>
  </p:transition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8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5" dur="5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2" dur="5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Прямоугольник 4" descr=""/>
          <p:cNvPicPr/>
          <p:nvPr/>
        </p:nvPicPr>
        <p:blipFill>
          <a:blip r:embed="rId1"/>
          <a:stretch/>
        </p:blipFill>
        <p:spPr>
          <a:xfrm>
            <a:off x="-268200" y="-103320"/>
            <a:ext cx="9564480" cy="987480"/>
          </a:xfrm>
          <a:prstGeom prst="rect">
            <a:avLst/>
          </a:prstGeom>
          <a:ln w="0">
            <a:noFill/>
          </a:ln>
        </p:spPr>
      </p:pic>
      <p:pic>
        <p:nvPicPr>
          <p:cNvPr id="78" name="Прямоугольник 5" descr=""/>
          <p:cNvPicPr/>
          <p:nvPr/>
        </p:nvPicPr>
        <p:blipFill>
          <a:blip r:embed="rId2"/>
          <a:stretch/>
        </p:blipFill>
        <p:spPr>
          <a:xfrm>
            <a:off x="1036800" y="731880"/>
            <a:ext cx="7789680" cy="1725480"/>
          </a:xfrm>
          <a:prstGeom prst="rect">
            <a:avLst/>
          </a:prstGeom>
          <a:ln w="0">
            <a:noFill/>
          </a:ln>
        </p:spPr>
      </p:pic>
      <p:sp>
        <p:nvSpPr>
          <p:cNvPr id="79" name="Прямоугольник 6"/>
          <p:cNvSpPr/>
          <p:nvPr/>
        </p:nvSpPr>
        <p:spPr>
          <a:xfrm>
            <a:off x="179280" y="2449440"/>
            <a:ext cx="89647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1.</a:t>
            </a: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 Принцип свободы выбора — в любом обучающем или управляющем действии предоставить ребенку право выбо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2.</a:t>
            </a: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 Принцип открытости — нужно предоставлять ребенку возможность работать с открытыми задачами (не имеющими единственно правильного решения). В условие творческого задания необходимо закладывать разные варианты реш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4000">
    <p:fade/>
  </p:transition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1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" dur="5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539640" y="2133360"/>
            <a:ext cx="8158320" cy="36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Calibri"/>
              </a:rPr>
              <a:t>Как нам всем известно - одним из основных целевых ориентиров Федерального государственного образовательного стандарта дошкольного образования является –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Calibri"/>
              </a:rPr>
              <a:t>развитие творческих способностей ребенка, </a:t>
            </a:r>
            <a:r>
              <a:rPr b="0" lang="ru-RU" sz="2800" spc="-1" strike="noStrike">
                <a:solidFill>
                  <a:srgbClr val="ff3300"/>
                </a:solidFill>
                <a:latin typeface="Calibri"/>
              </a:rPr>
              <a:t>а</a:t>
            </a:r>
            <a:r>
              <a:rPr b="0" lang="ru-RU" sz="2800" spc="-1" strike="noStrike">
                <a:solidFill>
                  <a:srgbClr val="0000cc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ff3300"/>
                </a:solidFill>
                <a:latin typeface="Calibri"/>
              </a:rPr>
              <a:t>использование технологии ТРИЗ – это один из лучших способов разить творческую личность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21000">
    <p:fade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Прямоугольник 3"/>
          <p:cNvSpPr/>
          <p:nvPr/>
        </p:nvSpPr>
        <p:spPr>
          <a:xfrm>
            <a:off x="179280" y="1628640"/>
            <a:ext cx="8785440" cy="30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3. </a:t>
            </a: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Принцип обратной связи — воспитатель может регулярно контролировать процесс освоения детьми мыслительных операций, так как в новых творческих заданиях есть элементы предыдущи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Прямоугольник 4"/>
          <p:cNvSpPr/>
          <p:nvPr/>
        </p:nvSpPr>
        <p:spPr>
          <a:xfrm>
            <a:off x="179280" y="4437000"/>
            <a:ext cx="87138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4. </a:t>
            </a: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Принцип идеальности — творческие задания не требуют специального оборудования и могут быть частью любого занятия, что позволяет максимально использовать возможности, знания и интересы дет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8000">
    <p:fade/>
  </p:transition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7" dur="5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4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108000" y="3357360"/>
            <a:ext cx="90360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Calibri"/>
              </a:rPr>
              <a:t>6. </a:t>
            </a: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Принцип природосообразности обучения. Обучая ребенка, педагог должен идти от его природы. Данный принцип предполагает необходимость  воспитания ребёнка в соответствии с объективными закономерностями развития человека в окружающем мире, т.е. учёт возрастного и индивидуального подходов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Прямоугольник 3"/>
          <p:cNvSpPr/>
          <p:nvPr/>
        </p:nvSpPr>
        <p:spPr>
          <a:xfrm>
            <a:off x="108000" y="1916280"/>
            <a:ext cx="884556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ru-RU" sz="2600" spc="-1" strike="noStrike">
                <a:solidFill>
                  <a:srgbClr val="ff3300"/>
                </a:solidFill>
                <a:latin typeface="Arial"/>
              </a:rPr>
              <a:t>5. </a:t>
            </a:r>
            <a:r>
              <a:rPr b="1" lang="ru-RU" sz="2600" spc="-1" strike="noStrike">
                <a:solidFill>
                  <a:srgbClr val="002060"/>
                </a:solidFill>
                <a:latin typeface="Arial"/>
              </a:rPr>
              <a:t>Принцип деятельности — в любое творческое    задание нужно включать практическую деятельность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3000">
    <p:fade/>
  </p:transition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3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0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611280" y="1844640"/>
            <a:ext cx="820872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Calibri"/>
              </a:rPr>
              <a:t>«Поиск аналогов» </a:t>
            </a: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— необходимо назвать объект и как можно больше его аналогов, сходных с ним по различным существенным признакам. Например: мяч — яблоко (форма), заяц (скачет), шина (из резины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ff3300"/>
                </a:solidFill>
                <a:latin typeface="Calibri"/>
              </a:rPr>
              <a:t>«Поиск противоположного объекта» </a:t>
            </a: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— необходимо назвать объект и как можно больше других объектов, ему противоположных. Например: снег — шерсть (холодный — теплая), уголь (белый — черный), металл (легкий — тяжелый), камень (мягкий — твердый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Прямоугольник 3" descr=""/>
          <p:cNvPicPr/>
          <p:nvPr/>
        </p:nvPicPr>
        <p:blipFill>
          <a:blip r:embed="rId1"/>
          <a:stretch/>
        </p:blipFill>
        <p:spPr>
          <a:xfrm>
            <a:off x="596880" y="-274680"/>
            <a:ext cx="7572240" cy="1103400"/>
          </a:xfrm>
          <a:prstGeom prst="rect">
            <a:avLst/>
          </a:prstGeom>
          <a:ln w="0">
            <a:noFill/>
          </a:ln>
        </p:spPr>
      </p:pic>
    </p:spTree>
  </p:cSld>
  <p:transition spd="slow" advTm="48000">
    <p:fade/>
  </p:transition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9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6" dur="5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351000" y="1915920"/>
            <a:ext cx="8229600" cy="266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Calibri"/>
              </a:rPr>
              <a:t>«Хорошо–плохо» </a:t>
            </a: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— берется объект, не вызывающий у игроков стойких положительных или отрицательных ассоциаций и называется как можно больше положительных и отрицательных его сторон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Прямоугольник 3"/>
          <p:cNvSpPr/>
          <p:nvPr/>
        </p:nvSpPr>
        <p:spPr>
          <a:xfrm>
            <a:off x="351000" y="4724280"/>
            <a:ext cx="8640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«Выбери троих» </a:t>
            </a: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— из пяти случайных слов нужно выбрать три и рассказать, для чего они нужны и как могут взаимодействовать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5000">
    <p:fade/>
  </p:transition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5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2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468360" y="1844280"/>
            <a:ext cx="822960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Calibri"/>
              </a:rPr>
              <a:t>«Поиск общих признаков» </a:t>
            </a: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— берутся два объекта, далеко стоящие друг от друга на смысловой оси, необходимо найти для них как можно больше общих признаков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Прямоугольник 3"/>
          <p:cNvSpPr/>
          <p:nvPr/>
        </p:nvSpPr>
        <p:spPr>
          <a:xfrm>
            <a:off x="372960" y="3500280"/>
            <a:ext cx="8299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«Да–Нет» 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— игроки разгадывают “тайну”, заданную ведущим. Для этого игроки задают ведущему вопросы в такой форме, чтобы он мог ответить “Да” или “Нет”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4"/>
          <p:cNvSpPr/>
          <p:nvPr/>
        </p:nvSpPr>
        <p:spPr>
          <a:xfrm>
            <a:off x="349200" y="5070600"/>
            <a:ext cx="8794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«Что умеет делать?" 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Ведущий называет объект. Дети должны определить, что умеет делать объект или что делается с его помощью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1000">
    <p:fade/>
  </p:transition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1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8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5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468360" y="1915920"/>
            <a:ext cx="8229600" cy="482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ff3300"/>
                </a:solidFill>
                <a:latin typeface="Calibri"/>
              </a:rPr>
              <a:t>«Складушки – вычиталки »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Белка + осень = запас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Дерево - лист = осеннее дерев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Небо + вода = осенний дожд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Огород + тепло = урожа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Холод + лист = листопад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Человек + холод = теплая одежд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Шишка + сосна = ле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Воздух + холод = вете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27000">
    <p:fade/>
  </p:transition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4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9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4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9" dur="5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9" dur="500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4" dur="500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4" dur="500"/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68360" y="1773360"/>
            <a:ext cx="822960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Calibri"/>
              </a:rPr>
              <a:t>« 4 – й лишний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Дидактическая игра учит группировать предметы методом исключения, тренирует внимание, память, умение сопоставлять, выделять черты схожести и различия предметов, обогащает знания об окружающем мир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Прямоугольник 4"/>
          <p:cNvSpPr/>
          <p:nvPr/>
        </p:nvSpPr>
        <p:spPr>
          <a:xfrm>
            <a:off x="468360" y="4005360"/>
            <a:ext cx="8229600" cy="231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«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Что бывает…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Что бывает (зелёным, желтым, красным, соленым, мокрым, круглым,…)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«Чем может быть?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Воспитатель называет предмет, а ребенок продолжает называть его свой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2000">
    <p:fade/>
  </p:transition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3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8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0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2" dur="5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468000" y="1773000"/>
            <a:ext cx="821844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Calibri"/>
              </a:rPr>
              <a:t>«Польза - вред» </a:t>
            </a: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Воспитатель называет предмет, а дети, в зависимости от свойства предмета, объясняют его пользу и вред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Calibri"/>
              </a:rPr>
              <a:t>«Преврати себя» </a:t>
            </a: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Например: ребенок превращается в цветок… О чем он мечтает? Что он видит ночью? Кого боится? О чем шепчутся лепестки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Calibri"/>
              </a:rPr>
              <a:t>«Кто у кого» </a:t>
            </a: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Воспитатель бросает мяч всем детям по очереди, называя животное, а ребенок возвращая мяч называет его детеныш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30000">
    <p:fade/>
  </p:transition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1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8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5" dur="5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250560" y="2060640"/>
            <a:ext cx="92898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- активизация познавательной деятельности детей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- создание мотивационных установок на проявление творчеств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- создание условий для развития образной стороны речи детей (обогащение словарного запаса оценочной лексики, словами с переносным значением, синонимами и антонимами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-повышение эффективности овладения всеми языковыми средствами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-формирование осознанности в построении лексико-грамматических конструкций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-развитие гибкости аналитико-синтетических операций в мыслительной деятельност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Прямоугольник 3" descr=""/>
          <p:cNvPicPr/>
          <p:nvPr/>
        </p:nvPicPr>
        <p:blipFill>
          <a:blip r:embed="rId1"/>
          <a:stretch/>
        </p:blipFill>
        <p:spPr>
          <a:xfrm>
            <a:off x="249120" y="-231840"/>
            <a:ext cx="8961480" cy="908280"/>
          </a:xfrm>
          <a:prstGeom prst="rect">
            <a:avLst/>
          </a:prstGeom>
          <a:ln w="0">
            <a:noFill/>
          </a:ln>
        </p:spPr>
      </p:pic>
    </p:spTree>
  </p:cSld>
  <p:transition spd="slow" advTm="43000">
    <p:fade/>
  </p:transition>
  <p:timing>
    <p:tnLst>
      <p:par>
        <p:cTn id="606" dur="indefinite" restart="never" nodeType="tmRoot">
          <p:childTnLst>
            <p:seq>
              <p:cTn id="607" dur="indefinite" nodeType="mainSeq">
                <p:childTnLst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4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9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4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9" dur="5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4" dur="5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9" dur="50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0" y="1844640"/>
            <a:ext cx="9144000" cy="50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2060"/>
                </a:solidFill>
                <a:latin typeface="Calibri"/>
              </a:rPr>
              <a:t>У детей обогащается круг представлений, растет словарный запас, развиваются творческие способности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2060"/>
                </a:solidFill>
                <a:latin typeface="Calibri"/>
              </a:rPr>
              <a:t>ТРИЗ помогает формировать диалектику и логику, способствует преодолению застенчивости, замкнутости, робости; маленький человек учится отстаивать свою точку зрения, а попадая в трудные ситуации самостоятельно находить оригинальные решения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2060"/>
                </a:solidFill>
                <a:latin typeface="Calibri"/>
              </a:rPr>
              <a:t>ТРИЗ способствует развитию наглядно-образного, причинного, эвристического мышления; памяти, воображения, воздействует на другие психические процессы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Прямоугольник 3" descr=""/>
          <p:cNvPicPr/>
          <p:nvPr/>
        </p:nvPicPr>
        <p:blipFill>
          <a:blip r:embed="rId1"/>
          <a:stretch/>
        </p:blipFill>
        <p:spPr>
          <a:xfrm>
            <a:off x="317520" y="-92160"/>
            <a:ext cx="8723160" cy="1725840"/>
          </a:xfrm>
          <a:prstGeom prst="rect">
            <a:avLst/>
          </a:prstGeom>
          <a:ln w="0">
            <a:noFill/>
          </a:ln>
        </p:spPr>
      </p:pic>
    </p:spTree>
  </p:cSld>
  <p:transition spd="slow" advTm="40000">
    <p:fade/>
  </p:transition>
  <p:timing>
    <p:tnLst>
      <p:par>
        <p:cTn id="640" dur="indefinite" restart="never" nodeType="tmRoot">
          <p:childTnLst>
            <p:seq>
              <p:cTn id="641" dur="indefinite" nodeType="mainSeq">
                <p:childTnLst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8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3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8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6114960" cy="115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Что такое - ТРИЗ 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500040" y="1484280"/>
            <a:ext cx="614376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Calibri"/>
              </a:rPr>
              <a:t>ТРИЗ расшифровывается, как </a:t>
            </a: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«Теория решения изобретательских задач»</a:t>
            </a:r>
            <a:r>
              <a:rPr b="1" lang="ru-RU" sz="2800" spc="-1" strike="noStrike">
                <a:solidFill>
                  <a:srgbClr val="0000cc"/>
                </a:solidFill>
                <a:latin typeface="Calibri"/>
              </a:rPr>
              <a:t>, </a:t>
            </a:r>
            <a:r>
              <a:rPr b="0" lang="ru-RU" sz="2800" spc="-1" strike="noStrike">
                <a:solidFill>
                  <a:srgbClr val="0000cc"/>
                </a:solidFill>
                <a:latin typeface="Calibri"/>
              </a:rPr>
              <a:t>ее автором является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Calibri"/>
              </a:rPr>
              <a:t>известный учены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Calibri"/>
              </a:rPr>
              <a:t>Генрих Саулович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Calibri"/>
              </a:rPr>
              <a:t>Альтшулле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2" descr="C:\Users\Ольга\Desktop\9993.jpg"/>
          <p:cNvPicPr/>
          <p:nvPr/>
        </p:nvPicPr>
        <p:blipFill>
          <a:blip r:embed="rId2"/>
          <a:stretch/>
        </p:blipFill>
        <p:spPr>
          <a:xfrm>
            <a:off x="3708360" y="2565360"/>
            <a:ext cx="2597040" cy="3895920"/>
          </a:xfrm>
          <a:prstGeom prst="rect">
            <a:avLst/>
          </a:prstGeom>
          <a:ln w="0">
            <a:noFill/>
          </a:ln>
        </p:spPr>
      </p:pic>
    </p:spTree>
  </p:cSld>
  <p:transition spd="slow" advTm="13000">
    <p:fade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Объект 2" descr=""/>
          <p:cNvPicPr/>
          <p:nvPr/>
        </p:nvPicPr>
        <p:blipFill>
          <a:blip r:embed="rId1"/>
          <a:stretch/>
        </p:blipFill>
        <p:spPr>
          <a:xfrm>
            <a:off x="463680" y="2170080"/>
            <a:ext cx="8143920" cy="42498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28760" y="1785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Calibri"/>
              </a:rPr>
              <a:t>Что нам дает использование технологии ТРИЗ 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Прямоугольник 1"/>
          <p:cNvSpPr/>
          <p:nvPr/>
        </p:nvSpPr>
        <p:spPr>
          <a:xfrm>
            <a:off x="811080" y="4437000"/>
            <a:ext cx="6840720" cy="504720"/>
          </a:xfrm>
          <a:prstGeom prst="rect">
            <a:avLst/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- </a:t>
            </a: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Развитие воображе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3"/>
          <p:cNvSpPr/>
          <p:nvPr/>
        </p:nvSpPr>
        <p:spPr>
          <a:xfrm>
            <a:off x="811080" y="3757680"/>
            <a:ext cx="6840720" cy="504720"/>
          </a:xfrm>
          <a:prstGeom prst="rect">
            <a:avLst/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-</a:t>
            </a: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 Развитие логического мышле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4"/>
          <p:cNvSpPr/>
          <p:nvPr/>
        </p:nvSpPr>
        <p:spPr>
          <a:xfrm>
            <a:off x="800280" y="2997360"/>
            <a:ext cx="6841800" cy="547560"/>
          </a:xfrm>
          <a:prstGeom prst="rect">
            <a:avLst/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- Развитие творческого мышле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5"/>
          <p:cNvSpPr/>
          <p:nvPr/>
        </p:nvSpPr>
        <p:spPr>
          <a:xfrm>
            <a:off x="811080" y="5084640"/>
            <a:ext cx="6831000" cy="505080"/>
          </a:xfrm>
          <a:prstGeom prst="rect">
            <a:avLst/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- Развитие внима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6"/>
          <p:cNvSpPr/>
          <p:nvPr/>
        </p:nvSpPr>
        <p:spPr>
          <a:xfrm>
            <a:off x="811080" y="5740560"/>
            <a:ext cx="6840720" cy="504720"/>
          </a:xfrm>
          <a:prstGeom prst="rect">
            <a:avLst/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- Развитие реч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7000">
    <p:fade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52440" y="2205000"/>
            <a:ext cx="82296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В каких образовательных областях мы можем использовать элементы технологии ТРИЗ 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95360" y="3573000"/>
            <a:ext cx="8229600" cy="20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Calibri"/>
              </a:rPr>
              <a:t>В Познавательно – речевом развитии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Calibri"/>
              </a:rPr>
              <a:t>В коммуникативно-личностном развитии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Calibri"/>
              </a:rPr>
              <a:t>В художественно-эстетическом развитии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Calibri"/>
              </a:rPr>
              <a:t>В физическом развитии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Прямоугольник 3"/>
          <p:cNvSpPr/>
          <p:nvPr/>
        </p:nvSpPr>
        <p:spPr>
          <a:xfrm>
            <a:off x="477720" y="5661000"/>
            <a:ext cx="8137800" cy="1081080"/>
          </a:xfrm>
          <a:prstGeom prst="rect">
            <a:avLst/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- То есть во всех образовательных областях!!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3000">
    <p:fade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9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9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9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9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8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8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8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8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108000" y="1599840"/>
            <a:ext cx="88567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54061"/>
                </a:solidFill>
                <a:latin typeface="Calibri"/>
              </a:rPr>
              <a:t>Не просто развить фантазию детей, а научить мыслить системно, с пониманием происходящих процессов. Дать в руки воспитателям инструмент по конкретному практическому воспитанию у детей качеств творческой личности, способной понимать единство и противоречие окружающего мира, решать свои маленькие проблем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Прямоугольник 5" descr=""/>
          <p:cNvPicPr/>
          <p:nvPr/>
        </p:nvPicPr>
        <p:blipFill>
          <a:blip r:embed="rId1"/>
          <a:stretch/>
        </p:blipFill>
        <p:spPr>
          <a:xfrm>
            <a:off x="1809720" y="-274680"/>
            <a:ext cx="4803840" cy="1103400"/>
          </a:xfrm>
          <a:prstGeom prst="rect">
            <a:avLst/>
          </a:prstGeom>
          <a:ln w="0">
            <a:noFill/>
          </a:ln>
        </p:spPr>
      </p:pic>
    </p:spTree>
  </p:cSld>
  <p:transition spd="slow" advTm="24000">
    <p:fade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179280" y="620280"/>
            <a:ext cx="890280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54061"/>
                </a:solidFill>
                <a:latin typeface="Calibri"/>
              </a:rPr>
              <a:t>Исходным положением концепции ТРИЗ по отношению к дошкольнику является принцип природосообразности обучения. Обучая ребенка, педагог должен идти от его природы, понимая то,  что дошкольник принимает программу обучения в той мере, в какой она становится его собственной</a:t>
            </a:r>
            <a:r>
              <a:rPr b="1" lang="ru-RU" sz="3200" spc="-1" strike="noStrike">
                <a:solidFill>
                  <a:srgbClr val="254061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21000">
    <p:fade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0" y="1599840"/>
            <a:ext cx="9252000" cy="514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54061"/>
                </a:solidFill>
                <a:latin typeface="Calibri"/>
              </a:rPr>
              <a:t>Это программа коллективных игр и занятий с подробными методическими рекомендациями для воспитателей. Все занятия и игры предполагают самостоятельный выбор ребенком темы, материала и вида деятельности. Они учат детей выявлять противоречивые свойства предметов, явлений и разрешать эти противоречия. Разрешение противоречий – ключ к творческому мышлению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Прямоугольник 3" descr=""/>
          <p:cNvPicPr/>
          <p:nvPr/>
        </p:nvPicPr>
        <p:blipFill>
          <a:blip r:embed="rId1"/>
          <a:stretch/>
        </p:blipFill>
        <p:spPr>
          <a:xfrm>
            <a:off x="-85680" y="-274680"/>
            <a:ext cx="9547200" cy="1103400"/>
          </a:xfrm>
          <a:prstGeom prst="rect">
            <a:avLst/>
          </a:prstGeom>
          <a:ln w="0">
            <a:noFill/>
          </a:ln>
        </p:spPr>
      </p:pic>
    </p:spTree>
  </p:cSld>
  <p:transition spd="slow" advTm="28000">
    <p:fade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7375e"/>
                </a:solidFill>
                <a:latin typeface="Calibri"/>
              </a:rPr>
              <a:t>Педагог не должен давать детям готовые знания, раскрывать перед ними истину, он должен учить ее находить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Прямоугольник 3" descr=""/>
          <p:cNvPicPr/>
          <p:nvPr/>
        </p:nvPicPr>
        <p:blipFill>
          <a:blip r:embed="rId1"/>
          <a:stretch/>
        </p:blipFill>
        <p:spPr>
          <a:xfrm>
            <a:off x="573120" y="-79200"/>
            <a:ext cx="7931160" cy="185256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fade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3T08:53:27Z</dcterms:created>
  <dc:creator>Ольга</dc:creator>
  <dc:description/>
  <dc:language>en-US</dc:language>
  <cp:lastModifiedBy>Matvey</cp:lastModifiedBy>
  <dcterms:modified xsi:type="dcterms:W3CDTF">2017-05-16T23:28:09Z</dcterms:modified>
  <cp:revision>36</cp:revision>
  <dc:subject/>
  <dc:title>Шаблон</dc:title>
</cp:coreProperties>
</file>