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704C-C563-48A6-B1F9-3DFD73C9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B3F-0BAA-4DE5-B900-8F294A97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AD01-D6AA-41D0-9505-4D4DCF0A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809B-8910-48F1-81C9-81608737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591-2996-499D-B88C-3754894E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E718-D543-479C-A593-D59F778D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2D5-A644-469A-BC8A-ED0E3E04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1EF2-5E9F-4E73-B8EB-FB4BBA39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583-A9DB-4494-B165-9C67A63D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E41-CB67-4BD7-9CA1-16D6533E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5C94-7FCC-41A7-B32F-51A8C1BA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C5F8-F3E7-4DAB-BE3F-DC5AA927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EFA2-19C5-49C6-931B-86F673031F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3428640"/>
            <a:ext cx="7358040" cy="250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З в развитии творческой активности дошкольник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 этап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- занятия даются не как форма, а как поиск истины и сути. Ребенка подводят к проблеме многофункционального использования объек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апример: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мяч- как можно использовать предм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Прямоугольник 3" descr=""/>
          <p:cNvPicPr/>
          <p:nvPr/>
        </p:nvPicPr>
        <p:blipFill>
          <a:blip r:embed="rId1"/>
          <a:stretch/>
        </p:blipFill>
        <p:spPr>
          <a:xfrm>
            <a:off x="1182600" y="-347760"/>
            <a:ext cx="7066080" cy="11034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324000" y="1844640"/>
            <a:ext cx="871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 этап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– это «тайна двойного» или выявление противоречий в объекте, явлении, когда что-то в нем хорошо, а что-то плохо, что-то вредно, что-то мешает, а что-то нуж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пример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«Хорошо-плох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539640" y="494172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3 этап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– разрешение противоречий.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апример, задача: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«Как можно перенести воду в решет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599840"/>
            <a:ext cx="850752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4 этап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– изобретательство.                                  Основная задача: научить детей искать и находить свое решение. Изобретательство детей выражается в творческой фантазии, в соображении, в придумывании чего-то новог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Например :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идумайте новый учебный стул, на котором вам хотелось бы сидеть. Придумайте новую игрушку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5000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5 этап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- это решение сказочных задач и придумывание новых сказок с помощью специальных методов. Вся эта работа включает в себя разные виды детской деятельности – игровую деятельность, речевую, рисование, лепку, аппликацию, конструирование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7000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68360" y="1782360"/>
            <a:ext cx="851544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6 этап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- опираясь на полученные знания, интуицию, используя оригинальные решения проблем, малыш учится находить выход из любой сложной ситуации. Здесь воспитатель только наблюдает, ребенок рассчитывает на собственные силы, свой умственный и творческий потенциал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0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988640"/>
            <a:ext cx="868680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ешение творческих и изобретательских задач любой сложности и направленности без перебора вариан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огнозирование развития технических систем (ТС) и получение перспективных решений (в том числе и принципиально новых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3.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азвитие качеств творческой личности.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8686800" cy="987480"/>
          </a:xfrm>
          <a:prstGeom prst="rect">
            <a:avLst/>
          </a:prstGeom>
          <a:ln w="0">
            <a:noFill/>
          </a:ln>
        </p:spPr>
      </p:pic>
    </p:spTree>
  </p:cSld>
  <p:transition spd="slow" advTm="26000"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44360" y="169992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Минимум сообщения информации, максимум рассужден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Оптимальная форма организации обсуждения проблемных ситуаций — мозговой штур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Системный подход (все в мире взаимосвязано, и любое явление должно рассматриваться в развитии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Включение в процессе познания всех доступных для ребенка мыслительных операций и средств восприятия(анализаторов, причинно-следственных выводов и заключений, сделанных самостоятельно; предметно-схематичной наглядности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Обязательная активизация творческого воображ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Прямоугольник 3" descr=""/>
          <p:cNvPicPr/>
          <p:nvPr/>
        </p:nvPicPr>
        <p:blipFill>
          <a:blip r:embed="rId1"/>
          <a:stretch/>
        </p:blipFill>
        <p:spPr>
          <a:xfrm>
            <a:off x="-189000" y="-133200"/>
            <a:ext cx="9607680" cy="158400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83348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озможность проявить себ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тремление получать новую информацию об окружающ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Развивает потребность в позна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ает возможность созидать, твори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пособствует развитию аналитических способно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Формировать умение развивать и доказывать свою точку зр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3" descr=""/>
          <p:cNvPicPr/>
          <p:nvPr/>
        </p:nvPicPr>
        <p:blipFill>
          <a:blip r:embed="rId1"/>
          <a:stretch/>
        </p:blipFill>
        <p:spPr>
          <a:xfrm>
            <a:off x="6480" y="-128520"/>
            <a:ext cx="9156600" cy="90324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9528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Calibri"/>
              </a:rPr>
              <a:t>1. Поиск сути.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еред детьми ставится проблема (вопрос), которую надо решить. И все ищут разные варианты решения, то, что является исти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Calibri"/>
              </a:rPr>
              <a:t>2. «Тайна двойного»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- выявление противоречий: хорошо-плохо. Например: солнце – это хорошо и плохо. Хорошо- греет, плохо- может сжеч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Calibri"/>
              </a:rPr>
              <a:t>3. Разрешение противоречий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(при помощи игр и сказок). Например: зонт нужен большой, чтобы скрыться под ним от дождя, но он нужен и маленький, чтобы носить его в сумке. Решение этого противоречия – складной зонт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Прямоугольник 3" descr=""/>
          <p:cNvPicPr/>
          <p:nvPr/>
        </p:nvPicPr>
        <p:blipFill>
          <a:blip r:embed="rId1"/>
          <a:stretch/>
        </p:blipFill>
        <p:spPr>
          <a:xfrm>
            <a:off x="103320" y="-158760"/>
            <a:ext cx="9216720" cy="1579680"/>
          </a:xfrm>
          <a:prstGeom prst="rect">
            <a:avLst/>
          </a:prstGeom>
          <a:ln w="0">
            <a:noFill/>
          </a:ln>
        </p:spPr>
      </p:pic>
    </p:spTree>
  </p:cSld>
  <p:transition spd="slow" advTm="41000"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4" descr=""/>
          <p:cNvPicPr/>
          <p:nvPr/>
        </p:nvPicPr>
        <p:blipFill>
          <a:blip r:embed="rId1"/>
          <a:stretch/>
        </p:blipFill>
        <p:spPr>
          <a:xfrm>
            <a:off x="-268200" y="-103320"/>
            <a:ext cx="9564480" cy="98748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5" descr=""/>
          <p:cNvPicPr/>
          <p:nvPr/>
        </p:nvPicPr>
        <p:blipFill>
          <a:blip r:embed="rId2"/>
          <a:stretch/>
        </p:blipFill>
        <p:spPr>
          <a:xfrm>
            <a:off x="1036800" y="731880"/>
            <a:ext cx="7789680" cy="17254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179280" y="244944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Принцип свободы выбора — в любом обучающем или управляющем действии предоставить ребенку право выб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Принцип открытости — нужно предоставлять ребенку возможность работать с открытыми задачами (не имеющими единственно правильного решения). В условие творческого задания необходимо закладывать разные варианты ре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fad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39640" y="2133360"/>
            <a:ext cx="815832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Как нам всем известно - одним из основных целевых ориентиров Федерального государственного образовательного стандарта дошкольного образования является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развитие творческих способностей ребенка, </a:t>
            </a:r>
            <a:r>
              <a:rPr b="0" lang="ru-RU" sz="2800" spc="-1" strike="noStrike">
                <a:solidFill>
                  <a:srgbClr val="ff3300"/>
                </a:solidFill>
                <a:latin typeface="Calibri"/>
              </a:rPr>
              <a:t>а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Calibri"/>
              </a:rPr>
              <a:t>использование технологии ТРИЗ – это один из лучших способов разить творческую личност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1000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3"/>
          <p:cNvSpPr/>
          <p:nvPr/>
        </p:nvSpPr>
        <p:spPr>
          <a:xfrm>
            <a:off x="179280" y="1628640"/>
            <a:ext cx="87854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нцип обратной связи — воспитатель может регулярно контролировать процесс освоения детьми мыслительных операций, так как в новых творческих заданиях есть элементы предыду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179280" y="4437000"/>
            <a:ext cx="871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4.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нцип идеальности — творческие задания не требуют специального оборудования и могут быть частью любого занятия, что позволяет максимально использовать возможности, знания и интересы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08000" y="3357360"/>
            <a:ext cx="9036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6.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инцип природосообразности обучения. Обучая ребенка, педагог должен идти от его природы. Данный принцип предполагает необходимость  воспитания ребёнка в соответствии с объективными закономерностями развития человека в окружающем мире, т.е. учёт возрастного и индивидуального подход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108000" y="1916280"/>
            <a:ext cx="88455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5. </a:t>
            </a: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Принцип деятельности — в любое творческое    задание нужно включать практическую деятельнос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3000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11280" y="184464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«Поиск аналогов»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— необходимо назвать объект и как можно больше его аналогов, сходных с ним по различным существенным признакам. Например: мяч — яблоко (форма), заяц (скачет), шина (из резины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«Поиск противоположного объекта»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— необходимо назвать объект и как можно больше других объектов, ему противоположных. Например: снег — шерсть (холодный — теплая), уголь (белый — черный), металл (легкий — тяжелый), камень (мягкий — тверды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Прямоугольник 3" descr=""/>
          <p:cNvPicPr/>
          <p:nvPr/>
        </p:nvPicPr>
        <p:blipFill>
          <a:blip r:embed="rId1"/>
          <a:stretch/>
        </p:blipFill>
        <p:spPr>
          <a:xfrm>
            <a:off x="596880" y="-274680"/>
            <a:ext cx="7572240" cy="1103400"/>
          </a:xfrm>
          <a:prstGeom prst="rect">
            <a:avLst/>
          </a:prstGeom>
          <a:ln w="0">
            <a:noFill/>
          </a:ln>
        </p:spPr>
      </p:pic>
    </p:spTree>
  </p:cSld>
  <p:transition spd="slow" advTm="48000"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51000" y="1915920"/>
            <a:ext cx="822960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«Хорошо–плохо»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— берется объект, не вызывающий у игроков стойких положительных или отрицательных ассоциаций и называется как можно больше положительных и отрицательных его сторо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351000" y="472428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«Выбери троих»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— из пяти случайных слов нужно выбрать три и рассказать, для чего они нужны и как могут взаимодействов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«Поиск общих признаков»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— берутся два объекта, далеко стоящие друг от друга на смысловой оси, необходимо найти для них как можно больше общих призна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372960" y="3500280"/>
            <a:ext cx="829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Да–Нет»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— игроки разгадывают “тайну”, заданную ведущим. Для этого игроки задают ведущему вопросы в такой форме, чтобы он мог ответить “Да” или “Нет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349200" y="5070600"/>
            <a:ext cx="87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Что умеет делать?"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едущий называет объект. Дети должны определить, что умеет делать объект или что делается с его помощ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1000">
    <p:fad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1915920"/>
            <a:ext cx="82296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«Складушки – вычиталки 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Белка + осень = запа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ерево - лист = осеннее дере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ебо + вода = осенний дожд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город + тепло = урожа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Холод + лист = листопа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Человек + холод = теплая одеж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Шишка + сосна = ле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оздух + холод = вет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7000">
    <p:fad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68360" y="177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« 4 – й лишни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Дидактическая игра учит группировать предметы методом исключения, тренирует внимание, память, умение сопоставлять, выделять черты схожести и различия предметов, обогащает знания об окружающем ми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468360" y="4005360"/>
            <a:ext cx="82296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то бывает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Что бывает (зелёным, желтым, красным, соленым, мокрым, круглым,…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«Чем может быть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оспитатель называет предмет, а ребенок продолжает называть его свой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68000" y="1773000"/>
            <a:ext cx="8218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«Польза - вред»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оспитатель называет предмет, а дети, в зависимости от свойства предмета, объясняют его пользу и вр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«Преврати себя»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апример: ребенок превращается в цветок… О чем он мечтает? Что он видит ночью? Кого боится? О чем шепчутся лепест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«Кто у кого»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оспитатель бросает мяч всем детям по очереди, называя животное, а ребенок возвращая мяч называет его детеныш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0">
    <p:fad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50560" y="2060640"/>
            <a:ext cx="9289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- активизация познавательной деятельности де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- создание мотивационных установок на проявление твор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- создание условий для развития образной стороны речи детей (обогащение словарного запаса оценочной лексики, словами с переносным значением, синонимами и антонимам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-повышение эффективности овладения всеми языковыми средств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-формирование осознанности в построении лексико-грамматических конструкц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-развитие гибкости аналитико-синтетических операций в мысли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-231840"/>
            <a:ext cx="8961480" cy="908280"/>
          </a:xfrm>
          <a:prstGeom prst="rect">
            <a:avLst/>
          </a:prstGeom>
          <a:ln w="0">
            <a:noFill/>
          </a:ln>
        </p:spPr>
      </p:pic>
    </p:spTree>
  </p:cSld>
  <p:transition spd="slow" advTm="43000">
    <p:fade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У детей обогащается круг представлений, растет словарный запас, развиваются творческие способ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ТРИЗ помогает формировать диалектику и логику, способствует преодолению застенчивости, замкнутости, робости; маленький человек учится отстаивать свою точку зрения, а попадая в трудные ситуации самостоятельно находить оригинальные реш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ТРИЗ способствует развитию наглядно-образного, причинного, эвристического мышления; памяти, воображения, воздействует на другие психические процесс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Прямоугольник 3" descr=""/>
          <p:cNvPicPr/>
          <p:nvPr/>
        </p:nvPicPr>
        <p:blipFill>
          <a:blip r:embed="rId1"/>
          <a:stretch/>
        </p:blipFill>
        <p:spPr>
          <a:xfrm>
            <a:off x="317520" y="-92160"/>
            <a:ext cx="8723160" cy="172584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fad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1149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Что такое - ТРИЗ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00040" y="1484280"/>
            <a:ext cx="6143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ТРИЗ расшифровывается, как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Теория решения изобретательских задач»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ее автором являет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известный уче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Генрих Саулови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Альтшулл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Ольга\Desktop\9993.jpg"/>
          <p:cNvPicPr/>
          <p:nvPr/>
        </p:nvPicPr>
        <p:blipFill>
          <a:blip r:embed="rId2"/>
          <a:stretch/>
        </p:blipFill>
        <p:spPr>
          <a:xfrm>
            <a:off x="3708360" y="2565360"/>
            <a:ext cx="2597040" cy="38959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Объект 2" descr=""/>
          <p:cNvPicPr/>
          <p:nvPr/>
        </p:nvPicPr>
        <p:blipFill>
          <a:blip r:embed="rId1"/>
          <a:stretch/>
        </p:blipFill>
        <p:spPr>
          <a:xfrm>
            <a:off x="463680" y="2170080"/>
            <a:ext cx="8143920" cy="4249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Что нам дает использование технологии ТРИЗ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811080" y="4437000"/>
            <a:ext cx="6840720" cy="504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азвитие вообра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811080" y="3757680"/>
            <a:ext cx="6840720" cy="504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Развитие логического мыш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800280" y="2997360"/>
            <a:ext cx="6841800" cy="5475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- Развитие творческого мыш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811080" y="5084640"/>
            <a:ext cx="6831000" cy="5050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- Развитие вним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811080" y="5740560"/>
            <a:ext cx="6840720" cy="504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- Развитие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2440" y="220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 каких образовательных областях мы можем использовать элементы технологии ТРИЗ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95360" y="3573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В Познавательно – речевом развит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В коммуникативно-личностном развит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В художественно-эстетическом развит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В физическом развит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477720" y="5661000"/>
            <a:ext cx="8137800" cy="10810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- То есть во всех образовательных областях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8000" y="159984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Не просто развить фантазию детей, а научить мыслить системно, с пониманием происходящих процессов. Дать в руки воспитателям инструмент по конкретному практическому воспитанию у детей качеств творческой личности, способной понимать единство и противоречие окружающего мира, решать свои маленькие пробл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Прямоугольник 5" descr=""/>
          <p:cNvPicPr/>
          <p:nvPr/>
        </p:nvPicPr>
        <p:blipFill>
          <a:blip r:embed="rId1"/>
          <a:stretch/>
        </p:blipFill>
        <p:spPr>
          <a:xfrm>
            <a:off x="1809720" y="-274680"/>
            <a:ext cx="4803840" cy="110340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79280" y="620280"/>
            <a:ext cx="8902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Исходным положением концепции ТРИЗ по отношению к дошкольнику является принцип природосообразности обучения. Обучая ребенка, педагог должен идти от его природы, понимая то,  что дошкольник принимает программу обучения в той мере, в какой она становится его собственной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1000"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1599840"/>
            <a:ext cx="9252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Это программа коллективных игр и занятий с подробными методическими рекомендациями для воспитателей. Все занятия и игры предполагают самостоятельный выбор ребенком темы, материала и вида деятельности. Они учат детей выявлять противоречивые свойства предметов, явлений и разрешать эти противоречия. Разрешение противоречий – ключ к творческому мышле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Прямоугольник 3" descr=""/>
          <p:cNvPicPr/>
          <p:nvPr/>
        </p:nvPicPr>
        <p:blipFill>
          <a:blip r:embed="rId1"/>
          <a:stretch/>
        </p:blipFill>
        <p:spPr>
          <a:xfrm>
            <a:off x="-85680" y="-274680"/>
            <a:ext cx="9547200" cy="1103400"/>
          </a:xfrm>
          <a:prstGeom prst="rect">
            <a:avLst/>
          </a:prstGeom>
          <a:ln w="0">
            <a:noFill/>
          </a:ln>
        </p:spPr>
      </p:pic>
    </p:spTree>
  </p:cSld>
  <p:transition spd="slow" advTm="28000"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Педагог не должен давать детям готовые знания, раскрывать перед ними истину, он должен учить ее находить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Прямоугольник 3" descr=""/>
          <p:cNvPicPr/>
          <p:nvPr/>
        </p:nvPicPr>
        <p:blipFill>
          <a:blip r:embed="rId1"/>
          <a:stretch/>
        </p:blipFill>
        <p:spPr>
          <a:xfrm>
            <a:off x="573120" y="-79200"/>
            <a:ext cx="7931160" cy="1852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8:53:27Z</dcterms:created>
  <dc:creator>Ольга</dc:creator>
  <dc:description/>
  <dc:language>en-US</dc:language>
  <cp:lastModifiedBy>Matvey</cp:lastModifiedBy>
  <dcterms:modified xsi:type="dcterms:W3CDTF">2017-05-16T23:28:09Z</dcterms:modified>
  <cp:revision>36</cp:revision>
  <dc:subject/>
  <dc:title>Шаблон</dc:title>
</cp:coreProperties>
</file>