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750-7A77-4B3E-B8A4-6E8EE0FE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89E-7C2E-452C-88B7-70DE3C83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00E-7DB4-43FE-9946-FB44C947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6D4-030D-46FC-9B56-C1D6BA21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F12C-C2F7-43EE-8AC1-C08E0738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14D2-6003-4943-AA6D-408F701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AB8-EAC3-4051-8371-BD704BD4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A1AC-9571-4C87-BED3-7260A44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1BD-1A19-498C-BDD4-9B91D42F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E4A-E163-474D-85D0-27EBF8A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93EB-CC28-4E6B-9E86-CF13BB3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0E4-AEE3-42AB-BF09-8C71450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1428-171D-4A97-9EAA-EE4D4C2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1DF-C1A5-4681-B929-5BB82D3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017D-A1B7-45D3-9C96-D3A88C6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97A8-33FD-44BB-AD9D-561869CF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44BC-74D3-4882-A80A-7ECE9EF4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3B5-9897-435C-89F1-C686DEA9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846-D951-4D22-BCDD-0D24172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A56-6CD6-4AF0-BEDB-BB7353AD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D4B-92AE-4721-AA86-EF5B932E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AEF-E3AE-4865-BD2E-380CBCBF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CD9-A6BC-4F67-9DB2-3CF04DA6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142-731D-4138-A8F3-A4C1701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17A2-EC12-4E71-927C-DBBBAD25338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47A7-70C6-45E6-84CB-BA3635388AE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8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Palatino Linotype"/>
              </a:rPr>
              <a:t>Корпоративный детский лагерь ОАО "РЖД"</a:t>
            </a:r>
            <a:br>
              <a:rPr sz="2800"/>
            </a:br>
            <a:r>
              <a:rPr b="1" lang="ru-RU" sz="2800" spc="-1" strike="noStrike">
                <a:solidFill>
                  <a:srgbClr val="2f5897"/>
                </a:solidFill>
                <a:latin typeface="Palatino Linotype"/>
              </a:rPr>
              <a:t>ДОРОГИ БУДУЩЕГО</a:t>
            </a:r>
            <a:br>
              <a:rPr sz="2800"/>
            </a:br>
            <a:r>
              <a:rPr b="1" lang="ru-RU" sz="2800" spc="-1" strike="noStrike">
                <a:solidFill>
                  <a:srgbClr val="2f5897"/>
                </a:solidFill>
                <a:latin typeface="Palatino Linotype"/>
              </a:rPr>
              <a:t>ДОЛ "Аленушка" (Южно-Уральская Ж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908000" y="2430360"/>
            <a:ext cx="5797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0853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7520" y="1773360"/>
            <a:ext cx="90932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3760" y="2133720"/>
            <a:ext cx="9213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2320" y="1989000"/>
            <a:ext cx="91216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10486" t="4562" r="14551" b="6250"/>
          <a:stretch/>
        </p:blipFill>
        <p:spPr>
          <a:xfrm>
            <a:off x="-12600" y="260280"/>
            <a:ext cx="932328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36440" y="73656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Корпоративный детский лагерь "Дороги будущего" – это проект оздоровительного и образовательного досуга в период каникул ведомственных детских оздоровительных лагерей ОАО "РЖД"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84360" y="2782800"/>
            <a:ext cx="40323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0" y="19692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укрепление здоровья: санаторно-курортное оздоровление и современные технологии формирования навыков сохранения здоровья;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дополнительное образование: расширение кругозора, общей эрудиции, грамотности через занимательную практику и эксперимент;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профилактика детского травматизма: развитие навыков обеспечения личной безопасности и уверенных действий в чрезвычайных ситуациях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-34920" y="1052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оспитательная программа строится с использованием неизменных базовых компонентов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курс обучения здоровьесберегающим технологиям (спецкурс "Чемоданчик здоровья") – комплекс занятий и тренингов, включающий обучение тиражируемым здоровьесберегающим технологиям: создание личного "Чемоданчика здоровья", содержащего комплексы специальных упражнений, которые ребенок сможет выполнять и по возвращению домой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выстраивание рационального режима отдыха, питания, физических нагрузок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0" y="54936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азговорный английский язык – спецкурс, реализуемый профессиональным преподавателем или носителем языка, направленный на совершенствование навыков общения в интерактивной форм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практико-ориентированные занятия информационными технологиями – эффективное использование компьютеров в учеб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мероприятия корпоративного компонента программы – проведение сюжетных игр, конкурсов, чемпионатов в течение смены, содержанием которых являются как общие знания о компании, так и сведения о ее социальных и кадровых программах, социальных проектах, условиях работы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0853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20520" y="692280"/>
            <a:ext cx="9164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1680" y="1700280"/>
            <a:ext cx="9293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2:42:53Z</dcterms:created>
  <dc:creator>Екатерина Нуриева</dc:creator>
  <dc:description/>
  <dc:language>en-US</dc:language>
  <cp:lastModifiedBy>Екатерина Нуриева</cp:lastModifiedBy>
  <dcterms:modified xsi:type="dcterms:W3CDTF">2017-05-16T23:13:30Z</dcterms:modified>
  <cp:revision>3</cp:revision>
  <dc:subject/>
  <dc:title>Презентация PowerPoint</dc:title>
</cp:coreProperties>
</file>