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1895-D177-4395-B500-CA0B4966C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3DE7-01F0-4C61-BE29-A7A25EA8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693E-23E6-483F-A70A-1459A3413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534B-507D-4954-9F46-322A14CC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83AC-26CD-46FA-9592-1915FC6B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91DA-C6B6-4E52-8D4E-C20848A8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D364-FA57-47E6-B0A9-90CCCA67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9DF8-118B-4A9B-B283-666BB14F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AA99-645F-4932-9E5A-85DF7B4D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D11F-0860-4F54-9695-B878766F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5731-8B3C-4B86-B117-6A4CF7EF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983B-21F4-4CC1-8C9D-69FD02A4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7DCB-94D2-416E-9FA6-47C8CAA2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7192-E232-482A-A641-1CBB9917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AEB4-CBD5-49C3-9930-B517D280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AFD5-4B55-44D2-945E-F9B974D6D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EFA0-02CD-4C93-A651-B7DE3FC5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54F4-F184-4372-A997-4B961245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3057-4C5D-4F06-A022-C872A97D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112E-DEB9-47DB-96AB-24A8C50E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5AB5-6085-4F56-964E-50133A9E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7C8E-369F-41D0-8A4D-FE5D92D8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D93C-A9B6-4DFA-BFE3-16CD4C77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C4B0-5E82-4ACD-839A-55778B2A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86A6-88F1-40CF-AB7B-74CE309D10A0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78E8-B8FD-4C0F-8AC7-95429D5E4B85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80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897"/>
                </a:solidFill>
                <a:latin typeface="Palatino Linotype"/>
              </a:rPr>
              <a:t>Корпоративный детский лагерь ОАО "РЖД"</a:t>
            </a:r>
            <a:br>
              <a:rPr sz="2800"/>
            </a:br>
            <a:r>
              <a:rPr b="1" lang="ru-RU" sz="2800" spc="-1" strike="noStrike">
                <a:solidFill>
                  <a:srgbClr val="2f5897"/>
                </a:solidFill>
                <a:latin typeface="Palatino Linotype"/>
              </a:rPr>
              <a:t>ДОРОГИ БУДУЩЕГО</a:t>
            </a:r>
            <a:br>
              <a:rPr sz="2800"/>
            </a:br>
            <a:r>
              <a:rPr b="1" lang="ru-RU" sz="2800" spc="-1" strike="noStrike">
                <a:solidFill>
                  <a:srgbClr val="2f5897"/>
                </a:solidFill>
                <a:latin typeface="Palatino Linotype"/>
              </a:rPr>
              <a:t>ДОЛ "Аленушка" (Южно-Уральская ЖД)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908000" y="2430360"/>
            <a:ext cx="57978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1052640"/>
            <a:ext cx="908532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47520" y="1773360"/>
            <a:ext cx="909324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3760" y="2133720"/>
            <a:ext cx="92138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2320" y="1989000"/>
            <a:ext cx="912168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rcRect l="10486" t="4562" r="14551" b="6250"/>
          <a:stretch/>
        </p:blipFill>
        <p:spPr>
          <a:xfrm>
            <a:off x="-12600" y="260280"/>
            <a:ext cx="9323280" cy="623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136440" y="736560"/>
            <a:ext cx="903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Корпоративный детский лагерь "Дороги будущего" – это проект оздоровительного и образовательного досуга в период каникул ведомственных детских оздоровительных лагерей ОАО "РЖД"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2484360" y="2782800"/>
            <a:ext cx="403236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0" y="196920"/>
            <a:ext cx="9036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-укрепление здоровья: санаторно-курортное оздоровление и современные технологии формирования навыков сохранения здоровья;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-дополнительное образование: расширение кругозора, общей эрудиции, грамотности через занимательную практику и эксперимент;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-профилактика детского травматизма: развитие навыков обеспечения личной безопасности и уверенных действий в чрезвычайных ситуациях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-34920" y="105264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Воспитательная программа строится с использованием неизменных базовых компонентов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-курс обучения здоровьесберегающим технологиям (спецкурс "Чемоданчик здоровья") – комплекс занятий и тренингов, включающий обучение тиражируемым здоровьесберегающим технологиям: создание личного "Чемоданчика здоровья", содержащего комплексы специальных упражнений, которые ребенок сможет выполнять и по возвращению домой;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-выстраивание рационального режима отдыха, питания, физических нагрузок;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0" y="54936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разговорный английский язык – спецкурс, реализуемый профессиональным преподавателем или носителем языка, направленный на совершенствование навыков общения в интерактивной форме;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-практико-ориентированные занятия информационными технологиями – эффективное использование компьютеров в учебе;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-мероприятия корпоративного компонента программы – проведение сюжетных игр, конкурсов, чемпионатов в течение смены, содержанием которых являются как общие знания о компании, так и сведения о ее социальных и кадровых программах, социальных проектах, условиях работы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333360"/>
            <a:ext cx="908532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20520" y="692280"/>
            <a:ext cx="91645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1680" y="1700280"/>
            <a:ext cx="92934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6T22:42:53Z</dcterms:created>
  <dc:creator>Екатерина Нуриева</dc:creator>
  <dc:description/>
  <dc:language>en-US</dc:language>
  <cp:lastModifiedBy>Екатерина Нуриева</cp:lastModifiedBy>
  <dcterms:modified xsi:type="dcterms:W3CDTF">2017-05-16T23:13:30Z</dcterms:modified>
  <cp:revision>3</cp:revision>
  <dc:subject/>
  <dc:title>Презентация PowerPoint</dc:title>
</cp:coreProperties>
</file>