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F941-D403-46AB-AA5A-D6892E02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5675-1E04-4573-BEC9-1270BE45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2614-84D6-4E20-A94F-9C5DEAFA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2557-0856-4EBE-82D6-79C65F15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EBD0-E697-4134-9195-DFE56A23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7217-9C26-446D-B6E0-DC05CD7D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DF67-5A07-42B2-8E80-5BE7B172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2FD7-6FE5-4F7F-99AC-2C65D798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5FD1-5EC8-4F8F-A33B-2FB7B430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961D-EF2A-49F1-A8F8-4E572FB4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9B1F-925D-4F09-B44E-E585B4C9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4D8E-1553-4042-9102-AA5C5CF2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9AFB-5740-4D3C-BA7F-6728D7336D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презентации\преддипломка\__20130222_1383060501.jpg"/>
          <p:cNvPicPr/>
          <p:nvPr/>
        </p:nvPicPr>
        <p:blipFill>
          <a:blip r:embed="rId1"/>
          <a:stretch/>
        </p:blipFill>
        <p:spPr>
          <a:xfrm>
            <a:off x="0" y="3240"/>
            <a:ext cx="916776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0" y="2133720"/>
            <a:ext cx="91440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60 + 8 ___ - 2 ___ + 4 ___ - 15 ___ + 20 =  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403280" y="2060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6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2700360" y="20606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6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4216320" y="2060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5837400" y="2060640"/>
            <a:ext cx="8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5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7866000" y="2060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7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:\презентации\преддипломка\__20130222_13830605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0" y="1052280"/>
            <a:ext cx="9144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* a = 0                          a + b * b = 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* a = a                          a – b * b = 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* a = 0                          a ⋅ b = b * 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* a = a                          a + b = b * 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E:\презентации\преддипломка\Plates-PNG.png"/>
          <p:cNvPicPr/>
          <p:nvPr/>
        </p:nvPicPr>
        <p:blipFill>
          <a:blip r:embed="rId1"/>
          <a:stretch/>
        </p:blipFill>
        <p:spPr>
          <a:xfrm>
            <a:off x="3240" y="4149720"/>
            <a:ext cx="4174920" cy="313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2441520" y="278136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4859280" y="4148280"/>
            <a:ext cx="4176720" cy="313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E:\презентации\преддипломка\apple_PNG12429 (1).png"/>
          <p:cNvPicPr/>
          <p:nvPr/>
        </p:nvPicPr>
        <p:blipFill>
          <a:blip r:embed="rId4"/>
          <a:stretch/>
        </p:blipFill>
        <p:spPr>
          <a:xfrm>
            <a:off x="343080" y="723960"/>
            <a:ext cx="1557000" cy="1832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5"/>
          <a:stretch/>
        </p:blipFill>
        <p:spPr>
          <a:xfrm>
            <a:off x="2101680" y="9360"/>
            <a:ext cx="1581480" cy="185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6"/>
          <a:stretch/>
        </p:blipFill>
        <p:spPr>
          <a:xfrm>
            <a:off x="3767040" y="905040"/>
            <a:ext cx="1525680" cy="179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7"/>
          <a:stretch/>
        </p:blipFill>
        <p:spPr>
          <a:xfrm>
            <a:off x="5424480" y="-34920"/>
            <a:ext cx="1523880" cy="1792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8"/>
          <a:stretch/>
        </p:blipFill>
        <p:spPr>
          <a:xfrm>
            <a:off x="7236000" y="630360"/>
            <a:ext cx="1636560" cy="1925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9"/>
          <a:stretch/>
        </p:blipFill>
        <p:spPr>
          <a:xfrm>
            <a:off x="5597640" y="1866960"/>
            <a:ext cx="163836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E:\презентации\преддипломка\Plates-PNG.png"/>
          <p:cNvPicPr/>
          <p:nvPr/>
        </p:nvPicPr>
        <p:blipFill>
          <a:blip r:embed="rId1"/>
          <a:stretch/>
        </p:blipFill>
        <p:spPr>
          <a:xfrm>
            <a:off x="3240" y="4149720"/>
            <a:ext cx="4174920" cy="31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2441520" y="278136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4859280" y="4148280"/>
            <a:ext cx="4176720" cy="3133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E:\презентации\преддипломка\apple_PNG12429 (1).png"/>
          <p:cNvPicPr/>
          <p:nvPr/>
        </p:nvPicPr>
        <p:blipFill>
          <a:blip r:embed="rId4"/>
          <a:stretch/>
        </p:blipFill>
        <p:spPr>
          <a:xfrm>
            <a:off x="343080" y="4132440"/>
            <a:ext cx="1557000" cy="1831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5"/>
          <a:stretch/>
        </p:blipFill>
        <p:spPr>
          <a:xfrm>
            <a:off x="1771560" y="4106880"/>
            <a:ext cx="1581120" cy="1857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6"/>
          <a:stretch/>
        </p:blipFill>
        <p:spPr>
          <a:xfrm>
            <a:off x="3013200" y="2692440"/>
            <a:ext cx="1523880" cy="1792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7"/>
          <a:stretch/>
        </p:blipFill>
        <p:spPr>
          <a:xfrm>
            <a:off x="5424480" y="4208400"/>
            <a:ext cx="1523880" cy="1790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"/>
          <p:cNvPicPr/>
          <p:nvPr/>
        </p:nvPicPr>
        <p:blipFill>
          <a:blip r:embed="rId8"/>
          <a:stretch/>
        </p:blipFill>
        <p:spPr>
          <a:xfrm>
            <a:off x="6618240" y="4149720"/>
            <a:ext cx="1638360" cy="1924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9"/>
          <a:stretch/>
        </p:blipFill>
        <p:spPr>
          <a:xfrm>
            <a:off x="4178160" y="2625840"/>
            <a:ext cx="163836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17:26:04Z</dcterms:created>
  <dc:creator>Vesnyshka</dc:creator>
  <dc:description/>
  <dc:language>en-US</dc:language>
  <cp:lastModifiedBy>Vesnyshka</cp:lastModifiedBy>
  <dcterms:modified xsi:type="dcterms:W3CDTF">2017-05-17T12:19:49Z</dcterms:modified>
  <cp:revision>5</cp:revision>
  <dc:subject/>
  <dc:title>Презентация PowerPoint</dc:title>
</cp:coreProperties>
</file>