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572-2460-41A2-B6B1-E2D1CD7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967-58E9-4BCC-A15F-AE63AFD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B52-CB62-4F44-AB95-28D29E54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05E-891C-4495-80A3-F5E9773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C6B-4F3C-4315-A2B5-986C7169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7FE-833A-44F7-899E-DEF6DCB2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53A-48AD-4501-B286-131F6AE2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BDB-757E-46D2-8F0F-4F2D5F0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B03-E7DD-4DB7-8A96-6032102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8F6-5513-4585-B8E0-D204FC9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800-6A77-4EC3-8B8C-DA28B69F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F22-6E80-4380-8C18-8EB19AB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F3F6-F6C0-44C0-83DC-8F1B39B63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\преддипломка\__20130222_1383060501.jpg"/>
          <p:cNvPicPr/>
          <p:nvPr/>
        </p:nvPicPr>
        <p:blipFill>
          <a:blip r:embed="rId1"/>
          <a:stretch/>
        </p:blipFill>
        <p:spPr>
          <a:xfrm>
            <a:off x="0" y="3240"/>
            <a:ext cx="9167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213372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0 + 8 ___ - 2 ___ + 4 ___ - 15 ___ + 20 =  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403280" y="2060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700360" y="2060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216320" y="206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837400" y="206064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7866000" y="206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презентации\преддипломка\__20130222_1383060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* a = 0                          a + b * b =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* a = a                          a – b * b =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* a = 0                          a ⋅ b = b *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* a = a                          a + b = b *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презентации\преддипломка\Plates-PNG.png"/>
          <p:cNvPicPr/>
          <p:nvPr/>
        </p:nvPicPr>
        <p:blipFill>
          <a:blip r:embed="rId1"/>
          <a:stretch/>
        </p:blipFill>
        <p:spPr>
          <a:xfrm>
            <a:off x="3240" y="414972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441520" y="2781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859280" y="414828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E:\презентации\преддипломка\apple_PNG12429 (1).png"/>
          <p:cNvPicPr/>
          <p:nvPr/>
        </p:nvPicPr>
        <p:blipFill>
          <a:blip r:embed="rId4"/>
          <a:stretch/>
        </p:blipFill>
        <p:spPr>
          <a:xfrm>
            <a:off x="343080" y="723960"/>
            <a:ext cx="1557000" cy="183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2101680" y="9360"/>
            <a:ext cx="158148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6"/>
          <a:stretch/>
        </p:blipFill>
        <p:spPr>
          <a:xfrm>
            <a:off x="3767040" y="905040"/>
            <a:ext cx="1525680" cy="179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7"/>
          <a:stretch/>
        </p:blipFill>
        <p:spPr>
          <a:xfrm>
            <a:off x="5424480" y="-34920"/>
            <a:ext cx="1523880" cy="179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8"/>
          <a:stretch/>
        </p:blipFill>
        <p:spPr>
          <a:xfrm>
            <a:off x="7236000" y="630360"/>
            <a:ext cx="1636560" cy="192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9"/>
          <a:stretch/>
        </p:blipFill>
        <p:spPr>
          <a:xfrm>
            <a:off x="5597640" y="1866960"/>
            <a:ext cx="1638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презентации\преддипломка\Plates-PNG.png"/>
          <p:cNvPicPr/>
          <p:nvPr/>
        </p:nvPicPr>
        <p:blipFill>
          <a:blip r:embed="rId1"/>
          <a:stretch/>
        </p:blipFill>
        <p:spPr>
          <a:xfrm>
            <a:off x="3240" y="414972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441520" y="2781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859280" y="414828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презентации\преддипломка\apple_PNG12429 (1).png"/>
          <p:cNvPicPr/>
          <p:nvPr/>
        </p:nvPicPr>
        <p:blipFill>
          <a:blip r:embed="rId4"/>
          <a:stretch/>
        </p:blipFill>
        <p:spPr>
          <a:xfrm>
            <a:off x="343080" y="4132440"/>
            <a:ext cx="1557000" cy="183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1771560" y="410688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3013200" y="2692440"/>
            <a:ext cx="1523880" cy="179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7"/>
          <a:stretch/>
        </p:blipFill>
        <p:spPr>
          <a:xfrm>
            <a:off x="5424480" y="4208400"/>
            <a:ext cx="1523880" cy="179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8"/>
          <a:stretch/>
        </p:blipFill>
        <p:spPr>
          <a:xfrm>
            <a:off x="6618240" y="4149720"/>
            <a:ext cx="1638360" cy="19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9"/>
          <a:stretch/>
        </p:blipFill>
        <p:spPr>
          <a:xfrm>
            <a:off x="4178160" y="2625840"/>
            <a:ext cx="1638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7:26:04Z</dcterms:created>
  <dc:creator>Vesnyshka</dc:creator>
  <dc:description/>
  <dc:language>en-US</dc:language>
  <cp:lastModifiedBy>Vesnyshka</cp:lastModifiedBy>
  <dcterms:modified xsi:type="dcterms:W3CDTF">2017-05-17T12:19:49Z</dcterms:modified>
  <cp:revision>5</cp:revision>
  <dc:subject/>
  <dc:title>Презентация PowerPoint</dc:title>
</cp:coreProperties>
</file>