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B93-10DF-40B5-B568-86EB2C0B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F2C-D5AB-4031-ABA1-2E0B5160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D829-A73B-4B76-A8AA-E4A9DA94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D46B-6015-437D-A835-FAC2F319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EF55-35ED-4419-AD79-6AB342AB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1B48-31BA-4CFF-AE61-76A638DA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671B-EE02-4212-A16A-397C5FD2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CFC-10F0-43FE-8A92-5319901B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B67-1502-415B-83F8-7DA4A99D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3E1-F408-40AA-BA67-82158CF9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0688-D48E-4A71-B526-B9FB92F9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B45-965D-4376-AC4D-1094884D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9749-BBF6-4097-AB70-9472BA4982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презентации\преддипломка\fon-dlya-prezentacii-vesna-01.jpg"/>
          <p:cNvPicPr/>
          <p:nvPr/>
        </p:nvPicPr>
        <p:blipFill>
          <a:blip r:embed="rId1"/>
          <a:stretch/>
        </p:blipFill>
        <p:spPr>
          <a:xfrm>
            <a:off x="1116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-360" y="333000"/>
            <a:ext cx="953604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</a:rPr>
              <a:t>С Ш О Т Ф О Ё Р О Р Ж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042920" y="242100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  <a:ea typeface="Arial"/>
              </a:rPr>
              <a:t>Сторож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572000" y="4076640"/>
            <a:ext cx="32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  <a:ea typeface="Arial"/>
              </a:rPr>
              <a:t>Шофёр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ая соединительная линия 6"/>
          <p:cNvSpPr/>
          <p:nvPr/>
        </p:nvSpPr>
        <p:spPr>
          <a:xfrm>
            <a:off x="2050920" y="32814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575320" y="494172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E:\презентации\преддипломка\fon-dlya-prezentacii-vesna-01.jpg"/>
          <p:cNvPicPr/>
          <p:nvPr/>
        </p:nvPicPr>
        <p:blipFill>
          <a:blip r:embed="rId1"/>
          <a:stretch/>
        </p:blipFill>
        <p:spPr>
          <a:xfrm>
            <a:off x="-25560" y="-295200"/>
            <a:ext cx="9525240" cy="715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0" y="1484280"/>
            <a:ext cx="950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презентации\преддипломка\fon-dlya-prezentacii-vesna-01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64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320" y="1600200"/>
            <a:ext cx="9139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eorgia"/>
              </a:rPr>
              <a:t>Положил, радость, побежал, рука, рисует, полка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:\презентации\преддипломка\fon-dlya-prezentacii-vesna-01.jpg"/>
          <p:cNvPicPr/>
          <p:nvPr/>
        </p:nvPicPr>
        <p:blipFill>
          <a:blip r:embed="rId1"/>
          <a:stretch/>
        </p:blipFill>
        <p:spPr>
          <a:xfrm>
            <a:off x="0" y="-2556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9528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Алеша    расту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дети       играю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гриб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играе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грибы  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растёт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E:\презентации\преддипломка\fon-dlya-prezentacii-vesna-01.jpg"/>
          <p:cNvPicPr/>
          <p:nvPr/>
        </p:nvPicPr>
        <p:blipFill>
          <a:blip r:embed="rId1"/>
          <a:stretch/>
        </p:blipFill>
        <p:spPr>
          <a:xfrm>
            <a:off x="0" y="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Алёша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________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) играет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_________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)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ети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________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) играют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__________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)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гриб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_________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) растёт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_________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)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грибы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________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) растут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_________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1835280" y="121428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Arial"/>
              </a:rPr>
              <a:t>сущ. ед.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6234120" y="126828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Arial"/>
              </a:rPr>
              <a:t>глаг. ед.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270080" y="263700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Arial"/>
              </a:rPr>
              <a:t>сущ. мн.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5940360" y="2637000"/>
            <a:ext cx="25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Arial"/>
              </a:rPr>
              <a:t>глаг. мн. 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1476360" y="3941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Arial"/>
              </a:rPr>
              <a:t>сущ. ед.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6086520" y="3981600"/>
            <a:ext cx="25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Arial"/>
              </a:rPr>
              <a:t>глаг. ед.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1655640" y="530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Arial"/>
              </a:rPr>
              <a:t>сущ. мн.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086520" y="5300640"/>
            <a:ext cx="252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Arial"/>
              </a:rPr>
              <a:t>глаг. мн.ч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E:\презентации\преддипломка\fon-dlya-prezentacii-vesna-01.jpg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0" y="1484280"/>
            <a:ext cx="95821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18:17:43Z</dcterms:created>
  <dc:creator>Vesnyshka</dc:creator>
  <dc:description/>
  <dc:language>en-US</dc:language>
  <cp:lastModifiedBy>Vesnyshka</cp:lastModifiedBy>
  <dcterms:modified xsi:type="dcterms:W3CDTF">2017-05-17T12:22:19Z</dcterms:modified>
  <cp:revision>4</cp:revision>
  <dc:subject/>
  <dc:title>Презентация PowerPoint</dc:title>
</cp:coreProperties>
</file>