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F99-A4A6-460C-9379-3694EF3F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6E8-D97A-43CB-961A-6515870F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8BB-E9DC-4996-B10C-538DF751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0F0-BFC0-4176-9046-DA7BE5B9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BE0F-128D-4DC2-8932-2DCE3CB6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D408-61ED-4B90-8B71-F4EC4CC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149-B90E-423F-A670-EAB2F81F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9237-ACC7-46B9-A502-945B4380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068F-79B0-4F90-8EC8-BC42424C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7429-D4FE-40C0-9737-305EECFF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87F6-E506-4970-A022-6627901D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B2B-4216-4170-80DE-7C1EF584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02B-A51D-4890-A62C-554A804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1606-5207-4754-8E99-E86AABCE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19C-BC13-4EB4-B09A-BDA16436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6029-3120-4711-8BA2-603D0D31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9A7-B7E6-4B84-A96C-DF3A97FA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4AC-F9B1-4C40-80D2-4A9E1B49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663-2213-41E0-9AEE-82F7C13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3EE-320D-4068-9707-AB5BC93C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EFE-03CA-420B-A34F-D8C269C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E8A-4014-404B-8EBA-E37ADB5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335-9C71-4D0F-840D-F207D99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BBC-CDFD-4555-A161-934CE82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122-519C-4EE3-B27F-32E255C09D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BFC-DE49-44E8-890C-20B9A1F6C7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14000"/>
            <a:ext cx="7391160" cy="878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228240"/>
            <a:ext cx="89154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 Гильберт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точил из естественного магнита большой шар и, приближая к поверхности шара магнитную стрелку, показал, что она всегда устанавливается так же, как стрелка компаса на 3емле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Графически магнитное поле Земли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же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гнитное поле постоянного магнит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63"/>
          <p:cNvPicPr/>
          <p:nvPr/>
        </p:nvPicPr>
        <p:blipFill>
          <a:blip r:embed="rId1"/>
          <a:stretch/>
        </p:blipFill>
        <p:spPr>
          <a:xfrm>
            <a:off x="3214800" y="3857760"/>
            <a:ext cx="327636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 Гаусс 1835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л  сферический  гармонический  анализ  магнитного поля Земл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винул теорию о происхождении магнитного поля Зем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39 году доказал, что основная его часть выходит из Земли, а причину небольших, коротких отклонений его значений необходимо искать во внешней сред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создал первую в мире магнитную обсерваторию в Гёттинге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-36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мунд Галл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л первую  в мире магнитную съемку океанов и создал первые мировые магнитные карты  (1702г.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английского астронома Генри Геллибранда показали, что геомагнитное поле не постоянно, а медленно изменяе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28240" y="53352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is?VDhwYi2ojQtYS3o65fG5lJsopKhMhfUsxMgHi9QwcqI"/>
          <p:cNvPicPr/>
          <p:nvPr/>
        </p:nvPicPr>
        <p:blipFill>
          <a:blip r:embed="rId1"/>
          <a:stretch/>
        </p:blipFill>
        <p:spPr>
          <a:xfrm>
            <a:off x="838080" y="1523880"/>
            <a:ext cx="82800" cy="1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is?VDhwYi2ojQtYS3o65fG5lJsopKhMhfUsxMgHi9QwcqI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357120" y="-132840"/>
            <a:ext cx="878688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  прич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 наличия  магнитного поля Земли в том, что ядро Земли состоит  из  раскаленного  железа  (хорошего  проводника электрических  токов,  возникающих  внутри  Земли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гнитное поле Земли образу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нитосфер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ростирающуюся на 70-80 тыс. км в направление Солнца.  Она экранирует поверхность Земли, защищает от вредного влияния заряженных частиц, высоких энергий и космических лучей, определяет характер погоды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Содержимое 3" descr="Безымянный.pn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285840" y="285840"/>
            <a:ext cx="8629560" cy="67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МАГНИТНОГО ПОЛЯ ЗЕМ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35 году Геллибранд установил: магнитное поле Земл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 постоянные и кратковременные изменения магнитного поля Зем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ой постоянных изменений : наличие залежей полезных ископаемых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емле имеются такие территории, где ее собственное магнитное поле сильно искажается залеганием железных руд. Например, Курская магнитная аномалия, расположенная в Курской об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304560"/>
            <a:ext cx="825804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МАГНИТНОГО ПОЛЯ ЗЕМ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а кратковременных изменений магнитного поля Земли - действие "солнечного ветра", т.е. действие потока  заряженных  частиц, выбрасываемых  Солнцем. Магнитное  поле  этого потока взаимодействует  с  магнитным  полем  Земли, возникают "магнитные бури"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астоту и силу магнитных бурь влияет солнечная акт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is?P8KKyGdSHWdqZhCg24sfN6klyGgoIem0jEvtGtf3aU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228600" y="241200"/>
            <a:ext cx="891540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 МАГНИТНОГО ПОЛЯ ЗЕМ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ды максимума солнечной активности (один раз в каждые 11,5 лет) возникают такие магнитные бури, что нарушается радиосвязь, а стрелки компасов начинают непредсказуемо  "плясать"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ом   взаимодействия   заряженных  частиц  "солнечного  ветра"  с  атмосферой  Земли  в  северных  широтах является такое явление, как "полярное сияние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ещение магнитных полюсов Земл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щение магнитных полюсов регистрируется с 1885 г. За последние 100 лет магнитный полюс в южном полушарии переместился почти на 900 км и вышел в Индийский океан. Новейшие данные по состоянию арктического магнитного полюса (движущегося по направлению к Восточно-Сибирской мировой магнитной аномалии через Ледовитый океан) показали, что с 1973 по 1984 г. его пробег составил 120 км, с 1984 по 1994 г. - более 150 км. Хотя эти данные расчетные, они подтверждены замерами северного магнитного полюса. По данным на начало 2007-го года скорость дрейфа северного магнитного полюса увеличилась с 10 км/год в 70-х годах, до 60 км/год в 2004-м го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итное поле Земли служит многим живым организма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ориента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пространств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кие бактер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сполагаются в придонном иле под определенным углом к силовым линиям магнитного поля Земли, что объясняется наличием в них маленьких ферромагнит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и и другие насекомы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адятся" предпочтительно в направлении поперек или вдоль магнитных линий магнитного поля Земли. Например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иты располагаются на отдых так, что оказываются головами в одном направлении: в одних группах — параллельно, в других — перпендикулярн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иям магнитного поля. </a:t>
            </a:r>
            <a:br>
              <a:rPr sz="3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3" descr="http://викиурок.рф/images/thumb/6/6a/Aurora_astronomy.jpg/250px-Aurora_astron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228240"/>
            <a:ext cx="8686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иром дл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летных птиц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акже служит магнитное поле Земли. Недавно ученые узнали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 птиц в области глаз располагается маленький магнитный "компас" — крохотное тканевое поле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м расположены кристаллы магнетита, обладающие способностью намагничиваться в магнитном поле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таники установили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осприимчивость растени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 магнитным полям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азывается сильное магнитное поле влияет на рост растен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5" descr="i.jpegпа.jpe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2819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янные магниты. Магнитное поле Земл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800px-Magnetosphere_rendition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672320" cy="514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Магнитное поле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is?7JI7yVVlJWxLjDtwsbTrNiYWnJtvU7EPpMXJzB_LyMU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066680" y="14479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28600" y="-24372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же стрелка компаса своим северным полюсом показывает на север, а южным – на юг? Одноименные магнитные полюсы отталкиваются, а разноименные  - притягиваю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же из концов стрелки компаса притягивается  к северному полюсу Земли? 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торый из двух полюсов Земли  - северный или южный лежит в той стороне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да  указывает север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ц  магнитной стрелки?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 тот, кто говорит, что на северный полюс Земли (географический) указывает северный конец магнитной стрелки.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значит, что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евере Земли лежит южный магнитный полюс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ли,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 южном географическом – северный магнитный полюс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ерный магнитный полюс Земли находится в Антарктиде,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координаты 66°,3 ю.ш., 141° в. д. ( по данным на 1965 г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жный магнитный полюс земли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тся в Канаде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сстояни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2100 км от географического северного полюс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я исследова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ильям Гильберт в 1600г. впервые предположил о наличии магнитного поля Земли, которое и вызывает такое поведение намагниченных предметов - книга «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agnete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показал, что Земля  является  магнитом,  ось  которого  не совпадает с осью вращения Земли. Следовательно, вокруг Земли,  как  и  около любого магнита, существует магнитное пол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4:10:42Z</dcterms:created>
  <dc:creator>Анна</dc:creator>
  <dc:description/>
  <dc:language>en-US</dc:language>
  <cp:lastModifiedBy>ИГОРЬ АНЮТА САНЯ ЯНА</cp:lastModifiedBy>
  <dcterms:modified xsi:type="dcterms:W3CDTF">2017-05-17T19:52:22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290000000000010243100207f6000400038000</vt:lpwstr>
  </property>
</Properties>
</file>