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93C-A22C-4D65-BDB1-90DEBEDA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6BE-4A41-47D4-88DE-5DCA8C3C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E2F-7E1F-4A25-B06F-E9A3C585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FCA-5657-443A-B88B-031E47F6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7990-241D-4F1F-841D-70802C1C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E68C-3B09-4D2E-BABB-065A6E81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639C-7BF5-480A-9838-EF6EBA6E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3F10-D3B0-405F-8B71-986740AB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5F57-6153-4932-BF7B-40880894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F596-E443-46A8-9EE9-1A782834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0D29-4E59-4983-A82B-4085DEA4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F93-FC8F-4CDA-94CB-02AE852B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9DEF-4089-486A-9C1A-F92A99B8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85D8-71CB-4BAD-835D-034C28BB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15E5-F677-40CB-9885-C86D9B14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6544-5463-4C21-B598-95902AA8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B6EE-98EB-466A-9FF4-83F3EA2B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28EFE-6E90-44E1-B69C-8E6C317B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E124-BFF2-4C81-B2C7-7A91FB78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E10B-F4DC-459E-8DD6-020914E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CFEB-4801-4C56-B311-17661257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D6E2-D2EA-49F7-928B-C44A8EAD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FBD-3495-4291-B0F7-8CAFAF07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6661-15EC-42BB-BA64-71C787EB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52B3-836B-4CC0-B7F6-14D84C06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77A8-F10F-4283-B6D6-36C45093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3B08-C3AE-4C6E-BBC9-3E034C97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7442-2275-48F1-ADFC-141751AC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35193-2CED-4C4C-B861-B1E4321F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C58A-8017-4177-AD7A-3701AC81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83476-8E4E-42C2-9524-66DB0BD9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6B18E-5DBB-4E80-8B40-CF519FF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36DC0-066F-4269-A91C-8652BA14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D8B-B07B-4B60-B74B-4BE7880C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0525B-44ED-4C31-BE9F-CDC2AB2E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DAF8B-5930-475B-861D-F33D4A38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D64D3-7E05-4FA5-8E13-109E73C8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E435A-D664-49B2-BDAE-0F0A61FC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05B76-7C34-48ED-BFB4-F13376FD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56CB1-F927-4C89-B0AB-0B97B1D7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2E24-DDAE-4EF3-A2B8-A7D77931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9E38F-F7CA-4065-A813-D9CACECF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6A31-41B6-4FEF-86B2-A772B320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B11-E255-4A59-90BB-FFDC3B76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B1A-CA8E-4852-A745-20FE76B4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680-20A1-4916-BC09-29E56BFE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544-6BA7-40FB-A8A7-3FBC55A4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82E-A58F-4651-A855-3756C5D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B2C3-5A2E-484A-BA66-215BC7B0BFAB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FBF4-2276-4997-A104-4AAC91A80E79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6180-996B-413F-83E3-84D4CB0FA89D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3644-15BC-4B78-B055-8606D8F84920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я предметно-пространственной среды в начальной школе в условиях внедрения новых ФГОС НО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Содержимое 4" descr="чемуучат в школе.jpg"/>
          <p:cNvPicPr/>
          <p:nvPr/>
        </p:nvPicPr>
        <p:blipFill>
          <a:blip r:embed="rId1"/>
          <a:stretch/>
        </p:blipFill>
        <p:spPr>
          <a:xfrm>
            <a:off x="457200" y="2122560"/>
            <a:ext cx="4038480" cy="4030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6858000" y="5643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а Шабурова Ольг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1" descr=""/>
          <p:cNvPicPr/>
          <p:nvPr/>
        </p:nvPicPr>
        <p:blipFill>
          <a:blip r:embed="rId1"/>
          <a:stretch/>
        </p:blipFill>
        <p:spPr>
          <a:xfrm>
            <a:off x="907920" y="2170080"/>
            <a:ext cx="7437600" cy="2683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3" descr="школа россии.jpg"/>
          <p:cNvPicPr/>
          <p:nvPr/>
        </p:nvPicPr>
        <p:blipFill>
          <a:blip r:embed="rId1"/>
          <a:stretch/>
        </p:blipFill>
        <p:spPr>
          <a:xfrm>
            <a:off x="785880" y="1143000"/>
            <a:ext cx="7572240" cy="51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бинет начальных класс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Содержимое 6" descr="каб2.jpg"/>
          <p:cNvPicPr/>
          <p:nvPr/>
        </p:nvPicPr>
        <p:blipFill>
          <a:blip r:embed="rId1"/>
          <a:stretch/>
        </p:blipFill>
        <p:spPr>
          <a:xfrm>
            <a:off x="457200" y="2786040"/>
            <a:ext cx="4040280" cy="3166920"/>
          </a:xfrm>
          <a:prstGeom prst="rect">
            <a:avLst/>
          </a:prstGeom>
          <a:ln w="0">
            <a:noFill/>
          </a:ln>
        </p:spPr>
      </p:pic>
      <p:pic>
        <p:nvPicPr>
          <p:cNvPr id="202" name="Содержимое 7" descr="кабинет начальных класоов.jpg"/>
          <p:cNvPicPr/>
          <p:nvPr/>
        </p:nvPicPr>
        <p:blipFill>
          <a:blip r:embed="rId2"/>
          <a:stretch/>
        </p:blipFill>
        <p:spPr>
          <a:xfrm>
            <a:off x="4786200" y="2714760"/>
            <a:ext cx="3586320" cy="314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4400" y="259920"/>
            <a:ext cx="795960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Бытовая зона клас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0672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nstantia"/>
              </a:rPr>
              <a:t>Освещ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08400" y="1125000"/>
            <a:ext cx="4035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Содержимое 4" descr="свет.jpg"/>
          <p:cNvPicPr/>
          <p:nvPr/>
        </p:nvPicPr>
        <p:blipFill>
          <a:blip r:embed="rId1"/>
          <a:stretch/>
        </p:blipFill>
        <p:spPr>
          <a:xfrm>
            <a:off x="-47520" y="1928880"/>
            <a:ext cx="4833720" cy="2898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s000115_905544"/>
          <p:cNvPicPr/>
          <p:nvPr/>
        </p:nvPicPr>
        <p:blipFill>
          <a:blip r:embed="rId2"/>
          <a:stretch/>
        </p:blipFill>
        <p:spPr>
          <a:xfrm>
            <a:off x="5786280" y="1214280"/>
            <a:ext cx="2986200" cy="358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7715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вет стен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10" descr="http://www.domsovetof.ru/_pu/48/93773795.gif"/>
          <p:cNvPicPr/>
          <p:nvPr/>
        </p:nvPicPr>
        <p:blipFill>
          <a:blip r:embed="rId1"/>
          <a:srcRect l="-3284" t="27192" r="0" b="0"/>
          <a:stretch/>
        </p:blipFill>
        <p:spPr>
          <a:xfrm>
            <a:off x="0" y="907920"/>
            <a:ext cx="6786720" cy="4235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3:22:11Z</dcterms:created>
  <dc:creator>Наталья</dc:creator>
  <dc:description/>
  <dc:language>en-US</dc:language>
  <cp:lastModifiedBy>Admin</cp:lastModifiedBy>
  <dcterms:modified xsi:type="dcterms:W3CDTF">2017-05-16T16:16:11Z</dcterms:modified>
  <cp:revision>58</cp:revision>
  <dc:subject/>
  <dc:title>Слайд 1</dc:title>
</cp:coreProperties>
</file>