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173-EB7B-4EF3-BEEB-52F0C1C5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2C6-77F9-4330-A7F1-7BE956FC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ACA-8B58-4DFC-8DFA-1B93B407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A7B-8AD7-43EE-A8E8-D0418185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1369-1D94-4752-BF90-3773C8EF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D726-7319-47CE-A7FF-7956DB1F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BD2A-19AA-4D7F-B09E-074B511B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1701-4EC1-4913-8D73-F92F8484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E9E9-027A-42AC-87AB-F76E9CA6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0FED-9B2F-44DF-B313-E1DDFF0C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25E0-CAB6-4E2F-8143-8008C013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395-2D09-4C76-960C-C5F727A7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B323-66F9-4FC0-A5A7-D521D880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1B00-E480-476C-ACB4-5BCB5DDC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F4B9-46E3-4DE9-92E7-3187F98D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7CE4-A144-4DD1-99C2-489B5800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5D13-1E62-4A00-86E6-4E8C0F9B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A2895-40E0-4B3A-AB49-16AF2899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9C9EE-7CC4-4A7D-96D8-3429ADCF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0F573-5542-488A-88F9-869FDD6D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EC59B-6CA4-4314-ADB4-D0E4AAE7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68BB7-81F6-4917-B42E-C23679B6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1C4-1ECA-4C4A-BCF6-9BAD7149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8E810-07E0-414B-885C-5413DC7D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ED18C-CC60-41E5-AD9F-E54B1D74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45CA5-C377-4D49-91BD-1D573831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A1499-5743-4960-BAF4-1C7BCA10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91DC6-DEA9-4C62-A1F1-885346CC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F46A9-5356-4B35-A843-E0C816A7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FD428-5392-4C61-952C-5A79B8EE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F85DB-E51E-417B-8BD6-015B4126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08F69-E9FB-41CA-909C-A68B0A63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83619-E41A-4197-B6F2-E8866E41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9C9-D8C8-4847-9569-C2D13CAF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02617-1D8C-49FE-AF8E-3BD7B93D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68C87-6E12-4B61-A624-0C4DADB5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355D5-3808-4D74-8FFF-16ADAC6F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97A11-F776-468C-AD9B-3B74CD69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E9745-C0BF-4F29-B57A-BA5ED9F8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5941B-DCC1-4B8E-884C-A5A7DB01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92E3F-5B73-41D0-A297-754FF9BC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C1E24-0A40-4C0D-9582-5805A181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FB3A2-7E2E-4101-B87F-0957DF44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289-D455-4A74-B56C-A3EEE189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010A-94D4-4603-A7C9-19CE27F5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E92-ACED-42B6-8A18-B1F72194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CB1-649B-4AE2-AB7F-39360294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90B5-E2CA-451C-B9CC-A896D170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E8B7-F190-4C75-98DF-C016D1890D66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B82A-F558-4979-BB2F-C99FF9678CB0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A84E-69EE-4C08-A803-03371AC20F8F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4D4C-6F6B-4510-8F1C-3CEA7FCAA1B9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рганизация предметно-пространственной среды в начальной школе в условиях внедрения новых ФГОС НО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Содержимое 4" descr="чемуучат в школе.jpg"/>
          <p:cNvPicPr/>
          <p:nvPr/>
        </p:nvPicPr>
        <p:blipFill>
          <a:blip r:embed="rId1"/>
          <a:stretch/>
        </p:blipFill>
        <p:spPr>
          <a:xfrm>
            <a:off x="457200" y="2122560"/>
            <a:ext cx="4038480" cy="40305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6858000" y="5643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полнила Шабурова Ольг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Прямоугольник 1" descr=""/>
          <p:cNvPicPr/>
          <p:nvPr/>
        </p:nvPicPr>
        <p:blipFill>
          <a:blip r:embed="rId1"/>
          <a:stretch/>
        </p:blipFill>
        <p:spPr>
          <a:xfrm>
            <a:off x="907920" y="2170080"/>
            <a:ext cx="7437600" cy="2683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Содержимое 3" descr="школа россии.jpg"/>
          <p:cNvPicPr/>
          <p:nvPr/>
        </p:nvPicPr>
        <p:blipFill>
          <a:blip r:embed="rId1"/>
          <a:stretch/>
        </p:blipFill>
        <p:spPr>
          <a:xfrm>
            <a:off x="785880" y="1143000"/>
            <a:ext cx="7572240" cy="5181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абинет начальных класс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Содержимое 6" descr="каб2.jpg"/>
          <p:cNvPicPr/>
          <p:nvPr/>
        </p:nvPicPr>
        <p:blipFill>
          <a:blip r:embed="rId1"/>
          <a:stretch/>
        </p:blipFill>
        <p:spPr>
          <a:xfrm>
            <a:off x="457200" y="2786040"/>
            <a:ext cx="4040280" cy="3166920"/>
          </a:xfrm>
          <a:prstGeom prst="rect">
            <a:avLst/>
          </a:prstGeom>
          <a:ln w="0">
            <a:noFill/>
          </a:ln>
        </p:spPr>
      </p:pic>
      <p:pic>
        <p:nvPicPr>
          <p:cNvPr id="202" name="Содержимое 7" descr="кабинет начальных класоов.jpg"/>
          <p:cNvPicPr/>
          <p:nvPr/>
        </p:nvPicPr>
        <p:blipFill>
          <a:blip r:embed="rId2"/>
          <a:stretch/>
        </p:blipFill>
        <p:spPr>
          <a:xfrm>
            <a:off x="4786200" y="2714760"/>
            <a:ext cx="3586320" cy="3143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4400" y="259920"/>
            <a:ext cx="795960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Бытовая зона клас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0672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nstantia"/>
              </a:rPr>
              <a:t>Освещ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08400" y="1125000"/>
            <a:ext cx="4035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Содержимое 4" descr="свет.jpg"/>
          <p:cNvPicPr/>
          <p:nvPr/>
        </p:nvPicPr>
        <p:blipFill>
          <a:blip r:embed="rId1"/>
          <a:stretch/>
        </p:blipFill>
        <p:spPr>
          <a:xfrm>
            <a:off x="-47520" y="1928880"/>
            <a:ext cx="4833720" cy="2898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s000115_905544"/>
          <p:cNvPicPr/>
          <p:nvPr/>
        </p:nvPicPr>
        <p:blipFill>
          <a:blip r:embed="rId2"/>
          <a:stretch/>
        </p:blipFill>
        <p:spPr>
          <a:xfrm>
            <a:off x="5786280" y="1214280"/>
            <a:ext cx="2986200" cy="3586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7715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вет стен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10" descr="http://www.domsovetof.ru/_pu/48/93773795.gif"/>
          <p:cNvPicPr/>
          <p:nvPr/>
        </p:nvPicPr>
        <p:blipFill>
          <a:blip r:embed="rId1"/>
          <a:srcRect l="-3284" t="27192" r="0" b="0"/>
          <a:stretch/>
        </p:blipFill>
        <p:spPr>
          <a:xfrm>
            <a:off x="0" y="907920"/>
            <a:ext cx="6786720" cy="4235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3:22:11Z</dcterms:created>
  <dc:creator>Наталья</dc:creator>
  <dc:description/>
  <dc:language>en-US</dc:language>
  <cp:lastModifiedBy>Admin</cp:lastModifiedBy>
  <dcterms:modified xsi:type="dcterms:W3CDTF">2017-05-16T16:16:11Z</dcterms:modified>
  <cp:revision>58</cp:revision>
  <dc:subject/>
  <dc:title>Слайд 1</dc:title>
</cp:coreProperties>
</file>