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E84-5D2F-4D19-83FA-8C5BA7A0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DE8-E458-4E2C-8ABD-6AD23AB7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BD1CB-633E-4C86-85F4-8591479C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C138-C36B-4961-A2BE-34C3686E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38E7-069B-4681-B920-F4673298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A5F1A-7D6E-466B-BA99-1022E94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3545A-0F96-48B7-A9E1-C376C17E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8D788-B623-4D12-B0C3-C9385210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E3BFE-0D66-41D4-B061-CCCAD997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C6531-3A24-4969-9B45-498B435A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24A2-F262-4D79-8B5B-7C62E03A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AE6FB-372D-40F9-9C09-8C38A927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204-4D18-4CF4-8421-96952C88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1EAED-1C00-49CF-9DA5-C03256D3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CC3D8-C480-4D53-82DB-BCB2DC03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B9FE9-139D-455F-B5A0-B8F8EC1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0947A-5E89-43B1-B29C-F05DC652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B1415-3C2C-4974-84BF-BBC9B4DA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FC76A-AC66-42A7-B092-690A7A1C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A4D1D-F692-4E78-BBEE-07E7447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DEB05-35C1-45C0-AFD3-D9C115AF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563E3-368D-495F-8C53-D126C15F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2D288-E05D-4055-A0F8-E6665AFD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45C-AD89-4A24-B0C4-972552D9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E0F87-FC85-4ED1-A927-76F030B8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639DC-E0D2-4B45-851F-D8F83F59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FF55F-D07E-4164-8815-2AF07AD0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BF2D3-3A74-423C-B5B2-8A6F6896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D20AC-F70D-4BD0-82BA-35D362D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55B1D-47AE-48C2-BBF7-2290F1B7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083FA-1BEE-4F2C-89F1-2AAB5926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B3205-D10C-49A4-A39F-4501DD0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33A00-71B9-446E-BC32-AD3072AC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D1088-A7B4-4753-B39F-05FD41F2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9A5B-8E5A-42A0-B35C-608662F2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9FE9A-7677-4890-9B99-5D49748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31C86-4AAF-4ABD-BFD2-913A8D4B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FFACB-1007-4699-926E-1E62E67A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AD9A9-99B5-42F0-B3B8-BD704891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4CFD6-C796-4C87-B9D9-A7153C25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EB28A-4F45-4C18-8C93-4AC78C24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04AFA-90EE-4B96-94B8-FEF293A5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7DF83-1F71-4CEC-9C71-5E88111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B1495-FD2E-487D-9CC0-050C7811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4D18B-B59C-4A27-94BF-C7EAA9DB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A649-2ECD-47EF-B937-CC7B9AA9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435CA-B954-417F-B961-D7AF2BA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1F257-50CF-4307-B49C-A2B7C76C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F199D-8445-436D-807F-3667F478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ED72A-321C-4320-A759-CFE9B92B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41F34-464D-4A6F-942A-9BF4F303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57D19-115D-4145-BB2B-0FB608A5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7E643-F4F2-4BAA-B66E-EE5A7468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13FCB-1598-4505-B9D3-04954E98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B5DF2-5F73-4592-ACFC-F19A91A0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D2813-F618-463B-A807-80BAFFA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8426-B307-4F9D-9C8E-6125D06E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FDD4E-E8BF-43ED-9B4B-4DF590D7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F1A87-C729-4837-A29A-992628D0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F38B9-31B0-4540-8D64-D62B60B6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5E543-0076-4C1A-8906-30B4239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8BDEF-9C53-4862-8346-4B325E07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7F278-25C9-447E-A23A-F2A4CB0C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9BC3F-8C56-4BE2-8B74-535ED154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3EB9A-9780-4F5A-9157-D60FC330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3C566-224D-46AF-A25A-E19D90CC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6468F-BAA3-4150-A1DF-BA5A613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F4E3-D5F5-498A-B2F3-D8C9A8CC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F688C-6D12-4599-AD42-5A17FC38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B6BD7-5F01-468D-97E0-08DAEE5A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94B50-9621-494E-BD57-3FD1FA6C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D3CAF-3007-4A19-9C55-4F178522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CCC76-916A-4C32-B584-57EA489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2C2CB-0EAD-4A58-91A7-93BCE2F6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C3A70-CED0-44DB-BD1F-CD7AFCAE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159CA-D82B-4C2D-A383-8E8A8D0D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28D9E-09B2-461E-963D-3B21342D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A77AF-4128-47AB-9BBE-B9039C81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F8BA-3E9E-4E45-9A52-C102BC34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20E67-6EFF-4B0A-AC50-C97EB773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C3F97-1914-4203-B868-CC66C8EB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FE369-5EA6-4D44-BECA-9005C7A4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A123C-3403-4D8E-84B4-65EFEBD1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E2E47-8388-4651-841D-2E6E4447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C6B8A2-8616-4485-B10C-8584A6D4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003F8-1D6A-455B-B79F-A812D977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D5C68-BE6B-4FC4-B4C0-CDB5825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385CD-4D7B-4651-B0AF-993D0D32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F08FC-85C6-4654-8401-39F66022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A824-D0D4-4184-8367-165223B9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72A16-24C5-4A1B-B268-F4E96DD9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A8805-D1C9-417B-9B5D-F8C728D9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62C10-2E0F-442C-928F-BBDB6BF7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061C4-87D3-4824-BC26-902B288A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179B0-57CC-4BE0-8C87-23363093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D442F-31FD-4061-A23F-6AED165E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E782F-DCD5-4360-A975-D6C0A22E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7D569-7816-4BD4-B0CF-393D4032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0000F-3AE1-4E8B-97DB-8E5B8388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29DF5-710E-44F9-A60C-2D4FC58C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885C-20BA-4C60-90F1-02CDDEA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59987-49B4-4659-BC11-689ACD2E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BB4C5-2802-45C0-A3E8-2DB96992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70EFD-7299-4E78-B56F-80DD4023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C6E3F-80B1-49D7-9989-14DFA54C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42DEF-B58E-4979-9089-DCC8F74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CF4FA-3C87-4BFA-B2E8-E446D90C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ABE3D-0FE3-4E7C-BE21-4958D22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1A3E1-09AA-443D-A097-2E7837E0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105A2-B0F5-47A7-AE72-E9164104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42B63-3517-4D13-BD8B-7CA57A2B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740-54D9-47BA-93EA-62E67DF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158-5BB3-4D6E-8CD8-F5C4ACA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58D8B-D59D-45A2-911D-5D1EB2A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0AE82-1B64-4A90-806B-B38D14E2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5F4D6-4FEB-43D1-9941-B81D1D07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F567A-7FA9-4313-96B3-D7E0389B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E1562-05F6-47E7-9D6D-66FECF62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C150-708D-4DDD-8AD1-456AB003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7591-07F2-42A1-9191-11A4C831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BD2-27B5-45AB-80C3-C7D01737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9A7A-ED56-4C0A-B113-A6B8B33B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AB0E-0AB6-469B-919E-29794AB6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3699-02C9-4883-83AE-968E458F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B3AB-2F70-4E43-92C2-CCB5C699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D2F4-977F-44BD-9B08-F89346C0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D610-8249-4183-9DB3-2D07AB97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48E-7362-467D-BC62-30A96772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BA36-D928-4E08-9F3C-9076FA43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65905-AD2A-46C5-B8DC-41BC0050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3082-D341-4E8F-A9B2-033FBDF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29C8-7834-4122-B35B-04BC264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54C8-1F0E-4CF6-9282-33E90504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F6A46-22F7-4AF5-BA38-A28D7C26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914C-ABC7-486D-9AF9-3319DA9D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5E6D-6AFB-47D2-873F-A4CE941E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4F25-FDEA-41D8-A156-C477DA12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A096-314C-41B6-BBA8-AE1F390C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C77-F17D-4ACE-A6A3-D5B19559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65DCD-C1BC-4AF4-97B5-E2ED89F6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6862-5900-453D-A2A4-70784C50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BFA1-8032-4433-B115-D61D105B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F89C-569A-4131-B02C-C49C0E1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F036-8389-447C-8F72-AF39A6F2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8FEE5-0B47-436B-83A3-14631CE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020E-C5E4-412F-A8A9-9B598BB8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1723F-B735-4B27-B63C-8269C971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FA10F-BA67-49EF-9FE1-6D38CA3F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ECFFE-4BEA-49AC-92F5-DFF95E74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27A-3022-47B6-A90E-BA4EA169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8944-CA5C-465F-9630-C26995C6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55DA1-7308-4353-A3CC-043FCB6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4188-513F-47B3-ADE9-D7F4A92C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B301-94D8-4F90-88A4-D41A77A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8AFA-FE4C-474A-BB77-A89BAF12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BABAA-E3C3-4BC6-9CE2-267A30F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CE93-FA8F-461C-A487-0A9AC061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3B78B-912E-4F65-B8DE-CC43C57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33E6B-C213-4120-8AB6-9FE96F8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6B70B-A300-439C-A14C-8D3B00FA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3D3-333D-42E0-A827-E8C3F74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18CA-5B1E-4847-B4F5-4CFC1DFC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79A15-A9FB-4E87-B31F-FE621F19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5595-1846-4DDB-8DFB-8DE98358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32158-E114-43EE-B94C-5B2B863E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42A1B-4C3C-4C02-BD4B-7F0A227B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B9BE-5A0F-405C-B7D2-C52B0DE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1F76-58A7-4D66-9198-1FBC3055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0E85-38A8-4779-A7A0-5D60CDB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0303-9EAC-4FDC-B655-AB666CA8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795B7-AE54-489A-9EF1-DA3ED99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3A1-4D2F-4461-A261-A7BF427A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3782E-BE64-43F4-A470-39BF424E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0707D-677A-4669-A90A-0E1C42D6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02B0-3663-4DE3-AD43-50CA0D33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233EC-0223-4EFE-AA0A-52A561F2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6210F-D847-41F3-9814-B7FB4486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55183-015F-4EB0-8D79-3C653B16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18EB9-94B9-4F31-BD1E-653FCC56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A9049-A6F0-46BD-97F1-67C631C0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AD32A-D7C6-4A85-9961-2DE05DC4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36C43-709B-4F22-B291-60A960EE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DD8-7694-4A10-8911-3C65487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23887-011F-4104-A466-4BB196AA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5E865-8ADE-4928-9879-3004EE5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45E8-E107-46E3-A332-B104A427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25D6E-C22B-401A-B50B-09151931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F1510-20E5-408D-A22F-F89E646B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8F0BB-7294-453E-AF59-1475F736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A5115-72A3-4D8E-9CE7-E7678B0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AA9C3-BA6A-4428-8D0E-B85BF92D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22D04-BEBA-4F6B-A979-D7A4BE1A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D30A-A805-4039-8DE2-8B6CFCE8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A4B-C494-4F48-A0E2-65A5C2BE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B7CB4-BE84-4CC8-9F8E-F91774E4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903F5-9016-478B-BEC1-58AA6640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A22B4-C1EF-4F63-9247-EC7197B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D43C6-12E4-4588-A0F2-8FBD7619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7A972-9B53-4DC5-AB6C-2329A3CE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561AA-C295-48F2-B7FD-B48A3CEF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17978-1C1A-485D-8708-F6C5B672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8A52B-EBCF-4B30-BA10-4DC27C5E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9C8EA-BE5A-4432-810D-68F8B92C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3FFBB-D733-4650-9A52-484F46F5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6417-42F0-4990-BC72-5635042A12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1FC-C758-4B71-B1B7-AFE378275D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DAA5-BF12-4D52-B6F2-3BC3C86F12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0E55-D7C3-4FA5-AEDC-E1B93A89AE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1FFC-646C-4FF7-ABF0-04FF8A0EDF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D405-200A-4A6E-868B-FDFBEF97C9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C2E-CCF8-414D-AD86-E7567C579A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E084-E5C9-4C12-A2BA-D86ADF375F9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DE25-89A5-4A3C-884E-6468B92BBB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6B2F-356C-44E6-81E2-DC1FF2A247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B7A7-3679-4EC0-BA8E-75A335807D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50D8-BED5-42A7-AF7F-9C3DD5748F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395A-B565-488F-B9C6-9523FE5A6D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EA4E-B106-4FDA-BC0A-3865B1E0BF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21B1-0A89-445D-9DB8-7A25121BC0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647-7083-46E3-9C66-FD1ABCE268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4EEE-19D5-4DCF-8EA8-BE571E00EA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8000" y="764640"/>
            <a:ext cx="7400880" cy="309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Муниципальное автономное дошкольное образовательное учреждение 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детский сад №37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«Дружная семейка»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г. Нижневартовск 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старшая группа № 7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«Смешарики»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547280" y="4239720"/>
            <a:ext cx="682812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                 </a:t>
            </a: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Воспитатель: Манапова Т.Н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                                             </a:t>
            </a:r>
            <a:r>
              <a:rPr b="0" lang="ru-RU" sz="2200" spc="-1" strike="noStrike">
                <a:solidFill>
                  <a:srgbClr val="595959"/>
                </a:solidFill>
                <a:latin typeface="Century Gothic"/>
              </a:rPr>
              <a:t>   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1" descr=""/>
          <p:cNvPicPr/>
          <p:nvPr/>
        </p:nvPicPr>
        <p:blipFill>
          <a:blip r:embed="rId1"/>
          <a:stretch/>
        </p:blipFill>
        <p:spPr>
          <a:xfrm>
            <a:off x="468360" y="2157480"/>
            <a:ext cx="1512720" cy="157932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2" descr=""/>
          <p:cNvPicPr/>
          <p:nvPr/>
        </p:nvPicPr>
        <p:blipFill>
          <a:blip r:embed="rId2"/>
          <a:stretch/>
        </p:blipFill>
        <p:spPr>
          <a:xfrm>
            <a:off x="468360" y="4379760"/>
            <a:ext cx="2158920" cy="2241720"/>
          </a:xfrm>
          <a:prstGeom prst="rect">
            <a:avLst/>
          </a:prstGeom>
          <a:ln w="0">
            <a:noFill/>
          </a:ln>
        </p:spPr>
      </p:pic>
      <p:pic>
        <p:nvPicPr>
          <p:cNvPr id="1180" name="Рисунок 3" descr=""/>
          <p:cNvPicPr/>
          <p:nvPr/>
        </p:nvPicPr>
        <p:blipFill>
          <a:blip r:embed="rId3"/>
          <a:stretch/>
        </p:blipFill>
        <p:spPr>
          <a:xfrm>
            <a:off x="5508720" y="1563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181" name="Рисунок 4" descr=""/>
          <p:cNvPicPr/>
          <p:nvPr/>
        </p:nvPicPr>
        <p:blipFill>
          <a:blip r:embed="rId4"/>
          <a:stretch/>
        </p:blipFill>
        <p:spPr>
          <a:xfrm>
            <a:off x="4788000" y="5008680"/>
            <a:ext cx="25905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589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1403280" y="981000"/>
            <a:ext cx="75614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Задачи: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Повысить собственный уровень знаний путем изучения специальной литературы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Расширять представления детей об окружающей дорожной среде и правилах дорожного поведения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Познакомить детей со значением дорожных знаков, научить понимать их схематическое изображение для правильной ориентации на улицах и дорогах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Развивать способность практически применять полученные знания в дорожно-транспортной среде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Воспитывать дисциплинированность и сознательное выполнение правил дорожного движения, культуру поведения в дорожно-транспортном процессе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Активизировать работу по пропаганде правил дорожного движения и безопасного образа жизни среди родителей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Times New Roman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96920" y="765000"/>
            <a:ext cx="74772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чении года прошла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1402920" y="1988640"/>
            <a:ext cx="7386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6 году прошла аттестацию на первую квалификационную категорию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68000" y="1628640"/>
            <a:ext cx="82803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по предупреждению дорожно-транспортного травматизма дошкольников «СВЕТОФОРЧИК» на 2016-2017г.г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спорт дорожной безопасности образовательного учреждения Муниципального  Автономного Дошкольного образовательного учреждения  детского сада № 37 «Дружная семейка»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899640" y="1700280"/>
            <a:ext cx="73868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родительских собрани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ение родителей памятками по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ДД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родительского собрания на уровне ДОУ по обеспечению личной безопасности воспитанников образовательной организации. 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8000" y="23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9023e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115640" y="623520"/>
            <a:ext cx="7418520" cy="23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</a:rPr>
              <a:t>Старшую группу № 7  посещает 26 ребенка. В группе 14 девочек, 12 мальчиков. 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826920" y="1988640"/>
            <a:ext cx="7994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Цель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Формирование основ базовой культуры личности, всестороннее  развитие психических и физических качеств в соответствии с возрастными и индивидуальными  особенностями к обучению в школе, обеспечение безопасности жизнедеятельности дошкольник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331640" y="623880"/>
            <a:ext cx="720252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Задачи: </a:t>
            </a:r>
            <a:br>
              <a:rPr sz="2800"/>
            </a:b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◾формирование общей культуры воспитанников, развития их нравственных, интеллектуальных, физических, эстетических качеств, инициативности, самостоятельности и ответственности, формирования предпосылок учебной деятельности;</a:t>
            </a:r>
            <a:br>
              <a:rPr sz="2800"/>
            </a:b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◾формирование социокультурной среды, соответствующей возрастным и индивидуальным особенностям детей.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26560" y="15480"/>
            <a:ext cx="7705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владения воспитанниками необходимыми навыками и умениями по основным образовательным областям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Прямоугольник 1"/>
          <p:cNvSpPr/>
          <p:nvPr/>
        </p:nvSpPr>
        <p:spPr>
          <a:xfrm>
            <a:off x="537120" y="13096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Рисунок 2" descr=""/>
          <p:cNvPicPr/>
          <p:nvPr/>
        </p:nvPicPr>
        <p:blipFill>
          <a:blip r:embed="rId1"/>
          <a:stretch/>
        </p:blipFill>
        <p:spPr>
          <a:xfrm>
            <a:off x="719280" y="1844640"/>
            <a:ext cx="7921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826560" y="15480"/>
            <a:ext cx="7705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владения воспитанниками необходимыми навыками и умениями по основным образовательным областям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Прямоугольник 1"/>
          <p:cNvSpPr/>
          <p:nvPr/>
        </p:nvSpPr>
        <p:spPr>
          <a:xfrm>
            <a:off x="534960" y="13096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Рисунок 3" descr=""/>
          <p:cNvPicPr/>
          <p:nvPr/>
        </p:nvPicPr>
        <p:blipFill>
          <a:blip r:embed="rId1"/>
          <a:stretch/>
        </p:blipFill>
        <p:spPr>
          <a:xfrm>
            <a:off x="611280" y="1816200"/>
            <a:ext cx="79214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72800" y="9075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екс здоровь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4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63160" y="2708280"/>
            <a:ext cx="36162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 посещаемости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4 %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032000" y="2565000"/>
            <a:ext cx="36176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 заболеваемости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,2 %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оспитанников в смотрах выставках конкурсах соревнованиях различного уровня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684360" y="2133360"/>
            <a:ext cx="78501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a013f"/>
                </a:solidFill>
                <a:latin typeface="Times New Roman"/>
                <a:ea typeface="Times New Roman"/>
              </a:rPr>
              <a:t>Конкурс чтецов (на уровне ДОУ)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a013f"/>
                </a:solidFill>
                <a:latin typeface="Times New Roman"/>
                <a:ea typeface="Times New Roman"/>
              </a:rPr>
              <a:t>Гришина Эвелин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0560" y="1484280"/>
            <a:ext cx="331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анапов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атьяна Николаевн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7" name="Picture 5" descr="4-C17464E3-1053786-480"/>
          <p:cNvPicPr/>
          <p:nvPr/>
        </p:nvPicPr>
        <p:blipFill>
          <a:blip r:embed="rId1"/>
          <a:stretch/>
        </p:blipFill>
        <p:spPr>
          <a:xfrm>
            <a:off x="4500720" y="476280"/>
            <a:ext cx="431928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амообразовани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47280" y="1267920"/>
            <a:ext cx="64818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оритетным направлением в своей деятельности считаю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2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ема: Система работы педагога ДОУ в формировании правил безопасности дорожного движения у детей дошкольного возраста и их родителей через явления общественной жизн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2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Цель: Оптимизировать работу педагога, ориентированную на триаду: педагог, родители, дети и направленную на закрепление знаний детей и их родителей о правилах дорожного движе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2720">
              <a:lnSpc>
                <a:spcPct val="80000"/>
              </a:lnSpc>
              <a:spcBef>
                <a:spcPts val="1001"/>
              </a:spcBef>
              <a:buClr>
                <a:srgbClr val="fb9318"/>
              </a:buClr>
              <a:buFont typeface="Times New Roman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8:25:21Z</dcterms:created>
  <dc:creator>манапов</dc:creator>
  <dc:description/>
  <dc:language>en-US</dc:language>
  <cp:lastModifiedBy>Админ</cp:lastModifiedBy>
  <dcterms:modified xsi:type="dcterms:W3CDTF">2017-05-17T05:12:15Z</dcterms:modified>
  <cp:revision>35</cp:revision>
  <dc:subject/>
  <dc:title>Муниципальное бюджетное дошкольное образовательное учреждение детский сад комбинированного вида №37 «Дружная семейка» г. Нижневартовск</dc:title>
</cp:coreProperties>
</file>