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E09-FF3B-420A-947E-EFEB6824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E24-558D-4736-BF45-1A445D88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8CF4E-EFDB-4336-8879-31A7B8B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510E0-00EF-478B-AA59-994FDC1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8DCC4-143F-4057-84CA-8E2CA27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03817-1BF5-4E3C-960F-25AFDB9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36C42-0394-45B4-916E-3DB255C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5673B-AC45-4B11-A2BF-6814692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974CD-1A0D-4BBA-AE2A-F216CAF5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C58C3-0DC0-4BE5-95AE-BFEC7DBA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B441D-8819-4CF7-9D19-F118ACFC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FCD6C-3077-4FBB-884E-61718D7B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57C-878E-46CB-ADF7-B0882789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BC9EA-D69E-47A8-B638-03F7B4D1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E0139-C00A-42BB-B83D-88D6402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47B1A-825F-4AEF-8EE0-C7822FED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37722-96B2-4CE1-8503-8F94B54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089D9-FC23-4F11-88CC-361AFB09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E4F78-B270-46C2-A2D4-EAC51A3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335F2-701D-4EF1-B56E-1373C8CE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3121C-7EF7-4C04-926C-B7DF530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33953-FFC8-4595-8AC4-F7E148FA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8C100-0C8D-4991-BD06-5D22E03A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68C-9B41-4F73-86E3-58B9BB51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07BC7-679B-434A-BA36-DD0AAAC0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18525-FA6C-40B8-B46B-40947DAF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FC757-3F64-4BE6-B8B8-90BA7D91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2C50C-1F03-4F14-AD21-C7E61733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C32D5-5E6F-41EF-8689-37427283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4063E-636A-4C6F-B442-7DBA5E30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288EA-1D53-4F87-9856-3FE4B7BC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6244-2CD2-465C-AC2A-A0F0577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E3BA-62B1-45F2-A0FD-7F8168A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33483-F844-4DC3-A772-39127B42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6E07-B7F0-4A50-BF7A-48FEBBDA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5BB22-EB6A-4041-861A-48C30FF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950FB-7AA3-45B6-8550-A80268F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B0CD8-E648-4FC1-B62B-9C49C170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12FE8-157B-466D-BB17-A8343B4A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93808-0AD2-468E-949C-D1D25231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E82C0-E763-4EE7-A772-FE642630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E54A3-6C7F-4E51-B336-C6AAAA6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2B1A1-AC3E-48B8-9057-F36A2125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56455-E5C5-4586-8E90-A5FC3DF0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C394-53D6-459C-8ADE-C75C7EE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B4DE-F164-4E31-8CDC-0CDE619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71265-98CC-4627-A002-681A181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4A10F-523C-4E7B-BCFC-8DEAE51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B9518-6524-4C2C-8210-E07B18F6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A5EB-4593-42B7-8236-24E7C115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24719-7CBB-4C3C-84EB-A2746689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07003-C47B-47D2-BE20-2C2BFB7C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5865F-ABF8-4F4E-A90E-19D7B2A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5E66C-C790-4120-9F44-3CC51566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11149-8A2C-4413-AFCB-BE472B45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3E820-8BA6-43FB-B899-F090E2F9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33CA-EE9C-400E-8911-6359994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A8734-6547-4823-A78A-F1F78FC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97CC8-7C64-4921-824B-B0133686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87D80-6B72-4A18-8CCB-BB8EDB7B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52175-D1A9-412F-988C-FC903F7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55755-B0D1-4EA5-8250-56C71A6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0FE43-7B02-4653-90E8-A5E20E49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4F625-BF04-4A70-9758-BD30D5A9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3711C-464D-46B0-AF24-EFC10B65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2F0A4-E1DB-4900-AE41-5D1B74C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7B34B-D317-417D-9A40-E46594F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C184-89FF-4AB7-BC02-9C8AEDD0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5D993-E410-4320-86C5-12A957BE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B9557-85C6-48A5-B8B5-FE8FF9F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F7436-48C4-47A4-9368-F48B1C2A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6F218-497B-46F8-BD3F-130FFB7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31A36-D5A7-4E03-B298-A73F8E1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C2BC1-0E08-4DD6-9178-136A64C9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3F000-1A69-4C5F-8E2E-E276196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748B4-4945-4CED-9B82-284A8A71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8EBF7-1EF5-42C9-B7D1-FA3A64F7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DBBBA-FBD6-4566-840E-C7EA15AD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FC89-D060-47C5-9D7C-E307DAE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E49B2-766F-4CE9-814F-9C25DCB2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F6412-6C77-4B77-95F5-F2BCDFB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831ED-BBB5-467E-A4A9-784105AC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ED656-D7D3-470F-8CC3-E336605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829CB-7EFB-4EE0-9230-AA82B0C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2C6D6-226B-40DD-A0EF-B712A0D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D6BBC-E90F-41A5-B173-E05347F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947DE-7944-48B5-AFDC-6C7D47E4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C8817-6B7C-47EB-8656-F1A00679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9394E-7A8D-4541-BD4C-5C5C1AFC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065-A310-4362-98EA-E82321C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0FF4A-4D29-4BA1-AAE7-8E36EF85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0D19E-0DAB-4A06-A2EB-BA23038B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5DB2D-A857-4709-93DD-5D87BB4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D2F47-1421-49BE-A249-0C9A2DEA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F4F0D-A9C9-4B44-A97A-D1C8F65E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91FE2-6C10-4875-A7AD-3326F01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53A9B-EC4D-4AED-BA48-5C564F5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E5144-A1DA-49DC-9DAB-119879F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61511-A41C-46C0-9B99-F01D653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A3B63-98A0-4587-B153-1907CD0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5E8-9512-4A06-9D10-4BEE198C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FB51F-33B5-4DAF-BC88-C12FEEB7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52202-B16C-4377-A2EA-46590071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F8911-61D5-4A46-B647-8D8DBA23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AEFB4-6F08-4625-B6F2-762B6ECC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21082-340D-4240-99A1-7E72691E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86E20-AF30-482E-8EE3-A7EC53F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D48FA-F0B0-4D90-86EB-37EC3BA7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1AB20-0B52-473F-920A-80577520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984C8-B743-4853-A717-E3A575FC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79D0A-41BD-46A1-A5FA-A4C2882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D02-FD7B-47EF-9713-1DB7907F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18B1-E316-4865-9214-57D43C2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B8CE4-5D8C-4BF0-A368-6BB8BF84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2DBEC-1421-4884-836A-87BF4C3B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0D929-0BF2-4699-B693-DD6B1F5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3C0BD-ABFB-4DE4-8C02-D363E277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9776D-DBAF-4DA6-AC08-A64A92BC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273A-E4EE-45B7-A3D5-9210A67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9AC7-EB30-4DAF-92B3-FEBEC0C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E005-1A10-4C63-86D1-956265A8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41DF-1C07-44CA-906B-6E9DE49A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08E0-8B0D-4C01-A5B1-73E85603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1DB7-1B69-439E-9E3D-7640D34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40FC-84F2-4009-9B22-692AC494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C38C-1BA7-47CC-9918-B88211E4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1FE0-909F-4843-8163-98DEF85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64F-B108-429B-81A7-A791EB1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0DF8-5627-4A75-929E-9267D7B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1879-1E18-4CA6-9487-1CC375AE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1DBF-9583-4CAF-B0C2-A2AF93E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8BAC-3539-4B9C-A943-FC06AC6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FB1E-4278-4248-914F-8ADA850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5F14-61A3-4B2C-ACEB-E9BC233E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361D-29D2-44E9-949C-8252851C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4FEC-7A73-4D62-B37F-9F3F3AEE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2839-3B81-47E0-ABE1-00BB8AF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4129-A803-4959-9917-79785DCD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54B-82B3-41BC-B35D-FCA71E66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EDD7-B0A1-42A1-8C4E-5227A74D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E4FA-1CC8-46D7-BF6E-99FC212C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94B5-FAA2-4ED2-A7F1-B0E8EAA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7E0E-F8C2-4C00-9185-7CA493B8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998F-A555-4DC9-A245-401D619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BC2A-02F0-475C-AE54-BC4B312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A583-D28C-480A-B051-566B80DD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1832-1056-4802-A541-A67454E7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1AAC-7B3A-48BB-8DCF-A2D454BE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AD89-F6EB-4EBA-A859-10191E79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A05-308B-495F-86AF-ED010F3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4D9D-43A6-46D6-A33A-7915DA5C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D5EB-D435-4342-ADFB-3381559D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B26E-536B-489C-8872-723E8A8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59F3-FC55-4468-AB8A-85A770CB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BFD2-038B-4DF6-92CD-BF8C85AA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71A6E-DCB8-4B06-A250-408A9A5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6BECD-4743-4BB3-A2EA-083F91C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35C6-D0A1-4020-AD55-01EAF80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4689-93F0-4AEC-A732-5F31D558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2C15-4332-44F7-8F92-8BEE16C0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83F-B706-44A3-BF13-7160FBF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7417D-7E5A-4425-A455-D3760AC7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2BCE0-6671-4C00-9FDF-CE27F5B3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D54B2-8E41-499E-AC05-822A7DD7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2FCE-E56E-4CA6-979C-DF6860B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9AAC4-B1A1-4760-B5F8-18D71B7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5218-17E7-4071-9482-999C2485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82CE-5035-4904-A790-DB3BE3CE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B61C-A400-44FA-A39F-F314D71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8D47B-EE67-4124-A61A-B9A2BE7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F4DC-617C-4427-82DF-5013EC7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F74-1195-4A02-8C3D-54C50A4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C2CC-74AD-490E-979D-F370F3F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65E0-6ACD-4632-A21F-688B36A8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E61B8-2529-4B96-9A52-2A8E192E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31FEC-B913-4B10-8F1D-ABE6C19B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9ABC5-D86F-498C-B9D9-97E0C2AF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8003F-A49E-447E-B53A-3C6EE00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B6ECE-A7E6-4BD5-BD34-A42143B7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4D1C-5B0B-4444-A9B0-15EE8EFB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F303-0AB5-44B3-A9EF-611C5C71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71FDA-A0DA-4E28-8DDB-D014773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6EC-4A80-41BD-9441-1F38436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4F69-C4E2-4D37-A00F-CE32788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3384-D49B-4D82-8050-7E63C69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6E7EE-C2E9-46DA-ABF4-82C42AFC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FFD1E-F263-4CA9-BE3D-359CC45E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54B5E-A60A-474C-9C46-BA51921D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0F72-9809-4B1F-BF77-E1DAF0BF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E1E0-5367-4275-B832-A06F905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F67FC-A98B-451D-B4B5-789255B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8DF4-6E07-4EC4-9532-2721C301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55CE-B2DD-4EE9-9321-04EA307F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39E-7B7A-4D49-8D23-74ADD65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A8F8E-2A57-4A92-A05B-DC7EA5E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BB83-F48D-4C5C-BE6D-FB38337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68251-3484-4DB9-A9DA-D494DC23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3DC63-10CD-490A-9062-A7C07E4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40859-2D65-46AD-8CC6-C1DA0800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8DF4C-4AB5-498D-B902-5F98B627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25311-99EA-4AD8-88C6-1F116DB2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4D2DA-C2E9-4465-B105-F872DA12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2F23A-F106-49DC-BECE-264FA29D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78A8F-D268-4FB8-A2F9-20E8F17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6C3-6928-4785-A0CC-BD3CBEACA9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D30B-A55F-4241-8FF6-BE113E3EA88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55F5-991A-4C8B-9C06-DAB763CA91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7102-2903-42A8-ACE9-843481BAFC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71F-E933-4956-85C4-94102D2BA0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2C8-62BE-4F54-BED3-5A716EE2C4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70C9-1226-44D2-8B4B-83AC393770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7B52-5FA4-44FB-945B-40691DD87C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1DC-9D19-447C-BFC3-8E382E1A8F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9DDE-18E9-4FEB-B28B-3F501E939F4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B817-0104-4977-B34F-C879BD6A28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8E53-53BA-41BF-A4C2-B257EBEE3C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62BD-FEB9-4F6A-A61F-22D4429D55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3CA-E99B-41ED-85E9-A167D672C5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EB7-2B72-4026-A5F8-C3ECA4D681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9C3-9E4C-493B-AD97-4D7B6F9C36A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41C-A857-47BD-82C7-15CFD71A98C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8000" y="764640"/>
            <a:ext cx="7400880" cy="30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детский сад №37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«Дружная семейка»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г. Нижневартовск 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старшая группа № 7</a:t>
            </a:r>
            <a:br>
              <a:rPr sz="2500"/>
            </a:br>
            <a:r>
              <a:rPr b="1" lang="ru-RU" sz="2500" spc="-1" strike="noStrike">
                <a:solidFill>
                  <a:srgbClr val="19023e"/>
                </a:solidFill>
                <a:latin typeface="Times New Roman"/>
              </a:rPr>
              <a:t>«Смешарики»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547280" y="4239720"/>
            <a:ext cx="682812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                 </a:t>
            </a: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Воспитатель: Манапова Т.Н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                                             </a:t>
            </a:r>
            <a:r>
              <a:rPr b="0" lang="ru-RU" sz="2200" spc="-1" strike="noStrike">
                <a:solidFill>
                  <a:srgbClr val="595959"/>
                </a:solidFill>
                <a:latin typeface="Century Gothic"/>
              </a:rPr>
              <a:t>  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1" descr=""/>
          <p:cNvPicPr/>
          <p:nvPr/>
        </p:nvPicPr>
        <p:blipFill>
          <a:blip r:embed="rId1"/>
          <a:stretch/>
        </p:blipFill>
        <p:spPr>
          <a:xfrm>
            <a:off x="468360" y="2157480"/>
            <a:ext cx="1512720" cy="157932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2" descr=""/>
          <p:cNvPicPr/>
          <p:nvPr/>
        </p:nvPicPr>
        <p:blipFill>
          <a:blip r:embed="rId2"/>
          <a:stretch/>
        </p:blipFill>
        <p:spPr>
          <a:xfrm>
            <a:off x="468360" y="4379760"/>
            <a:ext cx="2158920" cy="2241720"/>
          </a:xfrm>
          <a:prstGeom prst="rect">
            <a:avLst/>
          </a:prstGeom>
          <a:ln w="0">
            <a:noFill/>
          </a:ln>
        </p:spPr>
      </p:pic>
      <p:pic>
        <p:nvPicPr>
          <p:cNvPr id="1180" name="Рисунок 3" descr=""/>
          <p:cNvPicPr/>
          <p:nvPr/>
        </p:nvPicPr>
        <p:blipFill>
          <a:blip r:embed="rId3"/>
          <a:stretch/>
        </p:blipFill>
        <p:spPr>
          <a:xfrm>
            <a:off x="5508720" y="1563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181" name="Рисунок 4" descr=""/>
          <p:cNvPicPr/>
          <p:nvPr/>
        </p:nvPicPr>
        <p:blipFill>
          <a:blip r:embed="rId4"/>
          <a:stretch/>
        </p:blipFill>
        <p:spPr>
          <a:xfrm>
            <a:off x="4788000" y="5008680"/>
            <a:ext cx="25905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5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403280" y="981000"/>
            <a:ext cx="75614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Задачи: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Повысить собственный уровень знаний путем изучения специальной литературы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Расширять представления детей об окружающей дорожной среде и правилах дорожного поведения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Познакомить детей со значением дорожных знаков, научить понимать их схематическое изображение для правильной ориентации на улицах и дорогах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Развивать способность практически применять полученные знания в дорожно-транспортной среде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Воспитывать дисциплинированность и сознательное выполнение правил дорожного движения, культуру поведения в дорожно-транспортном процессе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a013f"/>
                </a:solidFill>
                <a:latin typeface="Times New Roman"/>
              </a:rPr>
              <a:t>Активизировать работу по пропаганде правил дорожного движения и безопасного образа жизни среди родителей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>
              <a:lnSpc>
                <a:spcPct val="70000"/>
              </a:lnSpc>
              <a:spcBef>
                <a:spcPts val="1001"/>
              </a:spcBef>
              <a:buClr>
                <a:srgbClr val="fb9318"/>
              </a:buClr>
              <a:buFont typeface="Times New Roman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6920" y="765000"/>
            <a:ext cx="74772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и года прошла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402920" y="1988640"/>
            <a:ext cx="7386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6 году прошла аттестацию на первую квалификационную категорию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68000" y="1628640"/>
            <a:ext cx="82803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по предупреждению дорожно-транспортного травматизма дошкольников «СВЕТОФОРЧИК» на 2016-2017г.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спорт дорожной безопасности образовательного учреждения Муниципального  Автономного Дошкольного образовательного учреждения  детского сада № 37 «Дружная семейка»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899640" y="1700280"/>
            <a:ext cx="73868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родительских собрани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ение родителей памятками по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ДД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родительского собрания на уровне ДОУ по обеспечению личной безопасности воспитанников образовательной организации. 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8000" y="23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9023e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115640" y="623520"/>
            <a:ext cx="741852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</a:rPr>
              <a:t>Старшую группу № 7  посещает 26 ребенка. В группе 14 девочек, 12 мальчиков. 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826920" y="1988640"/>
            <a:ext cx="7994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Цель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Формирование основ базовой культуры личности, всестороннее  развитие психических и физических качеств в соответствии с возрастными и индивидуальными  особенностями к обучению в школе, обеспечение безопасности жизнедеятельности дошкольник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331640" y="623880"/>
            <a:ext cx="720252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Задачи: </a:t>
            </a:r>
            <a:br>
              <a:rPr sz="2800"/>
            </a:b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◾формирование общей культуры воспитанников, развития их нравственных, интеллектуальных, физических, эстетических качеств, инициативности, самостоятельности и ответственности, формирования предпосылок учебной деятельности;</a:t>
            </a:r>
            <a:br>
              <a:rPr sz="2800"/>
            </a:br>
            <a:r>
              <a:rPr b="1" lang="ru-RU" sz="2800" spc="-1" strike="noStrike">
                <a:solidFill>
                  <a:srgbClr val="19023e"/>
                </a:solidFill>
                <a:latin typeface="Times New Roman"/>
              </a:rPr>
              <a:t>◾формирование социокультурной среды, соответствующей возрастным и индивидуальным особенностям детей.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26560" y="15480"/>
            <a:ext cx="7705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Прямоугольник 1"/>
          <p:cNvSpPr/>
          <p:nvPr/>
        </p:nvSpPr>
        <p:spPr>
          <a:xfrm>
            <a:off x="537120" y="13096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Рисунок 2" descr=""/>
          <p:cNvPicPr/>
          <p:nvPr/>
        </p:nvPicPr>
        <p:blipFill>
          <a:blip r:embed="rId1"/>
          <a:stretch/>
        </p:blipFill>
        <p:spPr>
          <a:xfrm>
            <a:off x="719280" y="1844640"/>
            <a:ext cx="7921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26560" y="15480"/>
            <a:ext cx="7705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Прямоугольник 1"/>
          <p:cNvSpPr/>
          <p:nvPr/>
        </p:nvSpPr>
        <p:spPr>
          <a:xfrm>
            <a:off x="534960" y="13096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Рисунок 3" descr=""/>
          <p:cNvPicPr/>
          <p:nvPr/>
        </p:nvPicPr>
        <p:blipFill>
          <a:blip r:embed="rId1"/>
          <a:stretch/>
        </p:blipFill>
        <p:spPr>
          <a:xfrm>
            <a:off x="611280" y="1816200"/>
            <a:ext cx="79214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2800" y="9075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екс здоровь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4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63160" y="2708280"/>
            <a:ext cx="36162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посещаемости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4 %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032000" y="2565000"/>
            <a:ext cx="36176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заболеваемости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,2 %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оспитанников в смотрах выставках конкурсах соревнованиях различного уровня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684360" y="2133360"/>
            <a:ext cx="78501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a013f"/>
                </a:solidFill>
                <a:latin typeface="Times New Roman"/>
                <a:ea typeface="Times New Roman"/>
              </a:rPr>
              <a:t>Конкурс чтецов (на уровне ДОУ)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a013f"/>
                </a:solidFill>
                <a:latin typeface="Times New Roman"/>
                <a:ea typeface="Times New Roman"/>
              </a:rPr>
              <a:t>Гришина Эвелин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331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анапов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атьяна Николаевн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7" name="Picture 5" descr="4-C17464E3-1053786-480"/>
          <p:cNvPicPr/>
          <p:nvPr/>
        </p:nvPicPr>
        <p:blipFill>
          <a:blip r:embed="rId1"/>
          <a:stretch/>
        </p:blipFill>
        <p:spPr>
          <a:xfrm>
            <a:off x="4500720" y="476280"/>
            <a:ext cx="431928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амообразовани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47280" y="1267920"/>
            <a:ext cx="64818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оритетным направлением в своей деятельности считаю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ема: Система работы педагога ДОУ в формировании правил безопасности дорожного движения у детей дошкольного возраста и их родителей через явления общественной жизн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Цель: Оптимизировать работу педагога, ориентированную на триаду: педагог, родители, дети и направленную на закрепление знаний детей и их родителей о правилах дорожного движе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2720">
              <a:lnSpc>
                <a:spcPct val="80000"/>
              </a:lnSpc>
              <a:spcBef>
                <a:spcPts val="1001"/>
              </a:spcBef>
              <a:buClr>
                <a:srgbClr val="fb9318"/>
              </a:buClr>
              <a:buFont typeface="Times New Roman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8:25:21Z</dcterms:created>
  <dc:creator>манапов</dc:creator>
  <dc:description/>
  <dc:language>en-US</dc:language>
  <cp:lastModifiedBy>Админ</cp:lastModifiedBy>
  <dcterms:modified xsi:type="dcterms:W3CDTF">2017-05-17T05:12:15Z</dcterms:modified>
  <cp:revision>35</cp:revision>
  <dc:subject/>
  <dc:title>Муниципальное бюджетное дошкольное образовательное учреждение детский сад комбинированного вида №37 «Дружная семейка» г. Нижневартовск</dc:title>
</cp:coreProperties>
</file>