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FD798-095A-44A8-AE24-1B85D39A8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0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5600"/>
            <a:ext cx="8220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26C8-5110-4855-9944-C3DA27C7B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981080"/>
            <a:ext cx="4011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5600"/>
            <a:ext cx="4011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4125600"/>
            <a:ext cx="4011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2BCC-B849-4B4F-AB4B-6F8BC12FF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6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981080"/>
            <a:ext cx="2646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981080"/>
            <a:ext cx="2646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5600"/>
            <a:ext cx="2646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4125600"/>
            <a:ext cx="2646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4125600"/>
            <a:ext cx="2646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AAB7-6068-4A3B-BE9E-FD6A232BA7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02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5B7D-0A9E-4026-AF72-CB96EA806E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02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4FA4-C8E2-42EF-A3B0-9136CFB7E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1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981080"/>
            <a:ext cx="40111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4306-2F85-4E59-AD65-9D3F9A17B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ACBA0-351E-445D-A89E-68A9E0C52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4F84-F4DB-4866-9DE4-422862C7C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981080"/>
            <a:ext cx="40111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5600"/>
            <a:ext cx="4011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B3EF-3047-42A7-8EE5-FF0DA9928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1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981080"/>
            <a:ext cx="4011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4125600"/>
            <a:ext cx="4011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7FFDA-3DA2-4D7C-AB6D-AC57594F2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981080"/>
            <a:ext cx="4011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5600"/>
            <a:ext cx="8220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C341-A774-4BB2-9977-F12DEFDA8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02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45B24E-16BA-484E-A986-E03483AD646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3794040" y="6021360"/>
            <a:ext cx="4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840" y="642600"/>
            <a:ext cx="8215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 Вольского муниципального района</a:t>
            </a:r>
            <a:br>
              <a:rPr sz="1800"/>
            </a:br>
            <a:r>
              <a:rPr b="0" lang="ru-RU" sz="18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«Центра развития ребенка детский сад №17 «Ладушки»</a:t>
            </a:r>
            <a:br>
              <a:rPr sz="1800"/>
            </a:br>
            <a:r>
              <a:rPr b="0" lang="ru-RU" sz="18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города Вольска Саратовской области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4200" y="2071800"/>
            <a:ext cx="878688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Материалы для Регионального конкур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исследовательских работ и творческих проект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дошкольников и младших школьников «Я - исследователь»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Проектная дея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ОЧЕМУ СНЕГ БЕЛЫЙ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Образовательная област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: «Познавательное развитие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Секц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: естественно-науч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 работы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рпов Яросла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езентацию подготовила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воспитатель перв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квалификационной категории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Молдованова Валентина Витальев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Вольск, 2016г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3394440" y="115920"/>
            <a:ext cx="27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ключ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85360" y="620640"/>
            <a:ext cx="8341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ahoma"/>
              </a:rPr>
              <a:t>Из опытов я понял: полиэтилен и кус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Tahoma"/>
              </a:rPr>
              <a:t>льда – прозрачны. Свет через них проходи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ahoma"/>
              </a:rPr>
              <a:t>не отражаясь. Кусочки полиэтилена и ль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ahoma"/>
              </a:rPr>
              <a:t>лежат по – разному и отражают свет в разн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ahoma"/>
              </a:rPr>
              <a:t>направлени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874320" y="2852640"/>
            <a:ext cx="15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ыв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75640" y="3429000"/>
            <a:ext cx="646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ahoma"/>
              </a:rPr>
              <a:t>Снег белый, потому – что кажд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ahoma"/>
              </a:rPr>
              <a:t>снежинка отражает свет в раз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ahoma"/>
              </a:rPr>
              <a:t>стороны. Свет, как говорят учёны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ahoma"/>
              </a:rPr>
              <a:t>«рассеивается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ahoma"/>
              </a:rPr>
              <a:t>Так получается белый цв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6659640" y="4786200"/>
            <a:ext cx="2109600" cy="1586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98440" y="18900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3 де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541800" y="1071720"/>
            <a:ext cx="77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казал о своём исследовании одноклассник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800360" y="2071800"/>
            <a:ext cx="5580000" cy="3508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3714840" y="1571760"/>
            <a:ext cx="4981320" cy="3733560"/>
          </a:xfrm>
          <a:prstGeom prst="rect">
            <a:avLst/>
          </a:prstGeom>
          <a:ln w="3240">
            <a:solidFill>
              <a:srgbClr val="00ccff"/>
            </a:solidFill>
            <a:miter/>
          </a:ln>
        </p:spPr>
      </p:pic>
      <p:sp>
        <p:nvSpPr>
          <p:cNvPr id="53" name="Text Box 2"/>
          <p:cNvSpPr/>
          <p:nvPr/>
        </p:nvSpPr>
        <p:spPr>
          <a:xfrm>
            <a:off x="214200" y="1714680"/>
            <a:ext cx="3143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ый снег пушист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воздухе кружи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а землю тих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дает, ложи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под утро снег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е забелел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но пелено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его оде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357120" y="3357720"/>
            <a:ext cx="2944800" cy="2206440"/>
          </a:xfrm>
          <a:prstGeom prst="rect">
            <a:avLst/>
          </a:prstGeom>
          <a:ln w="3240">
            <a:solidFill>
              <a:srgbClr val="00ccff"/>
            </a:solidFill>
            <a:miter/>
          </a:ln>
        </p:spPr>
      </p:pic>
      <p:sp>
        <p:nvSpPr>
          <p:cNvPr id="55" name="Text Box 2"/>
          <p:cNvSpPr/>
          <p:nvPr/>
        </p:nvSpPr>
        <p:spPr>
          <a:xfrm>
            <a:off x="4602240" y="542916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очему снег всегда белы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357280" y="285840"/>
            <a:ext cx="44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остановка пробл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6858000" y="2357280"/>
            <a:ext cx="1447920" cy="1810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14200" y="128592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ступила зима. На улице стало холодно. Однажды утром я проснулся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глянул в окно. Я увидел, что все вокруг: земля, деревья, крыши домов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ало белым. Это выпал первый сне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905640" y="421488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 задумал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1"/>
          <p:cNvSpPr txBox="1"/>
          <p:nvPr/>
        </p:nvSpPr>
        <p:spPr>
          <a:xfrm>
            <a:off x="1476360" y="333360"/>
            <a:ext cx="637236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 я проводил исследование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435960" y="150480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1 де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160720" y="1079640"/>
            <a:ext cx="5940360" cy="4140000"/>
          </a:xfrm>
          <a:prstGeom prst="rect">
            <a:avLst/>
          </a:prstGeom>
          <a:ln w="3240">
            <a:solidFill>
              <a:srgbClr val="00ccff"/>
            </a:solidFill>
            <a:miter/>
          </a:ln>
        </p:spPr>
      </p:pic>
      <p:sp>
        <p:nvSpPr>
          <p:cNvPr id="63" name="Text Box 4"/>
          <p:cNvSpPr/>
          <p:nvPr/>
        </p:nvSpPr>
        <p:spPr>
          <a:xfrm>
            <a:off x="156600" y="5429160"/>
            <a:ext cx="894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читал книги по теме. Решил проверить догадку о то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белый цвет снега связан с отражением св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1"/>
          <p:cNvSpPr txBox="1"/>
          <p:nvPr/>
        </p:nvSpPr>
        <p:spPr>
          <a:xfrm>
            <a:off x="2411280" y="404640"/>
            <a:ext cx="4173840" cy="3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 книг я узнал: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2179440" y="1557360"/>
            <a:ext cx="67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каждая снежинка – это маленькая льди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389320" y="3500280"/>
            <a:ext cx="47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снежинки лежат по - разн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951200" y="5286240"/>
            <a:ext cx="68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снежинки отражают свет в разные сторо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1285920" y="1428840"/>
            <a:ext cx="700200" cy="77148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1500120" y="3429000"/>
            <a:ext cx="771480" cy="77148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1214280" y="5214960"/>
            <a:ext cx="771840" cy="77148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18520" y="76500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2 де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350440" y="115920"/>
            <a:ext cx="48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ак я проводил опы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112640" y="836640"/>
            <a:ext cx="15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</a:rPr>
              <a:t>Опыт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440000" y="2160720"/>
            <a:ext cx="6119640" cy="3419280"/>
          </a:xfrm>
          <a:prstGeom prst="rect">
            <a:avLst/>
          </a:prstGeom>
          <a:ln w="3240">
            <a:solidFill>
              <a:srgbClr val="ffcc00"/>
            </a:solidFill>
            <a:miter/>
          </a:ln>
        </p:spPr>
      </p:pic>
      <p:sp>
        <p:nvSpPr>
          <p:cNvPr id="75" name="Text Box 5"/>
          <p:cNvSpPr/>
          <p:nvPr/>
        </p:nvSpPr>
        <p:spPr>
          <a:xfrm>
            <a:off x="1254240" y="1500120"/>
            <a:ext cx="66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зял стакан, кусок полиэтилена, ножниц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595520" y="5857920"/>
            <a:ext cx="58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ый кусок полиэтилена прозрач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214800" y="1571760"/>
            <a:ext cx="3214440" cy="3500280"/>
          </a:xfrm>
          <a:prstGeom prst="rect">
            <a:avLst/>
          </a:prstGeom>
          <a:ln w="3240">
            <a:solidFill>
              <a:srgbClr val="00ccff"/>
            </a:solidFill>
            <a:miter/>
          </a:ln>
        </p:spPr>
      </p:pic>
      <p:sp>
        <p:nvSpPr>
          <p:cNvPr id="78" name="Text Box 2"/>
          <p:cNvSpPr/>
          <p:nvPr/>
        </p:nvSpPr>
        <p:spPr>
          <a:xfrm>
            <a:off x="-19800" y="357120"/>
            <a:ext cx="920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тем я его порезал на мелкие кусочки и положил в стак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ждый кусочек – модель снежин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407240" y="5786280"/>
            <a:ext cx="652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зультат: « Снег» в стакане белого цв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3607920" y="0"/>
            <a:ext cx="15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</a:rPr>
              <a:t>Опыт 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440000" y="2160720"/>
            <a:ext cx="5759280" cy="4319280"/>
          </a:xfrm>
          <a:prstGeom prst="rect">
            <a:avLst/>
          </a:prstGeom>
          <a:ln w="3240">
            <a:solidFill>
              <a:srgbClr val="ffcc00"/>
            </a:solidFill>
            <a:miter/>
          </a:ln>
        </p:spPr>
      </p:pic>
      <p:sp>
        <p:nvSpPr>
          <p:cNvPr id="82" name="Text Box 3"/>
          <p:cNvSpPr/>
          <p:nvPr/>
        </p:nvSpPr>
        <p:spPr>
          <a:xfrm>
            <a:off x="151560" y="785880"/>
            <a:ext cx="847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л воду в стакан и поставил в морозильни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рез некоторое время вода замёрзла и превратила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розрачный лё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3071880" y="1500120"/>
            <a:ext cx="3143160" cy="3000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518040" y="5286240"/>
            <a:ext cx="81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бил его на мелкие кусочки. Он стал белого цв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9:13:53Z</dcterms:created>
  <dc:creator>D</dc:creator>
  <dc:description/>
  <dc:language>en-US</dc:language>
  <cp:lastModifiedBy>admin</cp:lastModifiedBy>
  <cp:lastPrinted>2012-02-08T15:51:23Z</cp:lastPrinted>
  <dcterms:modified xsi:type="dcterms:W3CDTF">2017-01-24T02:45:36Z</dcterms:modified>
  <cp:revision>34</cp:revision>
  <dc:subject/>
  <dc:title>Слайд 1</dc:title>
</cp:coreProperties>
</file>