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6667-C091-4579-95A3-1331C42BF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560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08EC-8F0C-4196-A888-FD5A45742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20B0-3E20-4225-99B2-1177D2CFB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98108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4125600"/>
            <a:ext cx="2646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F11E-7398-4445-B4B3-CDECEAC07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39DC-9D6B-40C2-AE04-C48098F59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A811-309B-4B68-8343-E2A38841C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ACA9-6985-4B21-B2CB-C41785059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5B03-278C-46FC-9516-3FC7BC9C5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99A6-73C5-4C9B-A029-4BA6566F0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C199-5ACF-461A-A6A2-41232B21F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412560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7DB5-1375-4346-82D4-8883C8601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981080"/>
            <a:ext cx="4011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5600"/>
            <a:ext cx="8220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F880-2423-41A7-A011-CF7E57588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02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47DE29-4F44-4A0C-BCB9-052543D9FA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794040" y="6021360"/>
            <a:ext cx="4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215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Вольского муниципального района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«Центра развития ребенка детский сад №17 «Ладушки»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орода Вольска Саратовской области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4200" y="2071800"/>
            <a:ext cx="87868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Материалы для Регионального конкур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исследовательских работ и творческих про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дошкольников и младших школьников «Я - исследователь»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Проект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ЧЕМУ СНЕГ БЕЛЫ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Образовательн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 «Познавательное развити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Сек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 естественно-науч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рпов Яросла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езентацию подготовил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спитатель пер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квалификационной категории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лдованова Валентина Витал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льск, 2016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394440" y="11592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85360" y="620640"/>
            <a:ext cx="834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Из опытов я понял: полиэтилен и кус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льда – прозрачны. Свет через них проход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не отражаясь. Кусочки полиэтилена и ль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лежат по – разному и отражают свет в раз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направлен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74320" y="28526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75640" y="3429000"/>
            <a:ext cx="64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нег белый, потому – что кажд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нежинка отражает свет в раз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стороны. Свет, как говорят учёны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«рассеиваетс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ahoma"/>
              </a:rPr>
              <a:t>Так получается белый ц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6659640" y="4786200"/>
            <a:ext cx="2109600" cy="158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98440" y="189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3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41800" y="10717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казал о своём исследовании одноклассни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800360" y="2071800"/>
            <a:ext cx="558000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714840" y="1571760"/>
            <a:ext cx="4981320" cy="373356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53" name="Text Box 2"/>
          <p:cNvSpPr/>
          <p:nvPr/>
        </p:nvSpPr>
        <p:spPr>
          <a:xfrm>
            <a:off x="214200" y="1714680"/>
            <a:ext cx="31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ый снег пушис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духе кружи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емлю тих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ет, лож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д утро сне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 забеле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но пелен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его од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57120" y="3357720"/>
            <a:ext cx="2944800" cy="220644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55" name="Text Box 2"/>
          <p:cNvSpPr/>
          <p:nvPr/>
        </p:nvSpPr>
        <p:spPr>
          <a:xfrm>
            <a:off x="4602240" y="54291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снег всегда бел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285840"/>
            <a:ext cx="44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858000" y="2357280"/>
            <a:ext cx="1447920" cy="1810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14200" y="12859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упила зима. На улице стало холодно. Однажды утром я проснулся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лянул в окно. Я увидел, что все вокруг: земля, деревья, крыши дом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ло белым. Это выпал первый сне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05640" y="42148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задумал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"/>
          <p:cNvSpPr txBox="1"/>
          <p:nvPr/>
        </p:nvSpPr>
        <p:spPr>
          <a:xfrm>
            <a:off x="1476360" y="333360"/>
            <a:ext cx="63723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я проводил исследова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35960" y="15048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160720" y="1079640"/>
            <a:ext cx="5940360" cy="414000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156600" y="5429160"/>
            <a:ext cx="89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читал книги по теме. Решил проверить догадку о 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белый цвет снега связан с отражением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"/>
          <p:cNvSpPr txBox="1"/>
          <p:nvPr/>
        </p:nvSpPr>
        <p:spPr>
          <a:xfrm>
            <a:off x="2411280" y="404640"/>
            <a:ext cx="4173840" cy="3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 книг я узнал: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179440" y="155736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ждая снежинка – это маленькая льд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389320" y="350028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нежинки лежат по - раз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51200" y="5286240"/>
            <a:ext cx="68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нежинки отражают свет в раз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285920" y="1428840"/>
            <a:ext cx="70020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500120" y="3429000"/>
            <a:ext cx="77148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214280" y="5214960"/>
            <a:ext cx="77184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18520" y="765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2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350440" y="11592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 я проводил опы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112640" y="836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пыт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40000" y="2160720"/>
            <a:ext cx="6119640" cy="341928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1254240" y="150012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ял стакан, кусок полиэтилена, нож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95520" y="585792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ый кусок полиэтилена прозрач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14800" y="1571760"/>
            <a:ext cx="3214440" cy="350028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78" name="Text Box 2"/>
          <p:cNvSpPr/>
          <p:nvPr/>
        </p:nvSpPr>
        <p:spPr>
          <a:xfrm>
            <a:off x="-19800" y="357120"/>
            <a:ext cx="92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ем я его порезал на мелкие кусочки и положил в стак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кусочек – модель снежи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407240" y="578628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: « Снег» в стакане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607920" y="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пыт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0000" y="2160720"/>
            <a:ext cx="5759280" cy="431928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82" name="Text Box 3"/>
          <p:cNvSpPr/>
          <p:nvPr/>
        </p:nvSpPr>
        <p:spPr>
          <a:xfrm>
            <a:off x="151560" y="78588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л воду в стакан и поставил в морозильни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некоторое время вода замёрзла и преврати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зрачный лё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071880" y="1500120"/>
            <a:ext cx="3143160" cy="300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18040" y="528624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бил его на мелкие кусочки. Он стал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13:53Z</dcterms:created>
  <dc:creator>D</dc:creator>
  <dc:description/>
  <dc:language>en-US</dc:language>
  <cp:lastModifiedBy>admin</cp:lastModifiedBy>
  <cp:lastPrinted>2012-02-08T15:51:23Z</cp:lastPrinted>
  <dcterms:modified xsi:type="dcterms:W3CDTF">2017-01-24T02:45:36Z</dcterms:modified>
  <cp:revision>34</cp:revision>
  <dc:subject/>
  <dc:title>Слайд 1</dc:title>
</cp:coreProperties>
</file>