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E8D-83B3-4E4B-A897-276E166D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56A-2EDC-47C7-9188-A213A027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C6C-A00B-407D-B7CE-3A94A163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E3A-5389-4F6A-9084-9D8D4C2A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3B41-42B5-4F31-BB1A-467D2540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A4A4-F31E-46BC-9C67-1736E4A7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DCD0-801E-4D08-9C07-7FF2FCD0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7B45-09EB-481A-AA6E-B0091E20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4885-16AA-4E32-9359-A40712DA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971F-D382-46AB-8A60-1B473E4E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5B8F-C040-42F9-B27D-669D24A3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104-8974-4432-B933-44D3B159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DDCA-90F9-4E39-A9E1-2B427FA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7042-9119-45A6-AF24-D32A631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2EB3-0072-4ED8-A032-BF69873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525-AF6C-4889-B202-2F20BA14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9397-4679-43A9-BCB7-833CD07E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2CCE-2AA2-41C7-85E9-A3E19D01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C6C1-BD39-4116-95E9-E17248F1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56A4-31E2-4F03-AC6A-D2761054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03B9-DB88-488B-94E4-7B4A3CCD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0236-8F27-41CF-8B18-F91D901D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2EE-AE7A-4E82-BBC0-CFBF29C8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3AE0-BA94-4585-9C9C-51DC1E8C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8F97-E29F-4B71-B063-4521970F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F5C5-AFAC-4A32-925F-868A757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2936-8678-4628-B247-E26DB91E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9879-CE24-43EF-BE22-36C269F7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CDC0-486B-4FB8-B6B6-C26A62A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4664-9A03-408D-BC94-00EDC47C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3E524-0749-44E0-A0A3-E6D256E0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57C5-E24A-4BBE-A5D2-0F95F9D9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4993-9FBE-4288-8AE5-33CE1192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003-BEF0-4BC8-9C0E-DC257430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6CD1-FF8D-44A5-A909-3D3ECECC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B6E4-845E-4B12-AC3B-094847E5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9DFA-E530-4A36-963A-FA0DA52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BFB04-4E61-490A-97EB-283DE90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F696-517F-45E6-BA38-F7A5154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EB51-E44E-47B0-9D6B-BC68014D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1FF5-1CD3-4DC5-A1FC-AD73174D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22E2-A550-4F3B-8850-F747624B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17ADD-B63B-45DE-9CA2-C4B71DC1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E16-2D55-4EAB-9ED9-C8B9D025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99A-3F5D-4FF7-8C93-4A95D2B6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564-7DD0-4B9A-B2D9-6010E9F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B77-5F2E-4A20-9805-C1227662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0B9-1848-4176-B01F-2609ABC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F82F-AF56-42FC-9963-FC160FA222BF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3D84-DEAB-4292-AF67-3B5C318B214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3AE-59AD-4BDC-933A-41B13355D67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B9A2-A590-4F02-BFA5-B18593640F9B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pn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69992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Arial Black"/>
              </a:rPr>
              <a:t>ПРЕЗЕНТАЦИЯ ВОСПИТАТЕЛЬНОЙ РАБОТЫ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5688000" cy="4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32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d1282e"/>
                </a:solidFill>
                <a:latin typeface="Arial Black"/>
              </a:rPr>
              <a:t>КЛАССНЫЙ РУКОВОДИТЕЛЬ ЧЕРЕМИСИНОВА А.И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d1282e"/>
                </a:solidFill>
                <a:latin typeface="Arial Black"/>
              </a:rPr>
              <a:t>ГБОУ СОШ С. КРАСНЫЙ ЯР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Группа 17"/>
          <p:cNvGrpSpPr/>
          <p:nvPr/>
        </p:nvGrpSpPr>
        <p:grpSpPr>
          <a:xfrm>
            <a:off x="0" y="2441880"/>
            <a:ext cx="8867880" cy="4416120"/>
            <a:chOff x="0" y="2441880"/>
            <a:chExt cx="8867880" cy="4416120"/>
          </a:xfrm>
        </p:grpSpPr>
        <p:pic>
          <p:nvPicPr>
            <p:cNvPr id="198" name="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0" y="5448600"/>
              <a:ext cx="4529160" cy="140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Рисунок 14" descr="ob3.jpg"/>
            <p:cNvPicPr/>
            <p:nvPr/>
          </p:nvPicPr>
          <p:blipFill>
            <a:blip r:embed="rId2"/>
            <a:stretch/>
          </p:blipFill>
          <p:spPr>
            <a:xfrm rot="3679800">
              <a:off x="2908080" y="2551680"/>
              <a:ext cx="2176920" cy="32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Рисунок 15" descr="ob1.jpg"/>
            <p:cNvPicPr/>
            <p:nvPr/>
          </p:nvPicPr>
          <p:blipFill>
            <a:blip r:embed="rId3"/>
            <a:stretch/>
          </p:blipFill>
          <p:spPr>
            <a:xfrm rot="1466400">
              <a:off x="4519080" y="3276000"/>
              <a:ext cx="2332080" cy="30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Рисунок 16" descr="ob2.jpg"/>
            <p:cNvPicPr/>
            <p:nvPr/>
          </p:nvPicPr>
          <p:blipFill>
            <a:blip r:embed="rId4"/>
            <a:stretch/>
          </p:blipFill>
          <p:spPr>
            <a:xfrm>
              <a:off x="6509160" y="3463560"/>
              <a:ext cx="2358720" cy="305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Группа 21"/>
          <p:cNvGrpSpPr/>
          <p:nvPr/>
        </p:nvGrpSpPr>
        <p:grpSpPr>
          <a:xfrm>
            <a:off x="214200" y="2000160"/>
            <a:ext cx="8929800" cy="4286520"/>
            <a:chOff x="214200" y="2000160"/>
            <a:chExt cx="8929800" cy="4286520"/>
          </a:xfrm>
        </p:grpSpPr>
        <p:pic>
          <p:nvPicPr>
            <p:cNvPr id="203" name="Прямоугольник 18" descr=""/>
            <p:cNvPicPr/>
            <p:nvPr/>
          </p:nvPicPr>
          <p:blipFill>
            <a:blip r:embed="rId5"/>
            <a:stretch/>
          </p:blipFill>
          <p:spPr>
            <a:xfrm>
              <a:off x="3491280" y="4715640"/>
              <a:ext cx="5652720" cy="157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Рисунок 19" descr="ro2.jpg"/>
            <p:cNvPicPr/>
            <p:nvPr/>
          </p:nvPicPr>
          <p:blipFill>
            <a:blip r:embed="rId6"/>
            <a:stretch/>
          </p:blipFill>
          <p:spPr>
            <a:xfrm>
              <a:off x="214200" y="2358720"/>
              <a:ext cx="5119920" cy="27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Рисунок 20" descr="ro1.jpg"/>
            <p:cNvPicPr/>
            <p:nvPr/>
          </p:nvPicPr>
          <p:blipFill>
            <a:blip r:embed="rId7"/>
            <a:stretch/>
          </p:blipFill>
          <p:spPr>
            <a:xfrm>
              <a:off x="4001400" y="2000160"/>
              <a:ext cx="5119920" cy="27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ДОСТИЖЕН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grpSp>
        <p:nvGrpSpPr>
          <p:cNvPr id="207" name="Группа 7"/>
          <p:cNvGrpSpPr/>
          <p:nvPr/>
        </p:nvGrpSpPr>
        <p:grpSpPr>
          <a:xfrm>
            <a:off x="214200" y="1071720"/>
            <a:ext cx="8420400" cy="4895640"/>
            <a:chOff x="214200" y="1071720"/>
            <a:chExt cx="8420400" cy="4895640"/>
          </a:xfrm>
        </p:grpSpPr>
        <p:pic>
          <p:nvPicPr>
            <p:cNvPr id="208" name="Прямоугольник 3" descr=""/>
            <p:cNvPicPr/>
            <p:nvPr/>
          </p:nvPicPr>
          <p:blipFill>
            <a:blip r:embed="rId8"/>
            <a:stretch/>
          </p:blipFill>
          <p:spPr>
            <a:xfrm>
              <a:off x="214200" y="1071720"/>
              <a:ext cx="4339080" cy="14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Рисунок 4" descr="ob4.jpg"/>
            <p:cNvPicPr/>
            <p:nvPr/>
          </p:nvPicPr>
          <p:blipFill>
            <a:blip r:embed="rId9"/>
            <a:stretch/>
          </p:blipFill>
          <p:spPr>
            <a:xfrm rot="19852800">
              <a:off x="1638720" y="2271960"/>
              <a:ext cx="2402640" cy="33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Рисунок 5" descr="sh1.jpg"/>
            <p:cNvPicPr/>
            <p:nvPr/>
          </p:nvPicPr>
          <p:blipFill>
            <a:blip r:embed="rId10"/>
            <a:stretch/>
          </p:blipFill>
          <p:spPr>
            <a:xfrm>
              <a:off x="3645720" y="1996920"/>
              <a:ext cx="2375640" cy="33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Рисунок 6" descr="sh2.jpg"/>
            <p:cNvPicPr/>
            <p:nvPr/>
          </p:nvPicPr>
          <p:blipFill>
            <a:blip r:embed="rId11"/>
            <a:stretch/>
          </p:blipFill>
          <p:spPr>
            <a:xfrm rot="1334400">
              <a:off x="5711400" y="2184120"/>
              <a:ext cx="2383200" cy="33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Группа 12"/>
          <p:cNvGrpSpPr/>
          <p:nvPr/>
        </p:nvGrpSpPr>
        <p:grpSpPr>
          <a:xfrm>
            <a:off x="785880" y="1143000"/>
            <a:ext cx="8358120" cy="4653000"/>
            <a:chOff x="785880" y="1143000"/>
            <a:chExt cx="8358120" cy="4653000"/>
          </a:xfrm>
        </p:grpSpPr>
        <p:pic>
          <p:nvPicPr>
            <p:cNvPr id="213" name="Прямоугольник 8" descr=""/>
            <p:cNvPicPr/>
            <p:nvPr/>
          </p:nvPicPr>
          <p:blipFill>
            <a:blip r:embed="rId12"/>
            <a:stretch/>
          </p:blipFill>
          <p:spPr>
            <a:xfrm>
              <a:off x="4915080" y="1143000"/>
              <a:ext cx="4228920" cy="14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Рисунок 9" descr="ra1.jpg"/>
            <p:cNvPicPr/>
            <p:nvPr/>
          </p:nvPicPr>
          <p:blipFill>
            <a:blip r:embed="rId13"/>
            <a:stretch/>
          </p:blipFill>
          <p:spPr>
            <a:xfrm>
              <a:off x="5969880" y="2889360"/>
              <a:ext cx="2144520" cy="29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Рисунок 10" descr="ra2.jpg"/>
            <p:cNvPicPr/>
            <p:nvPr/>
          </p:nvPicPr>
          <p:blipFill>
            <a:blip r:embed="rId14"/>
            <a:stretch/>
          </p:blipFill>
          <p:spPr>
            <a:xfrm>
              <a:off x="3481560" y="2476080"/>
              <a:ext cx="2043360" cy="29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Рисунок 11" descr="ra3.jpg"/>
            <p:cNvPicPr/>
            <p:nvPr/>
          </p:nvPicPr>
          <p:blipFill>
            <a:blip r:embed="rId15"/>
            <a:stretch/>
          </p:blipFill>
          <p:spPr>
            <a:xfrm>
              <a:off x="785880" y="2131560"/>
              <a:ext cx="2043720" cy="29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Группа 24"/>
          <p:cNvGrpSpPr/>
          <p:nvPr/>
        </p:nvGrpSpPr>
        <p:grpSpPr>
          <a:xfrm>
            <a:off x="1285920" y="2143080"/>
            <a:ext cx="6634080" cy="3929040"/>
            <a:chOff x="1285920" y="2143080"/>
            <a:chExt cx="6634080" cy="3929040"/>
          </a:xfrm>
        </p:grpSpPr>
        <p:pic>
          <p:nvPicPr>
            <p:cNvPr id="218" name="Прямоугольник 22" descr=""/>
            <p:cNvPicPr/>
            <p:nvPr/>
          </p:nvPicPr>
          <p:blipFill>
            <a:blip r:embed="rId16"/>
            <a:stretch/>
          </p:blipFill>
          <p:spPr>
            <a:xfrm>
              <a:off x="1523520" y="2143080"/>
              <a:ext cx="6396480" cy="14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Рисунок 23" descr="me1.jpg"/>
            <p:cNvPicPr/>
            <p:nvPr/>
          </p:nvPicPr>
          <p:blipFill>
            <a:blip r:embed="rId17"/>
            <a:stretch/>
          </p:blipFill>
          <p:spPr>
            <a:xfrm>
              <a:off x="1285920" y="3404160"/>
              <a:ext cx="1850400" cy="266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                                         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«ВОСПИТАНИЕ РЕБЁНКА – ЭТО НЕ МИЛАЯ ЗАБАВА, А ЗАДАНИЕ ТРЕБУЮЩЕЕ КАПИТАЛОВЛОЖЕНИЙ, ТЯЖЁЛЫХ ПЕРЕЖИВАНИЙ, УСИЛИЙ, БЕССОННЫХ НОЧЕЙ И МНОГО, МНОГО МЫСЛЕЙ…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Я.КОРЧАК.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ИДЕИ И ПРИНЦИПЫ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141264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Воспитание – это процесс всей жизн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Каждый ребёнок – это личность «самоучитель» и «самовоспитатель»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Развивать и воспитывать в ребёнке жизнь с помощью самой жизн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Становление  ребёнка в  духовно- нравственного человека путём раскрытия его личностных качеств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Установление деловых и дружеских отношений с детьми и родителям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Родители- главные воспитатели ребёнка и основные соратники классного руководителя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036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d1282e"/>
                </a:solidFill>
                <a:uFillTx/>
                <a:latin typeface="Arial Black"/>
              </a:rPr>
              <a:t> </a:t>
            </a:r>
            <a:br>
              <a:rPr sz="1600"/>
            </a:br>
            <a:br>
              <a:rPr sz="1600"/>
            </a:br>
            <a:r>
              <a:rPr b="0" i="1" lang="ru-RU" sz="2400" spc="-1" strike="noStrike" u="sng">
                <a:solidFill>
                  <a:srgbClr val="d1282e"/>
                </a:solidFill>
                <a:uFillTx/>
                <a:latin typeface="Arial Black"/>
              </a:rPr>
              <a:t>ВОСПИТАТЕЛЬНАЯ РАБОТА В КЛАССЕ РЕАЛИЗУЕТСЯ В РАМКАХ ПРОГРАММЫ «ДРУЖНЫЙ ГОРОДОК»</a:t>
            </a:r>
            <a:br>
              <a:rPr sz="2400"/>
            </a:br>
            <a:br>
              <a:rPr sz="2000"/>
            </a:br>
            <a:r>
              <a:rPr b="0" i="1" lang="ru-RU" sz="1800" spc="-1" strike="noStrike" u="sng">
                <a:solidFill>
                  <a:srgbClr val="526db0"/>
                </a:solidFill>
                <a:uFillTx/>
                <a:latin typeface="Arial Black"/>
              </a:rPr>
              <a:t>ЦЕЛЬ</a:t>
            </a:r>
            <a:r>
              <a:rPr b="1" i="1" lang="ru-RU" sz="1800" spc="-1" strike="noStrike">
                <a:solidFill>
                  <a:srgbClr val="526db0"/>
                </a:solidFill>
                <a:latin typeface="Arial Black"/>
              </a:rPr>
              <a:t>:</a:t>
            </a:r>
            <a:r>
              <a:rPr b="0" i="1" lang="ru-RU" sz="1800" spc="-1" strike="noStrike">
                <a:solidFill>
                  <a:srgbClr val="526db0"/>
                </a:solidFill>
                <a:latin typeface="Arial Black"/>
              </a:rPr>
              <a:t> ВОСПИТАНИЕ САМОСТОЯТЕЛЬНОЙ, ТВОРЧЕСКИ СВОБОДНОЙ, ДУХОВНО - РАЗВИТОЙ И УСПЕШНО АДАПТИВНОЙ ЛИЧНОСТИ.</a:t>
            </a:r>
            <a:br>
              <a:rPr sz="1800"/>
            </a:b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9280" y="1412640"/>
            <a:ext cx="8352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7030a0"/>
                </a:solidFill>
                <a:uFillTx/>
                <a:latin typeface="Arial"/>
              </a:rPr>
              <a:t>Задачи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Создать комфортную и позитивную атмосферу в класс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Укреплять и развивать физическое , психическое и социальное здоровье учащихс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Содействовать повышению эффективности работы по гражданско – патриотическому,  духовно – нравственному, экологическому и трудовому воспитанию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Внедрять новые технологи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1906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УСЛОВИЯ РЕАЛИЗАЦИИ ВОСПИТАТЕЛЬНОЙ ПРОГРАММЫ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grpSp>
        <p:nvGrpSpPr>
          <p:cNvPr id="181" name="Organization Chart 7"/>
          <p:cNvGrpSpPr/>
          <p:nvPr/>
        </p:nvGrpSpPr>
        <p:grpSpPr>
          <a:xfrm>
            <a:off x="539640" y="1846440"/>
            <a:ext cx="8712720" cy="4102200"/>
            <a:chOff x="539640" y="1846440"/>
            <a:chExt cx="8712720" cy="4102200"/>
          </a:xfrm>
        </p:grpSpPr>
        <p:cxnSp>
          <p:nvCxnSpPr>
            <p:cNvPr id="182" name="_s1028"/>
            <p:cNvCxnSpPr>
              <a:stCxn id="183" idx="1"/>
              <a:endCxn id="184" idx="2"/>
            </p:cNvCxnSpPr>
            <p:nvPr/>
          </p:nvCxnSpPr>
          <p:spPr>
            <a:xfrm rot="10800000">
              <a:off x="4895280" y="3498120"/>
              <a:ext cx="610200" cy="1630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85" name="_s1029"/>
            <p:cNvCxnSpPr>
              <a:stCxn id="186" idx="3"/>
              <a:endCxn id="184" idx="2"/>
            </p:cNvCxnSpPr>
            <p:nvPr/>
          </p:nvCxnSpPr>
          <p:spPr>
            <a:xfrm flipV="1">
              <a:off x="4286160" y="3498480"/>
              <a:ext cx="610200" cy="1630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84" name="_s1030"/>
            <p:cNvSpPr/>
            <p:nvPr/>
          </p:nvSpPr>
          <p:spPr>
            <a:xfrm>
              <a:off x="3029040" y="1846440"/>
              <a:ext cx="3733920" cy="1640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Воспитание в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процессе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обучения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1031"/>
            <p:cNvSpPr/>
            <p:nvPr/>
          </p:nvSpPr>
          <p:spPr>
            <a:xfrm>
              <a:off x="539640" y="4307760"/>
              <a:ext cx="3733920" cy="1640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Внеурочная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деятельность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5518440" y="4307760"/>
              <a:ext cx="3733920" cy="16408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Работа с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родителями и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общественностью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хема 3" descr=""/>
          <p:cNvPicPr/>
          <p:nvPr/>
        </p:nvPicPr>
        <p:blipFill>
          <a:blip r:embed="rId1"/>
          <a:stretch/>
        </p:blipFill>
        <p:spPr>
          <a:xfrm>
            <a:off x="249120" y="176040"/>
            <a:ext cx="8139240" cy="6078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ФОРМЫ ОРГАНИЗАЦИИ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915920"/>
            <a:ext cx="37720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В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онцер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иртуальные экскурс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луб путешеств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ход , экскурс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иктори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рудовой десан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09800" y="1828440"/>
            <a:ext cx="37717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к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став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Тренин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аздни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Бесед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КИ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ече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г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864480" y="404640"/>
            <a:ext cx="2095200" cy="1970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705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282e"/>
                </a:solidFill>
                <a:latin typeface="Arial Black"/>
              </a:rPr>
              <a:t>ВЗАИМОДЕЙСТВИЕ КЛАССА С СОЦИУМОМ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93" name="Схема 1" descr=""/>
          <p:cNvPicPr/>
          <p:nvPr/>
        </p:nvPicPr>
        <p:blipFill>
          <a:blip r:embed="rId1"/>
          <a:stretch/>
        </p:blipFill>
        <p:spPr>
          <a:xfrm>
            <a:off x="36360" y="1689120"/>
            <a:ext cx="8637840" cy="4797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8000" y="115560"/>
            <a:ext cx="82090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1282e"/>
                </a:solidFill>
                <a:latin typeface="Arial Black"/>
              </a:rPr>
              <a:t>РЕЗУЛЬТАТЫ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691920"/>
            <a:ext cx="8207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В классе нет неуспевающих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Дети (95%)- занимаются в творческих объединениях и секциях учреждений дополнительного образования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образовательное пространство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Все учащиеся заняты во внеурочной деятельност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В классе создан микроклимат, где каждому комфортно (98%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Учащиеся (97%) – получают двухразовое горячее питание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Все дети посещают уроки физической культуры и 77% спортивные секции и клубы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Ребята умеют организовывать свою работу в МИГах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Класс проявляет общественную активность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Мы участники и инициаторы социальных и творческих проектов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Arial"/>
              </a:rPr>
              <a:t>Коллектив активный участник и победитель  школьных, окружных, всероссийских и международных конкурсов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812000" y="5013360"/>
            <a:ext cx="1622520" cy="2116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2:46:34Z</dcterms:created>
  <dc:creator>Admin</dc:creator>
  <dc:description/>
  <dc:language>en-US</dc:language>
  <cp:lastModifiedBy>Учитель</cp:lastModifiedBy>
  <dcterms:modified xsi:type="dcterms:W3CDTF">2017-05-17T09:53:50Z</dcterms:modified>
  <cp:revision>86</cp:revision>
  <dc:subject/>
  <dc:title>Слайд 1</dc:title>
</cp:coreProperties>
</file>