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8A8-069E-425C-90DF-90FB30B3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186-5730-4946-A795-C91C4134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C39-B7B4-4F9A-B5B6-327FEC18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9D5-39D6-44B0-88D5-8560B096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E09C-D4F3-46F0-A5BF-C8585AC9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9ED-0D14-4102-B909-A120BA59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AB2F-475D-49D2-9653-DB5E8347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0280-7055-4A64-9AC4-A40A6E4F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5220-76FF-4498-9CFC-ACA75861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14B4-3046-4E33-B87B-7C600172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6ACF-7EA4-4E91-8769-B73F9B4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27E-C5E8-47CF-8D4C-4BE35E65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0985-EBA6-4AAB-80BE-4890464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5DF6-D415-44F6-9BD9-4B1A5EC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D379-FE61-41A8-9376-49C11754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B975-3FA9-4D2E-9EBD-EE4C2E13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F77E-64EE-4BE8-8B1D-F20AFAC9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81818-B62C-4DCE-922D-E72A28E8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F50D-C9DC-4A95-AD62-7D949EDB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F0CE-1ACF-4D64-AD6B-A5B363D9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8953-E2DB-476A-AEC3-ECAC26CC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A9B8-7D20-4B02-9E90-9A14294E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3D2-04C6-4448-80AE-F1A6EC82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0C84-481B-4C3D-B2E3-FA6B9DDA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087E-26A6-4BD1-84B6-81523F99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A42E-80F5-463F-8CDB-681A8C6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B15B-CA1B-4103-9868-8EE671FB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675CB-E01B-4867-9638-1E00CCCB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27D5-8A42-4521-BAB8-2ECB1F22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CD96-C924-4A3C-8586-9212E5A9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B42D-DEAF-422F-8039-442E057B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CF8A-5CC7-44A9-9105-6D464832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B9A42-6FBC-4614-A4BF-2FB38C66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20E-13A4-4812-B13D-94D7A07D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74B19-0E23-495C-9E14-1A92354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8D7A-8FE4-4A21-8915-5D4C364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458B-C524-4530-BE49-A5C4B7C0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C2AE-9415-495B-B0F7-983B9EFC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10B40-C07E-473A-85B1-861D983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F8F6C-2773-4E40-B911-E688CC88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D33A4-6C6F-4B02-BC22-6A8781D0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EC46C-203E-4BC8-A63B-ECB0AFF8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EE81-D333-4C17-8566-56E33730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E5F-E133-45AC-99D2-ABC785D4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CE7-D940-418B-A4CA-E2329C6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E20-E0E0-48B1-AAD3-D151357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F0B-53CB-4028-825D-57E6548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49D-9D31-4595-9058-C79A5D4A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7233-B85C-4D75-9859-9C0282E692DC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D900-894D-4ACA-B86A-6F9A1BB2AC67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5AB4-F59D-48A5-A21C-DCAD009AD518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7E2F-D801-4289-A741-32C4130ADBC5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699920"/>
            <a:ext cx="6400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Arial Black"/>
              </a:rPr>
              <a:t>ПРЕЗЕНТАЦИЯ ВОСПИТАТЕЛЬНОЙ РАБОТЫ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568800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32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d1282e"/>
                </a:solidFill>
                <a:latin typeface="Arial Black"/>
              </a:rPr>
              <a:t>КЛАССНЫЙ РУКОВОДИТЕЛЬ ЧЕРЕМИСИНОВА А.И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d1282e"/>
                </a:solidFill>
                <a:latin typeface="Arial Black"/>
              </a:rPr>
              <a:t>ГБОУ СОШ С. КРАСНЫЙ ЯР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Группа 17"/>
          <p:cNvGrpSpPr/>
          <p:nvPr/>
        </p:nvGrpSpPr>
        <p:grpSpPr>
          <a:xfrm>
            <a:off x="0" y="2441880"/>
            <a:ext cx="8867880" cy="4416120"/>
            <a:chOff x="0" y="2441880"/>
            <a:chExt cx="8867880" cy="4416120"/>
          </a:xfrm>
        </p:grpSpPr>
        <p:pic>
          <p:nvPicPr>
            <p:cNvPr id="198" name="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0" y="5448600"/>
              <a:ext cx="4529160" cy="140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Рисунок 14" descr="ob3.jpg"/>
            <p:cNvPicPr/>
            <p:nvPr/>
          </p:nvPicPr>
          <p:blipFill>
            <a:blip r:embed="rId2"/>
            <a:stretch/>
          </p:blipFill>
          <p:spPr>
            <a:xfrm rot="3679800">
              <a:off x="2908080" y="2551680"/>
              <a:ext cx="2176920" cy="32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Рисунок 15" descr="ob1.jpg"/>
            <p:cNvPicPr/>
            <p:nvPr/>
          </p:nvPicPr>
          <p:blipFill>
            <a:blip r:embed="rId3"/>
            <a:stretch/>
          </p:blipFill>
          <p:spPr>
            <a:xfrm rot="1466400">
              <a:off x="4519080" y="3276000"/>
              <a:ext cx="2332080" cy="30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Рисунок 16" descr="ob2.jpg"/>
            <p:cNvPicPr/>
            <p:nvPr/>
          </p:nvPicPr>
          <p:blipFill>
            <a:blip r:embed="rId4"/>
            <a:stretch/>
          </p:blipFill>
          <p:spPr>
            <a:xfrm>
              <a:off x="6509160" y="3463560"/>
              <a:ext cx="2358720" cy="305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Группа 21"/>
          <p:cNvGrpSpPr/>
          <p:nvPr/>
        </p:nvGrpSpPr>
        <p:grpSpPr>
          <a:xfrm>
            <a:off x="214200" y="2000160"/>
            <a:ext cx="8929800" cy="4286520"/>
            <a:chOff x="214200" y="2000160"/>
            <a:chExt cx="8929800" cy="4286520"/>
          </a:xfrm>
        </p:grpSpPr>
        <p:pic>
          <p:nvPicPr>
            <p:cNvPr id="203" name="Прямоугольник 18" descr=""/>
            <p:cNvPicPr/>
            <p:nvPr/>
          </p:nvPicPr>
          <p:blipFill>
            <a:blip r:embed="rId5"/>
            <a:stretch/>
          </p:blipFill>
          <p:spPr>
            <a:xfrm>
              <a:off x="3491280" y="4715640"/>
              <a:ext cx="5652720" cy="157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Рисунок 19" descr="ro2.jpg"/>
            <p:cNvPicPr/>
            <p:nvPr/>
          </p:nvPicPr>
          <p:blipFill>
            <a:blip r:embed="rId6"/>
            <a:stretch/>
          </p:blipFill>
          <p:spPr>
            <a:xfrm>
              <a:off x="214200" y="2358720"/>
              <a:ext cx="5119920" cy="27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Рисунок 20" descr="ro1.jpg"/>
            <p:cNvPicPr/>
            <p:nvPr/>
          </p:nvPicPr>
          <p:blipFill>
            <a:blip r:embed="rId7"/>
            <a:stretch/>
          </p:blipFill>
          <p:spPr>
            <a:xfrm>
              <a:off x="4001400" y="2000160"/>
              <a:ext cx="5119920" cy="277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ДОСТИЖЕН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grpSp>
        <p:nvGrpSpPr>
          <p:cNvPr id="207" name="Группа 7"/>
          <p:cNvGrpSpPr/>
          <p:nvPr/>
        </p:nvGrpSpPr>
        <p:grpSpPr>
          <a:xfrm>
            <a:off x="214200" y="1071720"/>
            <a:ext cx="8420400" cy="4895640"/>
            <a:chOff x="214200" y="1071720"/>
            <a:chExt cx="8420400" cy="4895640"/>
          </a:xfrm>
        </p:grpSpPr>
        <p:pic>
          <p:nvPicPr>
            <p:cNvPr id="208" name="Прямоугольник 3" descr=""/>
            <p:cNvPicPr/>
            <p:nvPr/>
          </p:nvPicPr>
          <p:blipFill>
            <a:blip r:embed="rId8"/>
            <a:stretch/>
          </p:blipFill>
          <p:spPr>
            <a:xfrm>
              <a:off x="214200" y="1071720"/>
              <a:ext cx="4339080" cy="14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Рисунок 4" descr="ob4.jpg"/>
            <p:cNvPicPr/>
            <p:nvPr/>
          </p:nvPicPr>
          <p:blipFill>
            <a:blip r:embed="rId9"/>
            <a:stretch/>
          </p:blipFill>
          <p:spPr>
            <a:xfrm rot="19852800">
              <a:off x="1638720" y="2271960"/>
              <a:ext cx="2402640" cy="33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Рисунок 5" descr="sh1.jpg"/>
            <p:cNvPicPr/>
            <p:nvPr/>
          </p:nvPicPr>
          <p:blipFill>
            <a:blip r:embed="rId10"/>
            <a:stretch/>
          </p:blipFill>
          <p:spPr>
            <a:xfrm>
              <a:off x="3645720" y="1996920"/>
              <a:ext cx="2375640" cy="33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Рисунок 6" descr="sh2.jpg"/>
            <p:cNvPicPr/>
            <p:nvPr/>
          </p:nvPicPr>
          <p:blipFill>
            <a:blip r:embed="rId11"/>
            <a:stretch/>
          </p:blipFill>
          <p:spPr>
            <a:xfrm rot="1334400">
              <a:off x="5711400" y="2184120"/>
              <a:ext cx="2383200" cy="33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Группа 12"/>
          <p:cNvGrpSpPr/>
          <p:nvPr/>
        </p:nvGrpSpPr>
        <p:grpSpPr>
          <a:xfrm>
            <a:off x="785880" y="1143000"/>
            <a:ext cx="8358120" cy="4653000"/>
            <a:chOff x="785880" y="1143000"/>
            <a:chExt cx="8358120" cy="4653000"/>
          </a:xfrm>
        </p:grpSpPr>
        <p:pic>
          <p:nvPicPr>
            <p:cNvPr id="213" name="Прямоугольник 8" descr=""/>
            <p:cNvPicPr/>
            <p:nvPr/>
          </p:nvPicPr>
          <p:blipFill>
            <a:blip r:embed="rId12"/>
            <a:stretch/>
          </p:blipFill>
          <p:spPr>
            <a:xfrm>
              <a:off x="4915080" y="1143000"/>
              <a:ext cx="4228920" cy="14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Рисунок 9" descr="ra1.jpg"/>
            <p:cNvPicPr/>
            <p:nvPr/>
          </p:nvPicPr>
          <p:blipFill>
            <a:blip r:embed="rId13"/>
            <a:stretch/>
          </p:blipFill>
          <p:spPr>
            <a:xfrm>
              <a:off x="5969880" y="2889360"/>
              <a:ext cx="2144520" cy="29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Рисунок 10" descr="ra2.jpg"/>
            <p:cNvPicPr/>
            <p:nvPr/>
          </p:nvPicPr>
          <p:blipFill>
            <a:blip r:embed="rId14"/>
            <a:stretch/>
          </p:blipFill>
          <p:spPr>
            <a:xfrm>
              <a:off x="3481560" y="2476080"/>
              <a:ext cx="2043360" cy="29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Рисунок 11" descr="ra3.jpg"/>
            <p:cNvPicPr/>
            <p:nvPr/>
          </p:nvPicPr>
          <p:blipFill>
            <a:blip r:embed="rId15"/>
            <a:stretch/>
          </p:blipFill>
          <p:spPr>
            <a:xfrm>
              <a:off x="785880" y="2131560"/>
              <a:ext cx="2043720" cy="29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Группа 24"/>
          <p:cNvGrpSpPr/>
          <p:nvPr/>
        </p:nvGrpSpPr>
        <p:grpSpPr>
          <a:xfrm>
            <a:off x="1285920" y="2143080"/>
            <a:ext cx="6634080" cy="3929040"/>
            <a:chOff x="1285920" y="2143080"/>
            <a:chExt cx="6634080" cy="3929040"/>
          </a:xfrm>
        </p:grpSpPr>
        <p:pic>
          <p:nvPicPr>
            <p:cNvPr id="218" name="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1523520" y="2143080"/>
              <a:ext cx="6396480" cy="14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Рисунок 23" descr="me1.jpg"/>
            <p:cNvPicPr/>
            <p:nvPr/>
          </p:nvPicPr>
          <p:blipFill>
            <a:blip r:embed="rId17"/>
            <a:stretch/>
          </p:blipFill>
          <p:spPr>
            <a:xfrm>
              <a:off x="1285920" y="3404160"/>
              <a:ext cx="1850400" cy="266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                                         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«ВОСПИТАНИЕ РЕБЁНКА – ЭТО НЕ МИЛАЯ ЗАБАВА, А ЗАДАНИЕ ТРЕБУЮЩЕЕ КАПИТАЛОВЛОЖЕНИЙ, ТЯЖЁЛЫХ ПЕРЕЖИВАНИЙ, УСИЛИЙ, БЕССОННЫХ НОЧЕЙ И МНОГО, МНОГО МЫСЛЕЙ…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Я.КОРЧАК.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ИДЕИ И ПРИНЦИПЫ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141264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Воспитание – это процесс всей жизн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Каждый ребёнок – это личность «самоучитель» и «самовоспитатель»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Развивать и воспитывать в ребёнке жизнь с помощью самой жизн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Становление  ребёнка в  духовно- нравственного человека путём раскрытия его личностных качеств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Установление деловых и дружеских отношений с детьми и родителям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Родители- главные воспитатели ребёнка и основные соратники классного руководителя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0360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d1282e"/>
                </a:solidFill>
                <a:uFillTx/>
                <a:latin typeface="Arial Black"/>
              </a:rPr>
              <a:t> </a:t>
            </a:r>
            <a:br>
              <a:rPr sz="1600"/>
            </a:br>
            <a:br>
              <a:rPr sz="1600"/>
            </a:br>
            <a:r>
              <a:rPr b="0" i="1" lang="ru-RU" sz="2400" spc="-1" strike="noStrike" u="sng">
                <a:solidFill>
                  <a:srgbClr val="d1282e"/>
                </a:solidFill>
                <a:uFillTx/>
                <a:latin typeface="Arial Black"/>
              </a:rPr>
              <a:t>ВОСПИТАТЕЛЬНАЯ РАБОТА В КЛАССЕ РЕАЛИЗУЕТСЯ В РАМКАХ ПРОГРАММЫ «ДРУЖНЫЙ ГОРОДОК»</a:t>
            </a:r>
            <a:br>
              <a:rPr sz="2400"/>
            </a:br>
            <a:br>
              <a:rPr sz="2000"/>
            </a:br>
            <a:r>
              <a:rPr b="0" i="1" lang="ru-RU" sz="1800" spc="-1" strike="noStrike" u="sng">
                <a:solidFill>
                  <a:srgbClr val="526db0"/>
                </a:solidFill>
                <a:uFillTx/>
                <a:latin typeface="Arial Black"/>
              </a:rPr>
              <a:t>ЦЕЛЬ</a:t>
            </a:r>
            <a:r>
              <a:rPr b="1" i="1" lang="ru-RU" sz="1800" spc="-1" strike="noStrike">
                <a:solidFill>
                  <a:srgbClr val="526db0"/>
                </a:solidFill>
                <a:latin typeface="Arial Black"/>
              </a:rPr>
              <a:t>:</a:t>
            </a:r>
            <a:r>
              <a:rPr b="0" i="1" lang="ru-RU" sz="1800" spc="-1" strike="noStrike">
                <a:solidFill>
                  <a:srgbClr val="526db0"/>
                </a:solidFill>
                <a:latin typeface="Arial Black"/>
              </a:rPr>
              <a:t> ВОСПИТАНИЕ САМОСТОЯТЕЛЬНОЙ, ТВОРЧЕСКИ СВОБОДНОЙ, ДУХОВНО - РАЗВИТОЙ И УСПЕШНО АДАПТИВНОЙ ЛИЧНОСТИ.</a:t>
            </a:r>
            <a:br>
              <a:rPr sz="1800"/>
            </a:br>
            <a:endParaRPr b="0" lang="en-US" sz="1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9280" y="1412640"/>
            <a:ext cx="8352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7030a0"/>
                </a:solidFill>
                <a:uFillTx/>
                <a:latin typeface="Arial"/>
              </a:rPr>
              <a:t>Задачи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Создать комфортную и позитивную атмосферу в класс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Укреплять и развивать физическое , психическое и социальное здоровье учащихс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Содействовать повышению эффективности работы по гражданско – патриотическому,  духовно – нравственному, экологическому и трудовому воспитанию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Внедрять новые технологи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УСЛОВИЯ РЕАЛИЗАЦИИ ВОСПИТАТЕЛЬНОЙ ПРОГРАММЫ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grpSp>
        <p:nvGrpSpPr>
          <p:cNvPr id="181" name="Organization Chart 7"/>
          <p:cNvGrpSpPr/>
          <p:nvPr/>
        </p:nvGrpSpPr>
        <p:grpSpPr>
          <a:xfrm>
            <a:off x="539640" y="1846440"/>
            <a:ext cx="8712720" cy="4102200"/>
            <a:chOff x="539640" y="1846440"/>
            <a:chExt cx="8712720" cy="4102200"/>
          </a:xfrm>
        </p:grpSpPr>
        <p:cxnSp>
          <p:nvCxnSpPr>
            <p:cNvPr id="182" name="_s1028"/>
            <p:cNvCxnSpPr>
              <a:stCxn id="183" idx="1"/>
              <a:endCxn id="184" idx="2"/>
            </p:cNvCxnSpPr>
            <p:nvPr/>
          </p:nvCxnSpPr>
          <p:spPr>
            <a:xfrm rot="10800000">
              <a:off x="4895280" y="3498120"/>
              <a:ext cx="610200" cy="1630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85" name="_s1029"/>
            <p:cNvCxnSpPr>
              <a:stCxn id="186" idx="3"/>
              <a:endCxn id="184" idx="2"/>
            </p:cNvCxnSpPr>
            <p:nvPr/>
          </p:nvCxnSpPr>
          <p:spPr>
            <a:xfrm flipV="1">
              <a:off x="4286160" y="3498480"/>
              <a:ext cx="610200" cy="1630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84" name="_s1030"/>
            <p:cNvSpPr/>
            <p:nvPr/>
          </p:nvSpPr>
          <p:spPr>
            <a:xfrm>
              <a:off x="3029040" y="1846440"/>
              <a:ext cx="3733920" cy="16408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Воспитание в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процессе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обучения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1031"/>
            <p:cNvSpPr/>
            <p:nvPr/>
          </p:nvSpPr>
          <p:spPr>
            <a:xfrm>
              <a:off x="539640" y="4307760"/>
              <a:ext cx="3733920" cy="1640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Внеурочная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деятельность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5518440" y="4307760"/>
              <a:ext cx="3733920" cy="1640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Работа с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родителями и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общественностью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хема 3" descr=""/>
          <p:cNvPicPr/>
          <p:nvPr/>
        </p:nvPicPr>
        <p:blipFill>
          <a:blip r:embed="rId1"/>
          <a:stretch/>
        </p:blipFill>
        <p:spPr>
          <a:xfrm>
            <a:off x="249120" y="176040"/>
            <a:ext cx="8139240" cy="6078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ФОРМЫ ОРГАНИЗАЦИИ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915920"/>
            <a:ext cx="37720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В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онцер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иртуальные экскурс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луб путешеств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ход , экскурс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иктори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рудовой десан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09800" y="1828440"/>
            <a:ext cx="37717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к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став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Тренин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аздни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Бесед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КИ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ече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г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864480" y="404640"/>
            <a:ext cx="2095200" cy="1970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7705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ВЗАИМОДЕЙСТВИЕ КЛАССА С СОЦИУМОМ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93" name="Схема 1" descr=""/>
          <p:cNvPicPr/>
          <p:nvPr/>
        </p:nvPicPr>
        <p:blipFill>
          <a:blip r:embed="rId1"/>
          <a:stretch/>
        </p:blipFill>
        <p:spPr>
          <a:xfrm>
            <a:off x="36360" y="1689120"/>
            <a:ext cx="8637840" cy="4797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8000" y="115560"/>
            <a:ext cx="820908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1282e"/>
                </a:solidFill>
                <a:latin typeface="Arial Black"/>
              </a:rPr>
              <a:t>РЕЗУЛЬТАТЫ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691920"/>
            <a:ext cx="8207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В классе нет неуспевающих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Дети (95%)- занимаются в творческих объединениях и секциях учреждений дополнительного образования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образовательное пространство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Все учащиеся заняты во внеурочной деятельност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В классе создан микроклимат, где каждому комфортно (98%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Учащиеся (97%) – получают двухразовое горячее питание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Все дети посещают уроки физической культуры и 77% спортивные секции и клубы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Ребята умеют организовывать свою работу в МИГах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Класс проявляет общественную активност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Мы участники и инициаторы социальных и творческих проектов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Коллектив активный участник и победитель  школьных, окружных, всероссийских и международных конкурсов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7812000" y="5013360"/>
            <a:ext cx="1622520" cy="2116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2:46:34Z</dcterms:created>
  <dc:creator>Admin</dc:creator>
  <dc:description/>
  <dc:language>en-US</dc:language>
  <cp:lastModifiedBy>Учитель</cp:lastModifiedBy>
  <dcterms:modified xsi:type="dcterms:W3CDTF">2017-05-17T09:53:50Z</dcterms:modified>
  <cp:revision>86</cp:revision>
  <dc:subject/>
  <dc:title>Слайд 1</dc:title>
</cp:coreProperties>
</file>