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EBA-BF58-4616-B1FF-312B8EF3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BEB-62AC-4CD7-8A8C-408C2C6E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61D-1D45-4754-AC72-048A2A50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864-E212-46E8-9879-D3D0C27E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667-EDCD-4069-B9A5-97DA2FF2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B18-C4CA-401F-9ADC-A3EA740E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41A-6641-4ADA-BCDC-77FBB8A6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FE9-E8DC-481A-B6F1-3024621D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E16-0258-4C87-8A01-E2340A94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E0A-F486-42C3-846F-573FF613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837-F4E7-4D33-8E5F-62D635C4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887-41A4-4174-AC00-98BE5EC4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830E-14B7-4850-A097-5A134C825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42960" y="1268280"/>
            <a:ext cx="825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Calibri"/>
              </a:rPr>
              <a:t>Планеты Солнечной </a:t>
            </a: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i="1" lang="ru-RU" sz="6000" spc="-1" strike="noStrike">
                <a:solidFill>
                  <a:srgbClr val="ffff00"/>
                </a:solidFill>
                <a:latin typeface="Calibri"/>
              </a:rPr>
              <a:t>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My Documents\solar system\PPTSAT.JPG"/>
          <p:cNvPicPr/>
          <p:nvPr/>
        </p:nvPicPr>
        <p:blipFill>
          <a:blip r:embed="rId2"/>
          <a:stretch/>
        </p:blipFill>
        <p:spPr>
          <a:xfrm>
            <a:off x="428760" y="642960"/>
            <a:ext cx="4143240" cy="2214720"/>
          </a:xfrm>
          <a:prstGeom prst="rect">
            <a:avLst/>
          </a:prstGeom>
          <a:ln w="0">
            <a:noFill/>
          </a:ln>
        </p:spPr>
      </p:pic>
      <p:sp>
        <p:nvSpPr>
          <p:cNvPr id="85" name="Управляющая кнопка: назад 3"/>
          <p:cNvSpPr/>
          <p:nvPr/>
        </p:nvSpPr>
        <p:spPr>
          <a:xfrm>
            <a:off x="8072280" y="578628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10800"/>
                </a:moveTo>
                <a:lnTo>
                  <a:pt x="18883" y="3794"/>
                </a:lnTo>
                <a:lnTo>
                  <a:pt x="18883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71680" y="278604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сстояние между Сатурном и Солнцем составляет 1 433 531 тысяч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атурн обращается вокруг Солнца 29,5  Земных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 планеты имеется 60 естественных спутников и 3 предполагаемых. Самый большой из них –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круг Сатурна можно увидеть 4 кольца, состоящих из льда и п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5" descr="титан.jpg"/>
          <p:cNvPicPr/>
          <p:nvPr/>
        </p:nvPicPr>
        <p:blipFill>
          <a:blip r:embed="rId3"/>
          <a:stretch/>
        </p:blipFill>
        <p:spPr>
          <a:xfrm>
            <a:off x="7072200" y="4071960"/>
            <a:ext cx="1785960" cy="1722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5143680" y="1000080"/>
            <a:ext cx="29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назад 2"/>
          <p:cNvSpPr/>
          <p:nvPr/>
        </p:nvSpPr>
        <p:spPr>
          <a:xfrm>
            <a:off x="8001000" y="5857920"/>
            <a:ext cx="857160" cy="642960"/>
          </a:xfrm>
          <a:custGeom>
            <a:avLst/>
            <a:gdLst>
              <a:gd name="textAreaLeft" fmla="*/ 41400 w 857160"/>
              <a:gd name="textAreaRight" fmla="*/ 815760 w 8571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89" y="10800"/>
                </a:moveTo>
                <a:lnTo>
                  <a:pt x="21402" y="3794"/>
                </a:lnTo>
                <a:lnTo>
                  <a:pt x="21402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уран и земля.jpg"/>
          <p:cNvPicPr/>
          <p:nvPr/>
        </p:nvPicPr>
        <p:blipFill>
          <a:blip r:embed="rId2"/>
          <a:stretch/>
        </p:blipFill>
        <p:spPr>
          <a:xfrm>
            <a:off x="5643720" y="3071880"/>
            <a:ext cx="3071520" cy="3071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5643720" y="928800"/>
            <a:ext cx="28573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Уран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равнении с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Землё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28760" y="847800"/>
            <a:ext cx="5072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ланета, обнаруженная при помощи теле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амая холодная планета Солнечной системы. Средняя температура - 224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иод обращения Урана вокруг Солнца составляет 84 земных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н тяжелее Земли в 14,5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 Урана имеется система колец и 27 спу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назад 2"/>
          <p:cNvSpPr/>
          <p:nvPr/>
        </p:nvSpPr>
        <p:spPr>
          <a:xfrm>
            <a:off x="8072280" y="578628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10800"/>
                </a:moveTo>
                <a:lnTo>
                  <a:pt x="18883" y="3794"/>
                </a:lnTo>
                <a:lnTo>
                  <a:pt x="18883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нептун.jpg"/>
          <p:cNvPicPr/>
          <p:nvPr/>
        </p:nvPicPr>
        <p:blipFill>
          <a:blip r:embed="rId2"/>
          <a:stretch/>
        </p:blipFill>
        <p:spPr>
          <a:xfrm>
            <a:off x="357120" y="264312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642960" y="121428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Непт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214880" y="928800"/>
            <a:ext cx="4071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ланета была найдена в соответствии с математическими расчётами, а не путём наблю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птун в 17 раз массивнее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лный оборот вокруг Солнца у него занимает 164,79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  Нептуна есть кольцевая система, и известны 13 спу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назад 2"/>
          <p:cNvSpPr/>
          <p:nvPr/>
        </p:nvSpPr>
        <p:spPr>
          <a:xfrm rot="10800000">
            <a:off x="8000640" y="5714640"/>
            <a:ext cx="857160" cy="785880"/>
          </a:xfrm>
          <a:custGeom>
            <a:avLst/>
            <a:gdLst>
              <a:gd name="textAreaLeft" fmla="*/ 50760 w 857160"/>
              <a:gd name="textAreaRight" fmla="*/ 806400 w 85716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58" h="21600">
                <a:moveTo>
                  <a:pt x="0" y="0"/>
                </a:moveTo>
                <a:lnTo>
                  <a:pt x="23558" y="0"/>
                </a:lnTo>
                <a:lnTo>
                  <a:pt x="23558" y="21600"/>
                </a:lnTo>
                <a:lnTo>
                  <a:pt x="0" y="21600"/>
                </a:lnTo>
                <a:close/>
              </a:path>
              <a:path fill="lightenLess" w="23558" h="21600">
                <a:moveTo>
                  <a:pt x="0" y="0"/>
                </a:moveTo>
                <a:lnTo>
                  <a:pt x="23558" y="0"/>
                </a:lnTo>
                <a:lnTo>
                  <a:pt x="22158" y="1400"/>
                </a:lnTo>
                <a:lnTo>
                  <a:pt x="1400" y="1400"/>
                </a:lnTo>
                <a:close/>
              </a:path>
              <a:path fill="darken" w="23558" h="21600">
                <a:moveTo>
                  <a:pt x="23558" y="0"/>
                </a:moveTo>
                <a:lnTo>
                  <a:pt x="23558" y="21600"/>
                </a:lnTo>
                <a:lnTo>
                  <a:pt x="22158" y="20200"/>
                </a:lnTo>
                <a:lnTo>
                  <a:pt x="22158" y="1400"/>
                </a:lnTo>
                <a:close/>
              </a:path>
              <a:path fill="darkenLess" w="23558" h="21600">
                <a:moveTo>
                  <a:pt x="23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8" y="20200"/>
                </a:lnTo>
                <a:close/>
              </a:path>
              <a:path fill="lighten" w="23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8" h="21600">
                <a:moveTo>
                  <a:pt x="4773" y="10800"/>
                </a:moveTo>
                <a:lnTo>
                  <a:pt x="18786" y="3794"/>
                </a:lnTo>
                <a:lnTo>
                  <a:pt x="18786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плутон.jpg"/>
          <p:cNvPicPr/>
          <p:nvPr/>
        </p:nvPicPr>
        <p:blipFill>
          <a:blip r:embed="rId2"/>
          <a:stretch/>
        </p:blipFill>
        <p:spPr>
          <a:xfrm>
            <a:off x="5214960" y="7858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5286240" y="414324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928800" y="1143000"/>
            <a:ext cx="364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го масса меньше массы Луны в пять раз, а объём в три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иод обращения вокруг Солнца 248,09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 Плутона имеется 3 спутника, которые располагаются очень близко к поверхности план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Управляющая кнопка: назад 2"/>
          <p:cNvSpPr/>
          <p:nvPr/>
        </p:nvSpPr>
        <p:spPr>
          <a:xfrm>
            <a:off x="8072280" y="578628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10800"/>
                </a:moveTo>
                <a:lnTo>
                  <a:pt x="18883" y="3794"/>
                </a:lnTo>
                <a:lnTo>
                  <a:pt x="18883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" descr="фобос.png"/>
          <p:cNvPicPr/>
          <p:nvPr/>
        </p:nvPicPr>
        <p:blipFill>
          <a:blip r:embed="rId2"/>
          <a:stretch/>
        </p:blipFill>
        <p:spPr>
          <a:xfrm>
            <a:off x="5072040" y="571680"/>
            <a:ext cx="3556080" cy="34844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Deimos-MRO.jpg"/>
          <p:cNvPicPr/>
          <p:nvPr/>
        </p:nvPicPr>
        <p:blipFill>
          <a:blip r:embed="rId3"/>
          <a:stretch/>
        </p:blipFill>
        <p:spPr>
          <a:xfrm>
            <a:off x="642960" y="2928960"/>
            <a:ext cx="3328920" cy="33289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4286160" y="464328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Фоб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071800" y="121428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Дейм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42960" y="785880"/>
            <a:ext cx="35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Сед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5" descr="sedna-4.jpg"/>
          <p:cNvPicPr/>
          <p:nvPr/>
        </p:nvPicPr>
        <p:blipFill>
          <a:blip r:embed="rId1"/>
          <a:srcRect l="0" t="15930" r="0" b="0"/>
          <a:stretch/>
        </p:blipFill>
        <p:spPr>
          <a:xfrm>
            <a:off x="785880" y="2428920"/>
            <a:ext cx="3230640" cy="33955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4643280" y="1500120"/>
            <a:ext cx="378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4 ноября 2003 г. была открыта планета Се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 Солнца она находится в 2 раза дальше, чем Плу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борот вокруг Солнца Седна делает примерно за 1148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674884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357120" y="450072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Солнце и движущиеся вокруг небесные тела составляют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            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Солнечную систему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олнце1.jpg"/>
          <p:cNvPicPr/>
          <p:nvPr/>
        </p:nvPicPr>
        <p:blipFill>
          <a:blip r:embed="rId1"/>
          <a:stretch/>
        </p:blipFill>
        <p:spPr>
          <a:xfrm>
            <a:off x="500040" y="2357280"/>
            <a:ext cx="3929040" cy="39294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2"/>
          <a:stretch/>
        </p:blipFill>
        <p:spPr>
          <a:xfrm>
            <a:off x="2567160" y="384120"/>
            <a:ext cx="3936960" cy="1206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4429080" y="235728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150 млн. км от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109 диаметров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332946 масс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Температура поверхности достигает 5515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800px-Solar_sys.jpg из википед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т.JPG"/>
          <p:cNvPicPr/>
          <p:nvPr/>
        </p:nvPicPr>
        <p:blipFill>
          <a:blip r:embed="rId2"/>
          <a:stretch/>
        </p:blipFill>
        <p:spPr>
          <a:xfrm>
            <a:off x="7351560" y="2919240"/>
            <a:ext cx="93852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443640" y="428616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е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284720" y="4071960"/>
            <a:ext cx="21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Ме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р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ку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451640" y="37861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 flipH="1">
            <a:off x="8000280" y="1928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050920" y="2071800"/>
            <a:ext cx="20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Юп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042920" y="1428840"/>
            <a:ext cx="21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Сату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 flipH="1">
            <a:off x="1713960" y="285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У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79280" y="765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Непт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Плу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069 0.13595 L -0.03941 0.01549 E">
                                      <p:cBhvr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212 0.15607 C -0.14479 0.11884 -0.10712 0.08208 -0.08958 0.06451 C -0.07187 0.04694 -0.07899 0.05202 -0.07621 0.04902 E">
                                      <p:cBhvr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1549 L 0.06198 -0.09989 E">
                                      <p:cBhvr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98 -0.09988 L -0.4184 -0.3096 E">
                                      <p:cBhvr>
                                        <p:cTn id="5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84 -0.3096 L -0.51302 -0.37272 E">
                                      <p:cBhvr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302 -0.37272 L -0.6783 -0.27838 E">
                                      <p:cBhvr>
                                        <p:cTn id="7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83 -0.27838 L -0.70191 -0.39376 E">
                                      <p:cBhvr>
                                        <p:cTn id="8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191 -0.39376 L -0.82795 -0.29896 E">
                                      <p:cBhvr>
                                        <p:cTn id="9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826920" y="642960"/>
            <a:ext cx="267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Зем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:\My Documents\solar system\PPTEARTH.JPG"/>
          <p:cNvPicPr/>
          <p:nvPr/>
        </p:nvPicPr>
        <p:blipFill>
          <a:blip r:embed="rId2"/>
          <a:stretch/>
        </p:blipFill>
        <p:spPr>
          <a:xfrm>
            <a:off x="357120" y="1500120"/>
            <a:ext cx="4179960" cy="41436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500720" y="714240"/>
            <a:ext cx="4000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Третья от Солнца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бразовалось около 4,54 млд. лет 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Населена живыми су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Спутник-Л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Диаметр 1274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Масса 5,98×10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бращается вокруг Солнца за 365,26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Управляющая кнопка: назад 7">
            <a:hlinkClick r:id="rId3" action="ppaction://hlinksldjump"/>
          </p:cNvPr>
          <p:cNvSpPr/>
          <p:nvPr/>
        </p:nvSpPr>
        <p:spPr>
          <a:xfrm>
            <a:off x="8001000" y="5786280"/>
            <a:ext cx="857160" cy="71460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My Documents\solar system\PPTMERC.JPG"/>
          <p:cNvPicPr/>
          <p:nvPr/>
        </p:nvPicPr>
        <p:blipFill>
          <a:blip r:embed="rId2"/>
          <a:stretch/>
        </p:blipFill>
        <p:spPr>
          <a:xfrm>
            <a:off x="5357880" y="22860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219640" y="100008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Меркур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назад 5"/>
          <p:cNvSpPr/>
          <p:nvPr/>
        </p:nvSpPr>
        <p:spPr>
          <a:xfrm>
            <a:off x="7929720" y="5929200"/>
            <a:ext cx="785520" cy="642960"/>
          </a:xfrm>
          <a:custGeom>
            <a:avLst/>
            <a:gdLst>
              <a:gd name="textAreaLeft" fmla="*/ 41400 w 785520"/>
              <a:gd name="textAreaRight" fmla="*/ 744120 w 7855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87" h="21600">
                <a:moveTo>
                  <a:pt x="0" y="0"/>
                </a:moveTo>
                <a:lnTo>
                  <a:pt x="26387" y="0"/>
                </a:lnTo>
                <a:lnTo>
                  <a:pt x="26387" y="21600"/>
                </a:lnTo>
                <a:lnTo>
                  <a:pt x="0" y="21600"/>
                </a:lnTo>
                <a:close/>
              </a:path>
              <a:path fill="lightenLess" w="26387" h="21600">
                <a:moveTo>
                  <a:pt x="0" y="0"/>
                </a:moveTo>
                <a:lnTo>
                  <a:pt x="26387" y="0"/>
                </a:lnTo>
                <a:lnTo>
                  <a:pt x="24987" y="1400"/>
                </a:lnTo>
                <a:lnTo>
                  <a:pt x="1400" y="1400"/>
                </a:lnTo>
                <a:close/>
              </a:path>
              <a:path fill="darken" w="26387" h="21600">
                <a:moveTo>
                  <a:pt x="26387" y="0"/>
                </a:moveTo>
                <a:lnTo>
                  <a:pt x="26387" y="21600"/>
                </a:lnTo>
                <a:lnTo>
                  <a:pt x="24987" y="20200"/>
                </a:lnTo>
                <a:lnTo>
                  <a:pt x="24987" y="1400"/>
                </a:lnTo>
                <a:close/>
              </a:path>
              <a:path fill="darkenLess" w="26387" h="21600">
                <a:moveTo>
                  <a:pt x="26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7" y="20200"/>
                </a:lnTo>
                <a:close/>
              </a:path>
              <a:path fill="lighten" w="26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7" h="21600">
                <a:moveTo>
                  <a:pt x="6187" y="10800"/>
                </a:moveTo>
                <a:lnTo>
                  <a:pt x="20200" y="3794"/>
                </a:lnTo>
                <a:lnTo>
                  <a:pt x="20200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00040" y="1143000"/>
            <a:ext cx="442908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аметр планеты 4879,4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асса планеты - 0,055 Зем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Температура на поверхности достигает 430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no Pro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бращается вокруг Солнца за 88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бращается вокруг своей оси за 58,6 земных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назад 3"/>
          <p:cNvSpPr/>
          <p:nvPr/>
        </p:nvSpPr>
        <p:spPr>
          <a:xfrm>
            <a:off x="8072280" y="5857920"/>
            <a:ext cx="857520" cy="714240"/>
          </a:xfrm>
          <a:custGeom>
            <a:avLst/>
            <a:gdLst>
              <a:gd name="textAreaLeft" fmla="*/ 46080 w 857520"/>
              <a:gd name="textAreaRight" fmla="*/ 811440 w 85752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31" h="21600">
                <a:moveTo>
                  <a:pt x="0" y="0"/>
                </a:moveTo>
                <a:lnTo>
                  <a:pt x="25931" y="0"/>
                </a:lnTo>
                <a:lnTo>
                  <a:pt x="25931" y="21600"/>
                </a:lnTo>
                <a:lnTo>
                  <a:pt x="0" y="21600"/>
                </a:lnTo>
                <a:close/>
              </a:path>
              <a:path fill="lightenLess" w="25931" h="21600">
                <a:moveTo>
                  <a:pt x="0" y="0"/>
                </a:moveTo>
                <a:lnTo>
                  <a:pt x="25931" y="0"/>
                </a:lnTo>
                <a:lnTo>
                  <a:pt x="24531" y="1400"/>
                </a:lnTo>
                <a:lnTo>
                  <a:pt x="1400" y="1400"/>
                </a:lnTo>
                <a:close/>
              </a:path>
              <a:path fill="darken" w="25931" h="21600">
                <a:moveTo>
                  <a:pt x="25931" y="0"/>
                </a:moveTo>
                <a:lnTo>
                  <a:pt x="25931" y="21600"/>
                </a:lnTo>
                <a:lnTo>
                  <a:pt x="24531" y="20200"/>
                </a:lnTo>
                <a:lnTo>
                  <a:pt x="24531" y="1400"/>
                </a:lnTo>
                <a:close/>
              </a:path>
              <a:path fill="darkenLess" w="25931" h="21600">
                <a:moveTo>
                  <a:pt x="25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1" y="20200"/>
                </a:lnTo>
                <a:close/>
              </a:path>
              <a:path fill="lighten" w="25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1" h="21600">
                <a:moveTo>
                  <a:pt x="5959" y="10800"/>
                </a:moveTo>
                <a:lnTo>
                  <a:pt x="19972" y="3794"/>
                </a:lnTo>
                <a:lnTo>
                  <a:pt x="19972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4" descr="венера.jpg"/>
          <p:cNvPicPr/>
          <p:nvPr/>
        </p:nvPicPr>
        <p:blipFill>
          <a:blip r:embed="rId2"/>
          <a:stretch/>
        </p:blipFill>
        <p:spPr>
          <a:xfrm>
            <a:off x="500040" y="2071800"/>
            <a:ext cx="3357720" cy="3450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785880" y="107172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857760" y="642960"/>
            <a:ext cx="46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мпература поверхности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61,85 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асса - 0,815 зем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аметр планеты 12103,6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дин оборот вокруг своей оси Венера совершает за 146 Земных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иод обращения вокруг Солнца 224,7 Земных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верхность Венеры скрывает  густая облачность из облаков серной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назад 3"/>
          <p:cNvSpPr/>
          <p:nvPr/>
        </p:nvSpPr>
        <p:spPr>
          <a:xfrm>
            <a:off x="8001000" y="5786280"/>
            <a:ext cx="857160" cy="71460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марс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072040" y="357120"/>
            <a:ext cx="3738600" cy="37386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5857920" y="4357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39640" y="549360"/>
            <a:ext cx="515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Марс  вдвое меньше Земли по размерам. Диаметр -6793,8 км. Масса – 0,107 Земных м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Температура колеблется от +30 °C в полдень до −80 °С и ниже в пол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бращается вокруг Солнца за 687 земных су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Марс называют «Красной планетой» из-за цвета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У Марса есть два естественных спутника, Фобос и Деймос , которые имеют неправильную фор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назад 2"/>
          <p:cNvSpPr/>
          <p:nvPr/>
        </p:nvSpPr>
        <p:spPr>
          <a:xfrm>
            <a:off x="8072280" y="578628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10800"/>
                </a:moveTo>
                <a:lnTo>
                  <a:pt x="18883" y="3794"/>
                </a:lnTo>
                <a:lnTo>
                  <a:pt x="18883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jupiter.jpg"/>
          <p:cNvPicPr/>
          <p:nvPr/>
        </p:nvPicPr>
        <p:blipFill>
          <a:blip r:embed="rId2"/>
          <a:srcRect l="5265" t="0" r="7891" b="0"/>
          <a:stretch/>
        </p:blipFill>
        <p:spPr>
          <a:xfrm>
            <a:off x="357120" y="2071800"/>
            <a:ext cx="4000680" cy="37576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785880" y="1000080"/>
            <a:ext cx="307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572000" y="1071720"/>
            <a:ext cx="350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азовый «гига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аметр планеты 142,8 тысяч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иод обращения вокруг Солнца составляет 11,86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 Юпитера 63 спу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круг Юпитера имеются слабые планетарные ко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.Оля</dc:creator>
  <dc:description/>
  <dc:language>en-US</dc:language>
  <cp:lastModifiedBy>П.Оля</cp:lastModifiedBy>
  <dcterms:modified xsi:type="dcterms:W3CDTF">2016-10-17T18:03:26Z</dcterms:modified>
  <cp:revision>106</cp:revision>
  <dc:subject/>
  <dc:title>Слайд 1</dc:title>
</cp:coreProperties>
</file>