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AA48-19F5-496D-9936-1BDF4056F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B6F5-F2EE-4F77-987B-E2F20C4C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B556-E75C-4707-BC9B-4DB6305FD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13DD-5A00-4405-A8F0-259217807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1513-CC80-4EDD-AA1A-3692E59C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6182-4A69-4B85-8294-936472A5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A70F-C251-410F-BDC9-0F7DE368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DBC1-97D5-4AFB-8640-9799B6CE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225B-2C7A-4770-BAC6-3CD7DC91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1CE7-F425-4739-ACA6-22547250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5CD2-C361-4B1C-AD87-3431D244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F8D5-1036-4609-BCE2-647EC7C5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04EB-8030-4E96-829D-1C1CC16451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5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" Target="slide12.xml"/><Relationship Id="rId13" Type="http://schemas.openxmlformats.org/officeDocument/2006/relationships/slide" Target="slide13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642960" y="1268280"/>
            <a:ext cx="825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Calibri"/>
              </a:rPr>
              <a:t>Планеты Солнечной </a:t>
            </a:r>
            <a:r>
              <a:rPr b="1" i="1" lang="ru-RU" sz="60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1" i="1" lang="ru-RU" sz="6000" spc="-1" strike="noStrike">
                <a:solidFill>
                  <a:srgbClr val="ffff00"/>
                </a:solidFill>
                <a:latin typeface="Calibri"/>
              </a:rPr>
              <a:t>истем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1" descr="20309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:\My Documents\solar system\PPTSAT.JPG"/>
          <p:cNvPicPr/>
          <p:nvPr/>
        </p:nvPicPr>
        <p:blipFill>
          <a:blip r:embed="rId2"/>
          <a:stretch/>
        </p:blipFill>
        <p:spPr>
          <a:xfrm>
            <a:off x="428760" y="642960"/>
            <a:ext cx="4143240" cy="2214720"/>
          </a:xfrm>
          <a:prstGeom prst="rect">
            <a:avLst/>
          </a:prstGeom>
          <a:ln w="0">
            <a:noFill/>
          </a:ln>
        </p:spPr>
      </p:pic>
      <p:sp>
        <p:nvSpPr>
          <p:cNvPr id="85" name="Управляющая кнопка: назад 3"/>
          <p:cNvSpPr/>
          <p:nvPr/>
        </p:nvSpPr>
        <p:spPr>
          <a:xfrm>
            <a:off x="8072280" y="5786280"/>
            <a:ext cx="785880" cy="714600"/>
          </a:xfrm>
          <a:custGeom>
            <a:avLst/>
            <a:gdLst>
              <a:gd name="textAreaLeft" fmla="*/ 46080 w 785880"/>
              <a:gd name="textAreaRight" fmla="*/ 739800 w 785880"/>
              <a:gd name="textAreaTop" fmla="*/ 46080 h 714600"/>
              <a:gd name="textAreaBottom" fmla="*/ 668520 h 714600"/>
            </a:gdLst>
            <a:ahLst/>
            <a:rect l="textAreaLeft" t="textAreaTop" r="textAreaRight" b="textAreaBottom"/>
            <a:pathLst>
              <a:path w="23753" h="21600">
                <a:moveTo>
                  <a:pt x="0" y="0"/>
                </a:moveTo>
                <a:lnTo>
                  <a:pt x="23753" y="0"/>
                </a:lnTo>
                <a:lnTo>
                  <a:pt x="23753" y="21600"/>
                </a:lnTo>
                <a:lnTo>
                  <a:pt x="0" y="21600"/>
                </a:lnTo>
                <a:close/>
              </a:path>
              <a:path fill="lightenLess" w="23753" h="21600">
                <a:moveTo>
                  <a:pt x="0" y="0"/>
                </a:moveTo>
                <a:lnTo>
                  <a:pt x="23753" y="0"/>
                </a:lnTo>
                <a:lnTo>
                  <a:pt x="22353" y="1400"/>
                </a:lnTo>
                <a:lnTo>
                  <a:pt x="1400" y="1400"/>
                </a:lnTo>
                <a:close/>
              </a:path>
              <a:path fill="darken" w="23753" h="21600">
                <a:moveTo>
                  <a:pt x="23753" y="0"/>
                </a:moveTo>
                <a:lnTo>
                  <a:pt x="23753" y="21600"/>
                </a:lnTo>
                <a:lnTo>
                  <a:pt x="22353" y="20200"/>
                </a:lnTo>
                <a:lnTo>
                  <a:pt x="22353" y="1400"/>
                </a:lnTo>
                <a:close/>
              </a:path>
              <a:path fill="darkenLess" w="23753" h="21600">
                <a:moveTo>
                  <a:pt x="237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3" y="20200"/>
                </a:lnTo>
                <a:close/>
              </a:path>
              <a:path fill="lighten" w="237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3" h="21600">
                <a:moveTo>
                  <a:pt x="4870" y="10800"/>
                </a:moveTo>
                <a:lnTo>
                  <a:pt x="18883" y="3794"/>
                </a:lnTo>
                <a:lnTo>
                  <a:pt x="18883" y="17806"/>
                </a:lnTo>
                <a:close/>
              </a:path>
            </a:pathLst>
          </a:custGeom>
          <a:solidFill>
            <a:srgbClr val="404040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571680" y="2786040"/>
            <a:ext cx="7572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Расстояние между Сатурном и Солнцем составляет 1 433 531 тысяч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атурн обращается вокруг Солнца 29,5  Земных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У планеты имеется 60 естественных спутников и 3 предполагаемых. Самый большой из них –Ти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округ Сатурна можно увидеть 4 кольца, состоящих из льда и п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5" descr="титан.jpg"/>
          <p:cNvPicPr/>
          <p:nvPr/>
        </p:nvPicPr>
        <p:blipFill>
          <a:blip r:embed="rId3"/>
          <a:stretch/>
        </p:blipFill>
        <p:spPr>
          <a:xfrm>
            <a:off x="7072200" y="4071960"/>
            <a:ext cx="1785960" cy="1722240"/>
          </a:xfrm>
          <a:prstGeom prst="rect">
            <a:avLst/>
          </a:prstGeom>
          <a:ln w="0">
            <a:noFill/>
          </a:ln>
        </p:spPr>
      </p:pic>
      <p:sp>
        <p:nvSpPr>
          <p:cNvPr id="88" name="TextBox 6"/>
          <p:cNvSpPr/>
          <p:nvPr/>
        </p:nvSpPr>
        <p:spPr>
          <a:xfrm>
            <a:off x="5143680" y="1000080"/>
            <a:ext cx="292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Сатур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20309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Управляющая кнопка: назад 2"/>
          <p:cNvSpPr/>
          <p:nvPr/>
        </p:nvSpPr>
        <p:spPr>
          <a:xfrm>
            <a:off x="8001000" y="5857920"/>
            <a:ext cx="857160" cy="642960"/>
          </a:xfrm>
          <a:custGeom>
            <a:avLst/>
            <a:gdLst>
              <a:gd name="textAreaLeft" fmla="*/ 41400 w 857160"/>
              <a:gd name="textAreaRight" fmla="*/ 815760 w 8571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8792" h="21600">
                <a:moveTo>
                  <a:pt x="0" y="0"/>
                </a:moveTo>
                <a:lnTo>
                  <a:pt x="28792" y="0"/>
                </a:lnTo>
                <a:lnTo>
                  <a:pt x="28792" y="21600"/>
                </a:lnTo>
                <a:lnTo>
                  <a:pt x="0" y="21600"/>
                </a:lnTo>
                <a:close/>
              </a:path>
              <a:path fill="lightenLess" w="28792" h="21600">
                <a:moveTo>
                  <a:pt x="0" y="0"/>
                </a:moveTo>
                <a:lnTo>
                  <a:pt x="28792" y="0"/>
                </a:lnTo>
                <a:lnTo>
                  <a:pt x="27392" y="1400"/>
                </a:lnTo>
                <a:lnTo>
                  <a:pt x="1400" y="1400"/>
                </a:lnTo>
                <a:close/>
              </a:path>
              <a:path fill="darken" w="28792" h="21600">
                <a:moveTo>
                  <a:pt x="28792" y="0"/>
                </a:moveTo>
                <a:lnTo>
                  <a:pt x="28792" y="21600"/>
                </a:lnTo>
                <a:lnTo>
                  <a:pt x="27392" y="20200"/>
                </a:lnTo>
                <a:lnTo>
                  <a:pt x="27392" y="1400"/>
                </a:lnTo>
                <a:close/>
              </a:path>
              <a:path fill="darkenLess" w="28792" h="21600">
                <a:moveTo>
                  <a:pt x="28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2" y="20200"/>
                </a:lnTo>
                <a:close/>
              </a:path>
              <a:path fill="lighten" w="28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2" h="21600">
                <a:moveTo>
                  <a:pt x="7389" y="10800"/>
                </a:moveTo>
                <a:lnTo>
                  <a:pt x="21402" y="3794"/>
                </a:lnTo>
                <a:lnTo>
                  <a:pt x="21402" y="17806"/>
                </a:lnTo>
                <a:close/>
              </a:path>
            </a:pathLst>
          </a:custGeom>
          <a:solidFill>
            <a:srgbClr val="404040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4" descr="уран и земля.jpg"/>
          <p:cNvPicPr/>
          <p:nvPr/>
        </p:nvPicPr>
        <p:blipFill>
          <a:blip r:embed="rId2"/>
          <a:stretch/>
        </p:blipFill>
        <p:spPr>
          <a:xfrm>
            <a:off x="5643720" y="3071880"/>
            <a:ext cx="3071520" cy="307188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5643720" y="928800"/>
            <a:ext cx="285732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Уран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сравнении с </a:t>
            </a:r>
            <a:r>
              <a:rPr b="1" i="1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Землё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428760" y="847800"/>
            <a:ext cx="5072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ервая планета, обнаруженная при помощи телеско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амая холодная планета Солнечной системы. Средняя температура - 224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º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ериод обращения Урана вокруг Солнца составляет 84 земных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Уран тяжелее Земли в 14,5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У Урана имеется система колец и 27 спут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20309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Управляющая кнопка: назад 2"/>
          <p:cNvSpPr/>
          <p:nvPr/>
        </p:nvSpPr>
        <p:spPr>
          <a:xfrm>
            <a:off x="8072280" y="5786280"/>
            <a:ext cx="785880" cy="714600"/>
          </a:xfrm>
          <a:custGeom>
            <a:avLst/>
            <a:gdLst>
              <a:gd name="textAreaLeft" fmla="*/ 46080 w 785880"/>
              <a:gd name="textAreaRight" fmla="*/ 739800 w 785880"/>
              <a:gd name="textAreaTop" fmla="*/ 46080 h 714600"/>
              <a:gd name="textAreaBottom" fmla="*/ 668520 h 714600"/>
            </a:gdLst>
            <a:ahLst/>
            <a:rect l="textAreaLeft" t="textAreaTop" r="textAreaRight" b="textAreaBottom"/>
            <a:pathLst>
              <a:path w="23753" h="21600">
                <a:moveTo>
                  <a:pt x="0" y="0"/>
                </a:moveTo>
                <a:lnTo>
                  <a:pt x="23753" y="0"/>
                </a:lnTo>
                <a:lnTo>
                  <a:pt x="23753" y="21600"/>
                </a:lnTo>
                <a:lnTo>
                  <a:pt x="0" y="21600"/>
                </a:lnTo>
                <a:close/>
              </a:path>
              <a:path fill="lightenLess" w="23753" h="21600">
                <a:moveTo>
                  <a:pt x="0" y="0"/>
                </a:moveTo>
                <a:lnTo>
                  <a:pt x="23753" y="0"/>
                </a:lnTo>
                <a:lnTo>
                  <a:pt x="22353" y="1400"/>
                </a:lnTo>
                <a:lnTo>
                  <a:pt x="1400" y="1400"/>
                </a:lnTo>
                <a:close/>
              </a:path>
              <a:path fill="darken" w="23753" h="21600">
                <a:moveTo>
                  <a:pt x="23753" y="0"/>
                </a:moveTo>
                <a:lnTo>
                  <a:pt x="23753" y="21600"/>
                </a:lnTo>
                <a:lnTo>
                  <a:pt x="22353" y="20200"/>
                </a:lnTo>
                <a:lnTo>
                  <a:pt x="22353" y="1400"/>
                </a:lnTo>
                <a:close/>
              </a:path>
              <a:path fill="darkenLess" w="23753" h="21600">
                <a:moveTo>
                  <a:pt x="237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3" y="20200"/>
                </a:lnTo>
                <a:close/>
              </a:path>
              <a:path fill="lighten" w="237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3" h="21600">
                <a:moveTo>
                  <a:pt x="4870" y="10800"/>
                </a:moveTo>
                <a:lnTo>
                  <a:pt x="18883" y="3794"/>
                </a:lnTo>
                <a:lnTo>
                  <a:pt x="18883" y="17806"/>
                </a:lnTo>
                <a:close/>
              </a:path>
            </a:pathLst>
          </a:custGeom>
          <a:solidFill>
            <a:srgbClr val="404040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3" descr="нептун.jpg"/>
          <p:cNvPicPr/>
          <p:nvPr/>
        </p:nvPicPr>
        <p:blipFill>
          <a:blip r:embed="rId2"/>
          <a:stretch/>
        </p:blipFill>
        <p:spPr>
          <a:xfrm>
            <a:off x="357120" y="2643120"/>
            <a:ext cx="3571920" cy="357192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642960" y="1214280"/>
            <a:ext cx="271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Непту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4214880" y="928800"/>
            <a:ext cx="4071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ланета была найдена в соответствии с математическими расчётами, а не путём наблюд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ептун в 17 раз массивнее 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лный оборот вокруг Солнца у него занимает 164,79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У  Нептуна есть кольцевая система, и известны 13 спут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" descr="20309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Управляющая кнопка: назад 2"/>
          <p:cNvSpPr/>
          <p:nvPr/>
        </p:nvSpPr>
        <p:spPr>
          <a:xfrm rot="10800000">
            <a:off x="8000640" y="5714640"/>
            <a:ext cx="857160" cy="785880"/>
          </a:xfrm>
          <a:custGeom>
            <a:avLst/>
            <a:gdLst>
              <a:gd name="textAreaLeft" fmla="*/ 50760 w 857160"/>
              <a:gd name="textAreaRight" fmla="*/ 806400 w 85716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23558" h="21600">
                <a:moveTo>
                  <a:pt x="0" y="0"/>
                </a:moveTo>
                <a:lnTo>
                  <a:pt x="23558" y="0"/>
                </a:lnTo>
                <a:lnTo>
                  <a:pt x="23558" y="21600"/>
                </a:lnTo>
                <a:lnTo>
                  <a:pt x="0" y="21600"/>
                </a:lnTo>
                <a:close/>
              </a:path>
              <a:path fill="lightenLess" w="23558" h="21600">
                <a:moveTo>
                  <a:pt x="0" y="0"/>
                </a:moveTo>
                <a:lnTo>
                  <a:pt x="23558" y="0"/>
                </a:lnTo>
                <a:lnTo>
                  <a:pt x="22158" y="1400"/>
                </a:lnTo>
                <a:lnTo>
                  <a:pt x="1400" y="1400"/>
                </a:lnTo>
                <a:close/>
              </a:path>
              <a:path fill="darken" w="23558" h="21600">
                <a:moveTo>
                  <a:pt x="23558" y="0"/>
                </a:moveTo>
                <a:lnTo>
                  <a:pt x="23558" y="21600"/>
                </a:lnTo>
                <a:lnTo>
                  <a:pt x="22158" y="20200"/>
                </a:lnTo>
                <a:lnTo>
                  <a:pt x="22158" y="1400"/>
                </a:lnTo>
                <a:close/>
              </a:path>
              <a:path fill="darkenLess" w="23558" h="21600">
                <a:moveTo>
                  <a:pt x="23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8" y="20200"/>
                </a:lnTo>
                <a:close/>
              </a:path>
              <a:path fill="lighten" w="23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58" h="21600">
                <a:moveTo>
                  <a:pt x="4773" y="10800"/>
                </a:moveTo>
                <a:lnTo>
                  <a:pt x="18786" y="3794"/>
                </a:lnTo>
                <a:lnTo>
                  <a:pt x="18786" y="17806"/>
                </a:lnTo>
                <a:close/>
              </a:path>
            </a:pathLst>
          </a:custGeom>
          <a:solidFill>
            <a:srgbClr val="404040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3" descr="плутон.jpg"/>
          <p:cNvPicPr/>
          <p:nvPr/>
        </p:nvPicPr>
        <p:blipFill>
          <a:blip r:embed="rId2"/>
          <a:stretch/>
        </p:blipFill>
        <p:spPr>
          <a:xfrm>
            <a:off x="5214960" y="78588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5286240" y="4143240"/>
            <a:ext cx="292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Плуто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928800" y="1143000"/>
            <a:ext cx="3643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го масса меньше массы Луны в пять раз, а объём в три р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ериод обращения вокруг Солнца 248,09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У Плутона имеется 3 спутника, которые располагаются очень близко к поверхности план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20309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Управляющая кнопка: назад 2"/>
          <p:cNvSpPr/>
          <p:nvPr/>
        </p:nvSpPr>
        <p:spPr>
          <a:xfrm>
            <a:off x="8072280" y="5786280"/>
            <a:ext cx="785880" cy="714600"/>
          </a:xfrm>
          <a:custGeom>
            <a:avLst/>
            <a:gdLst>
              <a:gd name="textAreaLeft" fmla="*/ 46080 w 785880"/>
              <a:gd name="textAreaRight" fmla="*/ 739800 w 785880"/>
              <a:gd name="textAreaTop" fmla="*/ 46080 h 714600"/>
              <a:gd name="textAreaBottom" fmla="*/ 668520 h 714600"/>
            </a:gdLst>
            <a:ahLst/>
            <a:rect l="textAreaLeft" t="textAreaTop" r="textAreaRight" b="textAreaBottom"/>
            <a:pathLst>
              <a:path w="23753" h="21600">
                <a:moveTo>
                  <a:pt x="0" y="0"/>
                </a:moveTo>
                <a:lnTo>
                  <a:pt x="23753" y="0"/>
                </a:lnTo>
                <a:lnTo>
                  <a:pt x="23753" y="21600"/>
                </a:lnTo>
                <a:lnTo>
                  <a:pt x="0" y="21600"/>
                </a:lnTo>
                <a:close/>
              </a:path>
              <a:path fill="lightenLess" w="23753" h="21600">
                <a:moveTo>
                  <a:pt x="0" y="0"/>
                </a:moveTo>
                <a:lnTo>
                  <a:pt x="23753" y="0"/>
                </a:lnTo>
                <a:lnTo>
                  <a:pt x="22353" y="1400"/>
                </a:lnTo>
                <a:lnTo>
                  <a:pt x="1400" y="1400"/>
                </a:lnTo>
                <a:close/>
              </a:path>
              <a:path fill="darken" w="23753" h="21600">
                <a:moveTo>
                  <a:pt x="23753" y="0"/>
                </a:moveTo>
                <a:lnTo>
                  <a:pt x="23753" y="21600"/>
                </a:lnTo>
                <a:lnTo>
                  <a:pt x="22353" y="20200"/>
                </a:lnTo>
                <a:lnTo>
                  <a:pt x="22353" y="1400"/>
                </a:lnTo>
                <a:close/>
              </a:path>
              <a:path fill="darkenLess" w="23753" h="21600">
                <a:moveTo>
                  <a:pt x="237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3" y="20200"/>
                </a:lnTo>
                <a:close/>
              </a:path>
              <a:path fill="lighten" w="237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3" h="21600">
                <a:moveTo>
                  <a:pt x="4870" y="10800"/>
                </a:moveTo>
                <a:lnTo>
                  <a:pt x="18883" y="3794"/>
                </a:lnTo>
                <a:lnTo>
                  <a:pt x="18883" y="17806"/>
                </a:lnTo>
                <a:close/>
              </a:path>
            </a:pathLst>
          </a:custGeom>
          <a:solidFill>
            <a:srgbClr val="404040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3" descr="фобос.png"/>
          <p:cNvPicPr/>
          <p:nvPr/>
        </p:nvPicPr>
        <p:blipFill>
          <a:blip r:embed="rId2"/>
          <a:stretch/>
        </p:blipFill>
        <p:spPr>
          <a:xfrm>
            <a:off x="5072040" y="571680"/>
            <a:ext cx="3556080" cy="348444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4" descr="Deimos-MRO.jpg"/>
          <p:cNvPicPr/>
          <p:nvPr/>
        </p:nvPicPr>
        <p:blipFill>
          <a:blip r:embed="rId3"/>
          <a:stretch/>
        </p:blipFill>
        <p:spPr>
          <a:xfrm>
            <a:off x="642960" y="2928960"/>
            <a:ext cx="3328920" cy="332892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5"/>
          <p:cNvSpPr/>
          <p:nvPr/>
        </p:nvSpPr>
        <p:spPr>
          <a:xfrm>
            <a:off x="4286160" y="4643280"/>
            <a:ext cx="264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Фобо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2071800" y="1214280"/>
            <a:ext cx="292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Деймо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642960" y="785880"/>
            <a:ext cx="350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Сед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5" descr="sedna-4.jpg"/>
          <p:cNvPicPr/>
          <p:nvPr/>
        </p:nvPicPr>
        <p:blipFill>
          <a:blip r:embed="rId1"/>
          <a:srcRect l="0" t="15930" r="0" b="0"/>
          <a:stretch/>
        </p:blipFill>
        <p:spPr>
          <a:xfrm>
            <a:off x="785880" y="2428920"/>
            <a:ext cx="3230640" cy="33955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7"/>
          <p:cNvSpPr/>
          <p:nvPr/>
        </p:nvSpPr>
        <p:spPr>
          <a:xfrm>
            <a:off x="4643280" y="1500120"/>
            <a:ext cx="3786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14 ноября 2003 г. была открыта планета Сед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т Солнца она находится в 2 раза дальше, чем Плу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борот вокруг Солнца Седна делает примерно за 11487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6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674884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357120" y="4500720"/>
            <a:ext cx="878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Calibri"/>
              </a:rPr>
              <a:t>Солнце и движущиеся вокруг небесные тела составляют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Calibri"/>
              </a:rPr>
              <a:t>                           </a:t>
            </a:r>
            <a:r>
              <a:rPr b="1" i="1" lang="ru-RU" sz="3600" spc="-1" strike="noStrike">
                <a:solidFill>
                  <a:srgbClr val="ffff00"/>
                </a:solidFill>
                <a:latin typeface="Calibri"/>
              </a:rPr>
              <a:t>Солнечную систему.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солнце1.jpg"/>
          <p:cNvPicPr/>
          <p:nvPr/>
        </p:nvPicPr>
        <p:blipFill>
          <a:blip r:embed="rId1"/>
          <a:stretch/>
        </p:blipFill>
        <p:spPr>
          <a:xfrm>
            <a:off x="500040" y="2357280"/>
            <a:ext cx="3929040" cy="392940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3" descr=""/>
          <p:cNvPicPr/>
          <p:nvPr/>
        </p:nvPicPr>
        <p:blipFill>
          <a:blip r:embed="rId2"/>
          <a:stretch/>
        </p:blipFill>
        <p:spPr>
          <a:xfrm>
            <a:off x="2567160" y="384120"/>
            <a:ext cx="3936960" cy="1206720"/>
          </a:xfrm>
          <a:prstGeom prst="rect">
            <a:avLst/>
          </a:prstGeom>
          <a:ln w="0">
            <a:noFill/>
          </a:ln>
        </p:spPr>
      </p:pic>
      <p:sp>
        <p:nvSpPr>
          <p:cNvPr id="46" name="TextBox 5"/>
          <p:cNvSpPr/>
          <p:nvPr/>
        </p:nvSpPr>
        <p:spPr>
          <a:xfrm>
            <a:off x="4429080" y="2357280"/>
            <a:ext cx="4500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Calibri"/>
              </a:rPr>
              <a:t>150 млн. км от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Calibri"/>
              </a:rPr>
              <a:t>109 диаметров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Calibri"/>
              </a:rPr>
              <a:t>332946 масс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Calibri"/>
              </a:rPr>
              <a:t>Температура поверхности достигает 5515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800px-Solar_sys.jpg из википед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" descr="т.JPG"/>
          <p:cNvPicPr/>
          <p:nvPr/>
        </p:nvPicPr>
        <p:blipFill>
          <a:blip r:embed="rId2"/>
          <a:stretch/>
        </p:blipFill>
        <p:spPr>
          <a:xfrm>
            <a:off x="7351560" y="2919240"/>
            <a:ext cx="938520" cy="519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6443640" y="4286160"/>
            <a:ext cx="162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ен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4284720" y="4071960"/>
            <a:ext cx="21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Ме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р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ку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7451640" y="37861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Зем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 flipH="1">
            <a:off x="8000280" y="1928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Мар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2050920" y="2071800"/>
            <a:ext cx="20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Юпи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1042920" y="1428840"/>
            <a:ext cx="21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0" action="ppaction://hlinksldjump"/>
              </a:rPr>
              <a:t>Сатур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0"/>
          <p:cNvSpPr/>
          <p:nvPr/>
        </p:nvSpPr>
        <p:spPr>
          <a:xfrm flipH="1">
            <a:off x="1713960" y="2858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1" action="ppaction://hlinksldjump"/>
              </a:rPr>
              <a:t>У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179280" y="765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2" action="ppaction://hlinksldjump"/>
              </a:rPr>
              <a:t>Непту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0" y="0"/>
            <a:ext cx="19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3" action="ppaction://hlinksldjump"/>
              </a:rPr>
              <a:t>Плут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069 0.13595 L -0.03941 0.01549 E">
                                      <p:cBhvr>
                                        <p:cTn id="2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212 0.15607 C -0.14479 0.11884 -0.10712 0.08208 -0.08958 0.06451 C -0.07187 0.04694 -0.07899 0.05202 -0.07621 0.04902 E">
                                      <p:cBhvr>
                                        <p:cTn id="33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41 0.01549 L 0.06198 -0.09989 E">
                                      <p:cBhvr>
                                        <p:cTn id="44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198 -0.09988 L -0.4184 -0.3096 E">
                                      <p:cBhvr>
                                        <p:cTn id="55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184 -0.3096 L -0.51302 -0.37272 E">
                                      <p:cBhvr>
                                        <p:cTn id="6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302 -0.37272 L -0.6783 -0.27838 E">
                                      <p:cBhvr>
                                        <p:cTn id="77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783 -0.27838 L -0.70191 -0.39376 E">
                                      <p:cBhvr>
                                        <p:cTn id="88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0191 -0.39376 L -0.82795 -0.29896 E">
                                      <p:cBhvr>
                                        <p:cTn id="99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3" descr="20309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826920" y="642960"/>
            <a:ext cx="267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Calibri"/>
              </a:rPr>
              <a:t>Земл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C:\My Documents\solar system\PPTEARTH.JPG"/>
          <p:cNvPicPr/>
          <p:nvPr/>
        </p:nvPicPr>
        <p:blipFill>
          <a:blip r:embed="rId2"/>
          <a:stretch/>
        </p:blipFill>
        <p:spPr>
          <a:xfrm>
            <a:off x="357120" y="1500120"/>
            <a:ext cx="4179960" cy="4143600"/>
          </a:xfrm>
          <a:prstGeom prst="rect">
            <a:avLst/>
          </a:prstGeom>
          <a:ln w="0">
            <a:noFill/>
          </a:ln>
        </p:spPr>
      </p:pic>
      <p:sp>
        <p:nvSpPr>
          <p:cNvPr id="61" name="TextBox 6"/>
          <p:cNvSpPr/>
          <p:nvPr/>
        </p:nvSpPr>
        <p:spPr>
          <a:xfrm>
            <a:off x="4500720" y="714240"/>
            <a:ext cx="40003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Третья от Солнца план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Образовалось около 4,54 млд. лет 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Населена живыми суще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Спутник-Лу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Диаметр 12742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Масса 5,98×10</a:t>
            </a:r>
            <a:r>
              <a:rPr b="1" i="1" lang="ru-RU" sz="2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 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Обращается вокруг Солнца за 365,26 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Управляющая кнопка: назад 7">
            <a:hlinkClick r:id="rId3" action="ppaction://hlinksldjump"/>
          </p:cNvPr>
          <p:cNvSpPr/>
          <p:nvPr/>
        </p:nvSpPr>
        <p:spPr>
          <a:xfrm>
            <a:off x="8001000" y="5786280"/>
            <a:ext cx="857160" cy="714600"/>
          </a:xfrm>
          <a:custGeom>
            <a:avLst/>
            <a:gdLst>
              <a:gd name="textAreaLeft" fmla="*/ 46080 w 857160"/>
              <a:gd name="textAreaRight" fmla="*/ 811080 w 857160"/>
              <a:gd name="textAreaTop" fmla="*/ 46080 h 714600"/>
              <a:gd name="textAreaBottom" fmla="*/ 668520 h 71460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04040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20309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My Documents\solar system\PPTMERC.JPG"/>
          <p:cNvPicPr/>
          <p:nvPr/>
        </p:nvPicPr>
        <p:blipFill>
          <a:blip r:embed="rId2"/>
          <a:stretch/>
        </p:blipFill>
        <p:spPr>
          <a:xfrm>
            <a:off x="5357880" y="228600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5219640" y="1000080"/>
            <a:ext cx="36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Calibri"/>
              </a:rPr>
              <a:t>Меркур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Управляющая кнопка: назад 5"/>
          <p:cNvSpPr/>
          <p:nvPr/>
        </p:nvSpPr>
        <p:spPr>
          <a:xfrm>
            <a:off x="7929720" y="5929200"/>
            <a:ext cx="785520" cy="642960"/>
          </a:xfrm>
          <a:custGeom>
            <a:avLst/>
            <a:gdLst>
              <a:gd name="textAreaLeft" fmla="*/ 41400 w 785520"/>
              <a:gd name="textAreaRight" fmla="*/ 744120 w 78552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6387" h="21600">
                <a:moveTo>
                  <a:pt x="0" y="0"/>
                </a:moveTo>
                <a:lnTo>
                  <a:pt x="26387" y="0"/>
                </a:lnTo>
                <a:lnTo>
                  <a:pt x="26387" y="21600"/>
                </a:lnTo>
                <a:lnTo>
                  <a:pt x="0" y="21600"/>
                </a:lnTo>
                <a:close/>
              </a:path>
              <a:path fill="lightenLess" w="26387" h="21600">
                <a:moveTo>
                  <a:pt x="0" y="0"/>
                </a:moveTo>
                <a:lnTo>
                  <a:pt x="26387" y="0"/>
                </a:lnTo>
                <a:lnTo>
                  <a:pt x="24987" y="1400"/>
                </a:lnTo>
                <a:lnTo>
                  <a:pt x="1400" y="1400"/>
                </a:lnTo>
                <a:close/>
              </a:path>
              <a:path fill="darken" w="26387" h="21600">
                <a:moveTo>
                  <a:pt x="26387" y="0"/>
                </a:moveTo>
                <a:lnTo>
                  <a:pt x="26387" y="21600"/>
                </a:lnTo>
                <a:lnTo>
                  <a:pt x="24987" y="20200"/>
                </a:lnTo>
                <a:lnTo>
                  <a:pt x="24987" y="1400"/>
                </a:lnTo>
                <a:close/>
              </a:path>
              <a:path fill="darkenLess" w="26387" h="21600">
                <a:moveTo>
                  <a:pt x="263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87" y="20200"/>
                </a:lnTo>
                <a:close/>
              </a:path>
              <a:path fill="lighten" w="263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87" h="21600">
                <a:moveTo>
                  <a:pt x="6187" y="10800"/>
                </a:moveTo>
                <a:lnTo>
                  <a:pt x="20200" y="3794"/>
                </a:lnTo>
                <a:lnTo>
                  <a:pt x="20200" y="17806"/>
                </a:lnTo>
                <a:close/>
              </a:path>
            </a:pathLst>
          </a:custGeom>
          <a:solidFill>
            <a:srgbClr val="40404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500040" y="1143000"/>
            <a:ext cx="442908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иаметр планеты 4879,4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Масса планеты - 0,055 Земных м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Температура на поверхности достигает 430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no Pro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Обращается вокруг Солнца за 88 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бращается вокруг своей оси за 58,6 земных су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20309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Управляющая кнопка: назад 3"/>
          <p:cNvSpPr/>
          <p:nvPr/>
        </p:nvSpPr>
        <p:spPr>
          <a:xfrm>
            <a:off x="8072280" y="5857920"/>
            <a:ext cx="857520" cy="714240"/>
          </a:xfrm>
          <a:custGeom>
            <a:avLst/>
            <a:gdLst>
              <a:gd name="textAreaLeft" fmla="*/ 46080 w 857520"/>
              <a:gd name="textAreaRight" fmla="*/ 811440 w 85752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5931" h="21600">
                <a:moveTo>
                  <a:pt x="0" y="0"/>
                </a:moveTo>
                <a:lnTo>
                  <a:pt x="25931" y="0"/>
                </a:lnTo>
                <a:lnTo>
                  <a:pt x="25931" y="21600"/>
                </a:lnTo>
                <a:lnTo>
                  <a:pt x="0" y="21600"/>
                </a:lnTo>
                <a:close/>
              </a:path>
              <a:path fill="lightenLess" w="25931" h="21600">
                <a:moveTo>
                  <a:pt x="0" y="0"/>
                </a:moveTo>
                <a:lnTo>
                  <a:pt x="25931" y="0"/>
                </a:lnTo>
                <a:lnTo>
                  <a:pt x="24531" y="1400"/>
                </a:lnTo>
                <a:lnTo>
                  <a:pt x="1400" y="1400"/>
                </a:lnTo>
                <a:close/>
              </a:path>
              <a:path fill="darken" w="25931" h="21600">
                <a:moveTo>
                  <a:pt x="25931" y="0"/>
                </a:moveTo>
                <a:lnTo>
                  <a:pt x="25931" y="21600"/>
                </a:lnTo>
                <a:lnTo>
                  <a:pt x="24531" y="20200"/>
                </a:lnTo>
                <a:lnTo>
                  <a:pt x="24531" y="1400"/>
                </a:lnTo>
                <a:close/>
              </a:path>
              <a:path fill="darkenLess" w="25931" h="21600">
                <a:moveTo>
                  <a:pt x="25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1" y="20200"/>
                </a:lnTo>
                <a:close/>
              </a:path>
              <a:path fill="lighten" w="25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1" h="21600">
                <a:moveTo>
                  <a:pt x="5959" y="10800"/>
                </a:moveTo>
                <a:lnTo>
                  <a:pt x="19972" y="3794"/>
                </a:lnTo>
                <a:lnTo>
                  <a:pt x="19972" y="17806"/>
                </a:lnTo>
                <a:close/>
              </a:path>
            </a:pathLst>
          </a:custGeom>
          <a:solidFill>
            <a:srgbClr val="404040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4" descr="венера.jpg"/>
          <p:cNvPicPr/>
          <p:nvPr/>
        </p:nvPicPr>
        <p:blipFill>
          <a:blip r:embed="rId2"/>
          <a:stretch/>
        </p:blipFill>
        <p:spPr>
          <a:xfrm>
            <a:off x="500040" y="2071800"/>
            <a:ext cx="3357720" cy="345096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785880" y="1071720"/>
            <a:ext cx="27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Вене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3857760" y="642960"/>
            <a:ext cx="4643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емпература поверхности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61,85 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Масса - 0,815 земных м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иаметр планеты 12103,6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дин оборот вокруг своей оси Венера совершает за 146 Земных су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ериод обращения вокруг Солнца 224,7 Земных д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верхность Венеры скрывает  густая облачность из облаков серной кисл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20309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Управляющая кнопка: назад 3"/>
          <p:cNvSpPr/>
          <p:nvPr/>
        </p:nvSpPr>
        <p:spPr>
          <a:xfrm>
            <a:off x="8001000" y="5786280"/>
            <a:ext cx="857160" cy="714600"/>
          </a:xfrm>
          <a:custGeom>
            <a:avLst/>
            <a:gdLst>
              <a:gd name="textAreaLeft" fmla="*/ 46080 w 857160"/>
              <a:gd name="textAreaRight" fmla="*/ 811080 w 857160"/>
              <a:gd name="textAreaTop" fmla="*/ 46080 h 714600"/>
              <a:gd name="textAreaBottom" fmla="*/ 668520 h 71460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04040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5" descr="марс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5072040" y="357120"/>
            <a:ext cx="3738600" cy="3738600"/>
          </a:xfrm>
          <a:prstGeom prst="rect">
            <a:avLst/>
          </a:prstGeom>
          <a:ln w="0">
            <a:noFill/>
          </a:ln>
        </p:spPr>
      </p:pic>
      <p:sp>
        <p:nvSpPr>
          <p:cNvPr id="76" name="TextBox 4"/>
          <p:cNvSpPr/>
          <p:nvPr/>
        </p:nvSpPr>
        <p:spPr>
          <a:xfrm>
            <a:off x="5857920" y="435780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Arial"/>
                <a:ea typeface="Arial"/>
              </a:rPr>
              <a:t>Мар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539640" y="549360"/>
            <a:ext cx="5151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Марс  вдвое меньше Земли по размерам. Диаметр -6793,8 км. Масса – 0,107 Земных м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Температура колеблется от +30 °C в полдень до −80 °С и ниже в полно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Обращается вокруг Солнца за 687 земных су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Марс называют «Красной планетой» из-за цвета поверх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У Марса есть два естественных спутника, Фобос и Деймос , которые имеют неправильную фор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20309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Управляющая кнопка: назад 2"/>
          <p:cNvSpPr/>
          <p:nvPr/>
        </p:nvSpPr>
        <p:spPr>
          <a:xfrm>
            <a:off x="8072280" y="5786280"/>
            <a:ext cx="785880" cy="714600"/>
          </a:xfrm>
          <a:custGeom>
            <a:avLst/>
            <a:gdLst>
              <a:gd name="textAreaLeft" fmla="*/ 46080 w 785880"/>
              <a:gd name="textAreaRight" fmla="*/ 739800 w 785880"/>
              <a:gd name="textAreaTop" fmla="*/ 46080 h 714600"/>
              <a:gd name="textAreaBottom" fmla="*/ 668520 h 714600"/>
            </a:gdLst>
            <a:ahLst/>
            <a:rect l="textAreaLeft" t="textAreaTop" r="textAreaRight" b="textAreaBottom"/>
            <a:pathLst>
              <a:path w="23753" h="21600">
                <a:moveTo>
                  <a:pt x="0" y="0"/>
                </a:moveTo>
                <a:lnTo>
                  <a:pt x="23753" y="0"/>
                </a:lnTo>
                <a:lnTo>
                  <a:pt x="23753" y="21600"/>
                </a:lnTo>
                <a:lnTo>
                  <a:pt x="0" y="21600"/>
                </a:lnTo>
                <a:close/>
              </a:path>
              <a:path fill="lightenLess" w="23753" h="21600">
                <a:moveTo>
                  <a:pt x="0" y="0"/>
                </a:moveTo>
                <a:lnTo>
                  <a:pt x="23753" y="0"/>
                </a:lnTo>
                <a:lnTo>
                  <a:pt x="22353" y="1400"/>
                </a:lnTo>
                <a:lnTo>
                  <a:pt x="1400" y="1400"/>
                </a:lnTo>
                <a:close/>
              </a:path>
              <a:path fill="darken" w="23753" h="21600">
                <a:moveTo>
                  <a:pt x="23753" y="0"/>
                </a:moveTo>
                <a:lnTo>
                  <a:pt x="23753" y="21600"/>
                </a:lnTo>
                <a:lnTo>
                  <a:pt x="22353" y="20200"/>
                </a:lnTo>
                <a:lnTo>
                  <a:pt x="22353" y="1400"/>
                </a:lnTo>
                <a:close/>
              </a:path>
              <a:path fill="darkenLess" w="23753" h="21600">
                <a:moveTo>
                  <a:pt x="237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3" y="20200"/>
                </a:lnTo>
                <a:close/>
              </a:path>
              <a:path fill="lighten" w="237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3" h="21600">
                <a:moveTo>
                  <a:pt x="4870" y="10800"/>
                </a:moveTo>
                <a:lnTo>
                  <a:pt x="18883" y="3794"/>
                </a:lnTo>
                <a:lnTo>
                  <a:pt x="18883" y="17806"/>
                </a:lnTo>
                <a:close/>
              </a:path>
            </a:pathLst>
          </a:custGeom>
          <a:solidFill>
            <a:srgbClr val="404040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4" descr="jupiter.jpg"/>
          <p:cNvPicPr/>
          <p:nvPr/>
        </p:nvPicPr>
        <p:blipFill>
          <a:blip r:embed="rId2"/>
          <a:srcRect l="5265" t="0" r="7891" b="0"/>
          <a:stretch/>
        </p:blipFill>
        <p:spPr>
          <a:xfrm>
            <a:off x="357120" y="2071800"/>
            <a:ext cx="4000680" cy="375768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/>
          <p:cNvSpPr/>
          <p:nvPr/>
        </p:nvSpPr>
        <p:spPr>
          <a:xfrm>
            <a:off x="785880" y="1000080"/>
            <a:ext cx="307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Юпите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4572000" y="1071720"/>
            <a:ext cx="350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Газовый «гиган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иаметр планеты 142,8 тысяч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ериод обращения вокруг Солнца составляет 11,86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У Юпитера 63 спут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округ Юпитера имеются слабые планетарные коль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.Оля</dc:creator>
  <dc:description/>
  <dc:language>en-US</dc:language>
  <cp:lastModifiedBy>П.Оля</cp:lastModifiedBy>
  <dcterms:modified xsi:type="dcterms:W3CDTF">2016-10-17T18:03:26Z</dcterms:modified>
  <cp:revision>106</cp:revision>
  <dc:subject/>
  <dc:title>Слайд 1</dc:title>
</cp:coreProperties>
</file>