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1F1-EEF5-4069-A2AF-46CBC913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201-34CC-4A9B-A87D-152C9103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1AA-02FE-4777-A252-0691AC52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1C3-6BFC-4786-AF20-AE023CD8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7C85-1B18-44F9-B395-BD5E31AE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A43C-B3F7-45B0-95E4-716F0F5E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C062-5CF1-4D3D-B1AC-947BC308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1F44-7C7F-4347-901F-E5B4702D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5FE3-286A-43E5-8839-827E55CF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7161-EF54-4328-8755-7B93902A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68D4-C2D0-4022-B9B4-C9C4468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8D2-8E8E-4924-8A46-E426AC9A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145B-FD74-4032-9119-6162150D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0369-E476-4A24-86EA-222B23B2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6660-845B-4A30-A7E7-A74B7FD1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FC69-9E54-4F25-B8C8-BE13CD12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A6BA-DCE7-4DEB-9A1F-873AD62F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963F-CA57-4220-A7BB-80D7D68B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89B6-1FDD-4B16-808B-6B764D9A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6D9D-26C9-414C-BE65-2A23057E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6FF90-249C-4FB6-9DD0-69E65269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DE6CB-1904-43D4-8310-30526768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130-631B-4B76-B68C-D8789BD7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ABDB-FCC7-4D3D-AB98-167B416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F2B4-9958-4C6B-AD12-AFFBC18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5D21-5B85-4FD0-A664-A520C58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491B-7A5F-4CDF-B0FF-02B48F50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9720-942C-42B9-B73E-5C46369B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63D3-D76E-4500-AC27-2881EFD6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31E2-D3D6-4CC1-8C49-01D8CA0B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3803E-C9ED-41B6-9E58-58405624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D6B2-2E70-4CA5-8521-9FF80DA0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7624-C6A6-40B1-BA8C-4C344D55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26C-D4DF-4118-AC1C-527672F6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A9E7-3DD6-458E-AC4C-B536B7B5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9934A-8474-4E1A-A956-2FC33A09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1403-75C4-46C5-9702-664BBBCA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5640-0C77-455F-BFA8-CA33CD3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6F80D-8966-4C51-9139-3AFD88D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496CE-1E8F-4799-97AC-3F17AF0A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17F11-7009-4E0D-A0B1-3993E3B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699C-5752-40F5-93A5-44E2146D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01B4-E216-4E11-A27D-2248A9F2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CB0-9394-4998-BDB5-D58F8979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E71-FE3E-45D7-B762-C1F8DA12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5CE-3A21-447B-BA8C-2AE8ABB6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84D-E798-416E-B2AF-00865056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048-84A9-453B-AE0F-D9A6F242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6015-4EAF-4D84-927F-04CE17EE7B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77AC-96E9-40D9-87A5-55F826343F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B34C-C740-4D8C-AC0F-D02B1134D10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1219-6E4A-4E78-B9FB-5DE91FD89D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109440"/>
            <a:ext cx="7785000" cy="480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71611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знавательный проект по нравственно-патриотическому воспитанию «День Победы!»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средней групп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и: Ляховченко Л.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кова Н.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7 год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ЛЕПКА: «ВОЕННАЯ ТЕНИКА.ВЕРТОЛЕТЫ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D:\фото\Новая папка фо\IMG_20170214_100708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D:\фото\Новая папка фо\IMG_20170214_100311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РАСКРАШИВАНИЕ: «ВОЕННАЯ ТЕНИКА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D:\фото\Новая папка фо\IMG_20170207_161015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D:\фото\Новая папка фо\IMG_20170207_154443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37960" y="701640"/>
            <a:ext cx="858204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ЗДРАВИТЕЛЬНЫЕ ОТКРЫТКИ ВЕТЕРАНАМ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5" descr="C:\Users\432\Desktop\ср гр 17\WP_20170505_12_31_08_Pro__highres.jpg"/>
          <p:cNvPicPr/>
          <p:nvPr/>
        </p:nvPicPr>
        <p:blipFill>
          <a:blip r:embed="rId1"/>
          <a:stretch/>
        </p:blipFill>
        <p:spPr>
          <a:xfrm>
            <a:off x="1547640" y="2060640"/>
            <a:ext cx="6120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РАЗДНИЧНОЕ МЕРОПРИЯТИЕ</a:t>
            </a:r>
            <a:br>
              <a:rPr sz="2800"/>
            </a:b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«ДЕНЬ ПОБЕДЫ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C:\Users\432\Desktop\ср гр 17\WP_20170504_09_48_55_Pro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6720" cy="2233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432\Desktop\ср гр 17\WP_20170504_10_15_09_Pro.jpg"/>
          <p:cNvPicPr/>
          <p:nvPr/>
        </p:nvPicPr>
        <p:blipFill>
          <a:blip r:embed="rId2"/>
          <a:stretch/>
        </p:blipFill>
        <p:spPr>
          <a:xfrm>
            <a:off x="4643280" y="1916280"/>
            <a:ext cx="4321440" cy="223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432\Desktop\ср гр 17\WP_20170504_10_15_36_Pro.jpg"/>
          <p:cNvPicPr/>
          <p:nvPr/>
        </p:nvPicPr>
        <p:blipFill>
          <a:blip r:embed="rId3"/>
          <a:stretch/>
        </p:blipFill>
        <p:spPr>
          <a:xfrm>
            <a:off x="324000" y="4292640"/>
            <a:ext cx="4176720" cy="208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432\Desktop\ср гр 17\WP_20170504_10_04_43_Pro.jpg"/>
          <p:cNvPicPr/>
          <p:nvPr/>
        </p:nvPicPr>
        <p:blipFill>
          <a:blip r:embed="rId4"/>
          <a:stretch/>
        </p:blipFill>
        <p:spPr>
          <a:xfrm>
            <a:off x="4716360" y="4292640"/>
            <a:ext cx="41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3152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Лора\День Победы.jpg"/>
          <p:cNvPicPr/>
          <p:nvPr/>
        </p:nvPicPr>
        <p:blipFill>
          <a:blip r:embed="rId1"/>
          <a:stretch/>
        </p:blipFill>
        <p:spPr>
          <a:xfrm>
            <a:off x="1258920" y="692280"/>
            <a:ext cx="6985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6742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684360" y="365400"/>
            <a:ext cx="7991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ff"/>
                </a:solidFill>
                <a:uFillTx/>
                <a:latin typeface="Times New Roman"/>
                <a:ea typeface="Times New Roman"/>
              </a:rPr>
              <a:t>Тип 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виду деятельности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 познавательно-продуктив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числу участников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 групповой, средняя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времени проведения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 краткосрочный,1 нед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форме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 интегративный </a:t>
            </a: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(познание, коммуникация, чтение художественной  литературы, речевое развитие, художественно-эстетическое творчест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Участники проекта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 дети, родители, воспитатели, музыкальный руковод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674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5712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37960" y="396720"/>
            <a:ext cx="845532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5486400" cy="42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92360" y="333000"/>
            <a:ext cx="5486400" cy="10126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ЭТАПЫ РАБОТ НАД ПРОЕКТ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Картинки по запросу день победы картинки для детей"/>
          <p:cNvPicPr/>
          <p:nvPr/>
        </p:nvPicPr>
        <p:blipFill>
          <a:blip r:embed="rId1"/>
          <a:srcRect l="5945" t="0" r="5945" b="0"/>
          <a:stretch/>
        </p:blipFill>
        <p:spPr>
          <a:xfrm>
            <a:off x="2050920" y="2092320"/>
            <a:ext cx="561672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51544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4T17:19:04Z</dcterms:created>
  <dc:creator>Юра</dc:creator>
  <dc:description/>
  <dc:language>en-US</dc:language>
  <cp:lastModifiedBy>Юра</cp:lastModifiedBy>
  <dcterms:modified xsi:type="dcterms:W3CDTF">2017-05-14T19:21:11Z</dcterms:modified>
  <cp:revision>16</cp:revision>
  <dc:subject/>
  <dc:title>Слайд 1</dc:title>
</cp:coreProperties>
</file>