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99F-185D-46F8-9983-A1771039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651-2B2B-4B1F-80F0-19E257F5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E5A-DFBA-4BC3-9EE1-1BC91CD8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403-B7C1-4A78-87BF-02EFA6EC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0805-CBD3-4183-852F-4E356BFD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8268-84C0-4120-BE1D-69A8BBA0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BF5F-4EEA-46F6-B74B-7A0D4374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6074-4F9B-4A9A-B90A-21B0B66F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0C4A-482B-4B72-B3C6-59BADE47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1111-8DA5-4CE3-B093-2AE9C65E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463E-793B-4E86-81D0-3F79352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680-5BDD-4F8C-8814-65AFFB66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4090-7744-46C7-B231-228E6C6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338B-3953-4E45-9023-E9B568B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E0F8-0771-41D0-9DDE-8B023100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1519-9DED-473D-B313-B8BA9DAF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9302-3117-4AD5-B7E6-299ED852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4CCF-3AF7-4687-BCE6-64232164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5F60-CAAA-4335-8A16-5CAA35C3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938F-EBA7-4BF7-8938-7DB7F4B5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FA42-EA1D-4B9B-9910-37AB3183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BF9B-AFED-42FD-A2CB-B14A05F1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78F-3829-46D3-AD8D-DAADB28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AA43-1D9B-43D9-A8A3-A8FBA885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6452-6319-4023-AA02-26CDB842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BB119-4368-4C7A-B80C-17AA64F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BAAE-0C79-4A06-A608-9EDBB2BF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0E8C-2648-4D69-94F1-5574B05E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2791-0B2F-4EB1-BBF1-FA9C56D7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1857-0038-4AC3-BD1B-331FB529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D6F2-DC91-497C-84F1-8B5F26D6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7B4D-B1EF-4A92-BA0E-20F116A7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C95F-BC9F-44B4-BDCC-F760B936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534-33D4-4D54-AE8A-56C1FF78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BCB8-92B0-4CD4-93D1-E05C835C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60744-CB2C-4728-955D-EAD58743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AB6EE-5BBF-41BF-BCA6-423CF2EC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7532-CAEA-43BE-B7A6-C5C15A12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AF841-E115-48A4-B070-E446B5C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F071-FD45-47AA-BAA4-0C5B332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208D-C1B2-401F-8B6A-4C624308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9DC12-C69A-4FB3-A0F7-EDC63F2D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5C31-7CC7-49B8-8DBE-156AC22A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80C-2501-4B33-91CB-FB89B6E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0D5-2C0F-44F4-9604-7BDF0A1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20F-8980-46FF-AEA2-654D19C0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008-8239-48FA-A11E-46AA546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CF2-D568-449F-A0C2-F4682705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0977-01D0-429D-B4C7-628F61DEEC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6F08-AAAE-4949-8E51-DE5B03656B5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4BB3-BF90-4740-B4F3-1022259697A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8CDC-37CB-4105-8623-DC024719628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109440"/>
            <a:ext cx="7785000" cy="480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71611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знавательный проект по нравственно-патриотическому воспитанию «День Победы!»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средней групп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и: Ляховченко Л.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кова Н.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7 год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ЛЕПКА: «ВОЕННАЯ ТЕНИКА.ВЕРТОЛЕТЫ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D:\фото\Новая папка фо\IMG_20170214_100708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D:\фото\Новая папка фо\IMG_20170214_100311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РАСКРАШИВАНИЕ: «ВОЕННАЯ ТЕНИКА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D:\фото\Новая папка фо\IMG_20170207_161015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D:\фото\Новая папка фо\IMG_20170207_154443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37960" y="701640"/>
            <a:ext cx="858204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ЗДРАВИТЕЛЬНЫЕ ОТКРЫТКИ ВЕТЕРАНАМ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5" descr="C:\Users\432\Desktop\ср гр 17\WP_20170505_12_31_08_Pro__highres.jpg"/>
          <p:cNvPicPr/>
          <p:nvPr/>
        </p:nvPicPr>
        <p:blipFill>
          <a:blip r:embed="rId1"/>
          <a:stretch/>
        </p:blipFill>
        <p:spPr>
          <a:xfrm>
            <a:off x="1547640" y="2060640"/>
            <a:ext cx="6120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РАЗДНИЧНОЕ МЕРОПРИЯТИЕ</a:t>
            </a:r>
            <a:br>
              <a:rPr sz="2800"/>
            </a:b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«ДЕНЬ ПОБЕДЫ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C:\Users\432\Desktop\ср гр 17\WP_20170504_09_48_55_Pro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6720" cy="2233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432\Desktop\ср гр 17\WP_20170504_10_15_09_Pro.jpg"/>
          <p:cNvPicPr/>
          <p:nvPr/>
        </p:nvPicPr>
        <p:blipFill>
          <a:blip r:embed="rId2"/>
          <a:stretch/>
        </p:blipFill>
        <p:spPr>
          <a:xfrm>
            <a:off x="4643280" y="1916280"/>
            <a:ext cx="4321440" cy="223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432\Desktop\ср гр 17\WP_20170504_10_15_36_Pro.jpg"/>
          <p:cNvPicPr/>
          <p:nvPr/>
        </p:nvPicPr>
        <p:blipFill>
          <a:blip r:embed="rId3"/>
          <a:stretch/>
        </p:blipFill>
        <p:spPr>
          <a:xfrm>
            <a:off x="324000" y="4292640"/>
            <a:ext cx="4176720" cy="208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432\Desktop\ср гр 17\WP_20170504_10_04_43_Pro.jpg"/>
          <p:cNvPicPr/>
          <p:nvPr/>
        </p:nvPicPr>
        <p:blipFill>
          <a:blip r:embed="rId4"/>
          <a:stretch/>
        </p:blipFill>
        <p:spPr>
          <a:xfrm>
            <a:off x="4716360" y="4292640"/>
            <a:ext cx="41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3152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Лора\День Победы.jpg"/>
          <p:cNvPicPr/>
          <p:nvPr/>
        </p:nvPicPr>
        <p:blipFill>
          <a:blip r:embed="rId1"/>
          <a:stretch/>
        </p:blipFill>
        <p:spPr>
          <a:xfrm>
            <a:off x="1258920" y="692280"/>
            <a:ext cx="6985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6742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684360" y="365400"/>
            <a:ext cx="7991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ff"/>
                </a:solidFill>
                <a:uFillTx/>
                <a:latin typeface="Times New Roman"/>
                <a:ea typeface="Times New Roman"/>
              </a:rPr>
              <a:t>Тип 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виду деятельности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 познавательно-продуктив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числу участников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 групповой, средняя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времени проведения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 краткосрочный,1 нед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форме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 интегративный </a:t>
            </a: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(познание, коммуникация, чтение художественной  литературы, речевое развитие, художественно-эстетическое творчест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Участники проекта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 дети, родители, воспитатели, музыкальный руковод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674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5712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37960" y="396720"/>
            <a:ext cx="845532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5486400" cy="42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92360" y="333000"/>
            <a:ext cx="5486400" cy="10126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ЭТАПЫ РАБОТ НАД ПРОЕКТ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Картинки по запросу день победы картинки для детей"/>
          <p:cNvPicPr/>
          <p:nvPr/>
        </p:nvPicPr>
        <p:blipFill>
          <a:blip r:embed="rId1"/>
          <a:srcRect l="5945" t="0" r="5945" b="0"/>
          <a:stretch/>
        </p:blipFill>
        <p:spPr>
          <a:xfrm>
            <a:off x="2050920" y="2092320"/>
            <a:ext cx="561672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51544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4T17:19:04Z</dcterms:created>
  <dc:creator>Юра</dc:creator>
  <dc:description/>
  <dc:language>en-US</dc:language>
  <cp:lastModifiedBy>Юра</cp:lastModifiedBy>
  <dcterms:modified xsi:type="dcterms:W3CDTF">2017-05-14T19:21:11Z</dcterms:modified>
  <cp:revision>16</cp:revision>
  <dc:subject/>
  <dc:title>Слайд 1</dc:title>
</cp:coreProperties>
</file>