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CFF2E-628D-43D7-9270-717021EED9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3E3ED-1761-4AB6-BD73-436FED7E9C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15E68-4A4F-4101-BB6B-A7137DDCDB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274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0904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462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274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0904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B309C-D545-4DC3-A1A0-4DCEB0051C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D49D1-AD29-4635-9647-6626519C561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D998D-9ACA-485B-B443-284F10DD28C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A6BDB-F057-4FA9-BA5B-9C3BA4A61D3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FA511-AFC9-4096-954A-8A7877C8AD3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1266B-149D-4586-A066-0299B35AC0F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71040" y="635040"/>
            <a:ext cx="78058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625B0-4398-446E-8E33-B55818E4FDB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BBB18-AD74-480F-AF7D-7EE09ACCC4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E60CF-6479-4EAE-B117-C085B44151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EDDFA-AE7F-4857-9AE0-F2BA5352BFE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6CD22-5A47-4250-9A3F-4CC98E548EE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B44ED-4884-4AEB-B5BE-EC5D06A3710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72A2F-FE15-409D-907A-55A3C8FC2B8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274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0904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7462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274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0904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9BB47-3981-46E7-9A9F-7DBA07FA6DC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0C3FF-D3BD-4DBA-9279-867DB57A93D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71040" y="635040"/>
            <a:ext cx="78058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274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904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7462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274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904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B40CB-72AA-477A-8EBF-C48E436D20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67753-93ED-4605-B796-5F051B7F99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71040" y="635040"/>
            <a:ext cx="78058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A8FAD-D039-4040-AA58-B3CA438271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C6499-321A-4B8E-B164-2728406C89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CCA33-550E-47B1-9AE3-0B4C3BCFFD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FD8A8-1841-49A7-9C19-63170FCE0D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-1908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0896E1-62A4-44B9-A3A8-560D614E8039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1440"/>
          </a:xfrm>
          <a:prstGeom prst="line">
            <a:avLst/>
          </a:prstGeom>
          <a:ln cap="sq"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228600" y="2889360"/>
            <a:ext cx="8607600" cy="198360"/>
            <a:chOff x="228600" y="2889360"/>
            <a:chExt cx="8607600" cy="198360"/>
          </a:xfrm>
        </p:grpSpPr>
        <p:sp>
          <p:nvSpPr>
            <p:cNvPr id="46" name=""/>
            <p:cNvSpPr/>
            <p:nvPr/>
          </p:nvSpPr>
          <p:spPr>
            <a:xfrm>
              <a:off x="228600" y="2889360"/>
              <a:ext cx="2867040" cy="19836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98880" y="2889360"/>
              <a:ext cx="2867040" cy="1983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969160" y="2889360"/>
              <a:ext cx="2867040" cy="19836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-1908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EF8610F-DAA9-4414-A99A-0C82FD26460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20720" y="1079640"/>
            <a:ext cx="7772400" cy="21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58920" indent="-357480" algn="ctr">
              <a:lnSpc>
                <a:spcPct val="100000"/>
              </a:lnSpc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b84747"/>
                </a:solidFill>
                <a:latin typeface="Comic Sans MS"/>
              </a:rPr>
              <a:t>Творческий проект: </a:t>
            </a:r>
            <a:br>
              <a:rPr sz="4000"/>
            </a:br>
            <a:r>
              <a:rPr b="1" lang="ru-RU" sz="4000" spc="-1" strike="noStrike">
                <a:solidFill>
                  <a:srgbClr val="b84747"/>
                </a:solidFill>
                <a:latin typeface="Comic Sans MS"/>
              </a:rPr>
              <a:t>«Юбка. Конструирование»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1374840" y="4125960"/>
            <a:ext cx="6400800" cy="13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420e"/>
                </a:solidFill>
                <a:latin typeface="Garamond"/>
              </a:rPr>
              <a:t>Выполнила Гимбатова Диана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420e"/>
                </a:solidFill>
                <a:latin typeface="Garamond"/>
              </a:rPr>
              <a:t>ученица  6 «А» класса ГБОУ СОШ № 12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420e"/>
                </a:solidFill>
                <a:latin typeface="Garamond"/>
              </a:rPr>
              <a:t>2013 г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57200" y="166680"/>
            <a:ext cx="807552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58920" indent="-357480" algn="ctr">
              <a:lnSpc>
                <a:spcPct val="100000"/>
              </a:lnSpc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99284c"/>
                </a:solidFill>
                <a:latin typeface="Comic Sans MS"/>
              </a:rPr>
              <a:t>Последовательность изготовления изделия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2060640"/>
            <a:ext cx="4040280" cy="40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68440" indent="-568440">
              <a:lnSpc>
                <a:spcPct val="80000"/>
              </a:lnSpc>
              <a:spcBef>
                <a:spcPts val="425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89d08"/>
                </a:solidFill>
                <a:latin typeface="Comic Sans MS"/>
              </a:rPr>
              <a:t>Сниму с себя мерки и построю чертёж прямой юбк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68440" indent="-568440">
              <a:lnSpc>
                <a:spcPct val="80000"/>
              </a:lnSpc>
              <a:spcBef>
                <a:spcPts val="425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89d08"/>
                </a:solidFill>
                <a:latin typeface="Comic Sans MS"/>
              </a:rPr>
              <a:t>По основному чертежу прямой юбки выполню моделирование в соответствии с выбранной моделью. Изготовлю выкройку и выполню раскрой юбк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68440" indent="-568440">
              <a:lnSpc>
                <a:spcPct val="80000"/>
              </a:lnSpc>
              <a:spcBef>
                <a:spcPts val="425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89d08"/>
                </a:solidFill>
                <a:latin typeface="Comic Sans MS"/>
              </a:rPr>
              <a:t>Подготовлю ткань к раскрою и выполню раскрой юбк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68440" indent="-568440">
              <a:lnSpc>
                <a:spcPct val="80000"/>
              </a:lnSpc>
              <a:spcBef>
                <a:spcPts val="425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89d08"/>
                </a:solidFill>
                <a:latin typeface="Comic Sans MS"/>
              </a:rPr>
              <a:t>Подготовлю детали юбки к смётыванию и юбку к примерке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68440" indent="-568440">
              <a:lnSpc>
                <a:spcPct val="80000"/>
              </a:lnSpc>
              <a:spcBef>
                <a:spcPts val="425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89d08"/>
                </a:solidFill>
                <a:latin typeface="Comic Sans MS"/>
              </a:rPr>
              <a:t>Проведу примерку юбки и исправлю дефекты, если они возникнут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4646520" y="2060640"/>
            <a:ext cx="4040280" cy="40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5800" indent="-41580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415800"/>
                <a:tab algn="l" pos="863640"/>
                <a:tab algn="l" pos="1312920"/>
                <a:tab algn="l" pos="1762200"/>
                <a:tab algn="l" pos="2211480"/>
                <a:tab algn="l" pos="2660760"/>
                <a:tab algn="l" pos="3110040"/>
                <a:tab algn="l" pos="3559320"/>
                <a:tab algn="l" pos="4008600"/>
                <a:tab algn="l" pos="4457880"/>
                <a:tab algn="l" pos="4906800"/>
                <a:tab algn="l" pos="5356080"/>
                <a:tab algn="l" pos="5805360"/>
                <a:tab algn="l" pos="6254640"/>
                <a:tab algn="l" pos="6703920"/>
                <a:tab algn="l" pos="7153200"/>
                <a:tab algn="l" pos="7602480"/>
                <a:tab algn="l" pos="8051760"/>
                <a:tab algn="l" pos="8501040"/>
                <a:tab algn="l" pos="8950320"/>
                <a:tab algn="l" pos="9399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89d08"/>
                </a:solidFill>
                <a:latin typeface="Comic Sans MS"/>
              </a:rPr>
              <a:t>Обработаю вытачк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15800" indent="-41580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415800"/>
                <a:tab algn="l" pos="863640"/>
                <a:tab algn="l" pos="1312920"/>
                <a:tab algn="l" pos="1762200"/>
                <a:tab algn="l" pos="2211480"/>
                <a:tab algn="l" pos="2660760"/>
                <a:tab algn="l" pos="3110040"/>
                <a:tab algn="l" pos="3559320"/>
                <a:tab algn="l" pos="4008600"/>
                <a:tab algn="l" pos="4457880"/>
                <a:tab algn="l" pos="4906800"/>
                <a:tab algn="l" pos="5356080"/>
                <a:tab algn="l" pos="5805360"/>
                <a:tab algn="l" pos="6254640"/>
                <a:tab algn="l" pos="6703920"/>
                <a:tab algn="l" pos="7153200"/>
                <a:tab algn="l" pos="7602480"/>
                <a:tab algn="l" pos="8051760"/>
                <a:tab algn="l" pos="8501040"/>
                <a:tab algn="l" pos="8950320"/>
                <a:tab algn="l" pos="9399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89d08"/>
                </a:solidFill>
                <a:latin typeface="Comic Sans MS"/>
              </a:rPr>
              <a:t>Обработаю боковые срезы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15800" indent="-41580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415800"/>
                <a:tab algn="l" pos="863640"/>
                <a:tab algn="l" pos="1312920"/>
                <a:tab algn="l" pos="1762200"/>
                <a:tab algn="l" pos="2211480"/>
                <a:tab algn="l" pos="2660760"/>
                <a:tab algn="l" pos="3110040"/>
                <a:tab algn="l" pos="3559320"/>
                <a:tab algn="l" pos="4008600"/>
                <a:tab algn="l" pos="4457880"/>
                <a:tab algn="l" pos="4906800"/>
                <a:tab algn="l" pos="5356080"/>
                <a:tab algn="l" pos="5805360"/>
                <a:tab algn="l" pos="6254640"/>
                <a:tab algn="l" pos="6703920"/>
                <a:tab algn="l" pos="7153200"/>
                <a:tab algn="l" pos="7602480"/>
                <a:tab algn="l" pos="8051760"/>
                <a:tab algn="l" pos="8501040"/>
                <a:tab algn="l" pos="8950320"/>
                <a:tab algn="l" pos="9399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89d08"/>
                </a:solidFill>
                <a:latin typeface="Comic Sans MS"/>
              </a:rPr>
              <a:t>Обработаю застёжку в левом боковом шве юбки тесьмой- молнией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15800" indent="-41580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415800"/>
                <a:tab algn="l" pos="863640"/>
                <a:tab algn="l" pos="1312920"/>
                <a:tab algn="l" pos="1762200"/>
                <a:tab algn="l" pos="2211480"/>
                <a:tab algn="l" pos="2660760"/>
                <a:tab algn="l" pos="3110040"/>
                <a:tab algn="l" pos="3559320"/>
                <a:tab algn="l" pos="4008600"/>
                <a:tab algn="l" pos="4457880"/>
                <a:tab algn="l" pos="4906800"/>
                <a:tab algn="l" pos="5356080"/>
                <a:tab algn="l" pos="5805360"/>
                <a:tab algn="l" pos="6254640"/>
                <a:tab algn="l" pos="6703920"/>
                <a:tab algn="l" pos="7153200"/>
                <a:tab algn="l" pos="7602480"/>
                <a:tab algn="l" pos="8051760"/>
                <a:tab algn="l" pos="8501040"/>
                <a:tab algn="l" pos="8950320"/>
                <a:tab algn="l" pos="9399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89d08"/>
                </a:solidFill>
                <a:latin typeface="Comic Sans MS"/>
              </a:rPr>
              <a:t>Обработаю пояс, обработаю верхний срез юбки притачным поясом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15800" indent="-41580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415800"/>
                <a:tab algn="l" pos="863640"/>
                <a:tab algn="l" pos="1312920"/>
                <a:tab algn="l" pos="1762200"/>
                <a:tab algn="l" pos="2211480"/>
                <a:tab algn="l" pos="2660760"/>
                <a:tab algn="l" pos="3110040"/>
                <a:tab algn="l" pos="3559320"/>
                <a:tab algn="l" pos="4008600"/>
                <a:tab algn="l" pos="4457880"/>
                <a:tab algn="l" pos="4906800"/>
                <a:tab algn="l" pos="5356080"/>
                <a:tab algn="l" pos="5805360"/>
                <a:tab algn="l" pos="6254640"/>
                <a:tab algn="l" pos="6703920"/>
                <a:tab algn="l" pos="7153200"/>
                <a:tab algn="l" pos="7602480"/>
                <a:tab algn="l" pos="8051760"/>
                <a:tab algn="l" pos="8501040"/>
                <a:tab algn="l" pos="8950320"/>
                <a:tab algn="l" pos="9399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89d08"/>
                </a:solidFill>
                <a:latin typeface="Comic Sans MS"/>
              </a:rPr>
              <a:t>Обработаю нижний срез юбки швом вподгибку с закрытым срезом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15800" indent="-41580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415800"/>
                <a:tab algn="l" pos="863640"/>
                <a:tab algn="l" pos="1312920"/>
                <a:tab algn="l" pos="1762200"/>
                <a:tab algn="l" pos="2211480"/>
                <a:tab algn="l" pos="2660760"/>
                <a:tab algn="l" pos="3110040"/>
                <a:tab algn="l" pos="3559320"/>
                <a:tab algn="l" pos="4008600"/>
                <a:tab algn="l" pos="4457880"/>
                <a:tab algn="l" pos="4906800"/>
                <a:tab algn="l" pos="5356080"/>
                <a:tab algn="l" pos="5805360"/>
                <a:tab algn="l" pos="6254640"/>
                <a:tab algn="l" pos="6703920"/>
                <a:tab algn="l" pos="7153200"/>
                <a:tab algn="l" pos="7602480"/>
                <a:tab algn="l" pos="8051760"/>
                <a:tab algn="l" pos="8501040"/>
                <a:tab algn="l" pos="8950320"/>
                <a:tab algn="l" pos="9399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89d08"/>
                </a:solidFill>
                <a:latin typeface="Comic Sans MS"/>
              </a:rPr>
              <a:t>Обработаю петлю и пришью пуговицу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15800" indent="-4158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15800"/>
                <a:tab algn="l" pos="863640"/>
                <a:tab algn="l" pos="1312920"/>
                <a:tab algn="l" pos="1762200"/>
                <a:tab algn="l" pos="2211480"/>
                <a:tab algn="l" pos="2660760"/>
                <a:tab algn="l" pos="3110040"/>
                <a:tab algn="l" pos="3559320"/>
                <a:tab algn="l" pos="4008600"/>
                <a:tab algn="l" pos="4457880"/>
                <a:tab algn="l" pos="4906800"/>
                <a:tab algn="l" pos="5356080"/>
                <a:tab algn="l" pos="5805360"/>
                <a:tab algn="l" pos="6254640"/>
                <a:tab algn="l" pos="6703920"/>
                <a:tab algn="l" pos="7153200"/>
                <a:tab algn="l" pos="7602480"/>
                <a:tab algn="l" pos="8051760"/>
                <a:tab algn="l" pos="8501040"/>
                <a:tab algn="l" pos="8950320"/>
                <a:tab algn="l" pos="9399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24000" y="-1126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58920" indent="-357480" algn="ctr">
              <a:lnSpc>
                <a:spcPct val="100000"/>
              </a:lnSpc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omic Sans MS"/>
              </a:rPr>
              <a:t>Экономическое обоснование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84360" y="1484280"/>
            <a:ext cx="7770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01480" indent="-430200">
              <a:lnSpc>
                <a:spcPct val="100000"/>
              </a:lnSpc>
              <a:spcBef>
                <a:spcPts val="476"/>
              </a:spcBef>
              <a:buClr>
                <a:srgbClr val="99284c"/>
              </a:buClr>
              <a:buFont typeface="Wingdings" charset="2"/>
              <a:buChar char=""/>
              <a:tabLst>
                <a:tab algn="l" pos="501480"/>
                <a:tab algn="l" pos="949320"/>
                <a:tab algn="l" pos="1398600"/>
                <a:tab algn="l" pos="1847880"/>
                <a:tab algn="l" pos="2297160"/>
                <a:tab algn="l" pos="2746440"/>
                <a:tab algn="l" pos="3195720"/>
                <a:tab algn="l" pos="3645000"/>
                <a:tab algn="l" pos="4094280"/>
                <a:tab algn="l" pos="4543560"/>
                <a:tab algn="l" pos="4992840"/>
                <a:tab algn="l" pos="5442120"/>
                <a:tab algn="l" pos="5891040"/>
                <a:tab algn="l" pos="6340320"/>
                <a:tab algn="l" pos="6789600"/>
                <a:tab algn="l" pos="7238880"/>
                <a:tab algn="l" pos="7688160"/>
                <a:tab algn="l" pos="8137440"/>
                <a:tab algn="l" pos="8586720"/>
                <a:tab algn="l" pos="903600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f89d08"/>
                </a:solidFill>
                <a:latin typeface="Comic Sans MS"/>
              </a:rPr>
              <a:t>Мой расчёт затрат на материалы для изготовления юбки: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755640" y="2205000"/>
          <a:ext cx="7488360" cy="3768840"/>
        </p:xfrm>
        <a:graphic>
          <a:graphicData uri="http://schemas.openxmlformats.org/drawingml/2006/table">
            <a:tbl>
              <a:tblPr/>
              <a:tblGrid>
                <a:gridCol w="1754280"/>
                <a:gridCol w="1752480"/>
                <a:gridCol w="1965240"/>
                <a:gridCol w="2016360"/>
              </a:tblGrid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c00000"/>
                          </a:solidFill>
                          <a:uFillTx/>
                          <a:latin typeface="Verdana"/>
                        </a:rPr>
                        <a:t>Наименование материал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c00000"/>
                          </a:solidFill>
                          <a:uFillTx/>
                          <a:latin typeface="Verdana"/>
                        </a:rPr>
                        <a:t>Условная це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c00000"/>
                          </a:solidFill>
                          <a:uFillTx/>
                          <a:latin typeface="Verdana"/>
                        </a:rPr>
                        <a:t>Расход материала (шт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c00000"/>
                          </a:solidFill>
                          <a:uFillTx/>
                          <a:latin typeface="Verdana"/>
                        </a:rPr>
                        <a:t>Затраты на материал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Костюмно- платьевая тка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120руб. за 1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1м 20см (ширина ткани 1м 40см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144 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Нитки швейны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6руб. за катушк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1 катуш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6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Пуговица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3руб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1шт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3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Застёжка- мол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9руб. за 1шт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1шт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9ру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c00000"/>
                          </a:solidFill>
                          <a:uFillTx/>
                          <a:latin typeface="Verdana"/>
                        </a:rPr>
                        <a:t>Итого:                                                                              162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11280" y="614520"/>
            <a:ext cx="777708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58920" indent="-357480" algn="ctr">
              <a:lnSpc>
                <a:spcPct val="100000"/>
              </a:lnSpc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99284c"/>
                </a:solidFill>
                <a:latin typeface="Comic Sans MS"/>
              </a:rPr>
              <a:t>Изготовление изделия.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7480" algn="ctr">
              <a:lnSpc>
                <a:spcPct val="100000"/>
              </a:lnSpc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99284c"/>
                </a:solidFill>
                <a:latin typeface="Comic Sans MS"/>
              </a:rPr>
              <a:t>Контроль качества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2276640"/>
            <a:ext cx="8229600" cy="38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01480" indent="-430200">
              <a:lnSpc>
                <a:spcPct val="100000"/>
              </a:lnSpc>
              <a:spcBef>
                <a:spcPts val="550"/>
              </a:spcBef>
              <a:buClr>
                <a:srgbClr val="99284c"/>
              </a:buClr>
              <a:buFont typeface="Wingdings" charset="2"/>
              <a:buChar char=""/>
              <a:tabLst>
                <a:tab algn="l" pos="501480"/>
                <a:tab algn="l" pos="949320"/>
                <a:tab algn="l" pos="1398600"/>
                <a:tab algn="l" pos="1847880"/>
                <a:tab algn="l" pos="2297160"/>
                <a:tab algn="l" pos="2746440"/>
                <a:tab algn="l" pos="3195720"/>
                <a:tab algn="l" pos="3645000"/>
                <a:tab algn="l" pos="4094280"/>
                <a:tab algn="l" pos="4543560"/>
                <a:tab algn="l" pos="4992840"/>
                <a:tab algn="l" pos="5442120"/>
                <a:tab algn="l" pos="5891040"/>
                <a:tab algn="l" pos="6340320"/>
                <a:tab algn="l" pos="6789600"/>
                <a:tab algn="l" pos="7238880"/>
                <a:tab algn="l" pos="7688160"/>
                <a:tab algn="l" pos="8137440"/>
                <a:tab algn="l" pos="8586720"/>
                <a:tab algn="l" pos="903600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Comic Sans MS"/>
              </a:rPr>
              <a:t>Изготовлю юбку в той последовательности, которая изложена в учебнике технологии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501480" indent="-430200">
              <a:lnSpc>
                <a:spcPct val="100000"/>
              </a:lnSpc>
              <a:spcBef>
                <a:spcPts val="550"/>
              </a:spcBef>
              <a:buClr>
                <a:srgbClr val="99284c"/>
              </a:buClr>
              <a:buFont typeface="Wingdings" charset="2"/>
              <a:buChar char=""/>
              <a:tabLst>
                <a:tab algn="l" pos="501480"/>
                <a:tab algn="l" pos="949320"/>
                <a:tab algn="l" pos="1398600"/>
                <a:tab algn="l" pos="1847880"/>
                <a:tab algn="l" pos="2297160"/>
                <a:tab algn="l" pos="2746440"/>
                <a:tab algn="l" pos="3195720"/>
                <a:tab algn="l" pos="3645000"/>
                <a:tab algn="l" pos="4094280"/>
                <a:tab algn="l" pos="4543560"/>
                <a:tab algn="l" pos="4992840"/>
                <a:tab algn="l" pos="5442120"/>
                <a:tab algn="l" pos="5891040"/>
                <a:tab algn="l" pos="6340320"/>
                <a:tab algn="l" pos="6789600"/>
                <a:tab algn="l" pos="7238880"/>
                <a:tab algn="l" pos="7688160"/>
                <a:tab algn="l" pos="8137440"/>
                <a:tab algn="l" pos="8586720"/>
                <a:tab algn="l" pos="903600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Comic Sans MS"/>
              </a:rPr>
              <a:t>Учитель рассказывала на уроках технологии о критериях проверки и оценки качества проекта. Я самостоятельно  буду контролировать и оценивать качество своего проекта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58920" indent="-357480" algn="ctr">
              <a:lnSpc>
                <a:spcPct val="100000"/>
              </a:lnSpc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200" spc="-1" strike="noStrike">
                <a:solidFill>
                  <a:srgbClr val="99284c"/>
                </a:solidFill>
                <a:latin typeface="Comic Sans MS"/>
              </a:rPr>
              <a:t>Оформление проекта.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01480" indent="-430200">
              <a:lnSpc>
                <a:spcPct val="100000"/>
              </a:lnSpc>
              <a:spcBef>
                <a:spcPts val="550"/>
              </a:spcBef>
              <a:buClr>
                <a:srgbClr val="99284c"/>
              </a:buClr>
              <a:buFont typeface="Wingdings" charset="2"/>
              <a:buChar char=""/>
              <a:tabLst>
                <a:tab algn="l" pos="501480"/>
                <a:tab algn="l" pos="949320"/>
                <a:tab algn="l" pos="1398600"/>
                <a:tab algn="l" pos="1847880"/>
                <a:tab algn="l" pos="2297160"/>
                <a:tab algn="l" pos="2746440"/>
                <a:tab algn="l" pos="3195720"/>
                <a:tab algn="l" pos="3645000"/>
                <a:tab algn="l" pos="4094280"/>
                <a:tab algn="l" pos="4543560"/>
                <a:tab algn="l" pos="4992840"/>
                <a:tab algn="l" pos="5442120"/>
                <a:tab algn="l" pos="5891040"/>
                <a:tab algn="l" pos="6340320"/>
                <a:tab algn="l" pos="6789600"/>
                <a:tab algn="l" pos="7238880"/>
                <a:tab algn="l" pos="7688160"/>
                <a:tab algn="l" pos="8137440"/>
                <a:tab algn="l" pos="8586720"/>
                <a:tab algn="l" pos="903600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Comic Sans MS"/>
              </a:rPr>
              <a:t>Ознакомлюсь с требованиями к оформлению проекта и выполню всё, что нужно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58920" indent="-357480" algn="ctr">
              <a:lnSpc>
                <a:spcPct val="100000"/>
              </a:lnSpc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99284c"/>
                </a:solidFill>
                <a:latin typeface="Comic Sans MS"/>
              </a:rPr>
              <a:t>Самооценка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" y="1600200"/>
            <a:ext cx="771516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01480" indent="-430200">
              <a:lnSpc>
                <a:spcPct val="100000"/>
              </a:lnSpc>
              <a:spcBef>
                <a:spcPts val="550"/>
              </a:spcBef>
              <a:buClr>
                <a:srgbClr val="99284c"/>
              </a:buClr>
              <a:buFont typeface="Wingdings" charset="2"/>
              <a:buChar char=""/>
              <a:tabLst>
                <a:tab algn="l" pos="501480"/>
                <a:tab algn="l" pos="949320"/>
                <a:tab algn="l" pos="1398600"/>
                <a:tab algn="l" pos="1847880"/>
                <a:tab algn="l" pos="2297160"/>
                <a:tab algn="l" pos="2746440"/>
                <a:tab algn="l" pos="3195720"/>
                <a:tab algn="l" pos="3645000"/>
                <a:tab algn="l" pos="4094280"/>
                <a:tab algn="l" pos="4543560"/>
                <a:tab algn="l" pos="4992840"/>
                <a:tab algn="l" pos="5442120"/>
                <a:tab algn="l" pos="5891040"/>
                <a:tab algn="l" pos="6340320"/>
                <a:tab algn="l" pos="6789600"/>
                <a:tab algn="l" pos="7238880"/>
                <a:tab algn="l" pos="7688160"/>
                <a:tab algn="l" pos="8137440"/>
                <a:tab algn="l" pos="8586720"/>
                <a:tab algn="l" pos="903600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Comic Sans MS"/>
              </a:rPr>
              <a:t>Проанализирую этапы выполнения проекта. Всё ли из задуманного я сделала? Получится ли у меня проект? Довольна ли я им? Хочу ли я в нём что- нибудь исправить? Какие этапы выполнения проекта были для меня наиболее трудоёмкими? Какие знания и умения мне понадобились для изготовления проектного изделия?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501480" indent="-430200">
              <a:lnSpc>
                <a:spcPct val="100000"/>
              </a:lnSpc>
              <a:spcBef>
                <a:spcPts val="550"/>
              </a:spcBef>
              <a:buClr>
                <a:srgbClr val="99284c"/>
              </a:buClr>
              <a:buFont typeface="Wingdings" charset="2"/>
              <a:buChar char=""/>
              <a:tabLst>
                <a:tab algn="l" pos="501480"/>
                <a:tab algn="l" pos="949320"/>
                <a:tab algn="l" pos="1398600"/>
                <a:tab algn="l" pos="1847880"/>
                <a:tab algn="l" pos="2297160"/>
                <a:tab algn="l" pos="2746440"/>
                <a:tab algn="l" pos="3195720"/>
                <a:tab algn="l" pos="3645000"/>
                <a:tab algn="l" pos="4094280"/>
                <a:tab algn="l" pos="4543560"/>
                <a:tab algn="l" pos="4992840"/>
                <a:tab algn="l" pos="5442120"/>
                <a:tab algn="l" pos="5891040"/>
                <a:tab algn="l" pos="6340320"/>
                <a:tab algn="l" pos="6789600"/>
                <a:tab algn="l" pos="7238880"/>
                <a:tab algn="l" pos="7688160"/>
                <a:tab algn="l" pos="8137440"/>
                <a:tab algn="l" pos="8586720"/>
                <a:tab algn="l" pos="903600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Comic Sans MS"/>
              </a:rPr>
              <a:t>Я оцениваю свою работу на «отлично»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501480" indent="-430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01480"/>
                <a:tab algn="l" pos="949320"/>
                <a:tab algn="l" pos="1398600"/>
                <a:tab algn="l" pos="1847880"/>
                <a:tab algn="l" pos="2297160"/>
                <a:tab algn="l" pos="2746440"/>
                <a:tab algn="l" pos="3195720"/>
                <a:tab algn="l" pos="3645000"/>
                <a:tab algn="l" pos="4094280"/>
                <a:tab algn="l" pos="4543560"/>
                <a:tab algn="l" pos="4992840"/>
                <a:tab algn="l" pos="5442120"/>
                <a:tab algn="l" pos="5891040"/>
                <a:tab algn="l" pos="6340320"/>
                <a:tab algn="l" pos="6789600"/>
                <a:tab algn="l" pos="7238880"/>
                <a:tab algn="l" pos="7688160"/>
                <a:tab algn="l" pos="8137440"/>
                <a:tab algn="l" pos="8586720"/>
                <a:tab algn="l" pos="9036000"/>
                <a:tab algn="l" pos="94852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57200" y="576360"/>
            <a:ext cx="82296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58920" indent="-357480" algn="ctr">
              <a:lnSpc>
                <a:spcPct val="100000"/>
              </a:lnSpc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Comic Sans MS"/>
              </a:rPr>
              <a:t>Задачи проекта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612720" y="1763640"/>
            <a:ext cx="7883640" cy="50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68440" indent="-568440">
              <a:lnSpc>
                <a:spcPct val="80000"/>
              </a:lnSpc>
              <a:spcBef>
                <a:spcPts val="524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420e"/>
                </a:solidFill>
                <a:latin typeface="Comic Sans MS"/>
              </a:rPr>
              <a:t>Определение конкретной задачи и её формулировк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68440" indent="-568440">
              <a:lnSpc>
                <a:spcPct val="80000"/>
              </a:lnSpc>
              <a:spcBef>
                <a:spcPts val="524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420e"/>
                </a:solidFill>
                <a:latin typeface="Comic Sans MS"/>
              </a:rPr>
              <a:t>Выявление основных требований к изделию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68440" indent="-568440">
              <a:lnSpc>
                <a:spcPct val="80000"/>
              </a:lnSpc>
              <a:spcBef>
                <a:spcPts val="524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420e"/>
                </a:solidFill>
                <a:latin typeface="Comic Sans MS"/>
              </a:rPr>
              <a:t>Исследовани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68440" indent="-568440">
              <a:lnSpc>
                <a:spcPct val="80000"/>
              </a:lnSpc>
              <a:spcBef>
                <a:spcPts val="524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420e"/>
                </a:solidFill>
                <a:latin typeface="Comic Sans MS"/>
              </a:rPr>
              <a:t>Разработка идей, вариантов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68440" indent="-568440">
              <a:lnSpc>
                <a:spcPct val="80000"/>
              </a:lnSpc>
              <a:spcBef>
                <a:spcPts val="524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420e"/>
                </a:solidFill>
                <a:latin typeface="Comic Sans MS"/>
              </a:rPr>
              <a:t>Анализ идей и выбор лучшего вариант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68440" indent="-568440">
              <a:lnSpc>
                <a:spcPct val="80000"/>
              </a:lnSpc>
              <a:spcBef>
                <a:spcPts val="524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420e"/>
                </a:solidFill>
                <a:latin typeface="Comic Sans MS"/>
              </a:rPr>
              <a:t>Выбор ткани, инструментов, приспособлений оборудовани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68440" indent="-568440">
              <a:lnSpc>
                <a:spcPct val="80000"/>
              </a:lnSpc>
              <a:spcBef>
                <a:spcPts val="524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420e"/>
                </a:solidFill>
                <a:latin typeface="Comic Sans MS"/>
              </a:rPr>
              <a:t>Последовательность изготовления издели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68440" indent="-568440">
              <a:lnSpc>
                <a:spcPct val="80000"/>
              </a:lnSpc>
              <a:spcBef>
                <a:spcPts val="524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420e"/>
                </a:solidFill>
                <a:latin typeface="Comic Sans MS"/>
              </a:rPr>
              <a:t>Экономическое обоснование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68440" indent="-568440">
              <a:lnSpc>
                <a:spcPct val="80000"/>
              </a:lnSpc>
              <a:spcBef>
                <a:spcPts val="524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420e"/>
                </a:solidFill>
                <a:latin typeface="Comic Sans MS"/>
              </a:rPr>
              <a:t>Изготовление изделия. Контроль качеств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68440" indent="-568440">
              <a:lnSpc>
                <a:spcPct val="80000"/>
              </a:lnSpc>
              <a:spcBef>
                <a:spcPts val="524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420e"/>
                </a:solidFill>
                <a:latin typeface="Comic Sans MS"/>
              </a:rPr>
              <a:t>Оформление проект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68440" indent="-568440">
              <a:lnSpc>
                <a:spcPct val="80000"/>
              </a:lnSpc>
              <a:spcBef>
                <a:spcPts val="524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420e"/>
                </a:solidFill>
                <a:latin typeface="Comic Sans MS"/>
              </a:rPr>
              <a:t>Самооценк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57200" y="576360"/>
            <a:ext cx="822960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58920" indent="-357480" algn="ctr">
              <a:lnSpc>
                <a:spcPct val="100000"/>
              </a:lnSpc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800" spc="-1" strike="noStrike">
                <a:solidFill>
                  <a:srgbClr val="99284c"/>
                </a:solidFill>
                <a:latin typeface="Arial"/>
              </a:rPr>
              <a:t>Обоснование возникшей проблемы и потребности.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2017800"/>
            <a:ext cx="4065840" cy="41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03280" indent="-43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03280"/>
                <a:tab algn="l" pos="950760"/>
                <a:tab algn="l" pos="1400040"/>
                <a:tab algn="l" pos="1849320"/>
                <a:tab algn="l" pos="2298600"/>
                <a:tab algn="l" pos="2747880"/>
                <a:tab algn="l" pos="3197160"/>
                <a:tab algn="l" pos="3646440"/>
                <a:tab algn="l" pos="4095720"/>
                <a:tab algn="l" pos="4545000"/>
                <a:tab algn="l" pos="4994280"/>
                <a:tab algn="l" pos="5443560"/>
                <a:tab algn="l" pos="5892840"/>
                <a:tab algn="l" pos="6342120"/>
                <a:tab algn="l" pos="6791400"/>
                <a:tab algn="l" pos="7240680"/>
                <a:tab algn="l" pos="7689960"/>
                <a:tab algn="l" pos="8139240"/>
                <a:tab algn="l" pos="8588520"/>
                <a:tab algn="l" pos="9037800"/>
                <a:tab algn="l" pos="94870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6633"/>
                </a:solidFill>
                <a:latin typeface="Comic Sans MS"/>
              </a:rPr>
              <a:t>      </a:t>
            </a:r>
            <a:r>
              <a:rPr b="0" lang="ru-RU" sz="1800" spc="-1" strike="noStrike">
                <a:solidFill>
                  <a:srgbClr val="ff6633"/>
                </a:solidFill>
                <a:latin typeface="Comic Sans MS"/>
              </a:rPr>
              <a:t>По программе «Технология» в 6 классе выполняется швейное изделие -  юбка. Мне необходимо было продумать все этапы технологического проектирования для последующего изготовления изделия и представить потребности в виде схемы размышлений. Вооружившись учебником и знаниями, полученными на уроках, приступила к проекту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4319640" y="2016000"/>
            <a:ext cx="4149720" cy="4173840"/>
            <a:chOff x="4319640" y="2016000"/>
            <a:chExt cx="4149720" cy="4173840"/>
          </a:xfrm>
        </p:grpSpPr>
        <p:sp>
          <p:nvSpPr>
            <p:cNvPr id="136" name=""/>
            <p:cNvSpPr/>
            <p:nvPr/>
          </p:nvSpPr>
          <p:spPr>
            <a:xfrm flipH="1" flipV="1">
              <a:off x="5633640" y="3090960"/>
              <a:ext cx="507960" cy="674640"/>
            </a:xfrm>
            <a:prstGeom prst="line">
              <a:avLst/>
            </a:prstGeom>
            <a:ln cap="sq"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950000" y="2332080"/>
              <a:ext cx="863280" cy="83484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Безопасность 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труда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5164200" y="3715920"/>
              <a:ext cx="820800" cy="258840"/>
            </a:xfrm>
            <a:prstGeom prst="line">
              <a:avLst/>
            </a:prstGeom>
            <a:ln cap="sq"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21080" y="3166920"/>
              <a:ext cx="863640" cy="8352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Ткань 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5164200" y="4235400"/>
              <a:ext cx="820800" cy="255600"/>
            </a:xfrm>
            <a:prstGeom prst="line">
              <a:avLst/>
            </a:prstGeom>
            <a:ln cap="sq"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19640" y="4200480"/>
              <a:ext cx="863640" cy="8352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Конструирование,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моделирование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5635440" y="4443480"/>
              <a:ext cx="507960" cy="668160"/>
            </a:xfrm>
            <a:prstGeom prst="line">
              <a:avLst/>
            </a:prstGeom>
            <a:ln cap="sq"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946760" y="5037120"/>
              <a:ext cx="863640" cy="8352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Модель 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397560" y="4522680"/>
              <a:ext cx="0" cy="825480"/>
            </a:xfrm>
            <a:prstGeom prst="line">
              <a:avLst/>
            </a:prstGeom>
            <a:ln cap="sq"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962680" y="5354640"/>
              <a:ext cx="863640" cy="8352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Мода, стиль, 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силуэт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651720" y="4441680"/>
              <a:ext cx="501480" cy="668520"/>
            </a:xfrm>
            <a:prstGeom prst="line">
              <a:avLst/>
            </a:prstGeom>
            <a:ln cap="sq"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78600" y="5037120"/>
              <a:ext cx="863640" cy="8352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Проблема,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потребность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07240" y="4232160"/>
              <a:ext cx="814320" cy="252360"/>
            </a:xfrm>
            <a:prstGeom prst="line">
              <a:avLst/>
            </a:prstGeom>
            <a:ln cap="sq"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605720" y="4200480"/>
              <a:ext cx="863640" cy="8352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Инструменты,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приспособления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6807240" y="3713040"/>
              <a:ext cx="814320" cy="260640"/>
            </a:xfrm>
            <a:prstGeom prst="line">
              <a:avLst/>
            </a:prstGeom>
            <a:ln cap="sq"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605720" y="3168720"/>
              <a:ext cx="863640" cy="83484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Оборудование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6649920" y="3088800"/>
              <a:ext cx="501840" cy="676440"/>
            </a:xfrm>
            <a:prstGeom prst="line">
              <a:avLst/>
            </a:prstGeom>
            <a:ln cap="sq"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978600" y="2335320"/>
              <a:ext cx="863640" cy="834840"/>
            </a:xfrm>
            <a:prstGeom prst="ellipse">
              <a:avLst/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Технология 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изготовления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6396120" y="2849400"/>
              <a:ext cx="0" cy="836640"/>
            </a:xfrm>
            <a:prstGeom prst="line">
              <a:avLst/>
            </a:prstGeom>
            <a:ln cap="sq"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62680" y="2016000"/>
              <a:ext cx="863640" cy="835200"/>
            </a:xfrm>
            <a:prstGeom prst="ellipse">
              <a:avLst/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Стоимость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материалов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962680" y="3686040"/>
              <a:ext cx="863640" cy="835200"/>
            </a:xfrm>
            <a:prstGeom prst="ellipse">
              <a:avLst/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600" spc="-1" strike="noStrike">
                  <a:solidFill>
                    <a:srgbClr val="b84747"/>
                  </a:solidFill>
                  <a:latin typeface="Arial"/>
                </a:rPr>
                <a:t>Юбка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936720" y="720720"/>
            <a:ext cx="73436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58920" indent="-357480" algn="ctr">
              <a:lnSpc>
                <a:spcPct val="100000"/>
              </a:lnSpc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99284c"/>
                </a:solidFill>
                <a:latin typeface="Comic Sans MS"/>
              </a:rPr>
              <a:t>Определение конкретной задачи и её формулировк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2664000"/>
            <a:ext cx="8229600" cy="34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420e"/>
                </a:solidFill>
                <a:latin typeface="Comic Sans MS"/>
              </a:rPr>
              <a:t>Когда я обосновала возникшую проблему и потребность, то определила: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9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420e"/>
                </a:solidFill>
                <a:latin typeface="Comic Sans MS"/>
              </a:rPr>
              <a:t>моя задача - изготовить юбку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76360" y="576360"/>
            <a:ext cx="777564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58920" indent="-357480" algn="ctr">
              <a:lnSpc>
                <a:spcPct val="100000"/>
              </a:lnSpc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99284c"/>
                </a:solidFill>
                <a:latin typeface="Comic Sans MS"/>
              </a:rPr>
              <a:t>Выявление основных требований </a:t>
            </a:r>
            <a:br>
              <a:rPr sz="2800"/>
            </a:br>
            <a:r>
              <a:rPr b="1" i="1" lang="ru-RU" sz="2800" spc="-1" strike="noStrike">
                <a:solidFill>
                  <a:srgbClr val="99284c"/>
                </a:solidFill>
                <a:latin typeface="Comic Sans MS"/>
              </a:rPr>
              <a:t>к изделию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303640"/>
            <a:ext cx="8229600" cy="38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68440" indent="-568440">
              <a:lnSpc>
                <a:spcPct val="100000"/>
              </a:lnSpc>
              <a:spcBef>
                <a:spcPts val="550"/>
              </a:spcBef>
              <a:buClr>
                <a:srgbClr val="666600"/>
              </a:buClr>
              <a:buFont typeface="Wingdings" charset="2"/>
              <a:buChar char="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ff420e"/>
                </a:solidFill>
                <a:latin typeface="Comic Sans MS"/>
              </a:rPr>
              <a:t>Какие требования я представляю к своему будущему изделию?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568440" indent="-568440">
              <a:lnSpc>
                <a:spcPct val="100000"/>
              </a:lnSpc>
              <a:spcBef>
                <a:spcPts val="476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9966"/>
                </a:solidFill>
                <a:latin typeface="Comic Sans MS"/>
              </a:rPr>
              <a:t>Юбка должна быть красивой и модной, соответствовать особенностям строения фигуры, назначению и внешнему облику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68440" indent="-568440">
              <a:lnSpc>
                <a:spcPct val="100000"/>
              </a:lnSpc>
              <a:spcBef>
                <a:spcPts val="476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9966"/>
                </a:solidFill>
                <a:latin typeface="Comic Sans MS"/>
              </a:rPr>
              <a:t>Конструкция юбки должна соответствовать выбранной модел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68440" indent="-568440">
              <a:lnSpc>
                <a:spcPct val="100000"/>
              </a:lnSpc>
              <a:spcBef>
                <a:spcPts val="476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9966"/>
                </a:solidFill>
                <a:latin typeface="Comic Sans MS"/>
              </a:rPr>
              <a:t>Юбка должна хорошо сидеть на фигуре, быть удобной в носке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68440" indent="-568440">
              <a:lnSpc>
                <a:spcPct val="100000"/>
              </a:lnSpc>
              <a:spcBef>
                <a:spcPts val="476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9966"/>
                </a:solidFill>
                <a:latin typeface="Comic Sans MS"/>
              </a:rPr>
              <a:t>Нужно, чтобы юбка была универсальной в носке и её можно было сочетать с нарядной и повседневной блузкой или жакетом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68440" indent="-568440">
              <a:lnSpc>
                <a:spcPct val="100000"/>
              </a:lnSpc>
              <a:spcBef>
                <a:spcPts val="476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9966"/>
                </a:solidFill>
                <a:latin typeface="Comic Sans MS"/>
              </a:rPr>
              <a:t>Изделие должно быть недорогим, но качественно изготовленным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57200" y="576360"/>
            <a:ext cx="82296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58920" indent="-357480" algn="ctr">
              <a:lnSpc>
                <a:spcPct val="100000"/>
              </a:lnSpc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99284c"/>
                </a:solidFill>
                <a:latin typeface="Comic Sans MS"/>
              </a:rPr>
              <a:t>Исследования, тенденции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201600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68440" indent="-568440">
              <a:lnSpc>
                <a:spcPct val="100000"/>
              </a:lnSpc>
              <a:spcBef>
                <a:spcPts val="649"/>
              </a:spcBef>
              <a:buClr>
                <a:srgbClr val="666600"/>
              </a:buClr>
              <a:buFont typeface="Wingdings" charset="2"/>
              <a:buChar char="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420e"/>
                </a:solidFill>
                <a:latin typeface="Comic Sans MS"/>
              </a:rPr>
              <a:t>Различают три основных стиля: классический, спортивный и романтический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68440" indent="-568440">
              <a:lnSpc>
                <a:spcPct val="100000"/>
              </a:lnSpc>
              <a:spcBef>
                <a:spcPts val="550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9966"/>
                </a:solidFill>
                <a:latin typeface="Comic Sans MS"/>
              </a:rPr>
              <a:t>К классическому стилю относят всё, что со временем почти не меняется, то что вне моды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68440" indent="-568440">
              <a:lnSpc>
                <a:spcPct val="100000"/>
              </a:lnSpc>
              <a:spcBef>
                <a:spcPts val="550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9966"/>
                </a:solidFill>
                <a:latin typeface="Comic Sans MS"/>
              </a:rPr>
              <a:t>Одежда спортивного стиля, как правило, свободного покроя. Она удобна для движений, для разнообразной работы, активного отдых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68440" indent="-568440">
              <a:lnSpc>
                <a:spcPct val="100000"/>
              </a:lnSpc>
              <a:spcBef>
                <a:spcPts val="550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9966"/>
                </a:solidFill>
                <a:latin typeface="Comic Sans MS"/>
              </a:rPr>
              <a:t>Романтический стиль- это лёгкость, мечтательность. В одежде используются элементы исторического, национального(фольклорного) костюма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57200" y="287280"/>
            <a:ext cx="82296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58920" indent="-357480" algn="ctr">
              <a:lnSpc>
                <a:spcPct val="100000"/>
              </a:lnSpc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99284c"/>
                </a:solidFill>
                <a:latin typeface="Comic Sans MS"/>
              </a:rPr>
              <a:t>Разработка идей, вариантов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1871640"/>
            <a:ext cx="4040280" cy="42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01480" indent="-430200">
              <a:lnSpc>
                <a:spcPct val="100000"/>
              </a:lnSpc>
              <a:spcBef>
                <a:spcPts val="451"/>
              </a:spcBef>
              <a:buClr>
                <a:srgbClr val="99284c"/>
              </a:buClr>
              <a:buFont typeface="Wingdings" charset="2"/>
              <a:buChar char=""/>
              <a:tabLst>
                <a:tab algn="l" pos="501480"/>
                <a:tab algn="l" pos="949320"/>
                <a:tab algn="l" pos="1398600"/>
                <a:tab algn="l" pos="1847880"/>
                <a:tab algn="l" pos="2297160"/>
                <a:tab algn="l" pos="2746440"/>
                <a:tab algn="l" pos="3195720"/>
                <a:tab algn="l" pos="3645000"/>
                <a:tab algn="l" pos="4094280"/>
                <a:tab algn="l" pos="4543560"/>
                <a:tab algn="l" pos="4992840"/>
                <a:tab algn="l" pos="5442120"/>
                <a:tab algn="l" pos="5891040"/>
                <a:tab algn="l" pos="6340320"/>
                <a:tab algn="l" pos="6789600"/>
                <a:tab algn="l" pos="7238880"/>
                <a:tab algn="l" pos="7688160"/>
                <a:tab algn="l" pos="8137440"/>
                <a:tab algn="l" pos="8586720"/>
                <a:tab algn="l" pos="903600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9966"/>
                </a:solidFill>
                <a:latin typeface="Comic Sans MS"/>
              </a:rPr>
              <a:t>Я выбрала юбку романтического стиля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01480" indent="-430200">
              <a:lnSpc>
                <a:spcPct val="100000"/>
              </a:lnSpc>
              <a:spcBef>
                <a:spcPts val="451"/>
              </a:spcBef>
              <a:buClr>
                <a:srgbClr val="99284c"/>
              </a:buClr>
              <a:buFont typeface="Wingdings" charset="2"/>
              <a:buChar char=""/>
              <a:tabLst>
                <a:tab algn="l" pos="501480"/>
                <a:tab algn="l" pos="949320"/>
                <a:tab algn="l" pos="1398600"/>
                <a:tab algn="l" pos="1847880"/>
                <a:tab algn="l" pos="2297160"/>
                <a:tab algn="l" pos="2746440"/>
                <a:tab algn="l" pos="3195720"/>
                <a:tab algn="l" pos="3645000"/>
                <a:tab algn="l" pos="4094280"/>
                <a:tab algn="l" pos="4543560"/>
                <a:tab algn="l" pos="4992840"/>
                <a:tab algn="l" pos="5442120"/>
                <a:tab algn="l" pos="5891040"/>
                <a:tab algn="l" pos="6340320"/>
                <a:tab algn="l" pos="6789600"/>
                <a:tab algn="l" pos="7238880"/>
                <a:tab algn="l" pos="7688160"/>
                <a:tab algn="l" pos="8137440"/>
                <a:tab algn="l" pos="8586720"/>
                <a:tab algn="l" pos="903600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9966"/>
                </a:solidFill>
                <a:latin typeface="Comic Sans MS"/>
              </a:rPr>
              <a:t>Юбка двухшовная, расширенная книзу. Застёжка- молния в левом боковом шве. Верхний срез юбки обработан притачным поясом, нижний- швом вподгибку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4967280" y="1944720"/>
            <a:ext cx="3392640" cy="4184640"/>
            <a:chOff x="4967280" y="1944720"/>
            <a:chExt cx="3392640" cy="4184640"/>
          </a:xfrm>
        </p:grpSpPr>
        <p:pic>
          <p:nvPicPr>
            <p:cNvPr id="166" name="" descr=""/>
            <p:cNvPicPr/>
            <p:nvPr/>
          </p:nvPicPr>
          <p:blipFill>
            <a:blip r:embed="rId1"/>
            <a:stretch/>
          </p:blipFill>
          <p:spPr>
            <a:xfrm>
              <a:off x="4967280" y="1944720"/>
              <a:ext cx="3392640" cy="41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4967280" y="1944720"/>
              <a:ext cx="3392640" cy="418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57200" y="-411120"/>
            <a:ext cx="8229600" cy="25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58920" indent="-357480" algn="ctr">
              <a:lnSpc>
                <a:spcPct val="100000"/>
              </a:lnSpc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99284c"/>
                </a:solidFill>
                <a:latin typeface="Comic Sans MS"/>
              </a:rPr>
              <a:t>Выбор ткани, инструментов, приспособлений оборудования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754200" y="2276640"/>
            <a:ext cx="3781440" cy="35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01480" indent="-430200">
              <a:lnSpc>
                <a:spcPct val="100000"/>
              </a:lnSpc>
              <a:spcBef>
                <a:spcPts val="476"/>
              </a:spcBef>
              <a:buClr>
                <a:srgbClr val="99284c"/>
              </a:buClr>
              <a:buFont typeface="Wingdings" charset="2"/>
              <a:buChar char=""/>
              <a:tabLst>
                <a:tab algn="l" pos="501480"/>
                <a:tab algn="l" pos="949320"/>
                <a:tab algn="l" pos="1398600"/>
                <a:tab algn="l" pos="1847880"/>
                <a:tab algn="l" pos="2297160"/>
                <a:tab algn="l" pos="2746440"/>
                <a:tab algn="l" pos="3195720"/>
                <a:tab algn="l" pos="3645000"/>
                <a:tab algn="l" pos="4094280"/>
                <a:tab algn="l" pos="4543560"/>
                <a:tab algn="l" pos="4992840"/>
                <a:tab algn="l" pos="5442120"/>
                <a:tab algn="l" pos="5891040"/>
                <a:tab algn="l" pos="6340320"/>
                <a:tab algn="l" pos="6789600"/>
                <a:tab algn="l" pos="7238880"/>
                <a:tab algn="l" pos="7688160"/>
                <a:tab algn="l" pos="8137440"/>
                <a:tab algn="l" pos="8586720"/>
                <a:tab algn="l" pos="903600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f89d08"/>
                </a:solidFill>
                <a:latin typeface="Comic Sans MS"/>
              </a:rPr>
              <a:t>Выбор ткани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501480" indent="-43020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501480"/>
                <a:tab algn="l" pos="949320"/>
                <a:tab algn="l" pos="1398600"/>
                <a:tab algn="l" pos="1847880"/>
                <a:tab algn="l" pos="2297160"/>
                <a:tab algn="l" pos="2746440"/>
                <a:tab algn="l" pos="3195720"/>
                <a:tab algn="l" pos="3645000"/>
                <a:tab algn="l" pos="4094280"/>
                <a:tab algn="l" pos="4543560"/>
                <a:tab algn="l" pos="4992840"/>
                <a:tab algn="l" pos="5442120"/>
                <a:tab algn="l" pos="5891040"/>
                <a:tab algn="l" pos="6340320"/>
                <a:tab algn="l" pos="6789600"/>
                <a:tab algn="l" pos="7238880"/>
                <a:tab algn="l" pos="7688160"/>
                <a:tab algn="l" pos="8137440"/>
                <a:tab algn="l" pos="8586720"/>
                <a:tab algn="l" pos="903600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f89d08"/>
                </a:solidFill>
                <a:latin typeface="Comic Sans MS"/>
              </a:rPr>
              <a:t>    </a:t>
            </a:r>
            <a:r>
              <a:rPr b="0" lang="ru-RU" sz="1900" spc="-1" strike="noStrike">
                <a:solidFill>
                  <a:srgbClr val="f89d08"/>
                </a:solidFill>
                <a:latin typeface="Comic Sans MS"/>
              </a:rPr>
              <a:t>Теперь, когда я определилась с моделью юбки, мне ещё предстоит выбрать подходящую ткань для её изготовления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501480" indent="-430200">
              <a:lnSpc>
                <a:spcPct val="100000"/>
              </a:lnSpc>
              <a:spcBef>
                <a:spcPts val="425"/>
              </a:spcBef>
              <a:buClr>
                <a:srgbClr val="99284c"/>
              </a:buClr>
              <a:buFont typeface="Wingdings" charset="2"/>
              <a:buChar char=""/>
              <a:tabLst>
                <a:tab algn="l" pos="501480"/>
                <a:tab algn="l" pos="949320"/>
                <a:tab algn="l" pos="1398600"/>
                <a:tab algn="l" pos="1847880"/>
                <a:tab algn="l" pos="2297160"/>
                <a:tab algn="l" pos="2746440"/>
                <a:tab algn="l" pos="3195720"/>
                <a:tab algn="l" pos="3645000"/>
                <a:tab algn="l" pos="4094280"/>
                <a:tab algn="l" pos="4543560"/>
                <a:tab algn="l" pos="4992840"/>
                <a:tab algn="l" pos="5442120"/>
                <a:tab algn="l" pos="5891040"/>
                <a:tab algn="l" pos="6340320"/>
                <a:tab algn="l" pos="6789600"/>
                <a:tab algn="l" pos="7238880"/>
                <a:tab algn="l" pos="7688160"/>
                <a:tab algn="l" pos="8137440"/>
                <a:tab algn="l" pos="8586720"/>
                <a:tab algn="l" pos="903600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ru-RU" sz="1700" spc="-1" strike="noStrike">
                <a:solidFill>
                  <a:srgbClr val="f89d08"/>
                </a:solidFill>
                <a:latin typeface="Comic Sans MS"/>
              </a:rPr>
              <a:t>Я решила, что для моей юбки больше подойдёт костюмно- платьевая ткань. Этот материал хорошо драпируется, образуя мягкие красивые складки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711680" y="2262240"/>
            <a:ext cx="3902040" cy="30718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6229440" y="4540320"/>
            <a:ext cx="10094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3984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стюмно-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984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тьевая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6680160" y="3220920"/>
            <a:ext cx="1800" cy="1078200"/>
          </a:xfrm>
          <a:prstGeom prst="line">
            <a:avLst/>
          </a:prstGeom>
          <a:ln cap="sq" w="28440">
            <a:solidFill>
              <a:srgbClr val="66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16000" y="139680"/>
            <a:ext cx="8470800" cy="18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58920" indent="-357480" algn="ctr">
              <a:lnSpc>
                <a:spcPct val="100000"/>
              </a:lnSpc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99284c"/>
                </a:solidFill>
                <a:latin typeface="Comic Sans MS"/>
              </a:rPr>
              <a:t>Выбор оборудования, </a:t>
            </a:r>
            <a:br>
              <a:rPr sz="3600"/>
            </a:br>
            <a:r>
              <a:rPr b="1" i="1" lang="ru-RU" sz="3600" spc="-1" strike="noStrike">
                <a:solidFill>
                  <a:srgbClr val="99284c"/>
                </a:solidFill>
                <a:latin typeface="Comic Sans MS"/>
              </a:rPr>
              <a:t>инструментов и приспособлений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1871640"/>
            <a:ext cx="8229600" cy="42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69880" indent="-568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6988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5536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569880" indent="-568440">
              <a:lnSpc>
                <a:spcPct val="100000"/>
              </a:lnSpc>
              <a:spcBef>
                <a:spcPts val="476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988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553680"/>
                <a:tab algn="l" pos="988380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ff9966"/>
                </a:solidFill>
                <a:latin typeface="Comic Sans MS"/>
              </a:rPr>
              <a:t>Швейная машинка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569880" indent="-568440">
              <a:lnSpc>
                <a:spcPct val="100000"/>
              </a:lnSpc>
              <a:spcBef>
                <a:spcPts val="476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988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553680"/>
                <a:tab algn="l" pos="988380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ff9966"/>
                </a:solidFill>
                <a:latin typeface="Comic Sans MS"/>
              </a:rPr>
              <a:t>Утюжильная доска, утюг, пульверизатор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569880" indent="-568440">
              <a:lnSpc>
                <a:spcPct val="100000"/>
              </a:lnSpc>
              <a:spcBef>
                <a:spcPts val="476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988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553680"/>
                <a:tab algn="l" pos="988380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ff9966"/>
                </a:solidFill>
                <a:latin typeface="Comic Sans MS"/>
              </a:rPr>
              <a:t>Ручная игла №3, булавки, ножницы, напёрсток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569880" indent="-568440">
              <a:lnSpc>
                <a:spcPct val="100000"/>
              </a:lnSpc>
              <a:spcBef>
                <a:spcPts val="476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988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553680"/>
                <a:tab algn="l" pos="988380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ff9966"/>
                </a:solidFill>
                <a:latin typeface="Comic Sans MS"/>
              </a:rPr>
              <a:t>Нитки хлопчатобумажные №50- для машинных работ, №60- для ручных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569880" indent="-568440">
              <a:lnSpc>
                <a:spcPct val="100000"/>
              </a:lnSpc>
              <a:spcBef>
                <a:spcPts val="476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988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553680"/>
                <a:tab algn="l" pos="988380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ff9966"/>
                </a:solidFill>
                <a:latin typeface="Comic Sans MS"/>
              </a:rPr>
              <a:t>Сантиметровая лента, линейка, мелок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569880" indent="-568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6988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5536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420e"/>
                </a:solidFill>
                <a:latin typeface="Comic Sans MS"/>
              </a:rPr>
              <a:t>       </a:t>
            </a:r>
            <a:r>
              <a:rPr b="0" lang="ru-RU" sz="2200" spc="-1" strike="noStrike">
                <a:solidFill>
                  <a:srgbClr val="ff420e"/>
                </a:solidFill>
                <a:latin typeface="Comic Sans MS"/>
              </a:rPr>
              <a:t>Дополнительные материалы: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569880" indent="-568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6988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5536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420e"/>
                </a:solidFill>
                <a:latin typeface="Comic Sans MS"/>
              </a:rPr>
              <a:t>бумага для построения чертежей и изготовления лекал, учебник, рабочая тетрадь для повторения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8T16:02:42Z</dcterms:created>
  <dc:creator>Customer</dc:creator>
  <dc:description/>
  <dc:language>en-US</dc:language>
  <cp:lastModifiedBy>user</cp:lastModifiedBy>
  <dcterms:modified xsi:type="dcterms:W3CDTF">2013-08-21T06:20:44Z</dcterms:modified>
  <cp:revision>15</cp:revision>
  <dc:subject/>
  <dc:title>Творческий проект: «Юбка».</dc:title>
</cp:coreProperties>
</file>