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5EF1-0E4C-497F-BC13-FDC15025A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6887-DCD1-4D79-8145-2FD0602A5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4C6C-728C-43CA-9C0C-A4489BA70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0566-0C4F-4F99-B471-49F59C36F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F004-B790-48F5-B976-658C6C3583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3E7E-2AB5-4A3A-8E9C-D2371D83C9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962F-7220-49C2-A9D2-A8B08C044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D23B-DE82-4D17-A0B7-9258909F5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0F14-C469-4135-A026-CB41E893AB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64AE-2BDB-4916-9725-43990DCAB6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57DA-CD35-4D8F-92F5-256A5C833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3BA6-2D6E-40B4-BB14-33CF5CFDF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5605-FD80-41E3-8223-EEE134A7D8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0D39-6F88-41B7-A4A7-FF7DBCFC63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DE51-8F9C-44EA-B667-729420E4D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0AB1-586D-4045-B793-EBC497387E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5435-8AB0-4042-B028-5BE340B995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3F4D-D20C-4F2C-9486-0539EB8BBD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CD87-A9FD-4A99-A3A2-2BFB1117F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A2F6-4E39-4EB2-91AA-8B4D10BE3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07A1-1AA4-4939-8197-9C7838C04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A671-BF8C-4E16-93BB-DFCA8E082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8CAA-C2C2-4901-A2F6-9B25324C8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98B1-8A84-4754-9BF8-A895B27A9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CDAC1-6A9C-444A-881A-3FBFB65119A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7600" cy="198360"/>
            <a:chOff x="228600" y="2889360"/>
            <a:chExt cx="8607600" cy="19836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7040" cy="19836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7040" cy="19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7040" cy="19836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B072F0-6A8C-4886-BBEA-94B23F9A66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1079640"/>
            <a:ext cx="77724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Творческий проект: </a:t>
            </a:r>
            <a:br>
              <a:rPr sz="4000"/>
            </a:br>
            <a:r>
              <a:rPr b="1" lang="ru-RU" sz="4000" spc="-1" strike="noStrike">
                <a:solidFill>
                  <a:srgbClr val="b84747"/>
                </a:solidFill>
                <a:latin typeface="Comic Sans MS"/>
              </a:rPr>
              <a:t>«Юбка. Конструирование»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374840" y="4125960"/>
            <a:ext cx="6400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Выполнила Гимбатова Диа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ученица  6 «А» класса ГБОУ СОШ № 1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420e"/>
                </a:solidFill>
                <a:latin typeface="Garamond"/>
              </a:rPr>
              <a:t>2013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66680"/>
            <a:ext cx="80755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Сниму с себя мерки и построю чертёж прям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 основному чертежу прямой юбки выполню моделирование в соответствии с выбранной моделью. Изготовлю выкройку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ткань к раскрою и выполню раскрой юб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одготовлю детали юбки к смётыванию и юбку к пример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Проведу примерку юбки и исправлю дефекты, если они возникну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646520" y="2060640"/>
            <a:ext cx="4040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вытач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боковые сре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застёжку в левом боковом шве юбки тесьмой- молн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ояс, обработаю верхний срез юбки притачным пояс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нижний срез юбки швом вподгибку с закрытым срез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89d08"/>
                </a:solidFill>
                <a:latin typeface="Comic Sans MS"/>
              </a:rPr>
              <a:t>Обработаю петлю и пришью пуговиц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15800" indent="-41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1580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5608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939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-112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Экономическое обоснова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484280"/>
            <a:ext cx="7770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Мой расчёт затрат на материалы для изготовления юбки: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205000"/>
          <a:ext cx="7488360" cy="3768840"/>
        </p:xfrm>
        <a:graphic>
          <a:graphicData uri="http://schemas.openxmlformats.org/drawingml/2006/table">
            <a:tbl>
              <a:tblPr/>
              <a:tblGrid>
                <a:gridCol w="1754280"/>
                <a:gridCol w="1752480"/>
                <a:gridCol w="1965240"/>
                <a:gridCol w="20163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Наименование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Условная ц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Расход материала (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Затраты на материа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Костюмно- платьевая тк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20руб. за 1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м 20см (ширина ткани 1м 40с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44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Нитки швей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 за катуш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 кат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Пуговиц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Застёжка- мол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. за 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9р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Verdana"/>
                        </a:rPr>
                        <a:t>Итого:                                                                              162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14520"/>
            <a:ext cx="7777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зготовление изделия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Контроль качеств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Изготовлю юбку в той последовательности, которая изложена в учебнике технологи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Учитель рассказывала на уроках технологии о критериях проверки и оценки качества проекта. Я самостоятельно  буду контролировать и оценивать качество своего проект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99284c"/>
                </a:solidFill>
                <a:latin typeface="Comic Sans MS"/>
              </a:rPr>
              <a:t>Оформление проекта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Ознакомлюсь с требованиями к оформлению проекта и выполню всё, что нужно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Самооцен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00200"/>
            <a:ext cx="7715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Проанализирую этапы выполнения проекта. Всё ли из задуманного я сделала? Получится ли у меня проект? Довольна ли я им? Хочу ли я в нём что- нибудь исправить? Какие этапы выполнения проекта были для меня наиболее трудоёмкими? Какие знания и умения мне понадобились для изготовления проектного изделия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omic Sans MS"/>
              </a:rPr>
              <a:t>Я оцениваю свою работу на «отлично»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5763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Comic Sans MS"/>
              </a:rPr>
              <a:t>Задачи проек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1763640"/>
            <a:ext cx="78836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пределение конкретной задачи и её формулир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явление основных требований к издел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ссле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Разработка идей, вариан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Анализ идей и выбор лучшего вариа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Последовательность изготовления издел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Экономическое обоснов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Изготовление изделия. Контроль ка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Оформление проек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420e"/>
                </a:solidFill>
                <a:latin typeface="Comic Sans MS"/>
              </a:rPr>
              <a:t>Самооц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99284c"/>
                </a:solidFill>
                <a:latin typeface="Arial"/>
              </a:rPr>
              <a:t>Обоснование возникшей проблемы и потребности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017800"/>
            <a:ext cx="40658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3280" indent="-43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ff6633"/>
                </a:solidFill>
                <a:latin typeface="Comic Sans MS"/>
              </a:rPr>
              <a:t>По программе «Технология» в 6 классе выполняется швейное изделие -  юбка. Мне необходимо было продумать все этапы технологического проектирования для последующего изготовления изделия и представить потребности в виде схемы размышлений. Вооружившись учебником и знаниями, полученными на уроках, приступила к проек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19640" y="2016000"/>
            <a:ext cx="4149720" cy="4173840"/>
            <a:chOff x="4319640" y="2016000"/>
            <a:chExt cx="4149720" cy="4173840"/>
          </a:xfrm>
        </p:grpSpPr>
        <p:sp>
          <p:nvSpPr>
            <p:cNvPr id="136" name=""/>
            <p:cNvSpPr/>
            <p:nvPr/>
          </p:nvSpPr>
          <p:spPr>
            <a:xfrm flipH="1" flipV="1">
              <a:off x="5633640" y="3090960"/>
              <a:ext cx="507960" cy="674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0000" y="2332080"/>
              <a:ext cx="863280" cy="834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езопасност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164200" y="3715920"/>
              <a:ext cx="820800" cy="2588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1080" y="3166920"/>
              <a:ext cx="863640" cy="835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кан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64200" y="4235400"/>
              <a:ext cx="820800" cy="25560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19640" y="4200480"/>
              <a:ext cx="863640" cy="835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нструирование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35440" y="4443480"/>
              <a:ext cx="507960" cy="6681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6760" y="5037120"/>
              <a:ext cx="863640" cy="83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ель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7560" y="4522680"/>
              <a:ext cx="0" cy="82548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2680" y="5354640"/>
              <a:ext cx="863640" cy="835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ода, стиль,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илуэ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1720" y="4441680"/>
              <a:ext cx="501480" cy="66852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8600" y="5037120"/>
              <a:ext cx="863640" cy="835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блема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требн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4232160"/>
              <a:ext cx="814320" cy="25236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05720" y="4200480"/>
              <a:ext cx="863640" cy="83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нструменты,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испособ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07240" y="3713040"/>
              <a:ext cx="814320" cy="260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05720" y="3168720"/>
              <a:ext cx="863640" cy="834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рудование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649920" y="3088800"/>
              <a:ext cx="501840" cy="6764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8600" y="2335320"/>
              <a:ext cx="863640" cy="834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я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96120" y="2849400"/>
              <a:ext cx="0" cy="836640"/>
            </a:xfrm>
            <a:prstGeom prst="line">
              <a:avLst/>
            </a:prstGeom>
            <a:ln cap="sq"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2680" y="2016000"/>
              <a:ext cx="863640" cy="835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тоимость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атериалов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62680" y="3686040"/>
              <a:ext cx="863640" cy="8352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b84747"/>
                  </a:solidFill>
                  <a:latin typeface="Arial"/>
                </a:rPr>
                <a:t>Юбк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36720" y="720720"/>
            <a:ext cx="734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Comic Sans MS"/>
              </a:rPr>
              <a:t>Определение конкретной задачи и её формулиров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664000"/>
            <a:ext cx="822960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Когда я обосновала возникшую проблему и потребность, то определила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моя задача - изготовить юбку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6360" y="576360"/>
            <a:ext cx="777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Выявление основных требований </a:t>
            </a:r>
            <a:br>
              <a:rPr sz="2800"/>
            </a:br>
            <a:r>
              <a:rPr b="1" i="1" lang="ru-RU" sz="2800" spc="-1" strike="noStrike">
                <a:solidFill>
                  <a:srgbClr val="99284c"/>
                </a:solidFill>
                <a:latin typeface="Comic Sans MS"/>
              </a:rPr>
              <a:t>к издел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303640"/>
            <a:ext cx="82296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420e"/>
                </a:solidFill>
                <a:latin typeface="Comic Sans MS"/>
              </a:rPr>
              <a:t>Какие требования я представляю к своему будущему изделию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быть красивой и модной, соответствовать особенностям строения фигуры, назначению и внешнему обли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Конструкция юбки должна соответствовать выбранной моде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олжна хорошо сидеть на фигуре, быть удобной в носк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Нужно, чтобы юбка была универсальной в носке и её можно было сочетать с нарядной и повседневной блузкой или жакет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Изделие должно быть недорогим, но качественно изготовлен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576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сследования, тенденц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16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666600"/>
              </a:buClr>
              <a:buFont typeface="Wingdings" charset="2"/>
              <a:buChar char="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420e"/>
                </a:solidFill>
                <a:latin typeface="Comic Sans MS"/>
              </a:rPr>
              <a:t>Различают три основных стиля: классический, спортивный и романтический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К классическому стилю относят всё, что со временем почти не меняется, то что вне мод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Одежда спортивного стиля, как правило, свободного покроя. Она удобна для движений, для разнообразной работы, активного отдых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84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551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Comic Sans MS"/>
              </a:rPr>
              <a:t>Романтический стиль- это лёгкость, мечтательность. В одежде используются элементы исторического, национального(фольклорного) костю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87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Разработка идей, вариантов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71640"/>
            <a:ext cx="40402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Я выбрала юбку романтического сти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51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Comic Sans MS"/>
              </a:rPr>
              <a:t>Юбка двухшовная, расширенная книзу. Застёжка- молния в левом боковом шве. Верхний срез юбки обработан притачным поясом, нижний- швом вподгиб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967280" y="1944720"/>
            <a:ext cx="3392640" cy="4184640"/>
            <a:chOff x="4967280" y="1944720"/>
            <a:chExt cx="3392640" cy="41846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4967280" y="1944720"/>
              <a:ext cx="339264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967280" y="1944720"/>
              <a:ext cx="3392640" cy="41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-411120"/>
            <a:ext cx="82296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ткани, инструментов, приспособлений оборудова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54200" y="2276640"/>
            <a:ext cx="37814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1480" indent="-430200">
              <a:lnSpc>
                <a:spcPct val="100000"/>
              </a:lnSpc>
              <a:spcBef>
                <a:spcPts val="476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Выбор ткан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    </a:t>
            </a:r>
            <a:r>
              <a:rPr b="0" lang="ru-RU" sz="1900" spc="-1" strike="noStrike">
                <a:solidFill>
                  <a:srgbClr val="f89d08"/>
                </a:solidFill>
                <a:latin typeface="Comic Sans MS"/>
              </a:rPr>
              <a:t>Теперь, когда я определилась с моделью юбки, мне ещё предстоит выбрать подходящую ткань для её изготовления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01480" indent="-430200">
              <a:lnSpc>
                <a:spcPct val="100000"/>
              </a:lnSpc>
              <a:spcBef>
                <a:spcPts val="425"/>
              </a:spcBef>
              <a:buClr>
                <a:srgbClr val="99284c"/>
              </a:buClr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f89d08"/>
                </a:solidFill>
                <a:latin typeface="Comic Sans MS"/>
              </a:rPr>
              <a:t>Я решила, что для моей юбки больше подойдёт костюмно- платьевая ткань. Этот материал хорошо драпируется, образуя мягкие красивые складк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1680" y="2262240"/>
            <a:ext cx="3902040" cy="3071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229440" y="4540320"/>
            <a:ext cx="1009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юмно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ьев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680160" y="3220920"/>
            <a:ext cx="1800" cy="1078200"/>
          </a:xfrm>
          <a:prstGeom prst="line">
            <a:avLst/>
          </a:prstGeom>
          <a:ln cap="sq" w="284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6000" y="139680"/>
            <a:ext cx="8470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Выбор оборудования,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Comic Sans MS"/>
              </a:rPr>
              <a:t>инструментов и приспособлени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71640"/>
            <a:ext cx="82296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Швейная машинка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Утюжильная доска, утюг, пульверизатор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Ручная игла №3, булавки, ножницы, напёрст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Нитки хлопчатобумажные №50- для машинных работ, №60- для ручных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476"/>
              </a:spcBef>
              <a:buClr>
                <a:srgbClr val="666600"/>
              </a:buClr>
              <a:buFont typeface="Comic Sans MS"/>
              <a:buAutoNum type="arabicPeriod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ff9966"/>
                </a:solidFill>
                <a:latin typeface="Comic Sans MS"/>
              </a:rPr>
              <a:t>Сантиметровая лента, линейка, мело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       </a:t>
            </a: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Дополнительные материалы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69880" indent="-568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420e"/>
                </a:solidFill>
                <a:latin typeface="Comic Sans MS"/>
              </a:rPr>
              <a:t>бумага для построения чертежей и изготовления лекал, учебник, рабочая тетрадь для повторени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2:42Z</dcterms:created>
  <dc:creator>Customer</dc:creator>
  <dc:description/>
  <dc:language>en-US</dc:language>
  <cp:lastModifiedBy>user</cp:lastModifiedBy>
  <dcterms:modified xsi:type="dcterms:W3CDTF">2013-08-21T06:20:44Z</dcterms:modified>
  <cp:revision>15</cp:revision>
  <dc:subject/>
  <dc:title>Творческий проект: «Юбка».</dc:title>
</cp:coreProperties>
</file>