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F52-ACEB-4811-94E7-9402ABC5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31E-7EE5-49F9-AEE1-35779564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C1E-DD9F-4DFE-9C38-CBB758D2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D27-2EFF-4969-AD6A-433D6C1D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F0A-3C09-4185-9EBA-018E6B0B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3E0-573F-4371-88DD-E637E502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E31-5A63-4B31-816A-9617D1DA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F53-F83E-4978-B0A9-1ED62D16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A5A-92F2-4C31-970B-1B99AABB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CE8-61A8-4F27-9909-8F823A79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B71-6627-4613-8538-1464F890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4EB-DDAE-4C89-B49D-D48A82F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527F-EC6E-42F7-90CA-33034E634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презентации\преддипломка\73721788_57929344_light_texture_by_Insan_Stock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1600200"/>
            <a:ext cx="91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35, 33, 73 ,14, 23, 68, 91, 4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презентации\преддипломка\Plates-Free-Download-PNG.png"/>
          <p:cNvPicPr/>
          <p:nvPr/>
        </p:nvPicPr>
        <p:blipFill>
          <a:blip r:embed="rId1"/>
          <a:stretch/>
        </p:blipFill>
        <p:spPr>
          <a:xfrm>
            <a:off x="324000" y="752400"/>
            <a:ext cx="4214520" cy="18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600440" y="1844640"/>
            <a:ext cx="4213440" cy="179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392040" y="3321000"/>
            <a:ext cx="4213440" cy="1798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368960" y="4653000"/>
            <a:ext cx="4213080" cy="179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E:\презентации\преддипломка\apple_PNG12429.png"/>
          <p:cNvPicPr/>
          <p:nvPr/>
        </p:nvPicPr>
        <p:blipFill>
          <a:blip r:embed="rId5"/>
          <a:stretch/>
        </p:blipFill>
        <p:spPr>
          <a:xfrm rot="1756800">
            <a:off x="5681160" y="931680"/>
            <a:ext cx="185760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E:\презентации\преддипломка\apple_PNG12429.png"/>
          <p:cNvPicPr/>
          <p:nvPr/>
        </p:nvPicPr>
        <p:blipFill>
          <a:blip r:embed="rId6"/>
          <a:stretch/>
        </p:blipFill>
        <p:spPr>
          <a:xfrm>
            <a:off x="1512720" y="0"/>
            <a:ext cx="183528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E:\презентации\преддипломка\apple_PNG12429.png"/>
          <p:cNvPicPr/>
          <p:nvPr/>
        </p:nvPicPr>
        <p:blipFill>
          <a:blip r:embed="rId7"/>
          <a:stretch/>
        </p:blipFill>
        <p:spPr>
          <a:xfrm rot="20015400">
            <a:off x="1255320" y="2630160"/>
            <a:ext cx="1871640" cy="2200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E:\презентации\преддипломка\apple_PNG12429.png"/>
          <p:cNvPicPr/>
          <p:nvPr/>
        </p:nvPicPr>
        <p:blipFill>
          <a:blip r:embed="rId8"/>
          <a:stretch/>
        </p:blipFill>
        <p:spPr>
          <a:xfrm>
            <a:off x="5576760" y="3868560"/>
            <a:ext cx="18748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презентации\преддипломка\Plates-Free-Download-PNG.png"/>
          <p:cNvPicPr/>
          <p:nvPr/>
        </p:nvPicPr>
        <p:blipFill>
          <a:blip r:embed="rId1"/>
          <a:stretch/>
        </p:blipFill>
        <p:spPr>
          <a:xfrm>
            <a:off x="0" y="166680"/>
            <a:ext cx="4772160" cy="203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73600" cy="203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4773600" cy="2036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4076640" y="4657680"/>
            <a:ext cx="47736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презентации\преддипломка\73721788_57929344_light_texture_by_Insan_St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*7                               0*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 * 10                           0 * 4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 * 53                           0 * 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16:33:32Z</dcterms:created>
  <dc:creator>Vesnyshka</dc:creator>
  <dc:description/>
  <dc:language>en-US</dc:language>
  <cp:lastModifiedBy>Vesnyshka</cp:lastModifiedBy>
  <dcterms:modified xsi:type="dcterms:W3CDTF">2017-05-17T12:24:30Z</dcterms:modified>
  <cp:revision>3</cp:revision>
  <dc:subject/>
  <dc:title>Презентация PowerPoint</dc:title>
</cp:coreProperties>
</file>