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11C-E608-41E8-B4CB-E3142A35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1D7-C9C1-465E-BCC8-106A22D1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222-E596-4BB6-BFEF-E2433B04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128-6EF5-4F81-A1BC-10F9FB46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E3E-1008-4917-B051-A67F4108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1B2-CA6B-404C-9753-472921F6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E63-1317-4B32-BB68-F304F584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26E-BDB2-4218-A406-9D4C40A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D31-502C-49CF-80FA-00C39ADD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050-40F5-40ED-A593-331425B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BF6-101F-4929-9E40-E64E55F5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AB6-7BED-4CE6-A68C-215AEDFF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57E5-554A-484E-9AD9-1DE0BCEAE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презентации\преддипломка\73721788_57929344_light_texture_by_Insan_Stock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1600200"/>
            <a:ext cx="91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35, 33, 73 ,14, 23, 68, 91, 4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презентации\преддипломка\Plates-Free-Download-PNG.png"/>
          <p:cNvPicPr/>
          <p:nvPr/>
        </p:nvPicPr>
        <p:blipFill>
          <a:blip r:embed="rId1"/>
          <a:stretch/>
        </p:blipFill>
        <p:spPr>
          <a:xfrm>
            <a:off x="324000" y="752400"/>
            <a:ext cx="4214520" cy="18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600440" y="1844640"/>
            <a:ext cx="4213440" cy="1798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392040" y="3321000"/>
            <a:ext cx="4213440" cy="1798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368960" y="4653000"/>
            <a:ext cx="4213080" cy="179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E:\презентации\преддипломка\apple_PNG12429.png"/>
          <p:cNvPicPr/>
          <p:nvPr/>
        </p:nvPicPr>
        <p:blipFill>
          <a:blip r:embed="rId5"/>
          <a:stretch/>
        </p:blipFill>
        <p:spPr>
          <a:xfrm rot="1756800">
            <a:off x="5681160" y="931680"/>
            <a:ext cx="185760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E:\презентации\преддипломка\apple_PNG12429.png"/>
          <p:cNvPicPr/>
          <p:nvPr/>
        </p:nvPicPr>
        <p:blipFill>
          <a:blip r:embed="rId6"/>
          <a:stretch/>
        </p:blipFill>
        <p:spPr>
          <a:xfrm>
            <a:off x="1512720" y="0"/>
            <a:ext cx="183528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E:\презентации\преддипломка\apple_PNG12429.png"/>
          <p:cNvPicPr/>
          <p:nvPr/>
        </p:nvPicPr>
        <p:blipFill>
          <a:blip r:embed="rId7"/>
          <a:stretch/>
        </p:blipFill>
        <p:spPr>
          <a:xfrm rot="20015400">
            <a:off x="1255320" y="2630160"/>
            <a:ext cx="1871640" cy="2200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E:\презентации\преддипломка\apple_PNG12429.png"/>
          <p:cNvPicPr/>
          <p:nvPr/>
        </p:nvPicPr>
        <p:blipFill>
          <a:blip r:embed="rId8"/>
          <a:stretch/>
        </p:blipFill>
        <p:spPr>
          <a:xfrm>
            <a:off x="5576760" y="3868560"/>
            <a:ext cx="18748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презентации\преддипломка\Plates-Free-Download-PNG.png"/>
          <p:cNvPicPr/>
          <p:nvPr/>
        </p:nvPicPr>
        <p:blipFill>
          <a:blip r:embed="rId1"/>
          <a:stretch/>
        </p:blipFill>
        <p:spPr>
          <a:xfrm>
            <a:off x="0" y="166680"/>
            <a:ext cx="4772160" cy="203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73600" cy="203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3068640"/>
            <a:ext cx="4773600" cy="2036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4076640" y="4657680"/>
            <a:ext cx="47736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презентации\преддипломка\73721788_57929344_light_texture_by_Insan_St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*7                               0*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 * 10                           0 * 4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 * 53                           0 * 2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16:33:32Z</dcterms:created>
  <dc:creator>Vesnyshka</dc:creator>
  <dc:description/>
  <dc:language>en-US</dc:language>
  <cp:lastModifiedBy>Vesnyshka</cp:lastModifiedBy>
  <dcterms:modified xsi:type="dcterms:W3CDTF">2017-05-17T12:24:30Z</dcterms:modified>
  <cp:revision>3</cp:revision>
  <dc:subject/>
  <dc:title>Презентация PowerPoint</dc:title>
</cp:coreProperties>
</file>