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A20-8EF4-4698-A6FD-1B37D442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A4A-69C1-48AA-A27E-7C39CA2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66E-C9B2-456A-8E08-2AAD2B8C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1BF-C64A-4BF9-9BF9-0EED8497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91D-13DB-4117-B091-6BA76076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691-559E-4936-9F80-8C663023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954-52FA-4A7A-8498-08C8AC1D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38D-8228-4B84-8521-D54608F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254-A45F-4AF7-9941-1F294C17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01F-DACE-4BBB-8709-3664198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F3D-6251-41FE-B1F0-05C950F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7DE-DFC0-4E4E-B9B3-E38B53F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1B6C-EE7D-41A8-A3C7-3FD959756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производствен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сывание раствора на поверхность штукатурной лопаткой с со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ла: Латышева.М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рызга готовят жидкий раствор с содержанием воды до 60 % от объема вяжущего материала. Чем правильнее по густоте приготовлен раствор для обрызга, тем лучше он затечет во все шероховатости, тем крепче будет сцепление с основанием и тем прочнее будет держаться штукату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ит рабочая одежда штука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 костюм должен быть удобного покроя и индивидуально подоб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юм состоит из рабочего комбинезона и куртки. Причем, надо обратить внимание на то, что рукава куртки должны плотно прилегать к ру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в комплект входят: обувь на толстой подошве, головной убор (косынка, беретка, вязанная шапочка и др.) и средства индивидуальной защиты (респиратор, защитные перчатки, оч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Изображение 78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ехнологический процесс набрасывания раствора на поверхность штукатурной лопаткой с со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нанесения раствора на поверхность применяю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Изображение 757"/>
          <p:cNvPicPr/>
          <p:nvPr/>
        </p:nvPicPr>
        <p:blipFill>
          <a:blip r:embed="rId1"/>
          <a:stretch/>
        </p:blipFill>
        <p:spPr>
          <a:xfrm>
            <a:off x="1835280" y="220500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ьмите сокол левой рукой, плотно обхватив ру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 758"/>
          <p:cNvPicPr/>
          <p:nvPr/>
        </p:nvPicPr>
        <p:blipFill>
          <a:blip r:embed="rId1"/>
          <a:stretch/>
        </p:blipFill>
        <p:spPr>
          <a:xfrm>
            <a:off x="1258920" y="1628640"/>
            <a:ext cx="61516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очите водой рабочую поверхность со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Изображение 759"/>
          <p:cNvPicPr/>
          <p:nvPr/>
        </p:nvPicPr>
        <p:blipFill>
          <a:blip r:embed="rId1"/>
          <a:stretch/>
        </p:blipFill>
        <p:spPr>
          <a:xfrm>
            <a:off x="1258920" y="1413000"/>
            <a:ext cx="6656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ьмите в правую руку штукатурную лопа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Изображение 760"/>
          <p:cNvPicPr/>
          <p:nvPr/>
        </p:nvPicPr>
        <p:blipFill>
          <a:blip r:embed="rId1"/>
          <a:stretch/>
        </p:blipFill>
        <p:spPr>
          <a:xfrm>
            <a:off x="1908000" y="1430280"/>
            <a:ext cx="67280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егка наклонив сокол, нижний край обоприте на емкость с раствором, а верхний край на предпле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761"/>
          <p:cNvPicPr/>
          <p:nvPr/>
        </p:nvPicPr>
        <p:blipFill>
          <a:blip r:embed="rId1"/>
          <a:stretch/>
        </p:blipFill>
        <p:spPr>
          <a:xfrm>
            <a:off x="1258920" y="1700280"/>
            <a:ext cx="65847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К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авливать различные виды поверхностей под оштукатур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К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расывать штукатурный раствор вручную различными инстр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ть сущность и социальную значимость своей будущей профессии, проявлять к ней устойчивый инте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ывать собственную деятельность, исходя из цели и способов ее достижения, определенных руковод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рабочую ситуацию, осуществлять текущий и итоговый контроль, оценку и коррекцию собственной деятельности, нести ответственность за результаты свое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поиск информации, необходимой для эффективного выполнения профессиональ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информационно-коммуникационные технологии в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ть в команде, эффективно общаться с коллегами, руководством, кли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иная с верхнего края, грядками уложите раствор на со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зображение 762"/>
          <p:cNvPicPr/>
          <p:nvPr/>
        </p:nvPicPr>
        <p:blipFill>
          <a:blip r:embed="rId1"/>
          <a:stretch/>
        </p:blipFill>
        <p:spPr>
          <a:xfrm>
            <a:off x="971640" y="1268280"/>
            <a:ext cx="69436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лишки раствора очистите штукатурной лопат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зображение 763"/>
          <p:cNvPicPr/>
          <p:nvPr/>
        </p:nvPicPr>
        <p:blipFill>
          <a:blip r:embed="rId1"/>
          <a:stretch/>
        </p:blipFill>
        <p:spPr>
          <a:xfrm>
            <a:off x="118728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йдя к оштукатуриваемой поверхности, штукатурной лопаткой движением от себя к середине сокола возьмите порцию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764"/>
          <p:cNvPicPr/>
          <p:nvPr/>
        </p:nvPicPr>
        <p:blipFill>
          <a:blip r:embed="rId1"/>
          <a:stretch/>
        </p:blipFill>
        <p:spPr>
          <a:xfrm>
            <a:off x="1763640" y="1989000"/>
            <a:ext cx="62247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им движением кисти руки сбрасьте раствор с лопатки на стену, ударяясь о поверхность, раствор заполнит швы, раковины и шерохов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Изображение 765"/>
          <p:cNvPicPr/>
          <p:nvPr/>
        </p:nvPicPr>
        <p:blipFill>
          <a:blip r:embed="rId1"/>
          <a:stretch/>
        </p:blipFill>
        <p:spPr>
          <a:xfrm>
            <a:off x="1547640" y="1844640"/>
            <a:ext cx="64407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сить раствор следует от края поверхности рядами 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Изображение 766"/>
          <p:cNvPicPr/>
          <p:nvPr/>
        </p:nvPicPr>
        <p:blipFill>
          <a:blip r:embed="rId1"/>
          <a:stretch/>
        </p:blipFill>
        <p:spPr>
          <a:xfrm>
            <a:off x="1403280" y="1916280"/>
            <a:ext cx="6367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набрасывания раствора у вас должна получится такая поверх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Изображение 769"/>
          <p:cNvPicPr/>
          <p:nvPr/>
        </p:nvPicPr>
        <p:blipFill>
          <a:blip r:embed="rId1"/>
          <a:stretch/>
        </p:blipFill>
        <p:spPr>
          <a:xfrm>
            <a:off x="1692360" y="1484280"/>
            <a:ext cx="62960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на 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инструменты и приспособления используются для штукатурных р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ы для штукатур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3"/>
          <p:cNvPicPr/>
          <p:nvPr/>
        </p:nvPicPr>
        <p:blipFill>
          <a:blip r:embed="rId1"/>
          <a:stretch/>
        </p:blipFill>
        <p:spPr>
          <a:xfrm>
            <a:off x="250920" y="1197000"/>
            <a:ext cx="3652920" cy="514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6920" y="160020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Штукатурная л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ол (металлический, деревянный, тарельч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т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нструменты, используемые при нанесении раствора на поверх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ы для нанесения раствора на поверх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ная л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ный ко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4200480" cy="201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0956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их слоев состоит штукату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слое штукатурного намета зависит от вида штукатур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ая – обрызг, гру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учшенная – обрызг, грунт, накры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качественная – обрызг, два слоя грунта и накры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должен быть раствор для первого слоя - обрыз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3:43:37Z</dcterms:created>
  <dc:creator>jakoroleva</dc:creator>
  <dc:description/>
  <dc:language>en-US</dc:language>
  <cp:lastModifiedBy>Александр</cp:lastModifiedBy>
  <dcterms:modified xsi:type="dcterms:W3CDTF">2017-05-16T13:57:57Z</dcterms:modified>
  <cp:revision>13</cp:revision>
  <dc:subject/>
  <dc:title>Слайд 1</dc:title>
</cp:coreProperties>
</file>