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323-FFFF-4167-9185-E1CFFEED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A01-7763-408B-8FAF-6A1FF19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96E-BA55-4173-AE47-A28C6DE1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50F-93A9-4E3D-8B45-6DF67A3D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2FC-32A8-459F-94CC-4D26AE7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1E4-231E-48B8-A73B-B63DACD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565-7259-4B2D-8622-73432041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A98-20EF-4A3D-99A2-8D4D44E7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ABB-3A7D-49C7-B2F7-A45F91E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E5F-08B6-483D-BAFD-0AE00A3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346-E591-47E4-824D-C3DEBDC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CBE-484D-4F42-B2D2-9CDD4AD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E3B-9C8C-49B4-937D-ABFB17343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производствен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сывание раствора на поверхность штукатурной лопаткой с со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ла: Латышева.М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рызга готовят жидкий раствор с содержанием воды до 60 % от объема вяжущего материала. Чем правильнее по густоте приготовлен раствор для обрызга, тем лучше он затечет во все шероховатости, тем крепче будет сцепление с основанием и тем прочнее будет держаться штукату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ит рабочая одежда штука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 костюм должен быть удобного покроя и индивидуально подоб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юм состоит из рабочего комбинезона и куртки. Причем, надо обратить внимание на то, что рукава куртки должны плотно прилегать к ру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в комплект входят: обувь на толстой подошве, головной убор (косынка, беретка, вязанная шапочка и др.) и средства индивидуальной защиты (респиратор, защитные перчатки, оч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Изображение 78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ехнологический процесс набрасывания раствора на поверхность штукатурной лопаткой с со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нанесения раствора на поверхность применяю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Изображение 757"/>
          <p:cNvPicPr/>
          <p:nvPr/>
        </p:nvPicPr>
        <p:blipFill>
          <a:blip r:embed="rId1"/>
          <a:stretch/>
        </p:blipFill>
        <p:spPr>
          <a:xfrm>
            <a:off x="1835280" y="220500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ьмите сокол левой рукой, плотно обхватив ру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 758"/>
          <p:cNvPicPr/>
          <p:nvPr/>
        </p:nvPicPr>
        <p:blipFill>
          <a:blip r:embed="rId1"/>
          <a:stretch/>
        </p:blipFill>
        <p:spPr>
          <a:xfrm>
            <a:off x="1258920" y="1628640"/>
            <a:ext cx="61516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очите водой рабочую поверхность со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Изображение 759"/>
          <p:cNvPicPr/>
          <p:nvPr/>
        </p:nvPicPr>
        <p:blipFill>
          <a:blip r:embed="rId1"/>
          <a:stretch/>
        </p:blipFill>
        <p:spPr>
          <a:xfrm>
            <a:off x="1258920" y="1413000"/>
            <a:ext cx="6656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ьмите в правую руку штукатурную лопа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Изображение 760"/>
          <p:cNvPicPr/>
          <p:nvPr/>
        </p:nvPicPr>
        <p:blipFill>
          <a:blip r:embed="rId1"/>
          <a:stretch/>
        </p:blipFill>
        <p:spPr>
          <a:xfrm>
            <a:off x="1908000" y="1430280"/>
            <a:ext cx="6728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егка наклонив сокол, нижний край обоприте на емкость с раствором, а верхний край на предпле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761"/>
          <p:cNvPicPr/>
          <p:nvPr/>
        </p:nvPicPr>
        <p:blipFill>
          <a:blip r:embed="rId1"/>
          <a:stretch/>
        </p:blipFill>
        <p:spPr>
          <a:xfrm>
            <a:off x="1258920" y="1700280"/>
            <a:ext cx="65847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К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авливать различные виды поверхностей под оштукатур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К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расывать штукатурный раствор вручную различными инстр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ть сущность и социальную значимость своей будущей профессии, проявлять к ней устойчивый инте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ывать собственную деятельность, исходя из цели и способов ее достижения, определенных руковод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рабочую ситуацию, осуществлять текущий и итоговый контроль, оценку и коррекцию собственной деятельности, нести ответственность за результаты свое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поиск информации, необходимой для эффективного выполнения профессиональ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информационно-коммуникационные технологии в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ть в команде, эффективно общаться с коллегами, руководством, кл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иная с верхнего края, грядками уложите раствор на со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зображение 762"/>
          <p:cNvPicPr/>
          <p:nvPr/>
        </p:nvPicPr>
        <p:blipFill>
          <a:blip r:embed="rId1"/>
          <a:stretch/>
        </p:blipFill>
        <p:spPr>
          <a:xfrm>
            <a:off x="971640" y="1268280"/>
            <a:ext cx="69436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лишки раствора очистите штукатурной лопат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зображение 763"/>
          <p:cNvPicPr/>
          <p:nvPr/>
        </p:nvPicPr>
        <p:blipFill>
          <a:blip r:embed="rId1"/>
          <a:stretch/>
        </p:blipFill>
        <p:spPr>
          <a:xfrm>
            <a:off x="118728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йдя к оштукатуриваемой поверхности, штукатурной лопаткой движением от себя к середине сокола возьмите порцию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764"/>
          <p:cNvPicPr/>
          <p:nvPr/>
        </p:nvPicPr>
        <p:blipFill>
          <a:blip r:embed="rId1"/>
          <a:stretch/>
        </p:blipFill>
        <p:spPr>
          <a:xfrm>
            <a:off x="1763640" y="1989000"/>
            <a:ext cx="62247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им движением кисти руки сбрасьте раствор с лопатки на стену, ударяясь о поверхность, раствор заполнит швы, раковины и шерохов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Изображение 765"/>
          <p:cNvPicPr/>
          <p:nvPr/>
        </p:nvPicPr>
        <p:blipFill>
          <a:blip r:embed="rId1"/>
          <a:stretch/>
        </p:blipFill>
        <p:spPr>
          <a:xfrm>
            <a:off x="1547640" y="1844640"/>
            <a:ext cx="64407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сить раствор следует от края поверхности рядами 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Изображение 766"/>
          <p:cNvPicPr/>
          <p:nvPr/>
        </p:nvPicPr>
        <p:blipFill>
          <a:blip r:embed="rId1"/>
          <a:stretch/>
        </p:blipFill>
        <p:spPr>
          <a:xfrm>
            <a:off x="1403280" y="1916280"/>
            <a:ext cx="6367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набрасывания раствора у вас должна получится такая поверх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Изображение 769"/>
          <p:cNvPicPr/>
          <p:nvPr/>
        </p:nvPicPr>
        <p:blipFill>
          <a:blip r:embed="rId1"/>
          <a:stretch/>
        </p:blipFill>
        <p:spPr>
          <a:xfrm>
            <a:off x="1692360" y="1484280"/>
            <a:ext cx="62960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на 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инструменты и приспособления используются для штукатурных р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ы для штукатур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3"/>
          <p:cNvPicPr/>
          <p:nvPr/>
        </p:nvPicPr>
        <p:blipFill>
          <a:blip r:embed="rId1"/>
          <a:stretch/>
        </p:blipFill>
        <p:spPr>
          <a:xfrm>
            <a:off x="250920" y="1197000"/>
            <a:ext cx="3652920" cy="514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6920" y="160020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Штукатурная л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ол (металлический, деревянный, тарельч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т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нструменты, используемые при нанесении раствора на поверх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ы для нанесения раствора на поверх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ная л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ный ко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4200480" cy="201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0956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их слоев состоит штукату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слое штукатурного намета зависит от вида штукатур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ая – обрызг, гру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учшенная – обрызг, грунт, накры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качественная – обрызг, два слоя грунта и накры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должен быть раствор для первого слоя - обрыз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3:43:37Z</dcterms:created>
  <dc:creator>jakoroleva</dc:creator>
  <dc:description/>
  <dc:language>en-US</dc:language>
  <cp:lastModifiedBy>Александр</cp:lastModifiedBy>
  <dcterms:modified xsi:type="dcterms:W3CDTF">2017-05-16T13:57:57Z</dcterms:modified>
  <cp:revision>13</cp:revision>
  <dc:subject/>
  <dc:title>Слайд 1</dc:title>
</cp:coreProperties>
</file>