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710-813C-4975-A60D-32D8850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691-1E1E-42DF-9243-B56E21E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721-CA33-4C28-B5C0-0E04C31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ED0-6F18-44F7-B736-0A2E426F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0F1F-F51E-41E5-BF16-EE063B74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7FE6-EC68-46BB-83DC-9A4980A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688-2CA8-4654-B570-F6A32F21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B236-AB53-4C30-9852-5A25970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081-7617-4136-94F9-446B753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0C27-59F3-42C1-94A6-286CD6E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9684-068D-45C7-9A57-F53773C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0BB-707C-4587-B0C5-27B798A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8F2-BCE9-466A-8AD6-B61A586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27FC-9812-4459-988A-83DC497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1716-0B76-4C0A-9424-7592E1B6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EE1-0CBA-4DEA-AF28-D2C78056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A3B0-DDE4-4933-89C0-11856EE3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1AE-B3FB-4C0C-9955-EE78753B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3BC-5ADA-44DF-995C-02AFAFF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EDB-4492-434F-8FA4-91579BF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10F-3D14-4DDF-BF43-140CB10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BE2-CBC7-4382-9050-2754E44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F81-5F85-4019-B8EC-9324427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661-66D5-43A8-8990-50E331B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626-8E6C-42E6-9730-6C2612D62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376-DF80-4FE4-8E71-A015E513C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льбом «Профессии родителей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27280" y="3962520"/>
            <a:ext cx="439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яя группа №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и: Новикова Ю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лфутова О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" y="549360"/>
            <a:ext cx="919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мках годовой задачи по профориентации дошкольников, в нашей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лся проект «Все профессии хороши- выбирай на вкус». Ц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ознавательного интереса к профессиональной деятельно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, развитие у детей чувства сопричастности с миром взрослых чере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ство с професс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а проведена  большая работа с детьми и родител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че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результат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ой деятельности был сделан в фор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ьбом «Профессии моих родител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вое мероприятие: викторина - развле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е профессии важны - все профессии нуж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ходе проведения работы по проекту удалось сформировать у дет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представителях разных профессий, о содержании их труд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ьности и предметах – помощниках. В ходе совместной деятельности 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ей появилась возможность поближе познакомиться с профессиями сво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телей. Знания, полученные в ходе реализации проекта, будут способствов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гащению содержания сюжетно-ролевых игр, организуемых детьми на основе 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е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321440" cy="243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19640" cy="264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4284720" cy="2408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284720" cy="264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2685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392360" cy="2660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3629160"/>
            <a:ext cx="4249800" cy="2533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80000" y="3645000"/>
            <a:ext cx="4464000" cy="2511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392720" cy="259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032360" cy="2673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4427640" cy="259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3495600"/>
            <a:ext cx="4788000" cy="2692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2720" cy="2319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4535280" cy="25513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06:21:22Z</dcterms:created>
  <dc:creator>Admin</dc:creator>
  <dc:description/>
  <dc:language>en-US</dc:language>
  <cp:lastModifiedBy>Admin</cp:lastModifiedBy>
  <dcterms:modified xsi:type="dcterms:W3CDTF">2017-05-18T17:45:21Z</dcterms:modified>
  <cp:revision>7</cp:revision>
  <dc:subject/>
  <dc:title>Книга «Профессии родителей»</dc:title>
</cp:coreProperties>
</file>