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89B-0C3B-4BEE-83B8-D7E8295E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D56-CD10-4513-B7BE-921E5286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B81-8806-4D05-80E7-92FC262C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820-8059-43A9-B7C9-0F994C3C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040A-1A5A-4DBE-ACC7-C1679409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CFF4-F897-461F-80AB-B80E4794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1FB8-7505-48B3-97E4-08C5FA55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320F-79EB-4BCC-8D61-14AC7F8F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2E89-1635-4A1F-83DE-278B39E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6394-20F7-42C5-90CB-8C94E1A1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59CD-C4F9-4A38-9291-C8CBD8B8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19F-604E-4D78-B8DB-FDCAFD23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2978-F4FB-4949-AEBA-165B166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0296-69E9-4C7C-8127-6283BB0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73B0-AC11-473A-929F-A2A98C12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4DFA-6DE2-44AB-A1A9-79F5A062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AE97-3CC1-41DA-8253-A175118F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53F-71BD-4F2E-8157-3F772398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EF7-5A42-4FF2-9E56-0B0F59E0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CD4-190F-4909-86CF-EF7C53B6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F84-F5C1-4D3B-B9B2-B8D184EC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C39-37A2-4708-957B-67951FF7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8D8-7498-4DA4-9821-C98E6C30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4F4-9892-462D-9AA0-38CA1C30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5B46-5708-40F1-90BE-0DDA9FAF6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4559-E788-435E-BAA6-E62536172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Альбом «Профессии родителей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27280" y="3962520"/>
            <a:ext cx="439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яя группа №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атели: Новикова Ю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лфутова О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" y="549360"/>
            <a:ext cx="919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мках годовой задачи по профориентации дошкольников, в нашей групп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ился проект «Все профессии хороши- выбирай на вкус». Цель про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познавательного интереса к профессиональной деятельно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а, развитие у детей чувства сопричастности с миром взрослых чере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комство с професс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а проведена  большая работа с детьми и родителя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че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 результат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ной деятельности был сделан в форм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ьбом «Профессии моих родител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оговое мероприятие: викторина - развле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се профессии важны - все профессии нужн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ходе проведения работы по проекту удалось сформировать у дет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 о представителях разных профессий, о содержании их трудов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ятельности и предметах – помощниках. В ходе совместной деятельности 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ей появилась возможность поближе познакомиться с профессиями сво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телей. Знания, полученные в ходе реализации проекта, будут способствов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гащению содержания сюжетно-ролевых игр, организуемых детьми на основе 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е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321440" cy="2430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4319640" cy="2648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16360" y="476280"/>
            <a:ext cx="4284720" cy="24080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4284720" cy="2648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26859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392360" cy="26607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0920" y="3629160"/>
            <a:ext cx="4249800" cy="25336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680000" y="3645000"/>
            <a:ext cx="4464000" cy="2511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392720" cy="2592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4032360" cy="26733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4427640" cy="2592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356000" y="3495600"/>
            <a:ext cx="4788000" cy="26924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122720" cy="23191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24360" y="3716280"/>
            <a:ext cx="4535280" cy="25513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8T06:21:22Z</dcterms:created>
  <dc:creator>Admin</dc:creator>
  <dc:description/>
  <dc:language>en-US</dc:language>
  <cp:lastModifiedBy>Admin</cp:lastModifiedBy>
  <dcterms:modified xsi:type="dcterms:W3CDTF">2017-05-18T17:45:21Z</dcterms:modified>
  <cp:revision>7</cp:revision>
  <dc:subject/>
  <dc:title>Книга «Профессии родителей»</dc:title>
</cp:coreProperties>
</file>