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EEF-C604-4739-87EC-8AD03603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CCB-F7E3-46E5-B766-639C756A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CCF-1A86-432A-90CA-19C97859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2A4-D180-4713-A9A5-BFCD1255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9C9F-3A89-4B8C-817E-0B9C0634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A33F-E917-46C1-9860-07EB26D0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2EF5-B78B-40B5-B5F2-A330760A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26EE-B5A3-40D3-9A45-43272951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06C3-4DF7-4812-9156-20417B5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D897-C6E6-40BC-A7AF-A5E42FD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FEA1-1B9A-44D0-8AA1-79FE5431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74D-6A87-4895-9BC3-BE39EAE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64BB-CBD1-45E0-8CB4-3D411BFF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76D6-5A5E-41E1-9B0C-015C691B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60DD-F468-4BB6-9E3A-145ABDDF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F3D2-6BF2-446C-9161-EF5D5F69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AB23-A943-4AF3-A399-675AACA1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C955-8906-4C3B-A589-A0234ACE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88DC-AF7C-4E61-AF1F-4CD92A45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D3E8-FFFC-476B-BE3E-9331CAC0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C17A-FC8A-4B7F-BFFB-350247D4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DF1C0-29AD-4E20-9814-2AE48B9F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4E7-957C-43F4-AF8E-F37EB0E6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AFC9-91A4-47EC-8981-964A5496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01B1-14F7-43D2-9618-924A7BC8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B25A-42FB-45F3-9607-88358D61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80A3-9E77-4A6B-B589-9CD419C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6B83-829E-42DE-B5C8-2ECE0535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C668-1B17-4950-B882-C9DD6807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1D18-FA47-4C08-BFC2-AD63099A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6C5D-B949-4846-9FB6-8C680D22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10B1-881E-4CC1-9C1B-7E8ACF87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5174C-5637-4515-91D0-5A726A1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80A-3793-4F60-8E24-EE61F9F3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B1085-6B96-454F-9C43-9F4C4495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D8DFB-7A20-4283-A77C-8DD49198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49F1-2BD8-4287-9DA1-DCA15ADF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0D00-8D44-401C-B4A3-6D7D9EB9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7763-2FF8-46DB-B0FE-B3EAA9F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9F88-BB6F-4E37-90E9-CBA5D4B7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0090E-47B3-45AD-89F8-676AFAD7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1CF6D-469F-45C0-B7CE-213962DD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F8335-21D0-4C93-B80C-19AD3198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D300-A913-4FD7-95FD-CE6F9372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2C5-02AA-4C5D-8BE8-3C1BAB31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4D64F-0D7D-4A6A-996C-1DD545E7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A9D60-39FD-4FD0-AB94-83BDACEE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74CA-9A81-4636-B38D-FC00F9ED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95ABB-3557-421A-9BA2-832937BD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141B5-C159-4B31-980D-2D3262DC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5D4E-9DB3-44A5-9E16-1DA09100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5A04-7131-44B3-9BF6-34352883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68B05-9889-4041-95B6-41A7D6E3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11CEC-E323-45AC-BF80-AE819911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2E804-C520-4759-9B83-64676832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344-91A7-472C-98D5-276AB42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F8C2-F859-4D73-A9E3-48FB8EDA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7E0FC-BF01-48A2-853E-850EEAFA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030DE-DF5B-4051-A67E-24769969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88339-7110-4B92-A237-EC68BC84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6039A-D3CF-4308-9BAE-2FC1566F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3503-1A2C-41A5-B9C4-6695739E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384E-89EA-4F17-AF0A-29272330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E9B3B-7CCF-485B-A611-F6C2584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E8B0-1728-4953-A55E-1542225F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FA8A4-8E17-44F5-BB57-10BE592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F04-108A-4A33-AFD8-D401B876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9425-8418-4627-8A6F-35138524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B4CD3-48E8-4A3D-8E4B-DFDC4D9F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6558-D8A3-4794-A750-97A47522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1C034-CFC4-4659-B111-6D1362A5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5444C-C3C9-4E02-9476-2C597204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491B7-30B5-4BF3-A6D4-3119C752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EF357-4A7D-4A9B-8FF4-00E4E092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527C0-803C-4DAD-A633-12210D61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55942-EA11-42CC-8461-120F6EE3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1D438-7D09-4C7A-8D6A-E04BC745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930-AF5F-41EE-BC34-B548CE5F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E4BC-B32E-4E00-9143-9EF6DBF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1F7D0-7E0D-466C-99E9-CF6239C3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54624-7281-4D0D-B21D-149012B8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8AFA0-95D6-4B79-9B37-9C60D519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9E363-536E-4263-B567-D304675C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6FE-F99E-40BF-8A36-55661988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C3C-E327-459F-9A19-877FD1DF3E0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30CF-A763-496C-AC28-8E02B7E0558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5D43-9FE6-49A7-89E1-B92F42ABCDA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F59C-4BC7-4017-A413-06A4D0AB546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86EF-F2ED-4037-B4C7-574E15B673F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6080-5AF1-48E9-902E-63E5C45E335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4918-5C2C-409C-A40D-E2F1236C479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ahmatova[231]"/>
          <p:cNvPicPr/>
          <p:nvPr/>
        </p:nvPicPr>
        <p:blipFill>
          <a:blip r:embed="rId1"/>
          <a:stretch/>
        </p:blipFill>
        <p:spPr>
          <a:xfrm>
            <a:off x="642960" y="500040"/>
            <a:ext cx="76946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1241909777"/>
          <p:cNvPicPr/>
          <p:nvPr/>
        </p:nvPicPr>
        <p:blipFill>
          <a:blip r:embed="rId1"/>
          <a:stretch/>
        </p:blipFill>
        <p:spPr>
          <a:xfrm>
            <a:off x="2411280" y="189000"/>
            <a:ext cx="4330800" cy="60037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2411280" y="6165720"/>
            <a:ext cx="4356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нна Ахматова в Детском Селе. 1925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3" descr="(280x400x123)ахматова[1]"/>
          <p:cNvPicPr/>
          <p:nvPr/>
        </p:nvPicPr>
        <p:blipFill>
          <a:blip r:embed="rId1"/>
          <a:stretch/>
        </p:blipFill>
        <p:spPr>
          <a:xfrm>
            <a:off x="2484360" y="189000"/>
            <a:ext cx="3981600" cy="56880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2484360" y="5877000"/>
            <a:ext cx="3960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нна Ахматова. Голицыно. 1959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0037-099[1]"/>
          <p:cNvPicPr/>
          <p:nvPr/>
        </p:nvPicPr>
        <p:blipFill>
          <a:blip r:embed="rId1"/>
          <a:stretch/>
        </p:blipFill>
        <p:spPr>
          <a:xfrm>
            <a:off x="1908000" y="1628640"/>
            <a:ext cx="5239080" cy="41338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360" y="5877000"/>
            <a:ext cx="75088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нна Ахматова получает международную литературную премию «Этна-Таормина» Италия. Катанья. 196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2357280" y="0"/>
            <a:ext cx="4572000" cy="142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8"/>
          <p:cNvSpPr/>
          <p:nvPr/>
        </p:nvSpPr>
        <p:spPr>
          <a:xfrm>
            <a:off x="250020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тебе ещё мало по-русск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ты хочешь на всех языка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нать, как круты подъёмы и спуск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чём у нас совесть и стра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i_002[1]"/>
          <p:cNvPicPr/>
          <p:nvPr/>
        </p:nvPicPr>
        <p:blipFill>
          <a:blip r:embed="rId1"/>
          <a:stretch/>
        </p:blipFill>
        <p:spPr>
          <a:xfrm>
            <a:off x="5025960" y="189000"/>
            <a:ext cx="3944880" cy="59767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5099040" y="6156360"/>
            <a:ext cx="379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нна Горенко (Анна Ахматов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Евпатория. 1905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357120" y="2643120"/>
            <a:ext cx="4357800" cy="31431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1"/>
          <p:cNvSpPr/>
          <p:nvPr/>
        </p:nvSpPr>
        <p:spPr>
          <a:xfrm>
            <a:off x="571680" y="644400"/>
            <a:ext cx="4071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105c"/>
                </a:solidFill>
                <a:latin typeface="Times New Roman"/>
              </a:rPr>
              <a:t>Первое стихотворение я написала, когда мне было 11 лет…. Училась я в Царскосельской женской гимназии. Сначала плохо, затем гораздо лучше, но всегда неохотно.</a:t>
            </a:r>
            <a:r>
              <a:rPr b="1" lang="ru-RU" sz="3200" spc="-1" strike="noStrike">
                <a:solidFill>
                  <a:srgbClr val="b0105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an2[1]"/>
          <p:cNvPicPr/>
          <p:nvPr/>
        </p:nvPicPr>
        <p:blipFill>
          <a:blip r:embed="rId1"/>
          <a:stretch/>
        </p:blipFill>
        <p:spPr>
          <a:xfrm>
            <a:off x="4643280" y="214200"/>
            <a:ext cx="3886200" cy="54723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857160" y="1857240"/>
            <a:ext cx="3571920" cy="138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b0105c"/>
                </a:solidFill>
                <a:latin typeface="Times New Roman"/>
              </a:rPr>
              <a:t>Анна Горенко (Анна Ахматова) с братьями Андреем, Виктором и сестрой Ией. В центре – мать Инна Эразмовна (урождённая Стогова). Киев. 1909 г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g01-web[1]"/>
          <p:cNvPicPr/>
          <p:nvPr/>
        </p:nvPicPr>
        <p:blipFill>
          <a:blip r:embed="rId1"/>
          <a:stretch/>
        </p:blipFill>
        <p:spPr>
          <a:xfrm>
            <a:off x="928800" y="428760"/>
            <a:ext cx="3914640" cy="55162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5572080" y="1571760"/>
            <a:ext cx="3016440" cy="228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105c"/>
                </a:solidFill>
                <a:latin typeface="Times New Roman"/>
              </a:rPr>
              <a:t>В имении Гумилёвых Слепневе. 1912 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105c"/>
                </a:solidFill>
                <a:latin typeface="Times New Roman"/>
              </a:rPr>
              <a:t>В центре Анна Ахматова, слева от неё Мария Кузьмина-Караваева, справа – Елизавета Юрьевна Кузьмина-Караваева («Мать Мария») 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105c"/>
                </a:solidFill>
                <a:latin typeface="Times New Roman"/>
              </a:rPr>
              <a:t>Дмитрий Дмитриевич Буше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009[1]"/>
          <p:cNvPicPr/>
          <p:nvPr/>
        </p:nvPicPr>
        <p:blipFill>
          <a:blip r:embed="rId1"/>
          <a:stretch/>
        </p:blipFill>
        <p:spPr>
          <a:xfrm>
            <a:off x="4857840" y="500040"/>
            <a:ext cx="3809880" cy="54752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642960" y="2214720"/>
            <a:ext cx="4105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105c"/>
                </a:solidFill>
                <a:latin typeface="Times New Roman"/>
              </a:rPr>
              <a:t>Анна Ахматова в Слепневе. 191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105c"/>
                </a:solidFill>
                <a:latin typeface="Times New Roman"/>
              </a:rPr>
              <a:t>На одном из экземпляров этой фотографии сохранилась надпис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105c"/>
                </a:solidFill>
                <a:latin typeface="Times New Roman"/>
              </a:rPr>
              <a:t>«Это я пишу «Чётк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Ахматова_Н"/>
          <p:cNvPicPr/>
          <p:nvPr/>
        </p:nvPicPr>
        <p:blipFill>
          <a:blip r:embed="rId1"/>
          <a:stretch/>
        </p:blipFill>
        <p:spPr>
          <a:xfrm>
            <a:off x="4357800" y="714240"/>
            <a:ext cx="4483080" cy="31989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2960" y="1785960"/>
            <a:ext cx="435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Дай мне горькие годы недуга,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Задыханья, бессонницу, жар,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Отыми и ребёнка, и друга,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И таинственный песенный дар – 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Так молюсь за твоей литургией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После стольких томительных дней,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Чтобы туча над тёмной Россией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Стала облаком в славе луче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Петербург. 1915 г.</a:t>
            </a:r>
            <a:br>
              <a:rPr sz="1900"/>
            </a:br>
            <a:endParaRPr b="0" lang="en-US" sz="1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382920" y="5786280"/>
            <a:ext cx="5761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. С. Гумилёв, Лёва Гумилёв (сын Гумилёва и Анны Ахматовой) А. Ахматова. Царское Село. 1916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1[8]"/>
          <p:cNvPicPr/>
          <p:nvPr/>
        </p:nvPicPr>
        <p:blipFill>
          <a:blip r:embed="rId1"/>
          <a:stretch/>
        </p:blipFill>
        <p:spPr>
          <a:xfrm>
            <a:off x="714240" y="357120"/>
            <a:ext cx="3943440" cy="52149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3929040" y="5786280"/>
            <a:ext cx="4680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на Ахматова. Петроград. 1922 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4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5072040" y="0"/>
            <a:ext cx="4071960" cy="35002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8"/>
          <p:cNvSpPr/>
          <p:nvPr/>
        </p:nvSpPr>
        <p:spPr>
          <a:xfrm>
            <a:off x="5072040" y="357120"/>
            <a:ext cx="4071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епчет: «Я не пожале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же то, что так люблю, -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ли будь совсем моею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ли я тебя убью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до мной жужжит, как овод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естанно столько д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т самый скучный довод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ёрной ревности тво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евраль 1922 г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жлз"/>
          <p:cNvPicPr/>
          <p:nvPr/>
        </p:nvPicPr>
        <p:blipFill>
          <a:blip r:embed="rId1"/>
          <a:stretch/>
        </p:blipFill>
        <p:spPr>
          <a:xfrm>
            <a:off x="5000760" y="214200"/>
            <a:ext cx="3857400" cy="5716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857160" y="5929200"/>
            <a:ext cx="41767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на Ахматова. Ленинград.1924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0" y="285840"/>
            <a:ext cx="4572000" cy="163044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8"/>
          <p:cNvSpPr/>
          <p:nvPr/>
        </p:nvSpPr>
        <p:spPr>
          <a:xfrm>
            <a:off x="71280" y="142920"/>
            <a:ext cx="471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о равнодушно и спокойн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уками я замкнула слух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б этой речью недостойн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осквернился скорбный дух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ень 1917 г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Н"/>
          <p:cNvPicPr/>
          <p:nvPr/>
        </p:nvPicPr>
        <p:blipFill>
          <a:blip r:embed="rId1"/>
          <a:stretch/>
        </p:blipFill>
        <p:spPr>
          <a:xfrm>
            <a:off x="5143680" y="285840"/>
            <a:ext cx="3714480" cy="5305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9680" y="2357280"/>
            <a:ext cx="500076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И ты мне всё простишь: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И даже то, что я не молодая,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И даже то, что с именем моим,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Как с благостным огнём тлетворный дым,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Слилась навеки клевета глухая.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         1925 г.</a:t>
            </a:r>
            <a:endParaRPr b="0" lang="en-US" sz="2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4572000" y="5786280"/>
            <a:ext cx="4321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. Ахматова и Н.Н.Пунин. Ленингр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нтанный дом. 1927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4:55:30Z</dcterms:created>
  <dc:creator>Kompumir</dc:creator>
  <dc:description/>
  <dc:language>en-US</dc:language>
  <cp:lastModifiedBy>Пользователь</cp:lastModifiedBy>
  <dcterms:modified xsi:type="dcterms:W3CDTF">2017-05-18T10:51:53Z</dcterms:modified>
  <cp:revision>19</cp:revision>
  <dc:subject/>
  <dc:title>Слайд 1</dc:title>
</cp:coreProperties>
</file>