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EDC-18B7-4BF9-8AC4-159BE255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316-8EF7-48E6-A8D7-2BED1980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0B0-7B25-4E04-99BB-19BD7E8D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A71-A4D1-4935-AC91-30E8A6B0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E8A3-3654-4DC2-B0C8-75FDA2EA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568-DF33-4526-AD79-1CEB656C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5CB-7F4B-48B5-9C9D-8B0DB22F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1151-4ADF-4931-8DB5-BD37A99C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45F4-1207-45D3-8B69-444FE2DC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B2C-A7AF-4CDA-AF85-F666AFD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8D26-4A50-417D-BC78-1ECE48F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E24-E39E-4800-86A4-B9257F2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E283-7BE6-43B9-8FFC-AA96BA7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12A-10B0-46DB-92D5-12A0130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F1A6-D70C-4136-9BBD-5E977F9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0D0D-D5F8-45B2-93A4-30633338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8111-591B-4E24-AB21-E64C2634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2379-7D2C-491D-9842-32C95030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A84C-3B76-41C0-91A2-040CB134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608C-C314-4A9F-A772-287D213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B8C2-AA6D-4195-B770-411653FE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3E3E-4D73-43C3-A223-0AD3A12E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773-2267-4994-9ED1-BE400B5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F045-FB04-4F12-814F-C8CD45AD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A604-4E86-4F2E-B3BB-E1E73B3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51E4-6561-4976-9800-EDDA89A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12D5-7C1D-49C0-951F-C616107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B10C-7C3C-4923-8F76-123C5F0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2555-CF2C-42F6-9BE3-50640511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6B45-9DA9-4A9A-96F2-85CD89E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8816-A7B7-474B-B7B3-C6908B23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961C-DD77-43BE-987D-4CD6BE86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0F29-501F-43EB-B578-F8FD677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0FE-0410-4EFC-A645-B0CEAC33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D1D4-76AC-424C-B3AF-A73EF98E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C39B-4732-457F-8EA5-4ED8ECF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C2B4-62D9-4614-A755-68AEE60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16FE-D33B-418A-922C-CA328C8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B00F-D067-44EA-AA97-4630945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A9F8-9CCB-4E78-A95D-E6F3E10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176A-C066-485F-9E62-7ADE61B1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92A4-10E9-4F59-93DC-25751B07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FA6F-5BC5-45F7-9585-3A15EBB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5339-5700-414B-8460-339F8B4E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E55-92CD-474C-9595-91E83FB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25BE-09B7-43B2-B16F-B04005F3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DB10E-A604-4110-9741-B7075A0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0C13-06E1-4C8A-899C-3B24ED7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475A-B10B-40A8-8496-5D486258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96D7-3E88-463E-9979-4A7706A9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1A41-93E0-4E21-867F-C2E2791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9723-CDEA-4A40-BD16-630BB8A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80DCB-FE2F-4F46-8AEE-34AC045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B6B2E-955A-46E1-A3DD-EAF2ED6C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E579-C5F6-40AB-9F0F-0C67A21A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B21-9C69-433C-A4F1-858C8B8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BE5D-ADC0-4539-A3DF-A2B28B72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9FEB-F922-49A7-B66A-4337ED27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40FC-E28B-4B9B-88B2-4550A81F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90600-9669-4BD4-A47F-BB04A89D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7D41-5B19-49BF-8578-9675697F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A477F-A70A-4C18-B1A1-62C2CC11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13DDB-E524-48EF-A94C-C81776BF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C077-64B5-4A0A-8553-E63689F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A5C3-1B8F-496A-A30F-ABE0D916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DFEC6-199F-486F-9A70-49C2B76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A71-9A2A-4B5A-A58E-A5A2D4C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E0DA-808E-4497-9F45-B325EF5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6768-679B-4E11-B018-2ABB10B8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35BF-244F-4FB1-A5B9-1A7F2052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7E8E0-3DB5-432D-A2A9-718465A0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54303-E7EA-4E1D-A609-6B1CB13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D8F36-0D66-418D-B237-AC0EFC5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455B-DFC6-42F4-9E5B-081416B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6B0F7-8AE5-4907-B54B-25CB4A03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5D1AF-7294-4B39-AB5F-1F77856A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4177-E383-43D2-9E70-FE31A8D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712-679C-4AEA-865D-29B1C4C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CA63C-1D1A-4B84-BC4D-E205AD61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A5124-BF1C-4268-BF6F-F2AB57A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3878-EF99-4182-BD3C-7742F3EC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0714-D40E-4854-8F09-5003AE82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BB36-B70A-4473-A392-A11478BA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9FF-C631-4807-87EA-A1BE8ED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6D0-5E54-4343-A763-C4AAD865669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9918-E446-4EC0-AAB0-E98018B0AD6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9F9-938D-4E92-8CF1-840DDFEEF7B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B2C2-A76B-4877-8BDD-8E9451DEBBF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7D7-57A1-456B-9942-E1026EE5ED8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421C-D4B0-4337-971A-722179202EA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9EA-D696-4D3A-ABB1-822D101D5BC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ahmatova[231]"/>
          <p:cNvPicPr/>
          <p:nvPr/>
        </p:nvPicPr>
        <p:blipFill>
          <a:blip r:embed="rId1"/>
          <a:stretch/>
        </p:blipFill>
        <p:spPr>
          <a:xfrm>
            <a:off x="642960" y="500040"/>
            <a:ext cx="7694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1241909777"/>
          <p:cNvPicPr/>
          <p:nvPr/>
        </p:nvPicPr>
        <p:blipFill>
          <a:blip r:embed="rId1"/>
          <a:stretch/>
        </p:blipFill>
        <p:spPr>
          <a:xfrm>
            <a:off x="2411280" y="189000"/>
            <a:ext cx="4330800" cy="60037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2411280" y="6165720"/>
            <a:ext cx="4356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на Ахматова в Детском Селе. 1925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(280x400x123)ахматова[1]"/>
          <p:cNvPicPr/>
          <p:nvPr/>
        </p:nvPicPr>
        <p:blipFill>
          <a:blip r:embed="rId1"/>
          <a:stretch/>
        </p:blipFill>
        <p:spPr>
          <a:xfrm>
            <a:off x="2484360" y="189000"/>
            <a:ext cx="3981600" cy="56880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2484360" y="5877000"/>
            <a:ext cx="3960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на Ахматова. Голицыно. 1959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0037-099[1]"/>
          <p:cNvPicPr/>
          <p:nvPr/>
        </p:nvPicPr>
        <p:blipFill>
          <a:blip r:embed="rId1"/>
          <a:stretch/>
        </p:blipFill>
        <p:spPr>
          <a:xfrm>
            <a:off x="1908000" y="1628640"/>
            <a:ext cx="5239080" cy="41338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360" y="5877000"/>
            <a:ext cx="75088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нна Ахматова получает международную литературную премию «Этна-Таормина» Италия. Катанья. 196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2357280" y="0"/>
            <a:ext cx="4572000" cy="142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8"/>
          <p:cNvSpPr/>
          <p:nvPr/>
        </p:nvSpPr>
        <p:spPr>
          <a:xfrm>
            <a:off x="250020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тебе ещё мало по-русск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ты хочешь на всех языка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ть, как круты подъёмы и спуск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чём у нас совесть и стра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i_002[1]"/>
          <p:cNvPicPr/>
          <p:nvPr/>
        </p:nvPicPr>
        <p:blipFill>
          <a:blip r:embed="rId1"/>
          <a:stretch/>
        </p:blipFill>
        <p:spPr>
          <a:xfrm>
            <a:off x="5025960" y="189000"/>
            <a:ext cx="3944880" cy="59767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5099040" y="6156360"/>
            <a:ext cx="379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нна Горенко (Анна Ахматов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Евпатория. 190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357120" y="2643120"/>
            <a:ext cx="4357800" cy="31431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1"/>
          <p:cNvSpPr/>
          <p:nvPr/>
        </p:nvSpPr>
        <p:spPr>
          <a:xfrm>
            <a:off x="571680" y="644400"/>
            <a:ext cx="4071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105c"/>
                </a:solidFill>
                <a:latin typeface="Times New Roman"/>
              </a:rPr>
              <a:t>Первое стихотворение я написала, когда мне было 11 лет…. Училась я в Царскосельской женской гимназии. Сначала плохо, затем гораздо лучше, но всегда неохотно.</a:t>
            </a:r>
            <a:r>
              <a:rPr b="1" lang="ru-RU" sz="3200" spc="-1" strike="noStrike">
                <a:solidFill>
                  <a:srgbClr val="b0105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n2[1]"/>
          <p:cNvPicPr/>
          <p:nvPr/>
        </p:nvPicPr>
        <p:blipFill>
          <a:blip r:embed="rId1"/>
          <a:stretch/>
        </p:blipFill>
        <p:spPr>
          <a:xfrm>
            <a:off x="4643280" y="214200"/>
            <a:ext cx="3886200" cy="54723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857160" y="1857240"/>
            <a:ext cx="3571920" cy="13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0105c"/>
                </a:solidFill>
                <a:latin typeface="Times New Roman"/>
              </a:rPr>
              <a:t>Анна Горенко (Анна Ахматова) с братьями Андреем, Виктором и сестрой Ией. В центре – мать Инна Эразмовна (урождённая Стогова). Киев. 1909 г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g01-web[1]"/>
          <p:cNvPicPr/>
          <p:nvPr/>
        </p:nvPicPr>
        <p:blipFill>
          <a:blip r:embed="rId1"/>
          <a:stretch/>
        </p:blipFill>
        <p:spPr>
          <a:xfrm>
            <a:off x="928800" y="428760"/>
            <a:ext cx="3914640" cy="5516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5572080" y="1571760"/>
            <a:ext cx="3016440" cy="228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Times New Roman"/>
              </a:rPr>
              <a:t>В имении Гумилёвых Слепневе. 1912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Times New Roman"/>
              </a:rPr>
              <a:t>В центре Анна Ахматова, слева от неё Мария Кузьмина-Караваева, справа – Елизавета Юрьевна Кузьмина-Караваева («Мать Мария»)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105c"/>
                </a:solidFill>
                <a:latin typeface="Times New Roman"/>
              </a:rPr>
              <a:t>Дмитрий Дмитриевич Буше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009[1]"/>
          <p:cNvPicPr/>
          <p:nvPr/>
        </p:nvPicPr>
        <p:blipFill>
          <a:blip r:embed="rId1"/>
          <a:stretch/>
        </p:blipFill>
        <p:spPr>
          <a:xfrm>
            <a:off x="4857840" y="500040"/>
            <a:ext cx="3809880" cy="54752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642960" y="2214720"/>
            <a:ext cx="4105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105c"/>
                </a:solidFill>
                <a:latin typeface="Times New Roman"/>
              </a:rPr>
              <a:t>Анна Ахматова в Слепневе. 191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105c"/>
                </a:solidFill>
                <a:latin typeface="Times New Roman"/>
              </a:rPr>
              <a:t>На одном из экземпляров этой фотографии сохранилась надпис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105c"/>
                </a:solidFill>
                <a:latin typeface="Times New Roman"/>
              </a:rPr>
              <a:t>«Это я пишу «Чётк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Ахматова_Н"/>
          <p:cNvPicPr/>
          <p:nvPr/>
        </p:nvPicPr>
        <p:blipFill>
          <a:blip r:embed="rId1"/>
          <a:stretch/>
        </p:blipFill>
        <p:spPr>
          <a:xfrm>
            <a:off x="4357800" y="714240"/>
            <a:ext cx="4483080" cy="31989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1785960"/>
            <a:ext cx="435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Дай мне горькие годы недуга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Задыханья, бессонницу, жар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Отыми и ребёнка, и друга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И таинственный песенный дар – 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Так молюсь за твоей литургией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После стольких томительных дней,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Чтобы туча над тёмной Россией</a:t>
            </a: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Стала облаком в славе луче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b0105c"/>
                </a:solidFill>
                <a:latin typeface="Times New Roman"/>
              </a:rPr>
              <a:t>Петербург. 1915 г.</a:t>
            </a:r>
            <a:br>
              <a:rPr sz="1900"/>
            </a:br>
            <a:endParaRPr b="0" lang="en-US" sz="1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382920" y="5786280"/>
            <a:ext cx="5761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. С. Гумилёв, Лёва Гумилёв (сын Гумилёва и Анны Ахматовой) А. Ахматова. Царское Село. 1916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1[8]"/>
          <p:cNvPicPr/>
          <p:nvPr/>
        </p:nvPicPr>
        <p:blipFill>
          <a:blip r:embed="rId1"/>
          <a:stretch/>
        </p:blipFill>
        <p:spPr>
          <a:xfrm>
            <a:off x="714240" y="357120"/>
            <a:ext cx="3943440" cy="52149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3929040" y="5786280"/>
            <a:ext cx="4680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на Ахматова. Петроград. 1922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35002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8"/>
          <p:cNvSpPr/>
          <p:nvPr/>
        </p:nvSpPr>
        <p:spPr>
          <a:xfrm>
            <a:off x="5072040" y="357120"/>
            <a:ext cx="4071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епчет: «Я не пожале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же то, что так люблю, -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ли будь совсем моею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ли я тебя убью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до мной жужжит, как овод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естанно столько д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т самый скучный довод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ёрной ревности тво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евраль 1922 г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жлз"/>
          <p:cNvPicPr/>
          <p:nvPr/>
        </p:nvPicPr>
        <p:blipFill>
          <a:blip r:embed="rId1"/>
          <a:stretch/>
        </p:blipFill>
        <p:spPr>
          <a:xfrm>
            <a:off x="5000760" y="214200"/>
            <a:ext cx="3857400" cy="5716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857160" y="5929200"/>
            <a:ext cx="4176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на Ахматова. Ленинград.1924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0" y="285840"/>
            <a:ext cx="4572000" cy="163044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8"/>
          <p:cNvSpPr/>
          <p:nvPr/>
        </p:nvSpPr>
        <p:spPr>
          <a:xfrm>
            <a:off x="71280" y="142920"/>
            <a:ext cx="47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 равнодушно и спокойн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уками я замкнула слух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б этой речью недостойн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осквернился скорбный ду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ень 1917 г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Н"/>
          <p:cNvPicPr/>
          <p:nvPr/>
        </p:nvPicPr>
        <p:blipFill>
          <a:blip r:embed="rId1"/>
          <a:stretch/>
        </p:blipFill>
        <p:spPr>
          <a:xfrm>
            <a:off x="5143680" y="285840"/>
            <a:ext cx="3714480" cy="5305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9680" y="2357280"/>
            <a:ext cx="500076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И ты мне всё простишь: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И даже то, что я не молодая,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И даже то, что с именем моим,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Как с благостным огнём тлетворный дым,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Слилась навеки клевета глухая.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br>
              <a:rPr sz="2200"/>
            </a:b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b0105c"/>
                </a:solidFill>
                <a:latin typeface="Times New Roman"/>
              </a:rPr>
              <a:t>         1925 г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0" y="5786280"/>
            <a:ext cx="4321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. Ахматова и Н.Н.Пунин. Ленингр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нтанный дом. 192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4:55:30Z</dcterms:created>
  <dc:creator>Kompumir</dc:creator>
  <dc:description/>
  <dc:language>en-US</dc:language>
  <cp:lastModifiedBy>Пользователь</cp:lastModifiedBy>
  <dcterms:modified xsi:type="dcterms:W3CDTF">2017-05-18T10:51:53Z</dcterms:modified>
  <cp:revision>19</cp:revision>
  <dc:subject/>
  <dc:title>Слайд 1</dc:title>
</cp:coreProperties>
</file>