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6.wmf" ContentType="image/x-wmf"/>
  <Override PartName="/ppt/media/image19.jpeg" ContentType="image/jpeg"/>
  <Override PartName="/ppt/media/image10.wmf" ContentType="image/x-wmf"/>
  <Override PartName="/ppt/media/image25.jpeg" ContentType="image/jpeg"/>
  <Override PartName="/ppt/media/image5.wmf" ContentType="image/x-wmf"/>
  <Override PartName="/ppt/media/image27.jpeg" ContentType="image/jpeg"/>
  <Override PartName="/ppt/media/image4.wmf" ContentType="image/x-wmf"/>
  <Override PartName="/ppt/media/image29.jpeg" ContentType="image/jpeg"/>
  <Override PartName="/ppt/media/image28.jpeg" ContentType="image/jpeg"/>
  <Override PartName="/ppt/media/image14.wmf" ContentType="image/x-wmf"/>
  <Override PartName="/ppt/media/image26.jpeg" ContentType="image/jpeg"/>
  <Override PartName="/ppt/media/image1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9E5-7A36-4016-9DE5-7A38590E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57A-264C-4C05-ADB2-829D10BF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E88-39B0-49A8-91A6-A06FCC80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9AD-7A9F-4764-B0EB-8473341C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3B71-052C-41D2-8BF3-00721D67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66ED-B074-4CD2-9B0B-B94F19A2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F684-1BD8-400F-B208-37C8B38D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E805-FE7A-4BF0-9035-6818A056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2E0C-70CC-42B8-8D50-027CF278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7204-654C-422A-BEDA-4E322959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9AE1-7B2E-456F-88C1-5E618591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C05-45E6-457A-8346-68086E37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82AB-43F3-4333-97C7-261FBD7D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402A-B3B6-4791-AB8B-D4B400D9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3A77-EA06-421B-824F-D7632489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05F6-5EFA-45E9-A073-B1DAFA9B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BDA1-D914-4B02-8CD7-D44EFCA0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FD7-09E6-4F12-BEB5-6E1D0F6A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C22-F078-4605-81AE-EE4E534D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0F6-DC1C-4154-B88B-8398E36B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408-BAB2-46AC-9B5E-852B023D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5E1F-1D05-47E9-BC68-54E63D47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2109-766B-46ED-8096-871C68DF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592-D85E-433F-8B5C-C53C5F0C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C6F4-E9FA-49EB-BD0A-A880FE380587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71FD-EA0A-4508-9321-7D68BB54186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15.wmf"/><Relationship Id="rId7" Type="http://schemas.openxmlformats.org/officeDocument/2006/relationships/image" Target="../media/image9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Экологические проблемы современност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642840" y="4785840"/>
            <a:ext cx="5256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олнил: Фунтусов Ив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к 10класса «А», МБОУ «Школа№58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286080" y="55767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од Нижний Новгород 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7172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Ураган «Катрина» — самый разрушительный ураган в истории США.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9" name="Picture 4" descr="D:\Documents and Settings\Admin\Рабочий стол\12833381.jpg"/>
          <p:cNvPicPr/>
          <p:nvPr/>
        </p:nvPicPr>
        <p:blipFill>
          <a:blip r:embed="rId1"/>
          <a:stretch/>
        </p:blipFill>
        <p:spPr>
          <a:xfrm>
            <a:off x="1000080" y="2214720"/>
            <a:ext cx="3452760" cy="4286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D:\Documents and Settings\Admin\Рабочий стол\cyclone-nargis.jpg"/>
          <p:cNvPicPr/>
          <p:nvPr/>
        </p:nvPicPr>
        <p:blipFill>
          <a:blip r:embed="rId2"/>
          <a:stretch/>
        </p:blipFill>
        <p:spPr>
          <a:xfrm>
            <a:off x="5072040" y="2214720"/>
            <a:ext cx="350064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емлятресение на Гаити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(погибло 220 000 человек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2" name="Picture 2" descr="D:\Documents and Settings\Admin\Рабочий стол\0_1e26f_726d04dd_orig.jpeg"/>
          <p:cNvPicPr/>
          <p:nvPr/>
        </p:nvPicPr>
        <p:blipFill>
          <a:blip r:embed="rId1"/>
          <a:stretch/>
        </p:blipFill>
        <p:spPr>
          <a:xfrm>
            <a:off x="1071720" y="1785960"/>
            <a:ext cx="3679560" cy="435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D:\Documents and Settings\Admin\Рабочий стол\0_1e26f_726d04dd_orig.jpeg"/>
          <p:cNvPicPr/>
          <p:nvPr/>
        </p:nvPicPr>
        <p:blipFill>
          <a:blip r:embed="rId2"/>
          <a:stretch/>
        </p:blipFill>
        <p:spPr>
          <a:xfrm>
            <a:off x="5429160" y="1785960"/>
            <a:ext cx="33847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злив нефти  в мексиканском залив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5" name="Picture 2" descr="D:\Documents and Settings\Admin\Рабочий стол\platforma.jpg"/>
          <p:cNvPicPr/>
          <p:nvPr/>
        </p:nvPicPr>
        <p:blipFill>
          <a:blip r:embed="rId1"/>
          <a:stretch/>
        </p:blipFill>
        <p:spPr>
          <a:xfrm>
            <a:off x="1243080" y="2000160"/>
            <a:ext cx="3047760" cy="3903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Documents and Settings\Admin\Рабочий стол\u113_352353_plato.jpg"/>
          <p:cNvPicPr/>
          <p:nvPr/>
        </p:nvPicPr>
        <p:blipFill>
          <a:blip r:embed="rId2"/>
          <a:stretch/>
        </p:blipFill>
        <p:spPr>
          <a:xfrm>
            <a:off x="5357880" y="2000160"/>
            <a:ext cx="3071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звержение вулкана в Исланд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8" name="Picture 2" descr="D:\Documents and Settings\Admin\Рабочий стол\volcanoaurora2_shs.small.jpg"/>
          <p:cNvPicPr/>
          <p:nvPr/>
        </p:nvPicPr>
        <p:blipFill>
          <a:blip r:embed="rId1"/>
          <a:stretch/>
        </p:blipFill>
        <p:spPr>
          <a:xfrm>
            <a:off x="1500120" y="1785960"/>
            <a:ext cx="3000600" cy="4357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D:\Documents and Settings\Admin\Рабочий стол\159347082.jpg"/>
          <p:cNvPicPr/>
          <p:nvPr/>
        </p:nvPicPr>
        <p:blipFill>
          <a:blip r:embed="rId2"/>
          <a:stretch/>
        </p:blipFill>
        <p:spPr>
          <a:xfrm>
            <a:off x="5500800" y="1785960"/>
            <a:ext cx="30319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пасибо за внимание!!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нятие экологической проблем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кологическая проблема — это изменение природной среды в результате антропогенных воздействий, ведущее к нарушению структуры и функционирования природных систем (ландшафтов) и приводящее к негативным социальным, экономическим и иным последствиям. Понятие экологической проблемы является антропоцентричным, так как негативные изменения в природе оцениваются относительно условий существования человек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Группы экологических проблем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мосферное (загрязнение атмосферы: радиологическое, химическое, механическое, тепловое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дные (истощение и загрязнение поверхностных и подземных вод, загрязнение морей и океанов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олого-геоморфологическое (интенсификация неблагоприятных геолого-геоморфологических процессов, нарушение рельефа и геологического строени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чвенные (загрязнение почв, эрозия, дефляция, вторичное засоление, заболачивание и др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иотическое (сведение растительности, деградация лесов, пастбищная дигрессия, сокращение видового разнообразия и др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лексные (ландшафтные) — опустынивание, снижение биоразнообразия, нарушение режима природоохранных территорий и т. 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23" name="Group 30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24" name="WordArt 23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4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25" name="Object 29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3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27" name="Group 32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28" name="Group 27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29" name="Object 2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Object 2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AutoShape 26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32" name="Object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Line 3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Text Box 33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37"/>
          <p:cNvGrpSpPr/>
          <p:nvPr/>
        </p:nvGrpSpPr>
        <p:grpSpPr>
          <a:xfrm>
            <a:off x="1258560" y="3755880"/>
            <a:ext cx="2436120" cy="2419920"/>
            <a:chOff x="1258560" y="3755880"/>
            <a:chExt cx="2436120" cy="2419920"/>
          </a:xfrm>
        </p:grpSpPr>
        <p:pic>
          <p:nvPicPr>
            <p:cNvPr id="136" name="Object 35" descr=""/>
            <p:cNvPicPr/>
            <p:nvPr/>
          </p:nvPicPr>
          <p:blipFill>
            <a:blip r:embed="rId7"/>
            <a:stretch/>
          </p:blipFill>
          <p:spPr>
            <a:xfrm>
              <a:off x="1984680" y="3755880"/>
              <a:ext cx="1025280" cy="13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36"/>
            <p:cNvSpPr/>
            <p:nvPr/>
          </p:nvSpPr>
          <p:spPr>
            <a:xfrm>
              <a:off x="1258560" y="4984560"/>
              <a:ext cx="2436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сурсов(40 лет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0"/>
          <p:cNvGrpSpPr/>
          <p:nvPr/>
        </p:nvGrpSpPr>
        <p:grpSpPr>
          <a:xfrm>
            <a:off x="3927240" y="3809880"/>
            <a:ext cx="2079720" cy="2365920"/>
            <a:chOff x="3927240" y="3809880"/>
            <a:chExt cx="2079720" cy="2365920"/>
          </a:xfrm>
        </p:grpSpPr>
        <p:pic>
          <p:nvPicPr>
            <p:cNvPr id="139" name="Object 38" descr=""/>
            <p:cNvPicPr/>
            <p:nvPr/>
          </p:nvPicPr>
          <p:blipFill>
            <a:blip r:embed="rId8"/>
            <a:stretch/>
          </p:blipFill>
          <p:spPr>
            <a:xfrm>
              <a:off x="4381560" y="3809880"/>
              <a:ext cx="12096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9"/>
            <p:cNvSpPr/>
            <p:nvPr/>
          </p:nvSpPr>
          <p:spPr>
            <a:xfrm>
              <a:off x="3927240" y="4984560"/>
              <a:ext cx="207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одород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ло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43"/>
          <p:cNvGrpSpPr/>
          <p:nvPr/>
        </p:nvGrpSpPr>
        <p:grpSpPr>
          <a:xfrm>
            <a:off x="6727680" y="3809880"/>
            <a:ext cx="1422720" cy="1968480"/>
            <a:chOff x="6727680" y="3809880"/>
            <a:chExt cx="1422720" cy="1968480"/>
          </a:xfrm>
        </p:grpSpPr>
        <p:pic>
          <p:nvPicPr>
            <p:cNvPr id="142" name="Object 41" descr=""/>
            <p:cNvPicPr/>
            <p:nvPr/>
          </p:nvPicPr>
          <p:blipFill>
            <a:blip r:embed="rId9"/>
            <a:stretch/>
          </p:blipFill>
          <p:spPr>
            <a:xfrm>
              <a:off x="6819480" y="3809880"/>
              <a:ext cx="113148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42"/>
            <p:cNvSpPr/>
            <p:nvPr/>
          </p:nvSpPr>
          <p:spPr>
            <a:xfrm>
              <a:off x="6727680" y="4952880"/>
              <a:ext cx="142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ыруб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еса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46" name="WordArt 4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4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47" name="Object 5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6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49" name="Group 7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50" name="Group 8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51" name="Object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Object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" name="AutoShape 11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4" name="Object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Line 13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Text Box 14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2454840" y="3657600"/>
            <a:ext cx="1888560" cy="2197080"/>
            <a:chOff x="2454840" y="3657600"/>
            <a:chExt cx="1888560" cy="2197080"/>
          </a:xfrm>
        </p:grpSpPr>
        <p:pic>
          <p:nvPicPr>
            <p:cNvPr id="158" name="Object 25" descr=""/>
            <p:cNvPicPr/>
            <p:nvPr/>
          </p:nvPicPr>
          <p:blipFill>
            <a:blip r:embed="rId7"/>
            <a:stretch/>
          </p:blipFill>
          <p:spPr>
            <a:xfrm>
              <a:off x="2666880" y="3657600"/>
              <a:ext cx="167652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6"/>
            <p:cNvSpPr/>
            <p:nvPr/>
          </p:nvSpPr>
          <p:spPr>
            <a:xfrm>
              <a:off x="2454840" y="5029200"/>
              <a:ext cx="188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тмосфер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29"/>
          <p:cNvGrpSpPr/>
          <p:nvPr/>
        </p:nvGrpSpPr>
        <p:grpSpPr>
          <a:xfrm>
            <a:off x="5725080" y="3581280"/>
            <a:ext cx="2120760" cy="2680560"/>
            <a:chOff x="5725080" y="3581280"/>
            <a:chExt cx="2120760" cy="2680560"/>
          </a:xfrm>
        </p:grpSpPr>
        <p:pic>
          <p:nvPicPr>
            <p:cNvPr id="161" name="Object 24" descr=""/>
            <p:cNvPicPr/>
            <p:nvPr/>
          </p:nvPicPr>
          <p:blipFill>
            <a:blip r:embed="rId8"/>
            <a:stretch/>
          </p:blipFill>
          <p:spPr>
            <a:xfrm>
              <a:off x="6103800" y="3581280"/>
              <a:ext cx="12794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28"/>
            <p:cNvSpPr/>
            <p:nvPr/>
          </p:nvSpPr>
          <p:spPr>
            <a:xfrm>
              <a:off x="5725080" y="5070600"/>
              <a:ext cx="212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д Миров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кеан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WordArt 21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4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65" name="Group 23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66" name="Group 24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67" name="Group 25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68" name="Object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Object 2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AutoShape 28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1" name="Object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Line 30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Text Box 31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34"/>
          <p:cNvGrpSpPr/>
          <p:nvPr/>
        </p:nvGrpSpPr>
        <p:grpSpPr>
          <a:xfrm>
            <a:off x="1371600" y="2825640"/>
            <a:ext cx="3088080" cy="1974960"/>
            <a:chOff x="1371600" y="2825640"/>
            <a:chExt cx="3088080" cy="1974960"/>
          </a:xfrm>
        </p:grpSpPr>
        <p:sp>
          <p:nvSpPr>
            <p:cNvPr id="175" name="WordArt 32"/>
            <p:cNvSpPr txBox="1"/>
            <p:nvPr/>
          </p:nvSpPr>
          <p:spPr>
            <a:xfrm>
              <a:off x="1371600" y="3505320"/>
              <a:ext cx="19051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астна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деятельност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еловек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76" name="AutoShape 33"/>
            <p:cNvSpPr/>
            <p:nvPr/>
          </p:nvSpPr>
          <p:spPr>
            <a:xfrm rot="19674600">
              <a:off x="3429000" y="3047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38"/>
          <p:cNvGrpSpPr/>
          <p:nvPr/>
        </p:nvGrpSpPr>
        <p:grpSpPr>
          <a:xfrm>
            <a:off x="3809880" y="3429000"/>
            <a:ext cx="4191120" cy="1371600"/>
            <a:chOff x="3809880" y="3429000"/>
            <a:chExt cx="4191120" cy="1371600"/>
          </a:xfrm>
        </p:grpSpPr>
        <p:sp>
          <p:nvSpPr>
            <p:cNvPr id="178" name="AutoShape 36"/>
            <p:cNvSpPr/>
            <p:nvPr/>
          </p:nvSpPr>
          <p:spPr>
            <a:xfrm flipH="1">
              <a:off x="3809880" y="38862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WordArt 37"/>
            <p:cNvSpPr txBox="1"/>
            <p:nvPr/>
          </p:nvSpPr>
          <p:spPr>
            <a:xfrm>
              <a:off x="5029200" y="3429000"/>
              <a:ext cx="297180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Обще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должно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регулироват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180" name="WordArt 39"/>
          <p:cNvSpPr txBox="1"/>
          <p:nvPr/>
        </p:nvSpPr>
        <p:spPr>
          <a:xfrm>
            <a:off x="3029040" y="4800600"/>
            <a:ext cx="245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99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Проблема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99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1" name="WordArt 40"/>
          <p:cNvSpPr txBox="1"/>
          <p:nvPr/>
        </p:nvSpPr>
        <p:spPr>
          <a:xfrm>
            <a:off x="1219320" y="5486400"/>
            <a:ext cx="2019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185e18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Arial"/>
              </a:rPr>
              <a:t>Зеле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185e18"/>
                  </a:gs>
                  <a:gs pos="100000">
                    <a:srgbClr val="33cc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82" name="Group 45"/>
          <p:cNvGrpSpPr/>
          <p:nvPr/>
        </p:nvGrpSpPr>
        <p:grpSpPr>
          <a:xfrm>
            <a:off x="3886200" y="4952880"/>
            <a:ext cx="4834440" cy="1557000"/>
            <a:chOff x="3886200" y="4952880"/>
            <a:chExt cx="4834440" cy="1557000"/>
          </a:xfrm>
        </p:grpSpPr>
        <p:grpSp>
          <p:nvGrpSpPr>
            <p:cNvPr id="183" name="Group 43"/>
            <p:cNvGrpSpPr/>
            <p:nvPr/>
          </p:nvGrpSpPr>
          <p:grpSpPr>
            <a:xfrm>
              <a:off x="5334120" y="4952880"/>
              <a:ext cx="3386520" cy="1557000"/>
              <a:chOff x="5334120" y="4952880"/>
              <a:chExt cx="3386520" cy="1557000"/>
            </a:xfrm>
          </p:grpSpPr>
          <p:pic>
            <p:nvPicPr>
              <p:cNvPr id="184" name="Object 4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81480"/>
                <a:ext cx="81576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Text Box 42"/>
              <p:cNvSpPr/>
              <p:nvPr/>
            </p:nvSpPr>
            <p:spPr>
              <a:xfrm>
                <a:off x="6293520" y="4952880"/>
                <a:ext cx="2427120" cy="1557000"/>
              </a:xfrm>
              <a:prstGeom prst="rect">
                <a:avLst/>
              </a:prstGeom>
              <a:solidFill>
                <a:srgbClr val="33cc33"/>
              </a:solidFill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Закрытие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ажных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мышленных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бъек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AutoShape 44"/>
            <p:cNvSpPr/>
            <p:nvPr/>
          </p:nvSpPr>
          <p:spPr>
            <a:xfrm>
              <a:off x="3886200" y="5562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33cc33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WordArt 3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4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90" name="Group 5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91" name="Group 6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92" name="Object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Object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AutoShape 9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5" name="Object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Line 1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Text Box 12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WordArt 13"/>
          <p:cNvSpPr txBox="1"/>
          <p:nvPr/>
        </p:nvSpPr>
        <p:spPr>
          <a:xfrm>
            <a:off x="3797280" y="3162240"/>
            <a:ext cx="1542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000099"/>
                    </a:gs>
                    <a:gs pos="100000">
                      <a:srgbClr val="006600"/>
                    </a:gs>
                  </a:gsLst>
                  <a:lin ang="5400000"/>
                </a:gradFill>
                <a:latin typeface="Arial"/>
              </a:rPr>
              <a:t>Выхо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50000">
                    <a:srgbClr val="000099"/>
                  </a:gs>
                  <a:gs pos="100000">
                    <a:srgbClr val="006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99" name="Group 14"/>
          <p:cNvGrpSpPr/>
          <p:nvPr/>
        </p:nvGrpSpPr>
        <p:grpSpPr>
          <a:xfrm>
            <a:off x="840960" y="3657600"/>
            <a:ext cx="1767240" cy="2238480"/>
            <a:chOff x="840960" y="3657600"/>
            <a:chExt cx="1767240" cy="2238480"/>
          </a:xfrm>
        </p:grpSpPr>
        <p:pic>
          <p:nvPicPr>
            <p:cNvPr id="200" name="Object 15" descr=""/>
            <p:cNvPicPr/>
            <p:nvPr/>
          </p:nvPicPr>
          <p:blipFill>
            <a:blip r:embed="rId6"/>
            <a:stretch/>
          </p:blipFill>
          <p:spPr>
            <a:xfrm>
              <a:off x="990360" y="3657600"/>
              <a:ext cx="148752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6"/>
            <p:cNvSpPr/>
            <p:nvPr/>
          </p:nvSpPr>
          <p:spPr>
            <a:xfrm>
              <a:off x="840960" y="5070600"/>
              <a:ext cx="17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мкнуты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икл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17"/>
          <p:cNvGrpSpPr/>
          <p:nvPr/>
        </p:nvGrpSpPr>
        <p:grpSpPr>
          <a:xfrm>
            <a:off x="2516760" y="3733920"/>
            <a:ext cx="2146680" cy="2334240"/>
            <a:chOff x="2516760" y="3733920"/>
            <a:chExt cx="2146680" cy="2334240"/>
          </a:xfrm>
        </p:grpSpPr>
        <p:pic>
          <p:nvPicPr>
            <p:cNvPr id="203" name="Object 18" descr=""/>
            <p:cNvPicPr/>
            <p:nvPr/>
          </p:nvPicPr>
          <p:blipFill>
            <a:blip r:embed="rId7"/>
            <a:stretch/>
          </p:blipFill>
          <p:spPr>
            <a:xfrm>
              <a:off x="2971800" y="3733920"/>
              <a:ext cx="12859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9"/>
            <p:cNvSpPr/>
            <p:nvPr/>
          </p:nvSpPr>
          <p:spPr>
            <a:xfrm>
              <a:off x="2516760" y="4876920"/>
              <a:ext cx="214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логическ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берегающ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20"/>
          <p:cNvGrpSpPr/>
          <p:nvPr/>
        </p:nvGrpSpPr>
        <p:grpSpPr>
          <a:xfrm>
            <a:off x="4602240" y="3733920"/>
            <a:ext cx="2024640" cy="1984320"/>
            <a:chOff x="4602240" y="3733920"/>
            <a:chExt cx="2024640" cy="1984320"/>
          </a:xfrm>
        </p:grpSpPr>
        <p:pic>
          <p:nvPicPr>
            <p:cNvPr id="206" name="Object 21" descr=""/>
            <p:cNvPicPr/>
            <p:nvPr/>
          </p:nvPicPr>
          <p:blipFill>
            <a:blip r:embed="rId8"/>
            <a:stretch/>
          </p:blipFill>
          <p:spPr>
            <a:xfrm>
              <a:off x="5057640" y="3733920"/>
              <a:ext cx="114300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22"/>
            <p:cNvSpPr/>
            <p:nvPr/>
          </p:nvSpPr>
          <p:spPr>
            <a:xfrm>
              <a:off x="4602240" y="4892760"/>
              <a:ext cx="202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езотходны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5991120" y="3429000"/>
            <a:ext cx="2921040" cy="2928600"/>
            <a:chOff x="5991120" y="3429000"/>
            <a:chExt cx="2921040" cy="2928600"/>
          </a:xfrm>
        </p:grpSpPr>
        <p:pic>
          <p:nvPicPr>
            <p:cNvPr id="209" name="Object 23" descr=""/>
            <p:cNvPicPr/>
            <p:nvPr/>
          </p:nvPicPr>
          <p:blipFill>
            <a:blip r:embed="rId9"/>
            <a:stretch/>
          </p:blipFill>
          <p:spPr>
            <a:xfrm>
              <a:off x="6826320" y="3429000"/>
              <a:ext cx="117468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24"/>
            <p:cNvSpPr/>
            <p:nvPr/>
          </p:nvSpPr>
          <p:spPr>
            <a:xfrm>
              <a:off x="5991120" y="4800600"/>
              <a:ext cx="2921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сстановитель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WordArt 26"/>
          <p:cNvSpPr txBox="1"/>
          <p:nvPr/>
        </p:nvSpPr>
        <p:spPr>
          <a:xfrm>
            <a:off x="1143000" y="6095880"/>
            <a:ext cx="75373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Экологическая экспертиза проэктов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Экологические катастроф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3" name="Picture 2" descr="D:\Documents and Settings\Admin\Рабочий стол\ingressimage_bird.jpg"/>
          <p:cNvPicPr/>
          <p:nvPr/>
        </p:nvPicPr>
        <p:blipFill>
          <a:blip r:embed="rId1"/>
          <a:stretch/>
        </p:blipFill>
        <p:spPr>
          <a:xfrm>
            <a:off x="5143680" y="1785960"/>
            <a:ext cx="3047760" cy="4357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D:\Documents and Settings\Admin\Рабочий стол\543418_3.jpg"/>
          <p:cNvPicPr/>
          <p:nvPr/>
        </p:nvPicPr>
        <p:blipFill>
          <a:blip r:embed="rId2"/>
          <a:stretch/>
        </p:blipFill>
        <p:spPr>
          <a:xfrm>
            <a:off x="1494000" y="1785960"/>
            <a:ext cx="30286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Авария на Чернобыльской АЭ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6" name="Picture 2" descr="D:\Documents and Settings\Admin\Рабочий стол\12314_4630e3c403dc4.jpg"/>
          <p:cNvPicPr/>
          <p:nvPr/>
        </p:nvPicPr>
        <p:blipFill>
          <a:blip r:embed="rId1"/>
          <a:stretch/>
        </p:blipFill>
        <p:spPr>
          <a:xfrm>
            <a:off x="1214280" y="1785960"/>
            <a:ext cx="3413160" cy="4357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D:\Documents and Settings\Admin\Рабочий стол\d6e60d7a19a369334431d38cb8e.jpg"/>
          <p:cNvPicPr/>
          <p:nvPr/>
        </p:nvPicPr>
        <p:blipFill>
          <a:blip r:embed="rId2"/>
          <a:stretch/>
        </p:blipFill>
        <p:spPr>
          <a:xfrm>
            <a:off x="5214960" y="1785960"/>
            <a:ext cx="3286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AdmiN</cp:lastModifiedBy>
  <dcterms:modified xsi:type="dcterms:W3CDTF">2017-05-20T13:32:43Z</dcterms:modified>
  <cp:revision>98</cp:revision>
  <dc:subject/>
  <dc:title>ОСОБЕННОСТИ ДРЕВНИХ ЦИВИЛИЗАЦИЙ.</dc:title>
</cp:coreProperties>
</file>