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BB8-1DD5-4A11-9EEE-46E0AC45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A56-6C3D-40C3-8563-9834FC46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B42-DA98-43BE-A38D-0E6BF65B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536-3D84-47B4-93C9-43CCD642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05B-7D69-449F-AAC4-19749E1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10F-92A6-466D-B8BC-BACB290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AD1-0CDE-42DB-8321-5E30D71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49B-432C-4979-94E8-B5640699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62E-0CB7-4543-8B0C-AA90DF4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E0E-7CE8-48D4-8BED-EC9F824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F59-8797-4837-BA19-3C514A5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C89-28B6-42DB-8582-16E32F5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239-5481-4ACC-B2E2-B6864EA3233B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740-9E44-4F1D-99B4-05F10D30118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ЖОНАТАН СВИФТ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Я ГУЛЛИВЕРА»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7E5-A3D2-4030-96F8-264D44A39A5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978-5-389-00579-2_large"/>
          <p:cNvPicPr/>
          <p:nvPr/>
        </p:nvPicPr>
        <p:blipFill>
          <a:blip r:embed="rId1"/>
          <a:stretch/>
        </p:blipFill>
        <p:spPr>
          <a:xfrm>
            <a:off x="3146400" y="2743200"/>
            <a:ext cx="2927520" cy="373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192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лливер попросил капитана отпустить его на берег вместе с матросами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питан прекрасно знал, что его ученый спутник для того и отправился в далекое путешествие, чтобы повидать чужие края, и охотно отпустил его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 баркас причалил к берегу, и Гулливер первым выскочил на мокрые камни. Вокруг было совсем пусто и тихо. Ни лодки, ни рыбачьей хижины, ни рощицы вд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оисках пресной воды матросы разбрелись по берегу, и Гулливер остался один. Он побрел наугад, с любопытством оглядывая новые места, но не увидел ровно ничего интересного. Всюду - направо и налево - тянулась бесплодная, скалистая пусты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A13-B55A-47EE-9C7C-B7A4D78514C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240" y="311040"/>
            <a:ext cx="83818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ЛЫЙ И НЕДОВОЛЬНЫЙ, ГУЛЛИВЕР МЕДЛЕННО ЗАШАГАЛ НАЗАД, К БУХТ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 РАССТИЛАЛОСЬ ПЕРЕД НИМ СУРОВОЕ, СЕРОЕ, НЕПРИВЕТЛИВОЕ. ГУЛЛИВЕР ОБОГНУЛ КАКОЙ-ТО ОГРОМНЫЙ КАМЕНЬ И ВДРУГ ОСТАНОВИЛСЯ, ИСПУГАННЫЙ И УДИВЛЕННЫ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? МАТРОСЫ УЖЕ СЕЛИ В БАРКАС И ЧТО ЕСТЬ СИЛЫ ГРЕБУТ К СУДНУ. КАК ЖЕ ЭТО ОНИ ОСТАВИЛИ ЕГО ОДНОГО НА БЕРЕГУ? ЧТО СЛУЧИЛО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ЛЛИВЕР ХОТЕЛ ГРОМКО ЗАКРИЧАТЬ, ОКЛИКНУТЬ МАТРОСОВ, НО ЯЗЫК У НЕГО ВО РТУ СЛОВНО ОКАМЕНЕ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МУДРЕНО. ИЗ-ЗА ПРИБРЕЖНОЙ СКАЛЫ ВНЕЗАПНО ВЫШЕЛ ЧЕЛОВЕК ОГРОМНОГО РОСТА - САМ НЕ МЕНЬШЕ ЭТОЙ СКАЛЫ - И ПОГНАЛСЯ ЗА ЛОДКОЙ. МОРЕ ЕДВА ДОХОДИЛО ЕМУ ДО КОЛЕН. ОН ДЕЛАЛ ГРОМАДНЫЕ ШАГИ. ЕЩЕ ДВА-ТРИ ТАКИХ ШАГА, И ОН БЫ СХВАТИЛ БАРКАС ЗА КОРМУ. НО, ВИДНО, ОСТРЫЕ КАМНИ НА ДНЕ МЕШАЛИ ЕМУ ИДТИ. ОН ОСТАНОВИЛСЯ, МАХНУЛ РУКОЙ И ПОВЕРНУЛ К БЕРЕ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5FE6-FAC3-45D2-8EEC-F76C4F1EF2B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625560" y="990720"/>
            <a:ext cx="5365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ем путешествии Гулливер посещает летающий остров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ут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емлю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льдбругов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ы этих стран извратили историю, без конца ее переписывая, познали проклятье желанного бессмер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60A0-6DEE-475A-8DF2-4B9E8CF7848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laputa1"/>
          <p:cNvPicPr/>
          <p:nvPr/>
        </p:nvPicPr>
        <p:blipFill>
          <a:blip r:embed="rId1"/>
          <a:stretch/>
        </p:blipFill>
        <p:spPr>
          <a:xfrm>
            <a:off x="304920" y="1004760"/>
            <a:ext cx="3168360" cy="4191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1920" y="199800"/>
            <a:ext cx="8610840" cy="65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ва я высадился на остров, как меня окружила толпа народа; стоявшие ко мне поближе, по-видимому, принадлежали к высшему классу. Все рассматривали меня с знаками величайшего удивления; но и сам я не был в долгу в этом отношении, потому что мне никогда еще не приходилось видеть смертных, которые бы так поражали своей фигурой, одеждой и выражением лиц. У всех головы были скошены направо или налево; один глаз смотрел внутрь, а другой прямо вверх к зениту. Их верхняя одежда была украшена изображениями солнца, луны, звезд вперемежку с изображениями скрипки, флейты, арфы, трубы, гитары, клавикордов и многих других музыкальных инструментов, неизвестных в Европе. Я заметил поодаль множество людей в одежде слуг с наполненными воздухом пузырями, прикрепленными наподобие бичей к концам коротких палок, которые они держали в рук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E1A-F26B-4367-825C-8DF7AA9A591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52280" y="29016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остальные части их тела были голые, так что я мог видеть кожу темно-коричневого цвета. Хвоста у них не было, и ягодицы были голые, исключая места вокруг заднего прохода; я полагаю, что природа покрыла эти места волосами, чтобы предохранить их во время сидения на земле; ибо эти существа сидели, лежали и часто становились на задние лапы. Вооруженные сильно развитыми крючковатыми и заостренными когтями на передних и задних лапах, они с ловкостью белки карабкались на самые высокие деревья. Они часто прыгали, скакали и бегали с удивительным проворством. Самки были несколько меньше самцов; на голове у них росли длинные гладкие волосы, но лица были чистые, а другие части тела были покрыты только легким пушком, кроме заднепроходного отверстия и срамных частей; вымя их висело между передними лапами и часто, когда они ползли на четвереньках, почти касалось земли. Волосы как у самцов, так и у самок были различных цветов: коричневые, черные, красные и желтые. В общем, я никогда еще во все мои путешествия не встречал более безобразного животного, которое с первого же взгляда вызывало бы к себе такое отвращени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2F4-1385-4EBC-9FBC-96618ADFFB7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85840" y="3045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48A8-9394-4DB1-BF9F-813544B850F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swift6"/>
          <p:cNvPicPr/>
          <p:nvPr/>
        </p:nvPicPr>
        <p:blipFill>
          <a:blip r:embed="rId1"/>
          <a:srcRect l="3968" t="2602" r="0" b="8178"/>
          <a:stretch/>
        </p:blipFill>
        <p:spPr>
          <a:xfrm>
            <a:off x="173160" y="1295280"/>
            <a:ext cx="3173400" cy="449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2" name="Rectangle 16"/>
          <p:cNvSpPr/>
          <p:nvPr/>
        </p:nvSpPr>
        <p:spPr>
          <a:xfrm>
            <a:off x="3352680" y="1824480"/>
            <a:ext cx="54864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ливер совершает путешествие в страну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игнгнмо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равят благородные и разумные лошади, которым прислуживают человекоподобные йе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8320" y="307440"/>
            <a:ext cx="8358120" cy="616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Местность была пересечена длинными рядами деревьев, которые, по-видимому, были посажены здесь не рукою человека, а природой; между деревьями расстилались большие луга и поля, засеянные овсом. Я осторожно подвигался вперед, оглядываясь по сторонам из боязни, как бы кто-нибудь не напал на меня врасплох или не подстрелил сзади или сбоку из лука. Через несколько времени я вышел на проезжую дорогу, на которой заметил много следов человеческих ног, несколько коровьих, но больше всего лошадиных. Наконец я увидел в поле каких-то животных; два или три таких же животных сидели на деревьях. Их крайне странная и безобразная внешность несколько смутила меня, и я прилег за кустом, чтобы лучше их разглядеть. Некоторые подошли близко к тому месту, где я лежал, так что я мог видеть их очень отчетливо. Голова и грудь у них были покрыты густыми волосами — у одних вьющимися, у других гладкими; бороды их напоминали козлиные; вдоль спины и передней части лап тянулись узкие полоски шер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5768-81B6-4BD9-823A-86FABAA0AE4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остальные части их тела были голые, так что я мог видеть кожу темно-коричневого цвета. Хвоста у них не было, и ягодицы были голые, исключая места вокруг заднего прохода; я полагаю, что природа покрыла эти места волосами, чтобы предохранить их во время сидения на земле; ибо эти существа сидели, лежали и часто становились на задние лапы. Вооруженные сильно развитыми крючковатыми и заостренными когтями на передних и задних лапах, они с ловкостью белки карабкались на самые высокие деревья. Они часто прыгали, скакали и бегали с удивительным проворством. Самки были несколько меньше самцов; на голове у них росли длинные гладкие волосы, но лица были чистые, а другие части тела были покрыты только легким пушком, кроме заднепроходного отверстия и срамных частей; вымя их висело между передними лапами и часто, когда они ползли на четвереньках, почти касалось земли. Волосы как у самцов, так и у самок были различных цветов: коричневые, черные, красные и желтые. В общем, я никогда еще во все мои путешествия не встречал более безобразного животного, которое с первого же взгляда вызывало бы к себе такое отвращени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A4B2-7118-4905-B505-4B68FD65BBF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Главная мысль произведен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722240"/>
            <a:ext cx="8305920" cy="46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амое главное в книге Свифта сохранилось на века: жгучая ненависть к тунеядцам, уважение и любовь к честным труженикам, руками которых в мире созданы все материальные бла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ж. Свифт описывает несправедливое, жестокое правление, нравы, порядки Анг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051-2185-40D4-ADBE-EE4977DEE6B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 Light"/>
              </a:rPr>
              <a:t>Расскажи по иллюстрации  в какой стране оказался Гулливер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A05-C7B2-4E12-BEDB-EE64B08CBD3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Картинки по запросу гулливер в стране лилипутов"/>
          <p:cNvPicPr/>
          <p:nvPr/>
        </p:nvPicPr>
        <p:blipFill>
          <a:blip r:embed="rId1"/>
          <a:stretch/>
        </p:blipFill>
        <p:spPr>
          <a:xfrm>
            <a:off x="1219320" y="1370160"/>
            <a:ext cx="70102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161640"/>
            <a:ext cx="624852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Словарь</a:t>
            </a: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112536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лыш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заостренные пал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лча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футляр для стр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металис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беспокойно задвигались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ассыпную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разбежались в разные сто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пь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старинное оружие колющ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мос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возвышение, площадка из до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лажива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приделыв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ито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свернутая трубочкой рукопись на полосе бума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льчик-паж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молодой человек из дворян, состоящий при знатной осо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3C6-6A01-4E37-9F27-B4E6E8F74D2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5FDD-EB89-4F59-99D4-81D0F1823C9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219320" y="762120"/>
            <a:ext cx="705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FB18-E3E1-485F-8107-BA1C243486F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Картинки по запросу гулливер лапута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276-8412-439A-9530-B7EB16BF344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2438280" y="554040"/>
            <a:ext cx="40388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1722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АТАН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ФТ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101-0CD2-4046-BD03-98733C77AE7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ze1"/>
          <p:cNvPicPr/>
          <p:nvPr/>
        </p:nvPicPr>
        <p:blipFill>
          <a:blip r:embed="rId1"/>
          <a:srcRect l="0" t="0" r="7194" b="0"/>
          <a:stretch/>
        </p:blipFill>
        <p:spPr>
          <a:xfrm>
            <a:off x="380880" y="2503440"/>
            <a:ext cx="3025800" cy="418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0" name="Rectangle 6"/>
          <p:cNvSpPr/>
          <p:nvPr/>
        </p:nvSpPr>
        <p:spPr>
          <a:xfrm>
            <a:off x="3809880" y="3561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1667–174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7A1-6C8C-4E45-907A-CC4C55D3638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1200240"/>
            <a:ext cx="3692520" cy="4682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" name="Прямоугольник 2"/>
          <p:cNvSpPr/>
          <p:nvPr/>
        </p:nvSpPr>
        <p:spPr>
          <a:xfrm>
            <a:off x="4173480" y="1341360"/>
            <a:ext cx="495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30 ноября 1667 в Дублине в английской семье. Воспитанием Джонатана занимался его дядя, Годуин Свиф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533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Путешествия Гулливера» Свифт писал 12 лет. </a:t>
            </a:r>
            <a:br>
              <a:rPr sz="3100"/>
            </a:br>
            <a:r>
              <a:rPr b="1" lang="ru-RU" sz="3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r>
              <a:rPr b="1" lang="ru-RU" sz="3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700"/>
            </a:br>
            <a:r>
              <a:rPr b="1" lang="ru-RU" sz="1700" spc="-1" strike="noStrike">
                <a:solidFill>
                  <a:srgbClr val="800000"/>
                </a:solidFill>
                <a:latin typeface="Calibri"/>
              </a:rPr>
              <a:t>     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9E46-4892-4686-B02B-1ECC6E6FFF5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jonathan_swift_01(3)"/>
          <p:cNvPicPr/>
          <p:nvPr/>
        </p:nvPicPr>
        <p:blipFill>
          <a:blip r:embed="rId1"/>
          <a:stretch/>
        </p:blipFill>
        <p:spPr>
          <a:xfrm>
            <a:off x="685800" y="2362320"/>
            <a:ext cx="3114720" cy="388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TextBox 1"/>
          <p:cNvSpPr/>
          <p:nvPr/>
        </p:nvSpPr>
        <p:spPr>
          <a:xfrm>
            <a:off x="4495680" y="327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ЖАНР: САТ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0600" y="685800"/>
            <a:ext cx="8871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утешествия Гулливера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е только рассказ о забавных похождениях, но и глубокая сат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тир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 литературы, специфическими формами обличающая и высмеивающая пороки людей и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9FC4-1E82-48D0-8E23-0B116393123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3D67-814A-4331-8DFF-D27D15CFED8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52525"/>
          <p:cNvPicPr/>
          <p:nvPr/>
        </p:nvPicPr>
        <p:blipFill>
          <a:blip r:embed="rId1"/>
          <a:stretch/>
        </p:blipFill>
        <p:spPr>
          <a:xfrm>
            <a:off x="1905120" y="457200"/>
            <a:ext cx="4800600" cy="6076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81280" y="966600"/>
            <a:ext cx="51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Гулливер попадает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липутию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 карл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BF7-FDBA-40D0-9BC9-46EC39F232F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960480"/>
            <a:ext cx="3135240" cy="510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8680" y="1295280"/>
            <a:ext cx="498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он посещает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обдингнег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ану огромных великан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 славит перед ними Англию, это потешает их так же, как его смешило тщеславие лилипу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72BF-10C1-438A-A9A6-DBA81CB35A8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gulliver"/>
          <p:cNvPicPr/>
          <p:nvPr/>
        </p:nvPicPr>
        <p:blipFill>
          <a:blip r:embed="rId1"/>
          <a:srcRect l="0" t="3608" r="0" b="0"/>
          <a:stretch/>
        </p:blipFill>
        <p:spPr>
          <a:xfrm>
            <a:off x="297000" y="1295280"/>
            <a:ext cx="3624120" cy="3813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Костя</cp:lastModifiedBy>
  <dcterms:modified xsi:type="dcterms:W3CDTF">2017-05-04T17:32:0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