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445-C641-4D63-AE59-B3498EE9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19D-D667-470D-BC6B-D46F0C9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ECD-5253-42D0-9E63-E8A6732A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F61-A8E8-49EF-A8F0-BC5D83F8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71F-FC1E-4651-B4A5-ED5DE618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5F3-1DB2-43D5-8E80-168085B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F8E-DBB7-4401-B040-E81075A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E9B-3BD4-4C48-9872-1E0A18E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641-25A8-44BB-87AB-55F21C3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712-FE16-4AF2-81E9-197AD37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B93-42E2-4C75-B1D9-66D4D27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7BB-7884-45BA-9E9C-3412C55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9F4-22F7-4CB6-AC69-00678F05B26B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97BD-AD62-497B-B154-2C1FEED9EFE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ЖОНАТАН СВИФТ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Я ГУЛЛИВЕРА»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E259-BA70-40A8-B14A-EDC3BEB069F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978-5-389-00579-2_large"/>
          <p:cNvPicPr/>
          <p:nvPr/>
        </p:nvPicPr>
        <p:blipFill>
          <a:blip r:embed="rId1"/>
          <a:stretch/>
        </p:blipFill>
        <p:spPr>
          <a:xfrm>
            <a:off x="3146400" y="2743200"/>
            <a:ext cx="2927520" cy="373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192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лливер попросил капитана отпустить его на берег вместе с матросами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питан прекрасно знал, что его ученый спутник для того и отправился в далекое путешествие, чтобы повидать чужие края, и охотно отпустил его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 баркас причалил к берегу, и Гулливер первым выскочил на мокрые камни. Вокруг было совсем пусто и тихо. Ни лодки, ни рыбачьей хижины, ни рощицы вд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оисках пресной воды матросы разбрелись по берегу, и Гулливер остался один. Он побрел наугад, с любопытством оглядывая новые места, но не увидел ровно ничего интересного. Всюду - направо и налево - тянулась бесплодная, скалистая пусты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D93-4BDB-4A14-A791-43AF6848C8A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240" y="311040"/>
            <a:ext cx="83818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ЛЫЙ И НЕДОВОЛЬНЫЙ, ГУЛЛИВЕР МЕДЛЕННО ЗАШАГАЛ НАЗАД, К БУХТ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 РАССТИЛАЛОСЬ ПЕРЕД НИМ СУРОВОЕ, СЕРОЕ, НЕПРИВЕТЛИВОЕ. ГУЛЛИВЕР ОБОГНУЛ КАКОЙ-ТО ОГРОМНЫЙ КАМЕНЬ И ВДРУГ ОСТАНОВИЛСЯ, ИСПУГАННЫЙ И УДИВЛЕННЫ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? МАТРОСЫ УЖЕ СЕЛИ В БАРКАС И ЧТО ЕСТЬ СИЛЫ ГРЕБУТ К СУДНУ. КАК ЖЕ ЭТО ОНИ ОСТАВИЛИ ЕГО ОДНОГО НА БЕРЕГУ? ЧТО СЛУЧИЛО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ЛЛИВЕР ХОТЕЛ ГРОМКО ЗАКРИЧАТЬ, ОКЛИКНУТЬ МАТРОСОВ, НО ЯЗЫК У НЕГО ВО РТУ СЛОВНО ОКАМЕНЕ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МУДРЕНО. ИЗ-ЗА ПРИБРЕЖНОЙ СКАЛЫ ВНЕЗАПНО ВЫШЕЛ ЧЕЛОВЕК ОГРОМНОГО РОСТА - САМ НЕ МЕНЬШЕ ЭТОЙ СКАЛЫ - И ПОГНАЛСЯ ЗА ЛОДКОЙ. МОРЕ ЕДВА ДОХОДИЛО ЕМУ ДО КОЛЕН. ОН ДЕЛАЛ ГРОМАДНЫЕ ШАГИ. ЕЩЕ ДВА-ТРИ ТАКИХ ШАГА, И ОН БЫ СХВАТИЛ БАРКАС ЗА КОРМУ. НО, ВИДНО, ОСТРЫЕ КАМНИ НА ДНЕ МЕШАЛИ ЕМУ ИДТИ. ОН ОСТАНОВИЛСЯ, МАХНУЛ РУКОЙ И ПОВЕРНУЛ К БЕРЕ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882-ACA5-490C-8FB7-5C365508BF0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625560" y="990720"/>
            <a:ext cx="5365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ем путешествии Гулливер посещает летающий остров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ут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емлю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льдбругов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ы этих стран извратили историю, без конца ее переписывая, познали проклятье желанного бессмер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6C9-8DEF-4B3D-B491-DF352D05232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laputa1"/>
          <p:cNvPicPr/>
          <p:nvPr/>
        </p:nvPicPr>
        <p:blipFill>
          <a:blip r:embed="rId1"/>
          <a:stretch/>
        </p:blipFill>
        <p:spPr>
          <a:xfrm>
            <a:off x="304920" y="1004760"/>
            <a:ext cx="3168360" cy="4191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1920" y="199800"/>
            <a:ext cx="8610840" cy="65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ва я высадился на остров, как меня окружила толпа народа; стоявшие ко мне поближе, по-видимому, принадлежали к высшему классу. Все рассматривали меня с знаками величайшего удивления; но и сам я не был в долгу в этом отношении, потому что мне никогда еще не приходилось видеть смертных, которые бы так поражали своей фигурой, одеждой и выражением лиц. У всех головы были скошены направо или налево; один глаз смотрел внутрь, а другой прямо вверх к зениту. Их верхняя одежда была украшена изображениями солнца, луны, звезд вперемежку с изображениями скрипки, флейты, арфы, трубы, гитары, клавикордов и многих других музыкальных инструментов, неизвестных в Европе. Я заметил поодаль множество людей в одежде слуг с наполненными воздухом пузырями, прикрепленными наподобие бичей к концам коротких палок, которые они держали в рук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172-380B-469A-B411-715E5639C33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52280" y="29016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остальные части их тела были голые, так что я мог видеть кожу темно-коричневого цвета. Хвоста у них не было, и ягодицы были голые, исключая места вокруг заднего прохода; я полагаю, что природа покрыла эти места волосами, чтобы предохранить их во время сидения на земле; ибо эти существа сидели, лежали и часто становились на задние лапы. Вооруженные сильно развитыми крючковатыми и заостренными когтями на передних и задних лапах, они с ловкостью белки карабкались на самые высокие деревья. Они часто прыгали, скакали и бегали с удивительным проворством. Самки были несколько меньше самцов; на голове у них росли длинные гладкие волосы, но лица были чистые, а другие части тела были покрыты только легким пушком, кроме заднепроходного отверстия и срамных частей; вымя их висело между передними лапами и часто, когда они ползли на четвереньках, почти касалось земли. Волосы как у самцов, так и у самок были различных цветов: коричневые, черные, красные и желтые. В общем, я никогда еще во все мои путешествия не встречал более безобразного животного, которое с первого же взгляда вызывало бы к себе такое отвращени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E08-C885-4B66-B52A-69D5F0BA967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85840" y="3045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8B1-B0D8-4D81-A2C8-4C4DE6F6332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swift6"/>
          <p:cNvPicPr/>
          <p:nvPr/>
        </p:nvPicPr>
        <p:blipFill>
          <a:blip r:embed="rId1"/>
          <a:srcRect l="3968" t="2602" r="0" b="8178"/>
          <a:stretch/>
        </p:blipFill>
        <p:spPr>
          <a:xfrm>
            <a:off x="173160" y="1295280"/>
            <a:ext cx="3173400" cy="449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2" name="Rectangle 16"/>
          <p:cNvSpPr/>
          <p:nvPr/>
        </p:nvSpPr>
        <p:spPr>
          <a:xfrm>
            <a:off x="3352680" y="1824480"/>
            <a:ext cx="54864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ливер совершает путешествие в страну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игнгнмо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равят благородные и разумные лошади, которым прислуживают человекоподобные йе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8320" y="307440"/>
            <a:ext cx="8358120" cy="616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Местность была пересечена длинными рядами деревьев, которые, по-видимому, были посажены здесь не рукою человека, а природой; между деревьями расстилались большие луга и поля, засеянные овсом. Я осторожно подвигался вперед, оглядываясь по сторонам из боязни, как бы кто-нибудь не напал на меня врасплох или не подстрелил сзади или сбоку из лука. Через несколько времени я вышел на проезжую дорогу, на которой заметил много следов человеческих ног, несколько коровьих, но больше всего лошадиных. Наконец я увидел в поле каких-то животных; два или три таких же животных сидели на деревьях. Их крайне странная и безобразная внешность несколько смутила меня, и я прилег за кустом, чтобы лучше их разглядеть. Некоторые подошли близко к тому месту, где я лежал, так что я мог видеть их очень отчетливо. Голова и грудь у них были покрыты густыми волосами — у одних вьющимися, у других гладкими; бороды их напоминали козлиные; вдоль спины и передней части лап тянулись узкие полоски шер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54B7-1C2F-427C-9842-5E8939A5095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остальные части их тела были голые, так что я мог видеть кожу темно-коричневого цвета. Хвоста у них не было, и ягодицы были голые, исключая места вокруг заднего прохода; я полагаю, что природа покрыла эти места волосами, чтобы предохранить их во время сидения на земле; ибо эти существа сидели, лежали и часто становились на задние лапы. Вооруженные сильно развитыми крючковатыми и заостренными когтями на передних и задних лапах, они с ловкостью белки карабкались на самые высокие деревья. Они часто прыгали, скакали и бегали с удивительным проворством. Самки были несколько меньше самцов; на голове у них росли длинные гладкие волосы, но лица были чистые, а другие части тела были покрыты только легким пушком, кроме заднепроходного отверстия и срамных частей; вымя их висело между передними лапами и часто, когда они ползли на четвереньках, почти касалось земли. Волосы как у самцов, так и у самок были различных цветов: коричневые, черные, красные и желтые. В общем, я никогда еще во все мои путешествия не встречал более безобразного животного, которое с первого же взгляда вызывало бы к себе такое отвращени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422-A4F0-4F31-8C51-E07AFB31B85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Главная мысль произведен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722240"/>
            <a:ext cx="8305920" cy="46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амое главное в книге Свифта сохранилось на века: жгучая ненависть к тунеядцам, уважение и любовь к честным труженикам, руками которых в мире созданы все материальные бла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ж. Свифт описывает несправедливое, жестокое правление, нравы, порядки Анг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FDCD-A840-4CE3-A933-F696C74B4B3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 Light"/>
              </a:rPr>
              <a:t>Расскажи по иллюстрации  в какой стране оказался Гулливер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9EA-6979-40F9-96AD-2C5A7FB5AE8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Картинки по запросу гулливер в стране лилипутов"/>
          <p:cNvPicPr/>
          <p:nvPr/>
        </p:nvPicPr>
        <p:blipFill>
          <a:blip r:embed="rId1"/>
          <a:stretch/>
        </p:blipFill>
        <p:spPr>
          <a:xfrm>
            <a:off x="1219320" y="1370160"/>
            <a:ext cx="70102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161640"/>
            <a:ext cx="624852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Словарь</a:t>
            </a: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112536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лыш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заостренные пал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лча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футляр для стр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металис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беспокойно задвигались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ассыпную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разбежались в разные сто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пь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старинное оружие колющ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мос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возвышение, площадка из до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лажива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приделыв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ито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свернутая трубочкой рукопись на полосе бума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льчик-паж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молодой человек из дворян, состоящий при знатной осо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CA9E-BB06-4655-8798-D5C99656D91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13FC-7F49-4435-9B6A-5D94BB8F72D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219320" y="762120"/>
            <a:ext cx="705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19AD-14FD-4690-A3C9-D2086BD741B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Картинки по запросу гулливер лапута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5AE-CCDF-40A2-A094-616739A9590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2438280" y="554040"/>
            <a:ext cx="40388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1722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АТАН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ФТ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1A0-CB22-4537-A945-245363CF177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ze1"/>
          <p:cNvPicPr/>
          <p:nvPr/>
        </p:nvPicPr>
        <p:blipFill>
          <a:blip r:embed="rId1"/>
          <a:srcRect l="0" t="0" r="7194" b="0"/>
          <a:stretch/>
        </p:blipFill>
        <p:spPr>
          <a:xfrm>
            <a:off x="380880" y="2503440"/>
            <a:ext cx="3025800" cy="418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0" name="Rectangle 6"/>
          <p:cNvSpPr/>
          <p:nvPr/>
        </p:nvSpPr>
        <p:spPr>
          <a:xfrm>
            <a:off x="3809880" y="3561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1667–174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84D-EE91-4AEC-8B68-484D7C4CB0B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1200240"/>
            <a:ext cx="3692520" cy="4682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" name="Прямоугольник 2"/>
          <p:cNvSpPr/>
          <p:nvPr/>
        </p:nvSpPr>
        <p:spPr>
          <a:xfrm>
            <a:off x="4173480" y="1341360"/>
            <a:ext cx="495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30 ноября 1667 в Дублине в английской семье. Воспитанием Джонатана занимался его дядя, Годуин Свиф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533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Путешествия Гулливера» Свифт писал 12 лет. </a:t>
            </a:r>
            <a:br>
              <a:rPr sz="3100"/>
            </a:br>
            <a:r>
              <a:rPr b="1" lang="ru-RU" sz="3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r>
              <a:rPr b="1" lang="ru-RU" sz="3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700"/>
            </a:br>
            <a:r>
              <a:rPr b="1" lang="ru-RU" sz="1700" spc="-1" strike="noStrike">
                <a:solidFill>
                  <a:srgbClr val="800000"/>
                </a:solidFill>
                <a:latin typeface="Calibri"/>
              </a:rPr>
              <a:t>     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19BC-0DCA-49E1-9AC2-31495EB9606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jonathan_swift_01(3)"/>
          <p:cNvPicPr/>
          <p:nvPr/>
        </p:nvPicPr>
        <p:blipFill>
          <a:blip r:embed="rId1"/>
          <a:stretch/>
        </p:blipFill>
        <p:spPr>
          <a:xfrm>
            <a:off x="685800" y="2362320"/>
            <a:ext cx="3114720" cy="388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TextBox 1"/>
          <p:cNvSpPr/>
          <p:nvPr/>
        </p:nvSpPr>
        <p:spPr>
          <a:xfrm>
            <a:off x="4495680" y="327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ЖАНР: САТ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0600" y="685800"/>
            <a:ext cx="8871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я Гулливера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е только рассказ о забавных похождениях, но и глубокая сат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тир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 литературы, специфическими формами обличающая и высмеивающая пороки людей и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2BB-FE31-4AC5-A92D-6E024EC2270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00FA-227A-4855-8ED8-E41DE193EBA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52525"/>
          <p:cNvPicPr/>
          <p:nvPr/>
        </p:nvPicPr>
        <p:blipFill>
          <a:blip r:embed="rId1"/>
          <a:stretch/>
        </p:blipFill>
        <p:spPr>
          <a:xfrm>
            <a:off x="1905120" y="457200"/>
            <a:ext cx="4800600" cy="6076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81280" y="966600"/>
            <a:ext cx="51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Гулливер попадает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липутию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 карл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FE12-47F5-4D70-B87D-3C342F71058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960480"/>
            <a:ext cx="3135240" cy="510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8680" y="1295280"/>
            <a:ext cx="498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он посещает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обдингнег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ану огромных великан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 славит перед ними Англию, это потешает их так же, как его смешило тщеславие лилипу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D984-D8E9-459B-A287-3BDFE47F3CC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gulliver"/>
          <p:cNvPicPr/>
          <p:nvPr/>
        </p:nvPicPr>
        <p:blipFill>
          <a:blip r:embed="rId1"/>
          <a:srcRect l="0" t="3608" r="0" b="0"/>
          <a:stretch/>
        </p:blipFill>
        <p:spPr>
          <a:xfrm>
            <a:off x="297000" y="1295280"/>
            <a:ext cx="3624120" cy="3813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Костя</cp:lastModifiedBy>
  <dcterms:modified xsi:type="dcterms:W3CDTF">2017-05-04T17:32:0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