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228-824F-4000-8D1C-3DD31D7F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0EC-1363-4B55-8222-BA557A3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817-0D37-4DD8-B34D-4796EABD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7EF-0EDB-4E26-AB07-DF6F868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256-F1F1-4CF5-8085-35939E0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248-0429-40D4-8853-7613B004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0E0-5DF3-4C2F-A12B-E63B8EF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9E1-2BA3-4282-BC1C-F80B62DF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627-FEEF-4745-9055-4BFD033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627-9DAB-4D43-8F08-FCE83D8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220-27D8-4C0D-AF03-2142E98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58-2744-4F12-8198-5B3B19A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5F84-7FE4-481B-9DDE-0EA40572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89000"/>
            <a:ext cx="83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ы постоянно участвуем в действиях, связанных с передачей информации. Передача информации идет при чтении книг, при просмотре телепереда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й процесс передачи информации можно упрощенно представить следующей схем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573360"/>
            <a:ext cx="252072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точ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860640"/>
            <a:ext cx="3529080" cy="720720"/>
          </a:xfrm>
          <a:prstGeom prst="rightArrow">
            <a:avLst>
              <a:gd name="adj1" fmla="val 50000"/>
              <a:gd name="adj2" fmla="val 122415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формацион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3645000"/>
            <a:ext cx="2521080" cy="11509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е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8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смотрим несколько ситуаций, связанных с передачей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997360"/>
            <a:ext cx="835344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Просмотр телепере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лены семьи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иемник информации (различн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левизор – источ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125360"/>
            <a:ext cx="835344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При переходе дороги на регулируемом перекрест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 - прием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фор – источни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86900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Играя в компьютерную иг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 - 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ьютер  – 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125360"/>
            <a:ext cx="849600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997360"/>
            <a:ext cx="8496000" cy="179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496000" cy="179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9280" y="189000"/>
            <a:ext cx="878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передавали информацию в прош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34136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воначально люди использовали лишь средства ближней связи –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чь, слух, з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 надвигающейся опасности можно было предупредить с помощью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рика,  звука барабана, дым ко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ля передачи информации на дальние расстояния использовал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онц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79280" y="189000"/>
            <a:ext cx="878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ы для повтор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341360"/>
            <a:ext cx="8642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Приведите пример обмена информацией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Чем отличается источник информации от прием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Вспоните сказку А.С.Пушкина о царе Салтане. Пока Салтан воевал, царица родила сына – царевича Гвид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2924280"/>
            <a:ext cx="338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Шлет с письмом она гон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тоб порадовать от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 ткачиха с поварих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 сватьей бабой Бабари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звести ее хот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еренять гонца вел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ами шлют гонца другог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877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зовите источник информации, ее приемник и информационный канал. Кто в данной ситуации создавал помехи для качественной передачи информ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18900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ьте на следующие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170028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 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Какие действия человек совер-шает с информаци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Как человек хранит информа-ц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17640"/>
            <a:ext cx="660096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333360"/>
            <a:ext cx="244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ля хранения информации человек придумал различные информационные носители. На рисунке изображены некоторые из них. Назовите эти но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17640"/>
            <a:ext cx="6600960" cy="68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89000"/>
            <a:ext cx="273672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Перечислите старинные носи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Перечислите современные носи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Каков Ваш прогноз о будущем информационных нос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СИТЕЛ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ие магнитные ди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4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яется устройством, постоянно установленным в компьютерной системе. Его используют для хранения данных, доступ к которым требуется часто. На жестком диске хранят компоненты операционной системы, прикладные программы, документы, архивы программ и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в основном жёсткие диски ёмкостью от 40 Гб до 300 Гб. Наиболее популярными являются диски ёмкостью 80, 160 Г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32720" y="177336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 носители известны вс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5240" y="160020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5240" y="3943440"/>
            <a:ext cx="2820960" cy="218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57800" y="3943440"/>
            <a:ext cx="282096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lash –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памя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Кто ещё не знает что такое «фле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s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амять это энергозависимый тип памяти, позволяющий записывать и хранить данные в микросхемах. Обеспечивают высокую сохранность данных, а также очень удобны и просты в использ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9760" y="2301840"/>
            <a:ext cx="403704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47628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5:24:55Z</dcterms:created>
  <dc:creator>катюша</dc:creator>
  <dc:description/>
  <dc:language>en-US</dc:language>
  <cp:lastModifiedBy>Катерина</cp:lastModifiedBy>
  <dcterms:modified xsi:type="dcterms:W3CDTF">2010-11-26T11:43:28Z</dcterms:modified>
  <cp:revision>7</cp:revision>
  <dc:subject/>
  <dc:title>Слайд 1</dc:title>
</cp:coreProperties>
</file>