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B96B-4CF0-4174-B40E-B854D9DC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6D0-FF63-4834-AEE8-A2FA574B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751-CA08-4CAE-88AC-F7354C98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A82-63E0-4520-BE42-7C87050E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B5AF-6C76-4D11-A4DF-053D2E85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95D-C1CF-4662-B41A-0893F03C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7B0D-B174-4DBF-A112-3A74F98D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33BD-971B-4878-9173-A142A279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8002-761A-469A-9F14-EB9E5234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C7A6-07FD-422B-A75C-D5790F47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F3A-9047-44B6-8263-A8611E33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8FB6-0652-46D9-915B-FAB776A4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6DD7-70E7-4FC2-85BD-419EA3A94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476280"/>
            <a:ext cx="770400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ФОРМ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189000"/>
            <a:ext cx="8353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ы постоянно участвуем в действиях, связанных с передачей информации. Передача информации идет при чтении книг, при просмотре телепередач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юбой процесс передачи информации можно упрощенно представить следующей схем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3573360"/>
            <a:ext cx="2520720" cy="1150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сточн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3860640"/>
            <a:ext cx="3529080" cy="720720"/>
          </a:xfrm>
          <a:prstGeom prst="rightArrow">
            <a:avLst>
              <a:gd name="adj1" fmla="val 50000"/>
              <a:gd name="adj2" fmla="val 122415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нформацион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3645000"/>
            <a:ext cx="2521080" cy="115092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ем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189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ссмотрим несколько ситуаций, связанных с передачей информ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2997360"/>
            <a:ext cx="8353440" cy="18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 Просмотр телепере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лены семьи -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риемник информации (различны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елевизор – источник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125360"/>
            <a:ext cx="8353440" cy="18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При переходе дороги на регулируемом перекрест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 - приемник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етофор – источник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4869000"/>
            <a:ext cx="8353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. Играя в компьютерную иг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 - 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мпьютер  – ………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125360"/>
            <a:ext cx="8496000" cy="1798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2997360"/>
            <a:ext cx="8496000" cy="1798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4869000"/>
            <a:ext cx="8496000" cy="1798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79280" y="189000"/>
            <a:ext cx="8785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передавали информацию в прошл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341360"/>
            <a:ext cx="86421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ервоначально люди использовали лишь средства ближней связи –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речь, слух, зр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 надвигающейся опасности можно было предупредить с помощью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крика,  звука барабана, дым кост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ля передачи информации на дальние расстояния использовали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гонц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79280" y="189000"/>
            <a:ext cx="8785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ы для повторе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341360"/>
            <a:ext cx="86421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Приведите пример обмена информацией между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Чем отличается источник информации от прием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Вспоните сказку А.С.Пушкина о царе Салтане. Пока Салтан воевал, царица родила сына – царевича Гвид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2924280"/>
            <a:ext cx="3384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Шлет с письмом она гон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Чтоб порадовать от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 ткачиха с поварих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 сватьей бабой Бабарих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звести ее хотя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еренять гонца веля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ами шлют гонца другого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587700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зовите источник информации, ее приемник и информационный канал. Кто в данной ситуации создавал помехи для качественной передачи информ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1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1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1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1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24000" y="189000"/>
            <a:ext cx="78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ветьте на следующие вопрос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2360" y="1700280"/>
            <a:ext cx="91440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 Что такое информац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 Какие действия человек совер-шает с информацие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 Как человек хранит информа-цию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68360" y="17640"/>
            <a:ext cx="6600960" cy="6840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333360"/>
            <a:ext cx="244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ля хранения информации человек придумал различные информационные носители. На рисунке изображены некоторые из них. Назовите эти нос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68360" y="17640"/>
            <a:ext cx="6600960" cy="6840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89000"/>
            <a:ext cx="2736720" cy="60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Перечислите старинные носите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Перечислите современные носите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Каков Ваш прогноз о будущем информационных носител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11280" y="476280"/>
            <a:ext cx="770400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ОСИТЕЛ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ФОРМА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сткие магнитные дис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45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вляется устройством, постоянно установленным в компьютерной системе. Его используют для хранения данных, доступ к которым требуется часто. На жестком диске хранят компоненты операционной системы, прикладные программы, документы, архивы программ и доку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стоящее время используются в основном жёсткие диски ёмкостью от 40 Гб до 300 Гб. Наиболее популярными являются диски ёмкостью 80, 160 Г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732720" y="177336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и носители известны всем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5240" y="1600200"/>
            <a:ext cx="2820960" cy="2182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820960" cy="218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65240" y="3943440"/>
            <a:ext cx="2820960" cy="2182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257800" y="3943440"/>
            <a:ext cx="2820960" cy="21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Flash –</a:t>
            </a: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 памя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Кто ещё не знает что такое «флеш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s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амять это энергозависимый тип памяти, позволяющий записывать и хранить данные в микросхемах. Обеспечивают высокую сохранность данных, а также очень удобны и просты в использо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9760" y="2301840"/>
            <a:ext cx="4037040" cy="31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11280" y="476280"/>
            <a:ext cx="770400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ДАЧ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ФОРМА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05:24:55Z</dcterms:created>
  <dc:creator>катюша</dc:creator>
  <dc:description/>
  <dc:language>en-US</dc:language>
  <cp:lastModifiedBy>Катерина</cp:lastModifiedBy>
  <dcterms:modified xsi:type="dcterms:W3CDTF">2010-11-26T11:43:28Z</dcterms:modified>
  <cp:revision>7</cp:revision>
  <dc:subject/>
  <dc:title>Слайд 1</dc:title>
</cp:coreProperties>
</file>