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D87-6745-49EC-8D03-9FA50F85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551-65F6-4DE9-9B3C-43EF06C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3ED-7DAC-4F30-92C6-1FEA6AC3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D24-0889-42B5-A78D-910F09F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6D90-7876-4E19-8037-1AF46C2A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B0F-6170-4452-9405-069A54AC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01AE-1DEC-494C-BD92-54077CA4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58CA-62DA-4CF1-8DF1-4D2DD17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737-1C32-4F1F-B939-5F0AA5A3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C892-FAB3-436E-9DCD-A63B441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5D36-F906-484D-BE5A-25484445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4F4-A32D-4C36-BD76-C7EEC020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53C3-E9D1-487D-8EE8-9E2883C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B243-9452-455C-A18A-52EB48F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884D-8BCB-4DA6-BF49-93CDD4D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5FC-2D81-4277-A28A-CE9C4AC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461-A2C4-4A10-9D8C-E18CBCBA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50D-2721-4916-9871-DCA9455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A63-730C-4EB9-88B4-3705420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8B7-97D7-4309-B9BD-968220EF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B8F-8100-4C0D-B8A1-F955B69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6BF-31C6-4E90-9DCD-27A7C70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A13-6900-4B85-B677-531C962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F97-A6E6-45C9-8871-825F464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98BA-7BFB-4EE7-BB28-CA8790B5D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BCB-FA61-4B56-B20A-4688BFC00391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520" y="214308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6300" spc="-1" strike="noStrike">
                <a:solidFill>
                  <a:srgbClr val="336600"/>
                </a:solidFill>
                <a:latin typeface="Times New Roman"/>
              </a:rPr>
              <a:t>Киһи этин хаанын тутула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5" name="Picture 5" descr="nervstm"/>
          <p:cNvPicPr/>
          <p:nvPr/>
        </p:nvPicPr>
        <p:blipFill>
          <a:blip r:embed="rId1"/>
          <a:stretch/>
        </p:blipFill>
        <p:spPr>
          <a:xfrm>
            <a:off x="4986360" y="620640"/>
            <a:ext cx="3906720" cy="561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Mozg"/>
          <p:cNvPicPr/>
          <p:nvPr/>
        </p:nvPicPr>
        <p:blipFill>
          <a:blip r:embed="rId2"/>
          <a:stretch/>
        </p:blipFill>
        <p:spPr>
          <a:xfrm>
            <a:off x="357120" y="1357200"/>
            <a:ext cx="4238640" cy="3333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1441440" y="6922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Ньиэрбэ тиһигэ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1428840" y="5286240"/>
            <a:ext cx="100008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2857680" y="5286240"/>
            <a:ext cx="135720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000240" y="5429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и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1428840" y="5286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ff0000"/>
                </a:solidFill>
                <a:latin typeface="Arial"/>
              </a:rPr>
              <a:t>Сис мэйи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4680"/>
            <a:ext cx="9144000" cy="6880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39640" y="260280"/>
            <a:ext cx="7848720" cy="811440"/>
          </a:xfrm>
          <a:prstGeom prst="rect">
            <a:avLst/>
          </a:prstGeom>
          <a:gradFill rotWithShape="0">
            <a:gsLst>
              <a:gs pos="0">
                <a:srgbClr val="79a2ca"/>
              </a:gs>
              <a:gs pos="50000">
                <a:srgbClr val="99ccff"/>
              </a:gs>
              <a:gs pos="100000">
                <a:srgbClr val="79a2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000000"/>
                </a:solidFill>
                <a:latin typeface="Arial"/>
              </a:rPr>
              <a:t>Доруобуйаҕа эккэ –хааҥҥа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000000"/>
                </a:solidFill>
                <a:latin typeface="Arial"/>
              </a:rPr>
              <a:t>сыһыаннаах өс хоһооннор, сүбэлэр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285840" y="1214280"/>
            <a:ext cx="57862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Күн, сир, уу-эн саамай чугас доҕотторун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286080" y="2071800"/>
            <a:ext cx="53276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Доруобай киһи-дьоллоох киһи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642960" y="5500800"/>
            <a:ext cx="759780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руобуйаны харыстаныы уонна көрүнүү ГИГИЕНАНЫ тутуһу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14200" y="2857680"/>
            <a:ext cx="7000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Тиискин куннэ иккитэ суунаргын, утуйар кэмнин,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аьылыккын,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ыраас салгынна сылдьаргын умнума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2714760" y="4214880"/>
            <a:ext cx="532764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Куруук ыраас, чиргэл сырыт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426680" y="33336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Киһи этин-хаанын үөрэтэр наукала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1547640" y="249228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211640" y="249228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6730920" y="249228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900000" y="148428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АНАТОМИ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564000" y="148428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ФИЗИОЛОГИ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084720" y="1484280"/>
            <a:ext cx="1872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ГИГИЕН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611280" y="3429000"/>
            <a:ext cx="2520720" cy="295272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301">
                <a:moveTo>
                  <a:pt x="3600" y="0"/>
                </a:moveTo>
                <a:arcTo wR="3600" hR="3600" stAng="16200000" swAng="-5400000"/>
                <a:lnTo>
                  <a:pt x="0" y="21701"/>
                </a:lnTo>
                <a:arcTo wR="3600" hR="3600" stAng="10800000" swAng="-5400000"/>
                <a:lnTo>
                  <a:pt x="18000" y="25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000" spc="-1" strike="noStrike">
                <a:solidFill>
                  <a:srgbClr val="000000"/>
                </a:solidFill>
                <a:latin typeface="Arial"/>
              </a:rPr>
              <a:t>Киһи ис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000" spc="-1" strike="noStrike">
                <a:solidFill>
                  <a:srgbClr val="000000"/>
                </a:solidFill>
                <a:latin typeface="Arial"/>
              </a:rPr>
              <a:t>уонна тас тутул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3203640" y="3429000"/>
            <a:ext cx="2520720" cy="295272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301">
                <a:moveTo>
                  <a:pt x="3600" y="0"/>
                </a:moveTo>
                <a:arcTo wR="3600" hR="3600" stAng="16200000" swAng="-5400000"/>
                <a:lnTo>
                  <a:pt x="0" y="21701"/>
                </a:lnTo>
                <a:arcTo wR="3600" hR="3600" stAng="10800000" swAng="-5400000"/>
                <a:lnTo>
                  <a:pt x="18000" y="25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Киһи этин-хаанын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иһиктэрэ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уонна тутул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 flipH="1">
            <a:off x="2124000" y="765000"/>
            <a:ext cx="151128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4500720" y="765000"/>
            <a:ext cx="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24360" y="765000"/>
            <a:ext cx="136872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AutoShape 18"/>
          <p:cNvSpPr/>
          <p:nvPr/>
        </p:nvSpPr>
        <p:spPr>
          <a:xfrm>
            <a:off x="5796000" y="3429000"/>
            <a:ext cx="2521080" cy="295272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298">
                <a:moveTo>
                  <a:pt x="3600" y="0"/>
                </a:moveTo>
                <a:arcTo wR="3600" hR="3600" stAng="16200000" swAng="-5400000"/>
                <a:lnTo>
                  <a:pt x="0" y="21698"/>
                </a:lnTo>
                <a:arcTo wR="3600" hR="3600" stAng="10800000" swAng="-5400000"/>
                <a:lnTo>
                  <a:pt x="18000" y="25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Доруобуйаны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арыстаныы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уонна көрүнүү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987640" y="692280"/>
            <a:ext cx="311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4000" spc="-1" strike="noStrike">
                <a:solidFill>
                  <a:srgbClr val="336666"/>
                </a:solidFill>
                <a:latin typeface="Arial"/>
              </a:rPr>
              <a:t>Киһи этин хаанын тутула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116000" y="3429000"/>
            <a:ext cx="3024360" cy="201600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И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4932360" y="3429000"/>
            <a:ext cx="3024360" cy="201600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ТА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195640" y="2565360"/>
            <a:ext cx="720720" cy="719280"/>
          </a:xfrm>
          <a:custGeom>
            <a:avLst/>
            <a:gdLst>
              <a:gd name="textAreaLeft" fmla="*/ 96480 w 720720"/>
              <a:gd name="textAreaRight" fmla="*/ 624240 w 7207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 flipH="1">
            <a:off x="6156360" y="2492280"/>
            <a:ext cx="720720" cy="719280"/>
          </a:xfrm>
          <a:custGeom>
            <a:avLst/>
            <a:gdLst>
              <a:gd name="textAreaLeft" fmla="*/ 96480 w 720720"/>
              <a:gd name="textAreaRight" fmla="*/ 624240 w 7207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0" name="Picture 4" descr="pl_telo-02"/>
          <p:cNvPicPr/>
          <p:nvPr/>
        </p:nvPicPr>
        <p:blipFill>
          <a:blip r:embed="rId1"/>
          <a:stretch/>
        </p:blipFill>
        <p:spPr>
          <a:xfrm>
            <a:off x="4211640" y="0"/>
            <a:ext cx="3852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5003640" y="189000"/>
            <a:ext cx="576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төб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7236000" y="981000"/>
            <a:ext cx="433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мо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7524720" y="148428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түө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4211640" y="2781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ил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7380360" y="5373720"/>
            <a:ext cx="431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ат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7524720" y="2708280"/>
            <a:ext cx="576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и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859280" y="404640"/>
            <a:ext cx="107964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>
            <a:off x="6948000" y="1197000"/>
            <a:ext cx="7923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6732720" y="1773360"/>
            <a:ext cx="1295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6515280" y="2858760"/>
            <a:ext cx="1586520" cy="2761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900000" y="981000"/>
            <a:ext cx="26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600" spc="-1" strike="noStrike">
                <a:solidFill>
                  <a:srgbClr val="336666"/>
                </a:solidFill>
                <a:latin typeface="Arial"/>
              </a:rPr>
              <a:t>Киһи тас тутула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 flipH="1">
            <a:off x="4716360" y="1413000"/>
            <a:ext cx="433440" cy="3095640"/>
          </a:xfrm>
          <a:custGeom>
            <a:avLst/>
            <a:gdLst>
              <a:gd name="textAreaLeft" fmla="*/ 360 w 433440"/>
              <a:gd name="textAreaRight" fmla="*/ 304560 w 43344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AutoShape 31"/>
          <p:cNvSpPr/>
          <p:nvPr/>
        </p:nvSpPr>
        <p:spPr>
          <a:xfrm>
            <a:off x="6816600" y="3645000"/>
            <a:ext cx="433440" cy="3244680"/>
          </a:xfrm>
          <a:custGeom>
            <a:avLst/>
            <a:gdLst>
              <a:gd name="textAreaLeft" fmla="*/ 0 w 433440"/>
              <a:gd name="textAreaRight" fmla="*/ 304200 w 433440"/>
              <a:gd name="textAreaTop" fmla="*/ 135000 h 3244680"/>
              <a:gd name="textAreaBottom" fmla="*/ 3109680 h 32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648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332000" y="260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Киһи ис туту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0" y="514368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иһи ис уонна тас тулун үөрэтэр наука АНАТОМИ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5697360" y="836640"/>
            <a:ext cx="3051360" cy="5184720"/>
            <a:chOff x="5697360" y="836640"/>
            <a:chExt cx="3051360" cy="5184720"/>
          </a:xfrm>
        </p:grpSpPr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913360" y="836640"/>
              <a:ext cx="283536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12"/>
            <p:cNvSpPr/>
            <p:nvPr/>
          </p:nvSpPr>
          <p:spPr>
            <a:xfrm>
              <a:off x="6345000" y="1197000"/>
              <a:ext cx="719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8187120" y="327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5770800" y="24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Line 16"/>
            <p:cNvSpPr/>
            <p:nvPr/>
          </p:nvSpPr>
          <p:spPr>
            <a:xfrm flipV="1">
              <a:off x="5769000" y="2707920"/>
              <a:ext cx="1188720" cy="111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8220240" y="248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18"/>
            <p:cNvSpPr/>
            <p:nvPr/>
          </p:nvSpPr>
          <p:spPr>
            <a:xfrm flipV="1">
              <a:off x="5697360" y="3499920"/>
              <a:ext cx="1189080" cy="111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 flipH="1">
              <a:off x="7497720" y="3573360"/>
              <a:ext cx="10080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>
              <a:off x="5697360" y="4292640"/>
              <a:ext cx="1333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7178400" y="2193840"/>
              <a:ext cx="649440" cy="11127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5b2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29" name="Picture 21" descr=""/>
            <p:cNvPicPr/>
            <p:nvPr/>
          </p:nvPicPr>
          <p:blipFill>
            <a:blip r:embed="rId3"/>
            <a:stretch/>
          </p:blipFill>
          <p:spPr>
            <a:xfrm>
              <a:off x="7137360" y="2492280"/>
              <a:ext cx="368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23"/>
            <p:cNvSpPr/>
            <p:nvPr/>
          </p:nvSpPr>
          <p:spPr>
            <a:xfrm flipH="1">
              <a:off x="7353000" y="2781360"/>
              <a:ext cx="12236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31" name="Picture 24" descr=""/>
            <p:cNvPicPr/>
            <p:nvPr/>
          </p:nvPicPr>
          <p:blipFill>
            <a:blip r:embed="rId4"/>
            <a:stretch/>
          </p:blipFill>
          <p:spPr>
            <a:xfrm>
              <a:off x="7426080" y="1197000"/>
              <a:ext cx="142920" cy="1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Line 25"/>
            <p:cNvSpPr/>
            <p:nvPr/>
          </p:nvSpPr>
          <p:spPr>
            <a:xfrm flipH="1">
              <a:off x="7497720" y="1268280"/>
              <a:ext cx="10080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Text Box 123"/>
            <p:cNvSpPr/>
            <p:nvPr/>
          </p:nvSpPr>
          <p:spPr>
            <a:xfrm>
              <a:off x="814716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Text Box 124"/>
            <p:cNvSpPr/>
            <p:nvPr/>
          </p:nvSpPr>
          <p:spPr>
            <a:xfrm>
              <a:off x="5770800" y="32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Text Box 125"/>
            <p:cNvSpPr/>
            <p:nvPr/>
          </p:nvSpPr>
          <p:spPr>
            <a:xfrm>
              <a:off x="6275520" y="90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126"/>
            <p:cNvSpPr/>
            <p:nvPr/>
          </p:nvSpPr>
          <p:spPr>
            <a:xfrm>
              <a:off x="569916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Text Box 127"/>
            <p:cNvSpPr/>
            <p:nvPr/>
          </p:nvSpPr>
          <p:spPr>
            <a:xfrm>
              <a:off x="8147160" y="1333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38" name="Picture 128" descr="Зубы"/>
            <p:cNvPicPr/>
            <p:nvPr/>
          </p:nvPicPr>
          <p:blipFill>
            <a:blip r:embed="rId5"/>
            <a:stretch/>
          </p:blipFill>
          <p:spPr>
            <a:xfrm>
              <a:off x="7377120" y="1542960"/>
              <a:ext cx="244440" cy="1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Line 14"/>
            <p:cNvSpPr/>
            <p:nvPr/>
          </p:nvSpPr>
          <p:spPr>
            <a:xfrm flipH="1">
              <a:off x="7569000" y="1628640"/>
              <a:ext cx="93672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TextBox 28"/>
          <p:cNvSpPr/>
          <p:nvPr/>
        </p:nvSpPr>
        <p:spPr>
          <a:xfrm>
            <a:off x="785880" y="1000080"/>
            <a:ext cx="43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Курт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Сүрэ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Тыҥ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Хар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Быа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Оһоҕо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Ай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Мэй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19840" y="40464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Киһи уорганын тиһигэ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39640" y="1052640"/>
            <a:ext cx="7848720" cy="576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рэнэр-хамсат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773360"/>
            <a:ext cx="7848720" cy="71892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 буһар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39640" y="2637000"/>
            <a:ext cx="7848720" cy="576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ын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9640" y="3500280"/>
            <a:ext cx="7848720" cy="576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ан эргиирин тиһиг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39640" y="4292640"/>
            <a:ext cx="7848720" cy="576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ьиэрбэ тиһиг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357200" y="55720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һи уорганын уонна тиһигин үөрэтэр нау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ЗИОЛОГИЯ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-357120" y="57168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Тирэнэр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–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хамсатар тиһик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М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анна быччыҥнарбы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уонна уҥуохтарбыт киирэллэр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anatom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26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myshtsy"/>
          <p:cNvPicPr/>
          <p:nvPr/>
        </p:nvPicPr>
        <p:blipFill>
          <a:blip r:embed="rId2"/>
          <a:stretch/>
        </p:blipFill>
        <p:spPr>
          <a:xfrm>
            <a:off x="4427640" y="260280"/>
            <a:ext cx="4551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6200" y="95076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336666"/>
                </a:solidFill>
                <a:latin typeface="Arial"/>
              </a:rPr>
              <a:t>Ас буһар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8" name="Group 17"/>
          <p:cNvGrpSpPr/>
          <p:nvPr/>
        </p:nvGrpSpPr>
        <p:grpSpPr>
          <a:xfrm>
            <a:off x="4011480" y="907920"/>
            <a:ext cx="4611960" cy="4824720"/>
            <a:chOff x="4011480" y="907920"/>
            <a:chExt cx="4611960" cy="4824720"/>
          </a:xfrm>
        </p:grpSpPr>
        <p:pic>
          <p:nvPicPr>
            <p:cNvPr id="159" name="Picture 4" descr="kish"/>
            <p:cNvPicPr/>
            <p:nvPr/>
          </p:nvPicPr>
          <p:blipFill>
            <a:blip r:embed="rId1"/>
            <a:stretch/>
          </p:blipFill>
          <p:spPr>
            <a:xfrm>
              <a:off x="4788000" y="907920"/>
              <a:ext cx="383544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6"/>
            <p:cNvSpPr/>
            <p:nvPr/>
          </p:nvSpPr>
          <p:spPr>
            <a:xfrm flipV="1">
              <a:off x="4211640" y="1474920"/>
              <a:ext cx="2008080" cy="9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5003640" y="1700280"/>
              <a:ext cx="1513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4572000" y="2637000"/>
              <a:ext cx="2016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4572000" y="3789360"/>
              <a:ext cx="237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4788000" y="4581360"/>
              <a:ext cx="1439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4219560" y="112536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6666"/>
                  </a:solidFill>
                  <a:latin typeface="Times New Roman"/>
                </a:rPr>
                <a:t>А</a:t>
              </a: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йах көҥдөйө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5220720" y="1413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бэлэс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4503960" y="22766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куолай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4575600" y="342900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куртах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4011480" y="4214880"/>
              <a:ext cx="188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6666"/>
                  </a:solidFill>
                  <a:latin typeface="Times New Roman"/>
                </a:rPr>
                <a:t>Б</a:t>
              </a: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ыар уонна оһоҕос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2" name="Picture 4" descr="5de0052"/>
          <p:cNvPicPr/>
          <p:nvPr/>
        </p:nvPicPr>
        <p:blipFill>
          <a:blip r:embed="rId1"/>
          <a:stretch/>
        </p:blipFill>
        <p:spPr>
          <a:xfrm>
            <a:off x="2698920" y="189000"/>
            <a:ext cx="6337080" cy="5383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02960" y="620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Тыынар тиһи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3357720" y="1000080"/>
            <a:ext cx="1000080" cy="4287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4214880" y="1785960"/>
            <a:ext cx="785880" cy="35712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3071880" y="2500200"/>
            <a:ext cx="1000080" cy="4287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3000240" y="3500280"/>
            <a:ext cx="857520" cy="50040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7929720" y="2928960"/>
            <a:ext cx="928440" cy="5000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7858080" y="4643280"/>
            <a:ext cx="107172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429000" y="1000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Муру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214880" y="1785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айах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3143160" y="2500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куолай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800100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Тыҥ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14800" cy="6337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996840" y="69228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Хаан эргиирин тиһигэ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928800" y="1428840"/>
            <a:ext cx="107136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7929720" y="2571840"/>
            <a:ext cx="92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1214280" y="2500200"/>
            <a:ext cx="1000440" cy="57168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928800" y="15001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мы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214280" y="25718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рэх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7:06:41Z</dcterms:created>
  <dc:creator>Юля</dc:creator>
  <dc:description/>
  <dc:language>en-US</dc:language>
  <cp:lastModifiedBy>Айыына</cp:lastModifiedBy>
  <dcterms:modified xsi:type="dcterms:W3CDTF">2017-05-18T00:48:47Z</dcterms:modified>
  <cp:revision>53</cp:revision>
  <dc:subject/>
  <dc:title>Организм  человека</dc:title>
</cp:coreProperties>
</file>