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ABFA-CA3B-40AE-8F9E-07783077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110-93C1-4D0E-A431-D047B7FA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C749-F81D-413D-B86B-778E9CF8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765A-F7C1-4DC6-8F63-C243ABFA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015-CDF2-4C54-A2AF-04FD7CD7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B8D-F5C1-461D-95C0-007F76DA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712-2C3B-40A1-9374-28E854DA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C96-679A-411A-BD20-3C9BFE1D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3A7-F05A-4D89-92E5-1BBF1B3D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7FA-AE77-4591-BEB9-2949DE14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888-2C50-4059-B5FF-164B9E43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CF6-5612-42B3-BD71-13EC87C4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2A84-5E02-4C17-905F-C3C421B23F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Windows\System32\Desktop\Олимпиады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Windows\System32\Desktop\Олимпиады\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Windows\System32\Desktop\Олимпиады\Слайд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Windows\System32\Desktop\Олимпиады\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Windows\System32\Desktop\Олимпиады\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Windows\System32\Desktop\Олимпиады\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Windows\System32\Desktop\Олимпиады\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Windows\System32\Desktop\Олимпиады\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6T18:40:00Z</dcterms:created>
  <dc:creator>Екатерина Нуриева</dc:creator>
  <dc:description/>
  <dc:language>en-US</dc:language>
  <cp:lastModifiedBy>Администратор</cp:lastModifiedBy>
  <dcterms:modified xsi:type="dcterms:W3CDTF">2017-05-18T20:10:07Z</dcterms:modified>
  <cp:revision>5</cp:revision>
  <dc:subject/>
  <dc:title>Олимпиады для младших школьников</dc:title>
</cp:coreProperties>
</file>