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22D-B5E9-4320-9598-C356DE6C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89C-592B-4585-8EEB-FB991B0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B49-A16F-42C7-8CAD-9549AC7E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6F9-0D5A-425A-A949-FA1EA83D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F92-630C-4D48-AF9F-FCAD4E72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07C-6ED5-49D5-8D2E-A0474B3C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847-D7AE-4C0A-B9BC-3341857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896-828F-4671-9444-43BE539E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D34-BA42-48FB-BADD-BC767DF1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E4A-5706-4700-8397-A3180EE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436-CB48-40DF-9BB4-AA54B57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2B7-0F26-48D6-BA3A-B1BF5B6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4BF-7ED2-4C52-9C21-ADDD97305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Windows\System32\Desktop\Олимпиады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Windows\System32\Desktop\Олимпиады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Windows\System32\Desktop\Олимпиады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Windows\System32\Desktop\Олимпиады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Windows\System32\Desktop\Олимпиады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Windows\System32\Desktop\Олимпиады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Windows\System32\Desktop\Олимпиады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Windows\System32\Desktop\Олимпиады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18:40:00Z</dcterms:created>
  <dc:creator>Екатерина Нуриева</dc:creator>
  <dc:description/>
  <dc:language>en-US</dc:language>
  <cp:lastModifiedBy>Администратор</cp:lastModifiedBy>
  <dcterms:modified xsi:type="dcterms:W3CDTF">2017-05-18T20:10:07Z</dcterms:modified>
  <cp:revision>5</cp:revision>
  <dc:subject/>
  <dc:title>Олимпиады для младших школьников</dc:title>
</cp:coreProperties>
</file>