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73B-7320-4898-85BC-09CF5C8E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0CA-33E0-4433-8FDE-F28D6F26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779FC-22D8-4E5B-ACDB-4323C0FA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27808-FEA3-4FAE-B681-4B6FACFE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4D7A7-DED3-4295-A892-2CCD3CF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F79B-72E9-42B8-83EC-6D28420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98109-1416-4DD8-A37F-55217A16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D37A-6354-4CA1-AF02-4F43E07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0F590-C4FA-441F-B554-8414674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042DA-F80C-474E-9BE5-8A03DF83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9E66-DC31-485D-9542-E104836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C55-A4C1-4B8D-86A4-DBEAE8B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14E-8C3E-4B78-B8C4-781A49A8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0E52-827D-44F5-8110-C4FD25C3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008-87BC-4B10-8921-F56848F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679-0742-4770-9D54-2AA62CB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DE0F-31DB-47B4-BEA0-90CCF38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42D-AEA6-4CAE-8B37-CB3BB0D6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F908-EA32-4FBA-956E-A793CBD4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C0C5-4289-4B42-8DBD-3909136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D4F-9BD0-42AA-A8D4-7B68F0BE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A492-B1D5-464F-B9A8-E285B97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A97F-88FF-4161-991E-CB1D4A6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96F-8AB1-4525-A0EA-7AB8129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FCF-67BC-4593-B5B6-05AF1C4A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215B-4613-47C7-B678-76E6219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39EC-0235-4417-BD4F-A9EA34BD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5D0D-B5D6-43B0-A5F9-AB54FAE5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9104-DC20-4040-A104-6A1550E1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E1FB-D2E2-4A96-868F-DFFAD8E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BE3C-28DF-48E0-98A6-49E6EE1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99A-F573-431F-9BE7-57B65F3D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D6E0-C14C-4AB4-B34C-66D865D9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1316-7D2B-40B6-B3C3-3409A2A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8D43-9441-4B20-9919-82239B4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E3C1-D8AC-4739-94F0-F977621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FD4C-4D8A-4E61-B85E-F936D57B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E62E-1EA0-4021-80D1-9EA2796D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3C20-4055-4C51-8C57-D447E367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F85F-B3A1-4633-B35E-BB7D892D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5782-1BBF-46E5-99C3-2DBC835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8ECF-ED29-4D7C-B7B6-DBF087D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FEE-108A-4E6C-A71C-DBFB8F7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6E5B-36DB-4667-AE61-1BBAA04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E097-C184-446D-81E6-46FAC35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E802-8F41-4511-BE4F-E07F97DA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E26E-CFF5-4EB5-A75D-3F5C074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53AE-34E1-4272-9FE3-07FFD76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BA43-27BF-4B85-B083-BEE9A89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CE57-403A-4D08-B6CB-53E4CDDF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B674-790A-4676-AAE1-BD797BD8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5611-C87E-47C3-934B-6D6AD370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0839-2EFF-4F34-841F-BE771E65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99F-980B-43B0-B4CE-9E577EAC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81B6F-7F14-4833-96BB-D06AA1D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2FC0-155F-4420-AAD2-4EB0AFE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0BCE-5645-4E74-A39E-73EDC7D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3AFB-5A04-4F4C-B5CD-B0429D8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FB7B-D1E7-486E-B69C-491F9D9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13BD-EE4F-404C-9D72-9A601C5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96C9-296D-4E47-BA41-34C9FDF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4AC0-0414-491B-9D5B-0BF91A9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C674-2008-428F-AC67-85F5E4A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62ED-5CE1-4976-AD8A-358A90F6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B12-A6F9-4E0B-88A4-0FC8367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57D6-E741-469B-8230-98A4616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CA68-BEA2-493F-95EC-D56F3696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0162-415F-4A6E-B1BD-3F341460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DE5F-8400-470F-824A-3125258F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BB9D-3783-42CF-9DC9-381F3D0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A351-5720-49AF-86EC-E376AB8A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CCDF-41A0-4453-9070-A02EBB6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FBB9-BBBE-4889-9083-4EDCA50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9957E-EA6A-47B6-B3E8-3ECAF34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AC70-E225-4C09-9C68-D04924B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F8D-FC12-401D-87DE-BBBD72A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6279-FE8A-4082-BB73-4E1E100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3894-6106-40F6-BADD-F8F46B44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09EF-5C64-42BE-B253-8E0296DD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C4AA-9298-4629-BEF3-DDADFC5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3C37-F1C2-4C3B-9EA2-4593D33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2EDB-209B-49DB-96B8-3B000BB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B34E-035A-4BD6-AC17-D8C45C5B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D392-846C-4D70-B1B4-474B3B37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135C-FBB1-426A-B5D1-EB6E54E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95E6-8597-44D6-B8B1-8153E65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F1A-F85B-43FE-BB1A-EF0A470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7742-BA88-4496-A580-96DA3B8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EE76-60C4-47A5-8AC4-60BE2B9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A2EB-9665-40EC-9E5B-43795504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0189-CBDC-4196-B070-510C1EC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7083-2C46-4CC4-A4FD-D74C12D7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F74F-44B9-428D-A433-EE947CA3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5F559-0511-4B5F-BBC3-4E28C150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8E02-09F2-49F2-A154-8FEFA4FF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EA2C-89A1-48C4-87AF-051B898D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4AE0-6C93-4B61-A4A8-3CB3778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C20-ABC2-4807-975E-F911349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2A44B-11A6-4236-B715-543E542D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0252-EFF0-4F7B-8AFA-E98F0D8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3CF1D-1AF0-4D80-9E3D-8E51BF8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5E0FA-C32F-4C31-B9B6-3AA728D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5BAF-3AA8-4331-A6F5-D5B55108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B7885-684E-407D-A477-452CB01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6F3D-AA2C-409A-BA8C-F4D05A05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B354-126C-45A7-BADF-D91EEC8D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9DA5C-EC2D-4BF3-BB09-0E7AF0F5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704DD-4937-4F1A-B3B4-384B9602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1F24-C57E-47C2-95A7-7833539D290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057C-16CC-41B3-B791-80845CDE4F59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D30-41C8-48E9-93F2-607695FEC1E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329F-1E3D-4E00-8102-07A2C5D9B2D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94C-C589-4515-9267-B3BB0E7A91FB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CC4E-1895-4DEB-80CC-6E3D4F88565B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E82-791A-4BBA-A26B-423C60BCDB2A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34B2-A8C8-4056-8EEA-3C997A0EFA6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DC4C-5137-4B33-8BA7-3437A1C49EAD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mega-talant.co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leve.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ir-olimpiad.ru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syndychok-znaniy.ru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m.kirov.ru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kotofeyy.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avika.ru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7800" y="2214720"/>
            <a:ext cx="115826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Franklin Gothic Book"/>
              </a:rPr>
              <a:t>Олимпиады для обучения начальной школы</a:t>
            </a:r>
            <a:endParaRPr b="0" lang="en-US" sz="54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38080" y="4924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660240" y="4868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1" name="Picture 2" descr="Картинки по запросу мое образование педагогическое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39412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4" name="Picture 2" descr="Картинки по запросу снейл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47640" y="4868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6" name="Picture 2" descr="Картинки по запросу золотое руно  олимпиады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47880" y="4882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9" name="Рисунок 3" descr=""/>
          <p:cNvPicPr/>
          <p:nvPr/>
        </p:nvPicPr>
        <p:blipFill>
          <a:blip r:embed="rId1"/>
          <a:srcRect l="14371" t="11334" r="72940" b="79902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947880" y="489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1" name="Picture 2" descr="Картинки по запросу кенгуру олимпиады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8080" y="49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52480" y="4978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5" name="Picture 2" descr="Картинки по запросу олимпиада плюс олимпиады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47640" y="4814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7" name="Picture 2" descr="Картинки по запросу урфо олимпиады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6000" y="4051080"/>
            <a:ext cx="115794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9" name="Picture 2" descr="Картинки по запросу бельчонок олимпиады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Картинки по запросу рыжий кот олимпиады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3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60240" y="5059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1" name="Picture 2" descr="Картинки по запросу математические знания олимпиады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990720" y="4951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3" name="Picture 2" descr="Картинки по запросу кит олимпиады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4336560"/>
            <a:ext cx="12192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23800" y="4473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cleve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6" name="Picture 2" descr="Картинки по запросу клевер олимпиада"/>
          <p:cNvPicPr/>
          <p:nvPr/>
        </p:nvPicPr>
        <p:blipFill>
          <a:blip r:embed="rId2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66720" y="420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8" name="Picture 2" descr="Картинки по запросу мир олимпиад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"/>
          <p:cNvPicPr/>
          <p:nvPr/>
        </p:nvPicPr>
        <p:blipFill>
          <a:blip r:embed="rId1"/>
          <a:srcRect l="12274" t="8022" r="55841" b="7687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syndychok-znaniy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1178856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60240" y="5114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rm.kirov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3" name="Picture 2" descr="Похожее изображение"/>
          <p:cNvPicPr/>
          <p:nvPr/>
        </p:nvPicPr>
        <p:blipFill>
          <a:blip r:embed="rId3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698400" y="4377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kotofeyy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5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38080" y="4349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tavika.ru</a:t>
            </a:r>
            <a:endParaRPr b="0" lang="en-US" sz="9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7" name="Picture 2" descr="Картинки по запросу tavika"/>
          <p:cNvPicPr/>
          <p:nvPr/>
        </p:nvPicPr>
        <p:blipFill>
          <a:blip r:embed="rId2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Елизавета</cp:lastModifiedBy>
  <dcterms:modified xsi:type="dcterms:W3CDTF">2017-05-17T06:56:53Z</dcterms:modified>
  <cp:revision>14</cp:revision>
  <dc:subject/>
  <dc:title>Презентация PowerPoint</dc:title>
</cp:coreProperties>
</file>