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25.png" ContentType="image/png"/>
  <Override PartName="/ppt/media/image2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BBC-58A3-410C-8096-C118F57B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9C72-453E-4355-85EC-4667A0E9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D4D6F-FC41-4112-BAD5-6C7D6792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ADE49-CDB5-4B3A-B779-34DCD867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E4D26-4FD6-4B1F-B1D1-DAEABBE4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85F14-E161-4C96-A700-323310ED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C515A-20E4-43D8-BEA1-EE7E48B2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632AA-40E6-464F-A516-89D132AC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9C209-E2BD-40F2-B60F-7DD7D51A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F8E1B-9011-43A4-A6A4-DEF00372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D1CE3-892C-4866-B817-ADB1668E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AD1-3CC3-449D-9EC2-95DD8419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09C0-AA0D-417E-BF17-0CD23A2B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1857-61EC-445C-A878-496F2DCF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E6FE-23C5-4B20-9446-BC9E7D72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CF26-CFCC-42E5-9500-FD27C339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FB08-48D2-44E6-A61C-4A221BCE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3C9E-58BE-4BD2-94F2-41BBC43E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DCFA-EBCF-46F0-BE3B-8C25ACAB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24AF-ACCE-4548-9668-E22650CF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F820-D5A4-422E-BDD0-639DAF7E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8A2A-8B8F-48A1-B26A-201D0F6E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280E-3BD4-4A12-A949-CB0EB085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823F-4B6D-4A82-9516-FE610A1E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0294-EDB9-4B3D-9ECC-6F8C2BC0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F652-F734-4AD5-96FC-0F89B125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F9790-442E-4772-9FE1-7BA9A268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390F1-BCA6-4EFE-9A7A-23D47CBB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1E3A0-8EE4-4428-B98C-6D15443E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DB532-A6FD-42DD-8A41-69AC0E80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4B917-B1E9-45C8-A640-B971F050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7D9D-CC88-4F5D-AFED-A2079BD4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42E8F-7EA9-4E65-85FF-797E6E64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EF740-0526-4630-B6A8-8E472AB9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D7B33-B2C1-48FA-9004-9DFEC7D0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1310A-3566-46E6-8A35-72CD43E1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59B11-7D2C-458A-915A-291001CF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642A7-11FC-41D8-B4EA-84BC459B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01A3B-0847-421D-A257-6BB2F33A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E308A-DF23-47A6-A1B1-0CA0862B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05213-2C5E-473A-ADBC-D4A14C4C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164D4-80A2-4D1A-9D5D-3A7506F6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259-CF33-4121-ADB1-343085F1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39939-56A8-40E5-A482-DB20506D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98973-CFB2-4843-9A77-FB297A9A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E7116-6AC6-47CE-9EA6-0EA0269D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EDE05-9AC7-4145-975A-2941C701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CD207-77B0-4B3F-8050-D597835F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BB69B-678E-4278-9D22-E3B4D4FD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CFD9B-4F6C-4463-801C-3E17CC15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8EB26-093F-45D2-9BA8-2FCCBE4B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4BF7C-7153-4D37-AB43-7CCC852D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45ADD-0D25-4D39-ADBF-C5305E55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3CF3-8867-4D85-945E-04F947E0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AB5E0-7A56-4815-BD57-CB8A410D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70472-9D1C-482F-AA45-68C73585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8A952-6D7A-4F8F-A9D5-409182EC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30405-D92A-4948-9FAF-4920D676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3EDFE-DCF5-4881-A1F5-14AC5414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BE200-8783-45EC-9031-48C7A5F3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103CD-A2B8-4F91-B1CC-B3AB7974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39DC6-720D-4A97-81D6-26D61524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7527E-5D0F-4501-9572-2E649715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267EC-9213-408F-92E8-6CE612DF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735-CCEC-4122-B6D1-ABF7379A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D679B-F292-479F-9693-5259C36A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28248-7D87-4E4E-9E35-71A886E7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C5B2F-D1C1-4C4B-8226-C6ED5E2E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C3AC6-C128-4179-9DD3-D90CCD19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73782-B699-44E1-8C6B-3471C89B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75AA3-3435-46B5-87B6-8090ED2B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0371F-6791-4029-B1B7-99E4E32B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FB297-4E44-4345-A440-C839353D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10A8F-05F4-4E8B-8251-CA61A24C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51AAD-898A-4472-AB6B-E1096BB8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0D4-89D7-4E82-8AB5-6AD14CF2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41D24-E986-4210-AD2F-3B78AEAC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8979E-8F32-40D5-852F-26BB48E8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95465-4BCD-4B6C-A198-34EF24D3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FF60A-186F-45E0-82FF-3BACE6EB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F175B-3305-4CAC-A59F-448A0961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3BC44-F79C-4917-83CC-EB9E1993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A10E8-A802-408C-AE47-68AA2A89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4C013-2BEA-4861-A279-A49D3D56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7B600-EC3A-4DF0-A0EA-B27F1394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B3667-D2C8-4DC3-BFBA-60620D31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4BEE-465D-41C8-A5D4-8207A9BD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6B0AF-8791-46FE-AF5A-032E5236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6C666-793F-44C6-BE0D-6C344D90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145E3-BFED-4E64-8FB7-694AC1FE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4BFCC-878D-4169-BB09-6D930C60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A8CA3-E6A4-4D6E-9685-553996D2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93DD3-7E7D-4A8F-ADAE-C34AA3A5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B7FDF-5711-4584-A9E2-F702595A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DA07E-1D01-46F9-B986-88B3FA15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29E33-92AA-45AD-8DC5-CE352A09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B0E1D-5D28-4079-9AF1-FFD84E2F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0169-9035-485E-BD69-728D6136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DD5CE-9403-4CA1-8DDF-E25C4673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63051-2C73-4D52-8996-0C3CBBE4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F3DB0-B9DC-492E-94EF-E8F004F6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59A74-3AFA-4218-B7D7-BD79F6C6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73E5D-A2DE-47FF-B569-B629A33B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9332E-FF6F-4DA8-BF25-010D187E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4F8E3-2044-48CA-9CB0-5A7F7C64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E2A0D-03C7-49EF-ACD9-0BC51CC0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BFC4B-53CF-4AE2-B603-6F5C4051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51731-B3F0-45A1-8B9D-765DD374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727A-08C7-433F-A76F-2DD83CCF0AF3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276C-0039-4A85-986A-6EFEECF6B082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3794-B242-4488-AA24-27411DB73139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9638-C974-404D-8AD5-2726248BE7F1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983E-7D50-4789-89D8-84C46FAC385A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1158-7CA0-4E5F-A212-834694FA7A36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7333-C4D2-4639-B84D-2B3AE9C41C4D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D91B-30DC-42FF-A94A-8836FD7C7AA7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1729-EA9D-48DC-8035-E54A3DE5248F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mega-talant.com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ginger-cat.ru/" TargetMode="External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olympiadonline.ru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leve.ru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mir-olimpiad.ru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syndychok-znaniy.ru" TargetMode="External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m.kirov.ru/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kotofeyy.ru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avika.ru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7800" y="2214720"/>
            <a:ext cx="11582640" cy="21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64646"/>
                </a:solidFill>
                <a:latin typeface="Franklin Gothic Book"/>
              </a:rPr>
              <a:t>Олимпиады для обучения начальной школы</a:t>
            </a:r>
            <a:endParaRPr b="0" lang="en-US" sz="54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838080" y="49240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mega-talant.com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19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1893960" y="660240"/>
            <a:ext cx="7996320" cy="27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660240" y="48686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урок.рф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21" name="Picture 2" descr="Картинки по запросу мое образование педагогическое"/>
          <p:cNvPicPr/>
          <p:nvPr/>
        </p:nvPicPr>
        <p:blipFill>
          <a:blip r:embed="rId1"/>
          <a:stretch/>
        </p:blipFill>
        <p:spPr>
          <a:xfrm>
            <a:off x="4102200" y="417600"/>
            <a:ext cx="373212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38080" y="39412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ic-snail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24" name="Picture 2" descr="Картинки по запросу снейл"/>
          <p:cNvPicPr/>
          <p:nvPr/>
        </p:nvPicPr>
        <p:blipFill>
          <a:blip r:embed="rId1"/>
          <a:stretch/>
        </p:blipFill>
        <p:spPr>
          <a:xfrm>
            <a:off x="1095480" y="912960"/>
            <a:ext cx="100011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647640" y="48686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runodog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26" name="Picture 2" descr="Картинки по запросу золотое руно  олимпиады"/>
          <p:cNvPicPr/>
          <p:nvPr/>
        </p:nvPicPr>
        <p:blipFill>
          <a:blip r:embed="rId1"/>
          <a:stretch/>
        </p:blipFill>
        <p:spPr>
          <a:xfrm>
            <a:off x="2770200" y="306360"/>
            <a:ext cx="60260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47880" y="48826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yi-erudit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29" name="Рисунок 3" descr=""/>
          <p:cNvPicPr/>
          <p:nvPr/>
        </p:nvPicPr>
        <p:blipFill>
          <a:blip r:embed="rId1"/>
          <a:srcRect l="14371" t="11334" r="72940" b="79902"/>
          <a:stretch/>
        </p:blipFill>
        <p:spPr>
          <a:xfrm>
            <a:off x="3002040" y="846000"/>
            <a:ext cx="597384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947880" y="48956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russian-kenguru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31" name="Picture 2" descr="Картинки по запросу кенгуру олимпиады"/>
          <p:cNvPicPr/>
          <p:nvPr/>
        </p:nvPicPr>
        <p:blipFill>
          <a:blip r:embed="rId1"/>
          <a:stretch/>
        </p:blipFill>
        <p:spPr>
          <a:xfrm>
            <a:off x="2765520" y="355680"/>
            <a:ext cx="553068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8080" y="49636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emu.cerm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33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3916440" y="282600"/>
            <a:ext cx="435924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52480" y="49780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plus.olimpiada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35" name="Picture 2" descr="Картинки по запросу олимпиада плюс олимпиады"/>
          <p:cNvPicPr/>
          <p:nvPr/>
        </p:nvPicPr>
        <p:blipFill>
          <a:blip r:embed="rId1"/>
          <a:stretch/>
        </p:blipFill>
        <p:spPr>
          <a:xfrm>
            <a:off x="1017720" y="534960"/>
            <a:ext cx="9882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647640" y="48146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urfodu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37" name="Picture 2" descr="Картинки по запросу урфо олимпиады"/>
          <p:cNvPicPr/>
          <p:nvPr/>
        </p:nvPicPr>
        <p:blipFill>
          <a:blip r:embed="rId1"/>
          <a:stretch/>
        </p:blipFill>
        <p:spPr>
          <a:xfrm>
            <a:off x="1163520" y="887400"/>
            <a:ext cx="9483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6000" y="4051080"/>
            <a:ext cx="115794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ovuz.sfu-kras.ru/belchonok/</a:t>
            </a:r>
            <a:endParaRPr b="0" lang="en-US" sz="88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39" name="Picture 2" descr="Картинки по запросу бельчонок олимпиады"/>
          <p:cNvPicPr/>
          <p:nvPr/>
        </p:nvPicPr>
        <p:blipFill>
          <a:blip r:embed="rId1"/>
          <a:stretch/>
        </p:blipFill>
        <p:spPr>
          <a:xfrm>
            <a:off x="4038480" y="196920"/>
            <a:ext cx="41148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Картинки по запросу рыжий кот олимпиады"/>
          <p:cNvPicPr/>
          <p:nvPr/>
        </p:nvPicPr>
        <p:blipFill>
          <a:blip r:embed="rId1"/>
          <a:stretch/>
        </p:blipFill>
        <p:spPr>
          <a:xfrm>
            <a:off x="1231920" y="353880"/>
            <a:ext cx="9126360" cy="36450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3"/>
          <p:cNvSpPr/>
          <p:nvPr/>
        </p:nvSpPr>
        <p:spPr>
          <a:xfrm>
            <a:off x="2333520" y="4516560"/>
            <a:ext cx="762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2"/>
              </a:rPr>
              <a:t>ginger-cat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60240" y="50590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matznanie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41" name="Picture 2" descr="Картинки по запросу математические знания олимпиады"/>
          <p:cNvPicPr/>
          <p:nvPr/>
        </p:nvPicPr>
        <p:blipFill>
          <a:blip r:embed="rId1"/>
          <a:stretch/>
        </p:blipFill>
        <p:spPr>
          <a:xfrm>
            <a:off x="3379680" y="250920"/>
            <a:ext cx="480852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990720" y="49510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konkurskit.org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43" name="Picture 2" descr="Картинки по запросу кит олимпиады"/>
          <p:cNvPicPr/>
          <p:nvPr/>
        </p:nvPicPr>
        <p:blipFill>
          <a:blip r:embed="rId1"/>
          <a:stretch/>
        </p:blipFill>
        <p:spPr>
          <a:xfrm>
            <a:off x="2660760" y="531720"/>
            <a:ext cx="6476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3" descr=""/>
          <p:cNvPicPr/>
          <p:nvPr/>
        </p:nvPicPr>
        <p:blipFill>
          <a:blip r:embed="rId1"/>
          <a:srcRect l="29370" t="25935" r="29301" b="33957"/>
          <a:stretch/>
        </p:blipFill>
        <p:spPr>
          <a:xfrm>
            <a:off x="2511360" y="136440"/>
            <a:ext cx="6796080" cy="3708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-360" y="4336560"/>
            <a:ext cx="121921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2"/>
              </a:rPr>
              <a:t>olympiadonline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23800" y="44733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cleve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06" name="Picture 2" descr="Картинки по запросу клевер олимпиада"/>
          <p:cNvPicPr/>
          <p:nvPr/>
        </p:nvPicPr>
        <p:blipFill>
          <a:blip r:embed="rId2"/>
          <a:stretch/>
        </p:blipFill>
        <p:spPr>
          <a:xfrm>
            <a:off x="1508040" y="474840"/>
            <a:ext cx="8548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666720" y="42001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mir-olimpiad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08" name="Picture 2" descr="Картинки по запросу мир олимпиад"/>
          <p:cNvPicPr/>
          <p:nvPr/>
        </p:nvPicPr>
        <p:blipFill>
          <a:blip r:embed="rId2"/>
          <a:stretch/>
        </p:blipFill>
        <p:spPr>
          <a:xfrm>
            <a:off x="1154160" y="608040"/>
            <a:ext cx="992484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3" descr=""/>
          <p:cNvPicPr/>
          <p:nvPr/>
        </p:nvPicPr>
        <p:blipFill>
          <a:blip r:embed="rId1"/>
          <a:srcRect l="12274" t="8022" r="55841" b="76870"/>
          <a:stretch/>
        </p:blipFill>
        <p:spPr>
          <a:xfrm>
            <a:off x="1069920" y="490680"/>
            <a:ext cx="9885240" cy="26352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1069920" y="4681440"/>
            <a:ext cx="10515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2"/>
              </a:rPr>
              <a:t>syndychok-znaniy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208080" y="450720"/>
            <a:ext cx="1178856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660240" y="51145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2"/>
              </a:rPr>
              <a:t>rm.kirov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13" name="Picture 2" descr="Похожее изображение"/>
          <p:cNvPicPr/>
          <p:nvPr/>
        </p:nvPicPr>
        <p:blipFill>
          <a:blip r:embed="rId3"/>
          <a:stretch/>
        </p:blipFill>
        <p:spPr>
          <a:xfrm>
            <a:off x="3965400" y="201600"/>
            <a:ext cx="366408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698400" y="43779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kotofeyy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15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1495440" y="450720"/>
            <a:ext cx="89233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838080" y="43495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tavika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17" name="Picture 2" descr="Картинки по запросу tavika"/>
          <p:cNvPicPr/>
          <p:nvPr/>
        </p:nvPicPr>
        <p:blipFill>
          <a:blip r:embed="rId2"/>
          <a:stretch/>
        </p:blipFill>
        <p:spPr>
          <a:xfrm>
            <a:off x="-69840" y="720720"/>
            <a:ext cx="114235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09:12:15Z</dcterms:created>
  <dc:creator>User</dc:creator>
  <dc:description/>
  <dc:language>en-US</dc:language>
  <cp:lastModifiedBy>Елизавета</cp:lastModifiedBy>
  <dcterms:modified xsi:type="dcterms:W3CDTF">2017-05-17T06:56:53Z</dcterms:modified>
  <cp:revision>14</cp:revision>
  <dc:subject/>
  <dc:title>Презентация PowerPoint</dc:title>
</cp:coreProperties>
</file>