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6EB-4F75-46B2-97B7-D9E93964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1097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64320"/>
            <a:ext cx="1097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E47A-B4D5-463A-A41F-8BEABEC6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020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96432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0A6-743D-4A8F-B612-AD6BB5B7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53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160" y="1600200"/>
            <a:ext cx="353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64320"/>
            <a:ext cx="353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160" y="3964320"/>
            <a:ext cx="353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1BF-5317-4BEF-A5B3-EBBC067E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10974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ACC-5FFB-44E7-9CD4-053916B3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1097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8047-0C1C-49A0-8480-F2ABA6F2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5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0200"/>
            <a:ext cx="5355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CD2-6519-4D9D-8BBC-309489A1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E50-9A69-4EEF-81A1-25C428B1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74320"/>
            <a:ext cx="10974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B2C-969C-4965-938B-83F81BAD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0200"/>
            <a:ext cx="5355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402-0264-4ED2-8A31-EE8B4204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5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020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96432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010-3E2C-463E-AFBF-F8D97FE7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020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1097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4F6-F43B-4676-BC58-E8BA76AC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1097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2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93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86FE2F-A8E1-44EC-8097-9CFCCC41162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mir-olimpiad.ru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../mega-talant.co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m.kirov.ru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ginger-cat.ru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7880" y="2205000"/>
            <a:ext cx="101617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Олимпиады для младших школьников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666720" y="42004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mir-olimpiad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154160" y="608040"/>
            <a:ext cx="992484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838080" y="4924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mega-talant.c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893960" y="660240"/>
            <a:ext cx="7996320" cy="27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947880" y="4896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sian-kenguru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765520" y="355680"/>
            <a:ext cx="5530680" cy="41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838080" y="4964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.cerm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916440" y="282600"/>
            <a:ext cx="435924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660240" y="51148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rm.kirov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965400" y="201600"/>
            <a:ext cx="366408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647640" y="4815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fodu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163520" y="887400"/>
            <a:ext cx="94838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476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odog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770200" y="306360"/>
            <a:ext cx="602604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990720" y="4951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skit.or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660760" y="531720"/>
            <a:ext cx="647676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231920" y="353880"/>
            <a:ext cx="9126360" cy="3645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2333520" y="4516560"/>
            <a:ext cx="762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ginger-cat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306360" y="4051440"/>
            <a:ext cx="115794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uz.sfu-kras.ru/belchonok/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038480" y="196920"/>
            <a:ext cx="4114800" cy="412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09:12:15Z</dcterms:created>
  <dc:creator>User</dc:creator>
  <dc:description/>
  <dc:language>en-US</dc:language>
  <cp:lastModifiedBy>1</cp:lastModifiedBy>
  <dcterms:modified xsi:type="dcterms:W3CDTF">2017-05-11T14:31:18Z</dcterms:modified>
  <cp:revision>16</cp:revision>
  <dc:subject/>
  <dc:title>Презентация PowerPoint</dc:title>
</cp:coreProperties>
</file>