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3F7-1F63-4C24-A580-D6E80BAD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1097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64320"/>
            <a:ext cx="1097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21E-7040-45C8-AF1B-ED6F045A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020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680" y="396432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927-4D2B-4844-AC96-FCD3707E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53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0160" y="1600200"/>
            <a:ext cx="353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64320"/>
            <a:ext cx="353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0160" y="3964320"/>
            <a:ext cx="353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1AC-B857-4442-B47F-E3FD1C88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10974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A85-FAF6-435E-A714-85AD7731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1097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5CB-B277-4A95-BF82-96EC5E1C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5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0200"/>
            <a:ext cx="5355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8EF-C982-4454-A76C-3385270B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367-B217-4C7B-ACAC-3B79B35C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74320"/>
            <a:ext cx="10974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FCC-1EA1-4B51-84DC-B08D249F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0200"/>
            <a:ext cx="5355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804-A30E-4C7B-B2CB-B49194FA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5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020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680" y="396432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E1A-1E76-4C7E-B1CF-9EB2ACCD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0200"/>
            <a:ext cx="535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1097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590-1232-4F7D-87FB-5D168D60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1097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2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93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D20D16-9ACB-49E4-89B9-0EA14788B1E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mir-olimpiad.ru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../mega-talant.co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m.kirov.ru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ginger-cat.ru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7880" y="2205000"/>
            <a:ext cx="101617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Олимпиады для младших школьников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666720" y="42004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mir-olimpiad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154160" y="608040"/>
            <a:ext cx="992484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838080" y="4924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mega-talant.co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893960" y="660240"/>
            <a:ext cx="7996320" cy="27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947880" y="4896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ssian-kenguru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765520" y="355680"/>
            <a:ext cx="5530680" cy="41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838080" y="4964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.cerm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916440" y="282600"/>
            <a:ext cx="435924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660240" y="51148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rm.kirov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965400" y="201600"/>
            <a:ext cx="366408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647640" y="4815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fodu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163520" y="887400"/>
            <a:ext cx="94838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476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odog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770200" y="306360"/>
            <a:ext cx="602604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990720" y="4951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skit.or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660760" y="531720"/>
            <a:ext cx="647676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231920" y="353880"/>
            <a:ext cx="9126360" cy="3645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2333520" y="4516560"/>
            <a:ext cx="762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ginger-cat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306360" y="4051440"/>
            <a:ext cx="115794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uz.sfu-kras.ru/belchonok/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038480" y="196920"/>
            <a:ext cx="4114800" cy="412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09:12:15Z</dcterms:created>
  <dc:creator>User</dc:creator>
  <dc:description/>
  <dc:language>en-US</dc:language>
  <cp:lastModifiedBy>1</cp:lastModifiedBy>
  <dcterms:modified xsi:type="dcterms:W3CDTF">2017-05-11T14:31:18Z</dcterms:modified>
  <cp:revision>16</cp:revision>
  <dc:subject/>
  <dc:title>Презентация PowerPoint</dc:title>
</cp:coreProperties>
</file>