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503-1E6D-45B2-AD6F-6CD6E912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126-84A4-4E06-8082-DDF3611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AF4-618B-4232-B15D-F9866715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37B-10BB-48EF-922C-0D314FB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05D-6362-43D5-A232-40FD7352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B36-51C7-46C1-8817-A6734D9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7E5-8EE8-43F2-BFDE-5C59F054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A26F-23E1-47DD-BB93-B5F318E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2BE0-76FB-49FF-8667-8CEDEF3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18FC-C174-4C2F-B2D7-1004539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C0E5-D0AF-458E-9B57-E3D59C1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EC3-E90D-404C-9DA5-79B0303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D196-9C83-48BA-88FF-6418B47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FE1-27DC-44EF-95C8-4894669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0CC6-A157-4D6A-85B2-E022DC2F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4A01-D619-4B4A-B001-4ACF81FA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3692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23040" y="160020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13692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23040" y="3948480"/>
            <a:ext cx="2748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31A-7B3C-4662-A0F5-325293E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F65-E195-4F52-A7E4-CA77E53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E84-19A2-41FE-B044-FAC82A7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578-A1F3-4E1F-A6AA-02B75DD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5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5CB-71C7-43A9-A397-4C76D3A4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A36-7C5D-4123-A5BF-7183D6B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800" y="394848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7E8-5BD5-4567-B5E2-1FBF257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800" y="1600200"/>
            <a:ext cx="4165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5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EF0-5F52-42C4-AF93-509D66A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5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5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696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9EBC01-F1E5-4443-8580-339649693E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484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BE0241-8F69-4788-9C7E-D0205BE69F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1117080" y="1371240"/>
            <a:ext cx="101617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cleve.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mega-talant.co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../../syndychok-znaniy.r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mir-olimpiad.r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лимпиады для младших школьник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149280" y="3429000"/>
            <a:ext cx="853596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63880" y="2997360"/>
            <a:ext cx="50421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2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e4005c"/>
                </a:solidFill>
                <a:uFillTx/>
                <a:latin typeface="Times New Roman"/>
                <a:ea typeface="Times New Roman"/>
                <a:hlinkClick r:id="rId1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User</cp:lastModifiedBy>
  <dcterms:modified xsi:type="dcterms:W3CDTF">2017-04-17T13:15:48Z</dcterms:modified>
  <cp:revision>12</cp:revision>
  <dc:subject/>
  <dc:title>Презентация PowerPoint</dc:title>
</cp:coreProperties>
</file>