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jpeg" ContentType="image/jpe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675-456E-420E-9D65-81C356BA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5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50800" y="3948480"/>
            <a:ext cx="8535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5B36-CB9E-4CF6-89E9-92DD0F62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24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C9BD-74B0-41A6-A97E-57E5FE5C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136920" y="160020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23040" y="160020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50800" y="394848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6136920" y="394848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23040" y="394848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3854-0A95-41C8-B6C7-CFD6609C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A0D5-2937-4054-82DC-F187A14A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250800" y="1600200"/>
            <a:ext cx="8535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F762-F151-4F8A-879A-FEBE0F96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5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EBE1-A658-459A-A557-69E63DC1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A2B3-A7C8-4731-A6AA-B3BFE950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2F33-850B-4A6D-8012-32B9F18C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250800" y="228240"/>
            <a:ext cx="85359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8780-D5D3-43E5-9CA1-34D147F3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AE65-82D3-4022-BFFC-1524A431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50800" y="1600200"/>
            <a:ext cx="8535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FD24-5079-4778-9071-4C7AD619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4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7339-37EE-446D-A489-37D87448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8535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1791-75C8-4D59-A192-AFE2C830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5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50800" y="3948480"/>
            <a:ext cx="8535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0435-E80F-4B4E-89BD-9E96A064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24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1E42-A6AC-4BB8-996E-E83085065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136920" y="160020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023040" y="160020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250800" y="394848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6136920" y="394848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9023040" y="394848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A257-4B1C-4213-9EA0-5CB77568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5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8E59-2037-4C7C-B784-2B0DD9D9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39EE-8FC1-46AC-83EF-5D7D4042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3FAB-7D9E-4486-B88E-DC241D64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250800" y="228240"/>
            <a:ext cx="85359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9267-39DF-43A8-8FAC-7B09BC59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8357-692C-4EE6-981D-4C57C986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24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A7F3-8A35-46D9-AECE-935A75F4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8535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DF86-E873-4B90-8E18-6EB332A3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555720" cy="6858000"/>
            <a:chOff x="0" y="0"/>
            <a:chExt cx="3555720" cy="6858000"/>
          </a:xfrm>
        </p:grpSpPr>
        <p:sp>
          <p:nvSpPr>
            <p:cNvPr id="1" name=""/>
            <p:cNvSpPr/>
            <p:nvPr/>
          </p:nvSpPr>
          <p:spPr>
            <a:xfrm>
              <a:off x="26413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853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50800" y="1600200"/>
            <a:ext cx="8535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02680" y="6248520"/>
            <a:ext cx="253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2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9246960" y="624852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11D76E-1B5D-4BB5-A95A-415C382E409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56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06080" y="624852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2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9348480" y="624852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4DC2D3-8322-4E94-B7E0-5D0053BFC0D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1117080" y="1371240"/>
            <a:ext cx="101617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../cleve.ru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../mega-talant.com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m.kirov.ru/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ginger-cat.ru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olympiadonline.ru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../../syndychok-znaniy.ru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../mir-olimpiad.ru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080" y="691920"/>
            <a:ext cx="10161720" cy="2160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лимпиады для младших школьников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149280" y="3429000"/>
            <a:ext cx="853596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63880" y="2997360"/>
            <a:ext cx="504216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23800" y="447372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 u="sng">
                <a:solidFill>
                  <a:srgbClr val="e4005c"/>
                </a:solidFill>
                <a:uFillTx/>
                <a:latin typeface="Times New Roman"/>
                <a:ea typeface="Times New Roman"/>
                <a:hlinkClick r:id="rId1"/>
              </a:rPr>
              <a:t>cleve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08040" y="474840"/>
            <a:ext cx="8548920" cy="25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38080" y="4924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 u="sng">
                <a:solidFill>
                  <a:srgbClr val="e4005c"/>
                </a:solidFill>
                <a:uFillTx/>
                <a:latin typeface="Times New Roman"/>
                <a:ea typeface="Times New Roman"/>
                <a:hlinkClick r:id="rId1"/>
              </a:rPr>
              <a:t>mega-talant.co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893960" y="660240"/>
            <a:ext cx="7996320" cy="27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60240" y="51148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 u="sng">
                <a:solidFill>
                  <a:srgbClr val="e4005c"/>
                </a:solidFill>
                <a:uFillTx/>
                <a:latin typeface="Times New Roman"/>
                <a:ea typeface="Times New Roman"/>
                <a:hlinkClick r:id="rId1"/>
              </a:rPr>
              <a:t>rm.kirov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5400" y="201600"/>
            <a:ext cx="3664080" cy="43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98400" y="437832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tofeyy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95440" y="450720"/>
            <a:ext cx="8923320" cy="31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60240" y="4869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.рф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102200" y="417600"/>
            <a:ext cx="3732120" cy="37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43498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vika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69840" y="720720"/>
            <a:ext cx="1142352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39416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-snail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95480" y="912960"/>
            <a:ext cx="1000116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947880" y="48830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i-erudit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4371" t="11334" r="72943" b="79911"/>
          <a:stretch/>
        </p:blipFill>
        <p:spPr>
          <a:xfrm>
            <a:off x="3002040" y="846000"/>
            <a:ext cx="597384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6360" y="4051440"/>
            <a:ext cx="115794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uz.sfu-kras.ru/belchonok/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038480" y="196920"/>
            <a:ext cx="4114800" cy="41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60240" y="5059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znanie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379680" y="250920"/>
            <a:ext cx="480852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47880" y="4896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ssian-kenguru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765520" y="355680"/>
            <a:ext cx="5530680" cy="41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52480" y="4978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.olimpiada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17720" y="534960"/>
            <a:ext cx="988200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47640" y="4815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fodu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63520" y="887400"/>
            <a:ext cx="948384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4951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kurskit.or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60760" y="531720"/>
            <a:ext cx="647676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38080" y="49640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u.cerm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916440" y="282600"/>
            <a:ext cx="435924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47640" y="4869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odog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770200" y="306360"/>
            <a:ext cx="6026040" cy="40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31920" y="353880"/>
            <a:ext cx="9126360" cy="3645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333520" y="4516560"/>
            <a:ext cx="762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 u="sng">
                <a:solidFill>
                  <a:srgbClr val="e4005c"/>
                </a:solidFill>
                <a:uFillTx/>
                <a:latin typeface="Times New Roman"/>
                <a:ea typeface="Times New Roman"/>
                <a:hlinkClick r:id="rId2"/>
              </a:rPr>
              <a:t>ginger-cat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29370" t="25935" r="29301" b="33957"/>
          <a:stretch/>
        </p:blipFill>
        <p:spPr>
          <a:xfrm>
            <a:off x="2511360" y="136440"/>
            <a:ext cx="6796080" cy="3708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4227480"/>
            <a:ext cx="121921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r>
              <a:rPr b="0" lang="ru-RU" sz="9600" spc="-1" strike="noStrike" u="sng">
                <a:solidFill>
                  <a:srgbClr val="e4005c"/>
                </a:solidFill>
                <a:uFillTx/>
                <a:latin typeface="Times New Roman"/>
                <a:ea typeface="Times New Roman"/>
                <a:hlinkClick r:id="rId2"/>
              </a:rPr>
              <a:t>olympiadonline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2274" t="8022" r="55841" b="76880"/>
          <a:stretch/>
        </p:blipFill>
        <p:spPr>
          <a:xfrm>
            <a:off x="1069920" y="490680"/>
            <a:ext cx="9885240" cy="2635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69920" y="4681440"/>
            <a:ext cx="10515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 u="sng">
                <a:solidFill>
                  <a:srgbClr val="e4005c"/>
                </a:solidFill>
                <a:uFillTx/>
                <a:latin typeface="Times New Roman"/>
                <a:ea typeface="Times New Roman"/>
                <a:hlinkClick r:id="rId2"/>
              </a:rPr>
              <a:t>syndychok-znaniy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66720" y="42004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 u="sng">
                <a:solidFill>
                  <a:srgbClr val="e4005c"/>
                </a:solidFill>
                <a:uFillTx/>
                <a:latin typeface="Times New Roman"/>
                <a:ea typeface="Times New Roman"/>
                <a:hlinkClick r:id="rId1"/>
              </a:rPr>
              <a:t>mir-olimpiad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54160" y="608040"/>
            <a:ext cx="9924840" cy="243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9T09:12:15Z</dcterms:created>
  <dc:creator>User</dc:creator>
  <dc:description/>
  <dc:language>en-US</dc:language>
  <cp:lastModifiedBy>User</cp:lastModifiedBy>
  <dcterms:modified xsi:type="dcterms:W3CDTF">2017-04-17T13:15:48Z</dcterms:modified>
  <cp:revision>12</cp:revision>
  <dc:subject/>
  <dc:title>Презентация PowerPoint</dc:title>
</cp:coreProperties>
</file>