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20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26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F082-7462-442D-A9AB-055ED1D8E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A809-D104-4191-A6F3-6F276AD94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148C-A9B0-456F-8301-4E6BFB982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3CF6-2902-472E-A6F2-FAB9B486F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90C7-D9D5-4281-876B-2CF1DB266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CBA1-6086-41AE-8E73-0BC7231BF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828B-5484-4F37-8804-AFB648874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B41B-E6C6-4776-8B27-19F6F2DAE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5095-F863-404B-9539-CE11663D7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2A22-71C6-45DC-B968-C3D4184C2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F7D5-8390-4496-82C1-CC62F5B6D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1221-AB41-4DEA-920E-BFB64F48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318ED-2A66-4D2A-ABF8-8194F766F7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cards.i.ua/user/1597809/1/81385/" TargetMode="External"/><Relationship Id="rId3" Type="http://schemas.openxmlformats.org/officeDocument/2006/relationships/hyperlink" Target="http://deti.ulan-ude-eg.ru/dosug/news__2010_6.htm" TargetMode="External"/><Relationship Id="rId4" Type="http://schemas.openxmlformats.org/officeDocument/2006/relationships/hyperlink" Target="http://deti.ulan-ude-eg.ru/dosug/news__2010_6.htm" TargetMode="External"/><Relationship Id="rId5" Type="http://schemas.openxmlformats.org/officeDocument/2006/relationships/hyperlink" Target="http://deti.ulan-ude-eg.ru/dosug/news__2010_6.htm" TargetMode="External"/><Relationship Id="rId6" Type="http://schemas.openxmlformats.org/officeDocument/2006/relationships/hyperlink" Target="http://deti.ulan-ude-eg.ru/dosug/news__2010_6.htm" TargetMode="External"/><Relationship Id="rId7" Type="http://schemas.openxmlformats.org/officeDocument/2006/relationships/hyperlink" Target="http://deti.ulan-ude-eg.ru/dosug/news__2010_6.htm" TargetMode="External"/><Relationship Id="rId8" Type="http://schemas.openxmlformats.org/officeDocument/2006/relationships/hyperlink" Target="http://deti.ulan-ude-eg.ru/dosug/news__2010_6.htm" TargetMode="External"/><Relationship Id="rId9" Type="http://schemas.openxmlformats.org/officeDocument/2006/relationships/hyperlink" Target="http://deti.ulan-ude-eg.ru/dosug/news__2010_6.htm" TargetMode="External"/><Relationship Id="rId10" Type="http://schemas.openxmlformats.org/officeDocument/2006/relationships/hyperlink" Target="http://deti.ulan-ude-eg.ru/dosug/news__2010_6.htm" TargetMode="External"/><Relationship Id="rId11" Type="http://schemas.openxmlformats.org/officeDocument/2006/relationships/hyperlink" Target="http://deti.ulan-ude-eg.ru/dosug/news__2010_6.htm" TargetMode="External"/><Relationship Id="rId12" Type="http://schemas.openxmlformats.org/officeDocument/2006/relationships/hyperlink" Target="http://deti.ulan-ude-eg.ru/dosug/news__2010_6.htm" TargetMode="External"/><Relationship Id="rId13" Type="http://schemas.openxmlformats.org/officeDocument/2006/relationships/hyperlink" Target="http://deti.ulan-ude-eg.ru/dosug/news__2010_6.htm" TargetMode="External"/><Relationship Id="rId14" Type="http://schemas.openxmlformats.org/officeDocument/2006/relationships/hyperlink" Target="http://deti.ulan-ude-eg.ru/dosug/news__2010_6.htm" TargetMode="External"/><Relationship Id="rId15" Type="http://schemas.openxmlformats.org/officeDocument/2006/relationships/hyperlink" Target="http://deti.ulan-ude-eg.ru/dosug/news__2010_6.htm" TargetMode="External"/><Relationship Id="rId16" Type="http://schemas.openxmlformats.org/officeDocument/2006/relationships/hyperlink" Target="http://deti.ulan-ude-eg.ru/dosug/news__2010_6.htm" TargetMode="External"/><Relationship Id="rId17" Type="http://schemas.openxmlformats.org/officeDocument/2006/relationships/hyperlink" Target="http://deti.ulan-ude-eg.ru/dosug/news__2010_6.htm" TargetMode="External"/><Relationship Id="rId18" Type="http://schemas.openxmlformats.org/officeDocument/2006/relationships/hyperlink" Target="http://deti.ulan-ude-eg.ru/dosug/news__2010_6.htm" TargetMode="External"/><Relationship Id="rId19" Type="http://schemas.openxmlformats.org/officeDocument/2006/relationships/hyperlink" Target="http://deti.ulan-ude-eg.ru/dosug/news__2010_6.htm" TargetMode="External"/><Relationship Id="rId20" Type="http://schemas.openxmlformats.org/officeDocument/2006/relationships/hyperlink" Target="http://forum.materinstvo.ru/index.php?showtopic=692618&amp;st=330" TargetMode="External"/><Relationship Id="rId21" Type="http://schemas.openxmlformats.org/officeDocument/2006/relationships/hyperlink" Target="http://www.freelancejob.ru/users/shaber/portfolio/42044/" TargetMode="External"/><Relationship Id="rId22" Type="http://schemas.openxmlformats.org/officeDocument/2006/relationships/hyperlink" Target="http://community.livejournal.com/5razvorotov/tag/&#1085;&#1086;&#1074;%25" TargetMode="External"/><Relationship Id="rId23" Type="http://schemas.openxmlformats.org/officeDocument/2006/relationships/hyperlink" Target="http://www.bigreferat.com/rus/bigreferat13717.html" TargetMode="External"/><Relationship Id="rId24" Type="http://schemas.openxmlformats.org/officeDocument/2006/relationships/hyperlink" Target="http://jooy.ru/node/13103/image_gallery?page=1" TargetMode="External"/><Relationship Id="rId25" Type="http://schemas.openxmlformats.org/officeDocument/2006/relationships/hyperlink" Target="http://artklara.com/index.php?limitstart=40" TargetMode="External"/><Relationship Id="rId26" Type="http://schemas.openxmlformats.org/officeDocument/2006/relationships/hyperlink" Target="http://geografica.net.ua/photo/vidomi_moreplavci/fernan_magellan/46" TargetMode="External"/><Relationship Id="rId27" Type="http://schemas.openxmlformats.org/officeDocument/2006/relationships/hyperlink" Target="http://meteo.by/calendar/events/2010-9-20/" TargetMode="External"/><Relationship Id="rId2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4292280"/>
            <a:ext cx="914400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тправляясь в путешествия, люди узнавали всё больше и больше нового о нашей планете. Земную поверхность, которую они видели вокруг себя, люди стали называть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горизонтом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16"/>
          <p:cNvPicPr/>
          <p:nvPr/>
        </p:nvPicPr>
        <p:blipFill>
          <a:blip r:embed="rId2"/>
          <a:stretch/>
        </p:blipFill>
        <p:spPr>
          <a:xfrm>
            <a:off x="1979640" y="260280"/>
            <a:ext cx="5257800" cy="3948120"/>
          </a:xfrm>
          <a:prstGeom prst="rect">
            <a:avLst/>
          </a:prstGeom>
          <a:ln w="38160">
            <a:solidFill>
              <a:srgbClr val="292929"/>
            </a:solidFill>
            <a:miter/>
          </a:ln>
        </p:spPr>
      </p:pic>
      <p:sp>
        <p:nvSpPr>
          <p:cNvPr id="83" name="Text Box 5"/>
          <p:cNvSpPr/>
          <p:nvPr/>
        </p:nvSpPr>
        <p:spPr>
          <a:xfrm>
            <a:off x="1132200" y="5530680"/>
            <a:ext cx="669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Горизонт – земная поверхно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которую мы видим вокруг с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17"/>
          <p:cNvPicPr/>
          <p:nvPr/>
        </p:nvPicPr>
        <p:blipFill>
          <a:blip r:embed="rId3"/>
          <a:stretch/>
        </p:blipFill>
        <p:spPr>
          <a:xfrm>
            <a:off x="971640" y="0"/>
            <a:ext cx="7200720" cy="5400720"/>
          </a:xfrm>
          <a:prstGeom prst="rect">
            <a:avLst/>
          </a:prstGeom>
          <a:ln w="38160">
            <a:solidFill>
              <a:srgbClr val="29292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486900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Граница горизонта, где небо как бы сходится с земной поверхностью, называется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Comic Sans MS"/>
              </a:rPr>
              <a:t>линией горизон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19"/>
          <p:cNvPicPr/>
          <p:nvPr/>
        </p:nvPicPr>
        <p:blipFill>
          <a:blip r:embed="rId2"/>
          <a:stretch/>
        </p:blipFill>
        <p:spPr>
          <a:xfrm>
            <a:off x="108000" y="1268280"/>
            <a:ext cx="4176720" cy="3240360"/>
          </a:xfrm>
          <a:prstGeom prst="rect">
            <a:avLst/>
          </a:prstGeom>
          <a:ln w="38160">
            <a:solidFill>
              <a:srgbClr val="777777"/>
            </a:solidFill>
            <a:miter/>
          </a:ln>
        </p:spPr>
      </p:pic>
      <p:pic>
        <p:nvPicPr>
          <p:cNvPr id="88" name="Picture 5" descr="18"/>
          <p:cNvPicPr/>
          <p:nvPr/>
        </p:nvPicPr>
        <p:blipFill>
          <a:blip r:embed="rId3"/>
          <a:stretch/>
        </p:blipFill>
        <p:spPr>
          <a:xfrm>
            <a:off x="4500720" y="1268280"/>
            <a:ext cx="4535280" cy="3227400"/>
          </a:xfrm>
          <a:prstGeom prst="rect">
            <a:avLst/>
          </a:prstGeom>
          <a:ln w="38160">
            <a:solidFill>
              <a:srgbClr val="77777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Comic Sans MS"/>
              </a:rPr>
              <a:t>Стороны горизон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4797360"/>
            <a:ext cx="9144000" cy="19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тправляясь в далёкие путешествия, люди ориентируются по сторонам горизонта. То направление, где Солнце поднимается выше всего и сильнее греет –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Ю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3132000" y="1844640"/>
            <a:ext cx="2305080" cy="2376360"/>
          </a:xfrm>
          <a:custGeom>
            <a:avLst/>
            <a:gdLst>
              <a:gd name="textAreaLeft" fmla="*/ 949680 w 2305080"/>
              <a:gd name="textAreaRight" fmla="*/ 1355400 w 2305080"/>
              <a:gd name="textAreaTop" fmla="*/ 979200 h 2376360"/>
              <a:gd name="textAreaBottom" fmla="*/ 1397160 h 23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943800" y="4292640"/>
            <a:ext cx="66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71280" y="4941720"/>
            <a:ext cx="916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отивоположное направление, где Солн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икогда не появляется, и откуда дую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холодные ветры, назвали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СЕВЕ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3990960" y="1125360"/>
            <a:ext cx="47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1518840" y="5300640"/>
            <a:ext cx="606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ВОСТОКЕ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олнце всход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 на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ЗАПАДЕ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сади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2490120" y="2781360"/>
            <a:ext cx="44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5693400" y="2781360"/>
            <a:ext cx="47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316080" y="4941720"/>
            <a:ext cx="8327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 схемах и карта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север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всегда обозначают вверху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юг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– внизу,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запад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слева,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восток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– спра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3" descr="Копия (2) Копия 13"/>
          <p:cNvPicPr/>
          <p:nvPr/>
        </p:nvPicPr>
        <p:blipFill>
          <a:blip r:embed="rId2"/>
          <a:stretch/>
        </p:blipFill>
        <p:spPr>
          <a:xfrm>
            <a:off x="6443640" y="2349360"/>
            <a:ext cx="2419200" cy="2286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" descr="20"/>
          <p:cNvPicPr/>
          <p:nvPr/>
        </p:nvPicPr>
        <p:blipFill>
          <a:blip r:embed="rId3"/>
          <a:stretch/>
        </p:blipFill>
        <p:spPr>
          <a:xfrm>
            <a:off x="82440" y="2133720"/>
            <a:ext cx="240192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5"/>
          <p:cNvSpPr/>
          <p:nvPr/>
        </p:nvSpPr>
        <p:spPr>
          <a:xfrm rot="19065000">
            <a:off x="3132000" y="1844640"/>
            <a:ext cx="2305080" cy="2376360"/>
          </a:xfrm>
          <a:custGeom>
            <a:avLst/>
            <a:gdLst>
              <a:gd name="textAreaLeft" fmla="*/ 949680 w 2305080"/>
              <a:gd name="textAreaRight" fmla="*/ 1355400 w 2305080"/>
              <a:gd name="textAreaTop" fmla="*/ 979200 h 2376360"/>
              <a:gd name="textAreaBottom" fmla="*/ 1397160 h 23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Comic Sans MS"/>
              </a:rPr>
              <a:t>Стороны горизон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4920" y="4797000"/>
            <a:ext cx="84358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роме основных сторон горизонта есть ещё и промежуточные: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северо-восток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северо-запад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юго-восток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юго-запад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4"/>
          <p:cNvSpPr/>
          <p:nvPr/>
        </p:nvSpPr>
        <p:spPr>
          <a:xfrm>
            <a:off x="3132000" y="1844640"/>
            <a:ext cx="2305080" cy="2376360"/>
          </a:xfrm>
          <a:custGeom>
            <a:avLst/>
            <a:gdLst>
              <a:gd name="textAreaLeft" fmla="*/ 949680 w 2305080"/>
              <a:gd name="textAreaRight" fmla="*/ 1355400 w 2305080"/>
              <a:gd name="textAreaTop" fmla="*/ 979200 h 2376360"/>
              <a:gd name="textAreaBottom" fmla="*/ 1397160 h 23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3990960" y="1125360"/>
            <a:ext cx="47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2490120" y="2781360"/>
            <a:ext cx="44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5693400" y="2781360"/>
            <a:ext cx="47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3943800" y="4292640"/>
            <a:ext cx="66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2791080" y="1628640"/>
            <a:ext cx="88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Comic Sans MS"/>
              </a:rPr>
              <a:t>С-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5231880" y="1700280"/>
            <a:ext cx="91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Comic Sans MS"/>
              </a:rPr>
              <a:t>С-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2455560" y="3860640"/>
            <a:ext cx="107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Comic Sans MS"/>
              </a:rPr>
              <a:t>Ю-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5256360" y="3860640"/>
            <a:ext cx="11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Comic Sans MS"/>
              </a:rPr>
              <a:t>Ю-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4"/>
          <p:cNvSpPr/>
          <p:nvPr/>
        </p:nvSpPr>
        <p:spPr>
          <a:xfrm>
            <a:off x="456120" y="4797360"/>
            <a:ext cx="8350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аписывают название сторон горизо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окращённо. Основные – одной букво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омежуточные – двум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Comic Sans MS"/>
              </a:rPr>
              <a:t>Работа в парах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131640" y="1341000"/>
            <a:ext cx="565164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бсудите, какие стороны горизонта не обозначены на четырёх рисунках-схемах в учебнике на стр.7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jcnm"/>
          <p:cNvPicPr/>
          <p:nvPr/>
        </p:nvPicPr>
        <p:blipFill>
          <a:blip r:embed="rId2"/>
          <a:stretch/>
        </p:blipFill>
        <p:spPr>
          <a:xfrm>
            <a:off x="4427640" y="4292640"/>
            <a:ext cx="3168720" cy="19414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gfj"/>
          <p:cNvPicPr/>
          <p:nvPr/>
        </p:nvPicPr>
        <p:blipFill>
          <a:blip r:embed="rId3"/>
          <a:stretch/>
        </p:blipFill>
        <p:spPr>
          <a:xfrm>
            <a:off x="468360" y="1916280"/>
            <a:ext cx="2781360" cy="3671640"/>
          </a:xfrm>
          <a:prstGeom prst="rect">
            <a:avLst/>
          </a:prstGeom>
          <a:ln w="38160">
            <a:solidFill>
              <a:srgbClr val="77777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Comic Sans MS"/>
              </a:rPr>
              <a:t>Источни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ards.i.ua/user/1597809/1/81385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deti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ulan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-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ude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-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eg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ru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dosug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news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__2010_6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http://forum.materinstvo.ru/index.php?showtopic=692618&amp;st=3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http://www.freelancejob.ru/users/shaber/portfolio/42044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http://community.livejournal.com/5razvorotov/tag/%D0%BD%D0%BE%D0%B2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krmap.kiev.ua/index.php?id=183&amp;lang=r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http://www.bigreferat.com/rus/bigreferat13717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http://jooy.ru/node/13103/image_gallery?page=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http://artklara.com/index.php?limitstart=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http://geografica.net.ua/photo/vidomi_moreplavci/fernan_magellan/4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http://meteo.by/calendar/events/2010-9-20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uroburo.ru/ru/catalog/catalog/mototury/mototur-juzhno-afrikanskoe-prikljuchen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prirodasibiri.ru/?id_page=4&amp;id_razd=7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videomax.ru/forum/printer_friendly_posts.asp?TID=1519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fotki.yandex.ru/users/juverna/view/125678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lancer.com.ua/forum/viewtopic.php?t=55069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Monotype Corsiva"/>
              </a:rPr>
              <a:t>Панова Оксана Владимиров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Monotype Corsiva"/>
              </a:rPr>
              <a:t>учитель начальных классо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Monotype Corsiva"/>
              </a:rPr>
              <a:t>МАОУ «Гимназия №4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Monotype Corsiva"/>
              </a:rPr>
              <a:t>г. Великого Новгор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Персональный сай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http://www.panowa-ox.narod.ru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679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5781240"/>
            <a:ext cx="6400800" cy="103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кружающий ми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2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4"/>
          <p:cNvSpPr txBox="1"/>
          <p:nvPr/>
        </p:nvSpPr>
        <p:spPr>
          <a:xfrm>
            <a:off x="762120" y="2359080"/>
            <a:ext cx="8381880" cy="1285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Посмотри вокруг...</a:t>
            </a:r>
            <a:endParaRPr b="0" lang="en-US" sz="7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pic>
        <p:nvPicPr>
          <p:cNvPr id="46" name="Picture 5" descr="23"/>
          <p:cNvPicPr/>
          <p:nvPr/>
        </p:nvPicPr>
        <p:blipFill>
          <a:blip r:embed="rId2"/>
          <a:stretch/>
        </p:blipFill>
        <p:spPr>
          <a:xfrm>
            <a:off x="6588000" y="3645000"/>
            <a:ext cx="1824120" cy="28573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fffff"/>
          <p:cNvPicPr/>
          <p:nvPr/>
        </p:nvPicPr>
        <p:blipFill>
          <a:blip r:embed="rId3"/>
          <a:stretch/>
        </p:blipFill>
        <p:spPr>
          <a:xfrm>
            <a:off x="179280" y="189000"/>
            <a:ext cx="1805040" cy="177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76720" y="1989000"/>
            <a:ext cx="3888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ы с вами жив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 планете Зем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спомните, что в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наете о наш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лане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9"/>
          <p:cNvPicPr/>
          <p:nvPr/>
        </p:nvPicPr>
        <p:blipFill>
          <a:blip r:embed="rId2"/>
          <a:stretch/>
        </p:blipFill>
        <p:spPr>
          <a:xfrm>
            <a:off x="0" y="1773360"/>
            <a:ext cx="498168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Копия Копия 10"/>
          <p:cNvPicPr/>
          <p:nvPr/>
        </p:nvPicPr>
        <p:blipFill>
          <a:blip r:embed="rId2"/>
          <a:stretch/>
        </p:blipFill>
        <p:spPr>
          <a:xfrm>
            <a:off x="4356000" y="1125360"/>
            <a:ext cx="4788000" cy="37054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560" y="4797360"/>
            <a:ext cx="8507160" cy="16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ассмотрите рисунки и расскажит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ак в древности люди представляли себе нашу Землю. Правы ли они бы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Копия 10"/>
          <p:cNvPicPr/>
          <p:nvPr/>
        </p:nvPicPr>
        <p:blipFill>
          <a:blip r:embed="rId3"/>
          <a:stretch/>
        </p:blipFill>
        <p:spPr>
          <a:xfrm>
            <a:off x="250920" y="1197000"/>
            <a:ext cx="4284720" cy="35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Comic Sans MS"/>
              </a:rPr>
              <a:t>Работа по учебник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63640" y="1557000"/>
            <a:ext cx="532944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Так какую же форму имеет Земл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7"/>
          <p:cNvPicPr/>
          <p:nvPr/>
        </p:nvPicPr>
        <p:blipFill>
          <a:blip r:embed="rId2"/>
          <a:stretch/>
        </p:blipFill>
        <p:spPr>
          <a:xfrm>
            <a:off x="6300720" y="4667400"/>
            <a:ext cx="2616120" cy="1831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11"/>
          <p:cNvPicPr/>
          <p:nvPr/>
        </p:nvPicPr>
        <p:blipFill>
          <a:blip r:embed="rId3"/>
          <a:stretch/>
        </p:blipFill>
        <p:spPr>
          <a:xfrm>
            <a:off x="1547640" y="1104840"/>
            <a:ext cx="5761080" cy="53467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0"/>
          <p:cNvSpPr/>
          <p:nvPr/>
        </p:nvSpPr>
        <p:spPr>
          <a:xfrm>
            <a:off x="1182600" y="0"/>
            <a:ext cx="740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Comic Sans MS"/>
              </a:rPr>
              <a:t>Земля имеет форму шар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1" descr="17"/>
          <p:cNvPicPr/>
          <p:nvPr/>
        </p:nvPicPr>
        <p:blipFill>
          <a:blip r:embed="rId4"/>
          <a:stretch/>
        </p:blipFill>
        <p:spPr>
          <a:xfrm>
            <a:off x="6516720" y="4005360"/>
            <a:ext cx="231768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9" descr="5"/>
          <p:cNvPicPr/>
          <p:nvPr/>
        </p:nvPicPr>
        <p:blipFill>
          <a:blip r:embed="rId2"/>
          <a:stretch/>
        </p:blipFill>
        <p:spPr>
          <a:xfrm>
            <a:off x="-1440" y="1125360"/>
            <a:ext cx="9145440" cy="37436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539280" y="4581000"/>
            <a:ext cx="81471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том, что Земля имеет форму шара, люди убедились тогда, когда научились строить парусные корабли и стали плавать по морю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0" descr="fffff"/>
          <p:cNvPicPr/>
          <p:nvPr/>
        </p:nvPicPr>
        <p:blipFill>
          <a:blip r:embed="rId3"/>
          <a:stretch/>
        </p:blipFill>
        <p:spPr>
          <a:xfrm rot="955200">
            <a:off x="899640" y="0"/>
            <a:ext cx="1224000" cy="12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9" descr="12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4752720"/>
            <a:ext cx="91440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Люди заметили одну интересную особенность: когда мореплаватели встречали другой корабль, то вначале далеко в море появлялась мачта кораб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0" descr="Копия 13"/>
          <p:cNvPicPr/>
          <p:nvPr/>
        </p:nvPicPr>
        <p:blipFill>
          <a:blip r:embed="rId3"/>
          <a:stretch/>
        </p:blipFill>
        <p:spPr>
          <a:xfrm>
            <a:off x="1116000" y="4005360"/>
            <a:ext cx="1582920" cy="5508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2"/>
          <p:cNvSpPr/>
          <p:nvPr/>
        </p:nvSpPr>
        <p:spPr>
          <a:xfrm>
            <a:off x="1573200" y="5805360"/>
            <a:ext cx="541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атем появлялись пар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4" descr="Копия Копия 13"/>
          <p:cNvPicPr/>
          <p:nvPr/>
        </p:nvPicPr>
        <p:blipFill>
          <a:blip r:embed="rId4"/>
          <a:stretch/>
        </p:blipFill>
        <p:spPr>
          <a:xfrm>
            <a:off x="3348000" y="3573360"/>
            <a:ext cx="1728720" cy="946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5" descr="Копия (2) Копия 13"/>
          <p:cNvPicPr/>
          <p:nvPr/>
        </p:nvPicPr>
        <p:blipFill>
          <a:blip r:embed="rId5"/>
          <a:stretch/>
        </p:blipFill>
        <p:spPr>
          <a:xfrm>
            <a:off x="3276720" y="2781360"/>
            <a:ext cx="3024000" cy="28558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6"/>
          <p:cNvSpPr/>
          <p:nvPr/>
        </p:nvSpPr>
        <p:spPr>
          <a:xfrm>
            <a:off x="1271160" y="5791320"/>
            <a:ext cx="6668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Лишь при его приближен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тановился виден весь кораб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564000" y="2421000"/>
            <a:ext cx="54720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ошло много времени, и люди поняли, что такое может быть только на Земле, которая по форме напоминает ша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jhcl"/>
          <p:cNvPicPr/>
          <p:nvPr/>
        </p:nvPicPr>
        <p:blipFill>
          <a:blip r:embed="rId2"/>
          <a:stretch/>
        </p:blipFill>
        <p:spPr>
          <a:xfrm>
            <a:off x="179280" y="1628640"/>
            <a:ext cx="3365640" cy="440532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4581360"/>
            <a:ext cx="9144000" cy="22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чти 5 веков назад отважный капитан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Фернан Магеллан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плыл в одном и том же направлении на своём парусном корабле в течение нескольких л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15"/>
          <p:cNvPicPr/>
          <p:nvPr/>
        </p:nvPicPr>
        <p:blipFill>
          <a:blip r:embed="rId2"/>
          <a:stretch/>
        </p:blipFill>
        <p:spPr>
          <a:xfrm>
            <a:off x="3851280" y="1268280"/>
            <a:ext cx="4500720" cy="3375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6"/>
          <p:cNvSpPr/>
          <p:nvPr/>
        </p:nvSpPr>
        <p:spPr>
          <a:xfrm>
            <a:off x="61200" y="4653000"/>
            <a:ext cx="9166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агеллан обогнул Землю и вернулся ту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ткуда начинал своё путешествие. Это ста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ещё одним доказательством шарообраз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формы Зем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14"/>
          <p:cNvPicPr/>
          <p:nvPr/>
        </p:nvPicPr>
        <p:blipFill>
          <a:blip r:embed="rId3"/>
          <a:stretch/>
        </p:blipFill>
        <p:spPr>
          <a:xfrm>
            <a:off x="395280" y="1268280"/>
            <a:ext cx="277344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7T13:54:56Z</dcterms:created>
  <dc:creator>мама</dc:creator>
  <dc:description/>
  <dc:language>en-US</dc:language>
  <cp:lastModifiedBy>нч2</cp:lastModifiedBy>
  <dcterms:modified xsi:type="dcterms:W3CDTF">2017-03-14T06:35:41Z</dcterms:modified>
  <cp:revision>11</cp:revision>
  <dc:subject/>
  <dc:title>Слайд 1</dc:title>
</cp:coreProperties>
</file>