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30E-4E8A-45A2-A9AE-EEBF2A4D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0D1-6B6A-41F1-A785-23EA0D01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2D7-27DC-4063-830B-23D2B951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485-C4E1-4A16-98E1-E62B1818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185-3A34-4C11-86E0-D7824828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AF7-44F3-4303-B431-885E5E67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6F5-9D2F-4AD2-AE51-BC52532A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E96-4F33-4F98-948C-18C1E948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E05-8600-4C00-A8DB-B7A2D5C4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DD4-12D6-4126-8104-459AF18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59F-0A7A-4B5B-AC0B-2D25AF5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427-CBAD-44C7-A713-0CAD9AD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1C6-85C5-4716-845E-CD03F10B2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ards.i.ua/user/1597809/1/81385/" TargetMode="External"/><Relationship Id="rId3" Type="http://schemas.openxmlformats.org/officeDocument/2006/relationships/hyperlink" Target="http://deti.ulan-ude-eg.ru/dosug/news__2010_6.htm" TargetMode="External"/><Relationship Id="rId4" Type="http://schemas.openxmlformats.org/officeDocument/2006/relationships/hyperlink" Target="http://deti.ulan-ude-eg.ru/dosug/news__2010_6.htm" TargetMode="External"/><Relationship Id="rId5" Type="http://schemas.openxmlformats.org/officeDocument/2006/relationships/hyperlink" Target="http://deti.ulan-ude-eg.ru/dosug/news__2010_6.htm" TargetMode="External"/><Relationship Id="rId6" Type="http://schemas.openxmlformats.org/officeDocument/2006/relationships/hyperlink" Target="http://deti.ulan-ude-eg.ru/dosug/news__2010_6.htm" TargetMode="External"/><Relationship Id="rId7" Type="http://schemas.openxmlformats.org/officeDocument/2006/relationships/hyperlink" Target="http://deti.ulan-ude-eg.ru/dosug/news__2010_6.htm" TargetMode="External"/><Relationship Id="rId8" Type="http://schemas.openxmlformats.org/officeDocument/2006/relationships/hyperlink" Target="http://deti.ulan-ude-eg.ru/dosug/news__2010_6.htm" TargetMode="External"/><Relationship Id="rId9" Type="http://schemas.openxmlformats.org/officeDocument/2006/relationships/hyperlink" Target="http://deti.ulan-ude-eg.ru/dosug/news__2010_6.htm" TargetMode="External"/><Relationship Id="rId10" Type="http://schemas.openxmlformats.org/officeDocument/2006/relationships/hyperlink" Target="http://deti.ulan-ude-eg.ru/dosug/news__2010_6.htm" TargetMode="External"/><Relationship Id="rId11" Type="http://schemas.openxmlformats.org/officeDocument/2006/relationships/hyperlink" Target="http://deti.ulan-ude-eg.ru/dosug/news__2010_6.htm" TargetMode="External"/><Relationship Id="rId12" Type="http://schemas.openxmlformats.org/officeDocument/2006/relationships/hyperlink" Target="http://deti.ulan-ude-eg.ru/dosug/news__2010_6.htm" TargetMode="External"/><Relationship Id="rId13" Type="http://schemas.openxmlformats.org/officeDocument/2006/relationships/hyperlink" Target="http://deti.ulan-ude-eg.ru/dosug/news__2010_6.htm" TargetMode="External"/><Relationship Id="rId14" Type="http://schemas.openxmlformats.org/officeDocument/2006/relationships/hyperlink" Target="http://deti.ulan-ude-eg.ru/dosug/news__2010_6.htm" TargetMode="External"/><Relationship Id="rId15" Type="http://schemas.openxmlformats.org/officeDocument/2006/relationships/hyperlink" Target="http://deti.ulan-ude-eg.ru/dosug/news__2010_6.htm" TargetMode="External"/><Relationship Id="rId16" Type="http://schemas.openxmlformats.org/officeDocument/2006/relationships/hyperlink" Target="http://deti.ulan-ude-eg.ru/dosug/news__2010_6.htm" TargetMode="External"/><Relationship Id="rId17" Type="http://schemas.openxmlformats.org/officeDocument/2006/relationships/hyperlink" Target="http://deti.ulan-ude-eg.ru/dosug/news__2010_6.htm" TargetMode="External"/><Relationship Id="rId18" Type="http://schemas.openxmlformats.org/officeDocument/2006/relationships/hyperlink" Target="http://deti.ulan-ude-eg.ru/dosug/news__2010_6.htm" TargetMode="External"/><Relationship Id="rId19" Type="http://schemas.openxmlformats.org/officeDocument/2006/relationships/hyperlink" Target="http://deti.ulan-ude-eg.ru/dosug/news__2010_6.htm" TargetMode="External"/><Relationship Id="rId20" Type="http://schemas.openxmlformats.org/officeDocument/2006/relationships/hyperlink" Target="http://forum.materinstvo.ru/index.php?showtopic=692618&amp;st=330" TargetMode="External"/><Relationship Id="rId21" Type="http://schemas.openxmlformats.org/officeDocument/2006/relationships/hyperlink" Target="http://www.freelancejob.ru/users/shaber/portfolio/42044/" TargetMode="External"/><Relationship Id="rId22" Type="http://schemas.openxmlformats.org/officeDocument/2006/relationships/hyperlink" Target="http://community.livejournal.com/5razvorotov/tag/&#1085;&#1086;&#1074;%25" TargetMode="External"/><Relationship Id="rId23" Type="http://schemas.openxmlformats.org/officeDocument/2006/relationships/hyperlink" Target="http://www.bigreferat.com/rus/bigreferat13717.html" TargetMode="External"/><Relationship Id="rId24" Type="http://schemas.openxmlformats.org/officeDocument/2006/relationships/hyperlink" Target="http://jooy.ru/node/13103/image_gallery?page=1" TargetMode="External"/><Relationship Id="rId25" Type="http://schemas.openxmlformats.org/officeDocument/2006/relationships/hyperlink" Target="http://artklara.com/index.php?limitstart=40" TargetMode="External"/><Relationship Id="rId26" Type="http://schemas.openxmlformats.org/officeDocument/2006/relationships/hyperlink" Target="http://geografica.net.ua/photo/vidomi_moreplavci/fernan_magellan/46" TargetMode="External"/><Relationship Id="rId27" Type="http://schemas.openxmlformats.org/officeDocument/2006/relationships/hyperlink" Target="http://meteo.by/calendar/events/2010-9-20/" TargetMode="Externa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путешествия, люди узнавали всё больше и больше нового о нашей планете. Земную поверхность, которую они видели вокруг себя, люди стали назы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6"/>
          <p:cNvPicPr/>
          <p:nvPr/>
        </p:nvPicPr>
        <p:blipFill>
          <a:blip r:embed="rId2"/>
          <a:stretch/>
        </p:blipFill>
        <p:spPr>
          <a:xfrm>
            <a:off x="1979640" y="260280"/>
            <a:ext cx="5257800" cy="39481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1132200" y="55306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 – земная поверх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торую мы видим вокруг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17"/>
          <p:cNvPicPr/>
          <p:nvPr/>
        </p:nvPicPr>
        <p:blipFill>
          <a:blip r:embed="rId3"/>
          <a:stretch/>
        </p:blipFill>
        <p:spPr>
          <a:xfrm>
            <a:off x="971640" y="0"/>
            <a:ext cx="7200720" cy="54007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ница горизонта, где небо как бы сходится с земной поверхностью, называе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линией гориз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9"/>
          <p:cNvPicPr/>
          <p:nvPr/>
        </p:nvPicPr>
        <p:blipFill>
          <a:blip r:embed="rId2"/>
          <a:stretch/>
        </p:blipFill>
        <p:spPr>
          <a:xfrm>
            <a:off x="108000" y="1268280"/>
            <a:ext cx="4176720" cy="324036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  <p:pic>
        <p:nvPicPr>
          <p:cNvPr id="88" name="Picture 5" descr="18"/>
          <p:cNvPicPr/>
          <p:nvPr/>
        </p:nvPicPr>
        <p:blipFill>
          <a:blip r:embed="rId3"/>
          <a:stretch/>
        </p:blipFill>
        <p:spPr>
          <a:xfrm>
            <a:off x="4500720" y="1268280"/>
            <a:ext cx="4535280" cy="322740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Стороны горизо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далёкие путешествия, люди ориентируются по сторонам горизонта. То направление, где Солнце поднимается выше всего и сильнее греет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280" y="494172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тивоположное направление, где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гда не появляется, и откуда д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одные ветры, назва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18840" y="5300640"/>
            <a:ext cx="60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це вс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а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16080" y="494172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хемах и кар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сегда обозначают вверх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внизу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ва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Копия (2) Копия 13"/>
          <p:cNvPicPr/>
          <p:nvPr/>
        </p:nvPicPr>
        <p:blipFill>
          <a:blip r:embed="rId2"/>
          <a:stretch/>
        </p:blipFill>
        <p:spPr>
          <a:xfrm>
            <a:off x="6443640" y="2349360"/>
            <a:ext cx="241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0"/>
          <p:cNvPicPr/>
          <p:nvPr/>
        </p:nvPicPr>
        <p:blipFill>
          <a:blip r:embed="rId3"/>
          <a:stretch/>
        </p:blipFill>
        <p:spPr>
          <a:xfrm>
            <a:off x="82440" y="2133720"/>
            <a:ext cx="2401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 rot="19065000"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Стороны горизо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4797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основных сторон горизонта есть ещё и промежуточные: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91080" y="162864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231880" y="170028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455560" y="386064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256360" y="3860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456120" y="4797360"/>
            <a:ext cx="835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сывают название сторон горизо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кращённо. Основные – одной бук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чные – дву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31640" y="1341000"/>
            <a:ext cx="5651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какие стороны горизонта не обозначены на четырёх рисунках-схемах в учебнике на стр.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jcnm"/>
          <p:cNvPicPr/>
          <p:nvPr/>
        </p:nvPicPr>
        <p:blipFill>
          <a:blip r:embed="rId2"/>
          <a:stretch/>
        </p:blipFill>
        <p:spPr>
          <a:xfrm>
            <a:off x="4427640" y="4292640"/>
            <a:ext cx="3168720" cy="194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fj"/>
          <p:cNvPicPr/>
          <p:nvPr/>
        </p:nvPicPr>
        <p:blipFill>
          <a:blip r:embed="rId3"/>
          <a:stretch/>
        </p:blipFill>
        <p:spPr>
          <a:xfrm>
            <a:off x="468360" y="1916280"/>
            <a:ext cx="2781360" cy="367164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rds.i.ua/user/1597809/1/8138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t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la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ud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e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osu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ne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__2010_6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forum.materinstvo.ru/index.php?showtopic=692618&amp;s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freelancejob.ru/users/shaber/portfolio/4204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community.livejournal.com/5razvorotov/tag/%D0%BD%D0%BE%D0%B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rmap.kiev.ua/index.php?id=183&amp;lang=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bigreferat.com/rus/bigreferat1371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jooy.ru/node/13103/image_gallery?pag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artklara.com/index.php?limitstart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geografica.net.ua/photo/vidomi_moreplavci/fernan_magellan/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meteo.by/calendar/events/2010-9-2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uroburo.ru/ru/catalog/catalog/mototury/mototur-juzhno-afrikanskoe-prikljuch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irodasibiri.ru/?id_page=4&amp;id_razd=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videomax.ru/forum/printer_friendly_posts.asp?TID=1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otki.yandex.ru/users/juverna/view/12567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ancer.com.ua/forum/viewtopic.php?t=55069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ерсональный 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http://www.panowa-ox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78124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62120" y="2359080"/>
            <a:ext cx="83818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осмотри вокруг...</a:t>
            </a:r>
            <a:endParaRPr b="0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2"/>
          <a:stretch/>
        </p:blipFill>
        <p:spPr>
          <a:xfrm>
            <a:off x="6588000" y="3645000"/>
            <a:ext cx="182412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fffff"/>
          <p:cNvPicPr/>
          <p:nvPr/>
        </p:nvPicPr>
        <p:blipFill>
          <a:blip r:embed="rId3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8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 с вами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планете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помните, что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о наш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9"/>
          <p:cNvPicPr/>
          <p:nvPr/>
        </p:nvPicPr>
        <p:blipFill>
          <a:blip r:embed="rId2"/>
          <a:stretch/>
        </p:blipFill>
        <p:spPr>
          <a:xfrm>
            <a:off x="0" y="1773360"/>
            <a:ext cx="4981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Копия Копия 10"/>
          <p:cNvPicPr/>
          <p:nvPr/>
        </p:nvPicPr>
        <p:blipFill>
          <a:blip r:embed="rId2"/>
          <a:stretch/>
        </p:blipFill>
        <p:spPr>
          <a:xfrm>
            <a:off x="4356000" y="1125360"/>
            <a:ext cx="4788000" cy="3705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97360"/>
            <a:ext cx="850716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те рисунки и расскаж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 древности люди представляли себе нашу Землю. Правы ли они бы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опия 10"/>
          <p:cNvPicPr/>
          <p:nvPr/>
        </p:nvPicPr>
        <p:blipFill>
          <a:blip r:embed="rId3"/>
          <a:stretch/>
        </p:blipFill>
        <p:spPr>
          <a:xfrm>
            <a:off x="250920" y="1197000"/>
            <a:ext cx="42847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63640" y="1557000"/>
            <a:ext cx="532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ак какую же форму имеет Зем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7"/>
          <p:cNvPicPr/>
          <p:nvPr/>
        </p:nvPicPr>
        <p:blipFill>
          <a:blip r:embed="rId2"/>
          <a:stretch/>
        </p:blipFill>
        <p:spPr>
          <a:xfrm>
            <a:off x="6300720" y="4667400"/>
            <a:ext cx="2616120" cy="183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1"/>
          <p:cNvPicPr/>
          <p:nvPr/>
        </p:nvPicPr>
        <p:blipFill>
          <a:blip r:embed="rId3"/>
          <a:stretch/>
        </p:blipFill>
        <p:spPr>
          <a:xfrm>
            <a:off x="1547640" y="1104840"/>
            <a:ext cx="5761080" cy="534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182600" y="0"/>
            <a:ext cx="740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Земля имеет форму ш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17"/>
          <p:cNvPicPr/>
          <p:nvPr/>
        </p:nvPicPr>
        <p:blipFill>
          <a:blip r:embed="rId4"/>
          <a:stretch/>
        </p:blipFill>
        <p:spPr>
          <a:xfrm>
            <a:off x="6516720" y="4005360"/>
            <a:ext cx="23176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5"/>
          <p:cNvPicPr/>
          <p:nvPr/>
        </p:nvPicPr>
        <p:blipFill>
          <a:blip r:embed="rId2"/>
          <a:stretch/>
        </p:blipFill>
        <p:spPr>
          <a:xfrm>
            <a:off x="-1440" y="1125360"/>
            <a:ext cx="9145440" cy="3743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ом, что Земля имеет форму шара, люди убедились тогда, когда научились строить парусные корабли и стали плавать по морю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fffff"/>
          <p:cNvPicPr/>
          <p:nvPr/>
        </p:nvPicPr>
        <p:blipFill>
          <a:blip r:embed="rId3"/>
          <a:stretch/>
        </p:blipFill>
        <p:spPr>
          <a:xfrm rot="955200">
            <a:off x="899640" y="0"/>
            <a:ext cx="1224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75272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ди заметили одну интересную особенность: когда мореплаватели встречали другой корабль, то вначале далеко в море появлялась мачта кора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Копия 13"/>
          <p:cNvPicPr/>
          <p:nvPr/>
        </p:nvPicPr>
        <p:blipFill>
          <a:blip r:embed="rId3"/>
          <a:stretch/>
        </p:blipFill>
        <p:spPr>
          <a:xfrm>
            <a:off x="1116000" y="4005360"/>
            <a:ext cx="1582920" cy="550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1573200" y="580536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тем появлялись пар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Копия Копия 13"/>
          <p:cNvPicPr/>
          <p:nvPr/>
        </p:nvPicPr>
        <p:blipFill>
          <a:blip r:embed="rId4"/>
          <a:stretch/>
        </p:blipFill>
        <p:spPr>
          <a:xfrm>
            <a:off x="3348000" y="3573360"/>
            <a:ext cx="1728720" cy="94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Копия (2) Копия 13"/>
          <p:cNvPicPr/>
          <p:nvPr/>
        </p:nvPicPr>
        <p:blipFill>
          <a:blip r:embed="rId5"/>
          <a:stretch/>
        </p:blipFill>
        <p:spPr>
          <a:xfrm>
            <a:off x="3276720" y="2781360"/>
            <a:ext cx="3024000" cy="2855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1271160" y="5791320"/>
            <a:ext cx="666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при его приближ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новился виден весь кора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64000" y="2421000"/>
            <a:ext cx="5472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шло много времени, и люди поняли, что такое может быть только на Земле, которая по форме напоминает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hcl"/>
          <p:cNvPicPr/>
          <p:nvPr/>
        </p:nvPicPr>
        <p:blipFill>
          <a:blip r:embed="rId2"/>
          <a:stretch/>
        </p:blipFill>
        <p:spPr>
          <a:xfrm>
            <a:off x="179280" y="1628640"/>
            <a:ext cx="3365640" cy="4405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ти 5 веков назад отважный капита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ернан Магел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лыл в одном и том же направлении на своём парусном корабле в течение нескольких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5"/>
          <p:cNvPicPr/>
          <p:nvPr/>
        </p:nvPicPr>
        <p:blipFill>
          <a:blip r:embed="rId2"/>
          <a:stretch/>
        </p:blipFill>
        <p:spPr>
          <a:xfrm>
            <a:off x="3851280" y="126828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1200" y="4653000"/>
            <a:ext cx="916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геллан обогнул Землю и вернулся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начинал своё путешествие. Это ст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щё одним доказательством шарообр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3"/>
          <a:stretch/>
        </p:blipFill>
        <p:spPr>
          <a:xfrm>
            <a:off x="395280" y="1268280"/>
            <a:ext cx="277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3:54:56Z</dcterms:created>
  <dc:creator>мама</dc:creator>
  <dc:description/>
  <dc:language>en-US</dc:language>
  <cp:lastModifiedBy>нч2</cp:lastModifiedBy>
  <dcterms:modified xsi:type="dcterms:W3CDTF">2017-03-14T06:35:41Z</dcterms:modified>
  <cp:revision>11</cp:revision>
  <dc:subject/>
  <dc:title>Слайд 1</dc:title>
</cp:coreProperties>
</file>