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9D8-A4F3-41C4-9471-8FDD9B98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72B-71A6-47B2-A19B-45E7A78B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7FF-9ACD-4874-AECF-8CF84091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70D-BA05-4FD4-87B3-65BCD927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C00D-87C9-46D1-998B-47555F91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8C1E-62CC-4F49-9661-51086B6B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BA7E-1BF0-42B2-9393-52C7C835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4F94-FE69-49D7-8035-41188A68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5815-E202-402A-AAC6-825C0521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4ED5-9D73-416B-A0C3-151DAF10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F7E5-93C2-4EFC-AF28-0AC37002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88A-E0BB-4A53-8DF4-FA2ED588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BDEF-B769-47E8-9A75-08468E42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7510-8C14-4B65-9DAB-347B3824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4015-C494-4242-BB02-8BD9DC94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DD91-8AAC-4CF9-A476-C61C0CA5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85F7-64B6-49D0-B1C1-2BDD0ABF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719-D109-4B4F-B870-9BCCD76A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0FA-B7A1-4E0A-852A-0EB52C8A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62A-EA11-44AD-9AC5-3C6B19A9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679-EC8D-4123-9357-8A33FE3B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0E8-03AF-4F58-B4AA-A9F73D4F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948-F44F-486E-96DE-D647BF5A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8C7-A41E-4460-B120-41E7199A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55F8-EDE9-47AD-BBF3-21311342493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F672-CF63-4D66-80EF-B4F853AD6D7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1403280" y="765000"/>
            <a:ext cx="64764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9720" y="210960"/>
            <a:ext cx="57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БОУ СОШ “Центр образования” п. Варламо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79280" y="1052640"/>
            <a:ext cx="885672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Мои прапрадеды в 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ликой Отечественной войны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полнила  ученица 4 “В” класса Ежкова Светл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итель : Матвеева Светлан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\\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2017 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1" descr="IMG_0001"/>
          <p:cNvPicPr/>
          <p:nvPr/>
        </p:nvPicPr>
        <p:blipFill>
          <a:blip r:embed="rId1"/>
          <a:srcRect l="3406" t="6522" r="4619" b="4346"/>
          <a:stretch/>
        </p:blipFill>
        <p:spPr>
          <a:xfrm>
            <a:off x="34920" y="620640"/>
            <a:ext cx="3525840" cy="4870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714480" y="213840"/>
            <a:ext cx="49719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юня 1941 года по май 1945 года участвовал в Великой Отечественной войне  командиром пушечного расчет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Рисунок 11" descr="IMG_0001"/>
          <p:cNvPicPr/>
          <p:nvPr/>
        </p:nvPicPr>
        <p:blipFill>
          <a:blip r:embed="rId2"/>
          <a:srcRect l="3406" t="6522" r="4619" b="4346"/>
          <a:stretch/>
        </p:blipFill>
        <p:spPr>
          <a:xfrm>
            <a:off x="-3240" y="476280"/>
            <a:ext cx="3525840" cy="50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634920" y="260280"/>
            <a:ext cx="49006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тяжело ранен в правую ногу. Награжден орденом Отечественной войн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Рисунок 11" descr="IMG_0001"/>
          <p:cNvPicPr/>
          <p:nvPr/>
        </p:nvPicPr>
        <p:blipFill>
          <a:blip r:embed="rId1"/>
          <a:srcRect l="3406" t="6522" r="4619" b="4346"/>
          <a:stretch/>
        </p:blipFill>
        <p:spPr>
          <a:xfrm>
            <a:off x="6480" y="549360"/>
            <a:ext cx="35258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428720" y="285480"/>
            <a:ext cx="425772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3 году администрация поселка Варламово вручила моему дедушке Ежкову Николаю Ивановичу «Памятную книгу Самарской области», где есть запись о моем прадедушке Иване Иванович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Рисунок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530520" cy="44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71600" y="285480"/>
            <a:ext cx="46148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один мой прадедушка Михайлов Алексей Андреевич. Он родился 28 марта 1922 года в городе Ульяновск. Окончил 8 класс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Рисунок 12" descr="IMG_0002"/>
          <p:cNvPicPr/>
          <p:nvPr/>
        </p:nvPicPr>
        <p:blipFill>
          <a:blip r:embed="rId1"/>
          <a:stretch/>
        </p:blipFill>
        <p:spPr>
          <a:xfrm>
            <a:off x="434880" y="620640"/>
            <a:ext cx="36147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071600" y="285840"/>
            <a:ext cx="461484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лся в первом ульяновском  бронетанковом училище. Проходил службу офицером с июня 1941 года по май 1942 г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Рисунок 12" descr="IMG_0002"/>
          <p:cNvPicPr/>
          <p:nvPr/>
        </p:nvPicPr>
        <p:blipFill>
          <a:blip r:embed="rId1"/>
          <a:stretch/>
        </p:blipFill>
        <p:spPr>
          <a:xfrm>
            <a:off x="552600" y="549360"/>
            <a:ext cx="36147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071600" y="213840"/>
            <a:ext cx="461484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боя под городо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ьков был ранен и             поп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н к немца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Рисунок 12" descr="IMG_0002"/>
          <p:cNvPicPr/>
          <p:nvPr/>
        </p:nvPicPr>
        <p:blipFill>
          <a:blip r:embed="rId1"/>
          <a:stretch/>
        </p:blipFill>
        <p:spPr>
          <a:xfrm>
            <a:off x="426960" y="765000"/>
            <a:ext cx="36147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000320" y="285480"/>
            <a:ext cx="468612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вал, что обращались с ними жестоко. Из плена был освобожден английскими войска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12" descr="IMG_0002"/>
          <p:cNvPicPr/>
          <p:nvPr/>
        </p:nvPicPr>
        <p:blipFill>
          <a:blip r:embed="rId1"/>
          <a:stretch/>
        </p:blipFill>
        <p:spPr>
          <a:xfrm>
            <a:off x="433440" y="507960"/>
            <a:ext cx="3614760" cy="472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000320" y="285840"/>
            <a:ext cx="468612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 медалью за победу над Германией в Великой Отечественной войне и орденом Отечественной войн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Рисунок 12" descr="IMG_0002"/>
          <p:cNvPicPr/>
          <p:nvPr/>
        </p:nvPicPr>
        <p:blipFill>
          <a:blip r:embed="rId1"/>
          <a:stretch/>
        </p:blipFill>
        <p:spPr>
          <a:xfrm>
            <a:off x="428760" y="549360"/>
            <a:ext cx="361476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47149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ровый год мы сами стали строж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емный лес, притихший от дожд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ак ни странно, кажется, молож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отеряв и сызнова найд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" descr="D:\Презентация 9 мая\фото\velikaya-0020.jpg"/>
          <p:cNvPicPr/>
          <p:nvPr/>
        </p:nvPicPr>
        <p:blipFill>
          <a:blip r:embed="rId1"/>
          <a:stretch/>
        </p:blipFill>
        <p:spPr>
          <a:xfrm>
            <a:off x="1500120" y="549360"/>
            <a:ext cx="64296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4857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ь сероглазых, крепкоплечих, ловких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ушой как Волга в половодный час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дружились с говором винтов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в милой Родины наказ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D:\Презентация 9 мая\фото\velikaya-0028.jpg"/>
          <p:cNvPicPr/>
          <p:nvPr/>
        </p:nvPicPr>
        <p:blipFill>
          <a:blip r:embed="rId1"/>
          <a:stretch/>
        </p:blipFill>
        <p:spPr>
          <a:xfrm>
            <a:off x="900000" y="620640"/>
            <a:ext cx="77868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116000" y="903960"/>
            <a:ext cx="8209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  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 считаю, что данная тема  является актуальной по нескольким причина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мая 1945 год - это тот самый день, когда советский народ ценой огромных потерь одержал великую победу над фашистами в годы Великой Отечественной вой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сожалению, всё меньше остаётся в живых ветеранов, поэтому наша задача – собирать, изучать и хранить материал о людях, защищавших нашу Род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человек должен знать свою родословную: судьбу своих дедов и прадедов, а затем свои знания передавать будущим поколени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3857400"/>
            <a:ext cx="822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человека. Две судьбы. Их молодость опалила война. Они шли к победе, мужественно перенося тяготы войны, вместе со своими фронтовыми товарищами.  Им повезло. Они выжили, а сколько не вернулось с той войны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Рисунок 11" descr="IMG_0001"/>
          <p:cNvPicPr/>
          <p:nvPr/>
        </p:nvPicPr>
        <p:blipFill>
          <a:blip r:embed="rId1"/>
          <a:srcRect l="3404" t="6526" r="4622" b="4345"/>
          <a:stretch/>
        </p:blipFill>
        <p:spPr>
          <a:xfrm>
            <a:off x="1206360" y="476280"/>
            <a:ext cx="2500560" cy="34243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2" descr="IMG_0002"/>
          <p:cNvPicPr/>
          <p:nvPr/>
        </p:nvPicPr>
        <p:blipFill>
          <a:blip r:embed="rId2"/>
          <a:stretch/>
        </p:blipFill>
        <p:spPr>
          <a:xfrm>
            <a:off x="4932360" y="476280"/>
            <a:ext cx="2714760" cy="34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471492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должны забывать о тех, кто завоевывал победу в той войне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" descr="D:\Презентация 9 мая\фото\934a3e8684cb.jpg"/>
          <p:cNvPicPr/>
          <p:nvPr/>
        </p:nvPicPr>
        <p:blipFill>
          <a:blip r:embed="rId1"/>
          <a:stretch/>
        </p:blipFill>
        <p:spPr>
          <a:xfrm>
            <a:off x="1332000" y="620640"/>
            <a:ext cx="60958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478584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, она и есть – война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м, кто опален дыханьем люты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чаша горькая, что выпита до дн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лаще даже... с праздничным салют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2" descr="D:\Презентация 9 мая\фото\112803329_022.jpg"/>
          <p:cNvPicPr/>
          <p:nvPr/>
        </p:nvPicPr>
        <p:blipFill>
          <a:blip r:embed="rId1"/>
          <a:stretch/>
        </p:blipFill>
        <p:spPr>
          <a:xfrm>
            <a:off x="1244520" y="404640"/>
            <a:ext cx="665820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4508640"/>
            <a:ext cx="822960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, она и есть - война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 сей день былые ноют ра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-таки – наденьте ордена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 праздником Победы, ветеран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2" descr="D:\Презентация 9 мая\фото\veterany.jpg"/>
          <p:cNvPicPr/>
          <p:nvPr/>
        </p:nvPicPr>
        <p:blipFill>
          <a:blip r:embed="rId1"/>
          <a:stretch/>
        </p:blipFill>
        <p:spPr>
          <a:xfrm>
            <a:off x="711360" y="603360"/>
            <a:ext cx="7777080" cy="38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619280" y="307440"/>
            <a:ext cx="655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мая 2017 года мы с бабушкой и дедушкой участвовали в Общероссийской акции “Бессмертный полк”. Мы пронесли фотографии наших героев по главной улице села в честь их Великой побе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Рисунок 2" descr="http://allsyzran.ru/images/stories/adv/polk_1_8_09052014.jpg"/>
          <p:cNvPicPr/>
          <p:nvPr/>
        </p:nvPicPr>
        <p:blipFill>
          <a:blip r:embed="rId1"/>
          <a:stretch/>
        </p:blipFill>
        <p:spPr>
          <a:xfrm>
            <a:off x="1835280" y="3284640"/>
            <a:ext cx="5940360" cy="231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1042920" y="-910800"/>
            <a:ext cx="8101080" cy="69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я всю найденную информацию мной, а также рассматривая фотографии, я поняла, что события Великой Отечественной войны не обошли стороной мою семью. Мои прапрадеды были участниками исторических событий нашей Род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пасибо Вам!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Я горжусь Вами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веты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https://img-fotki.yandex.ru/get/5603/svetlera.281/0_5b47a_b332fb11_ori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воздика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http://parnasse.ru/upload/comments/baf57dd83272cb49a33dbe0121279ba5.jp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еоргиевская ленточка (для оформления вверху)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http://www.coollady.ru/pic/0004/067/080.jp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лотка, патронташ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http://www.georg-sputnik.ru/sites/default/files/0_7d662_86da34c8_xl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дпись «1941 – 1945»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http://img-fotki.yandex.ru/get/6302/64562208.6e2/0_9d8f7_d5c9a6ef_X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95280" y="475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   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зучить влияние событий Великой Отечественной войны на жизнь и  судьбу моих прапрадед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Презентация 9 мая\фото\velikaya-0077.jpg"/>
          <p:cNvPicPr/>
          <p:nvPr/>
        </p:nvPicPr>
        <p:blipFill>
          <a:blip r:embed="rId1"/>
          <a:stretch/>
        </p:blipFill>
        <p:spPr>
          <a:xfrm>
            <a:off x="309600" y="404640"/>
            <a:ext cx="8889840" cy="460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768240" y="5157360"/>
            <a:ext cx="8229600" cy="2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65520" indent="-49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году 72 года Великой Побе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 indent="-49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война не обошла и мою семь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 indent="-49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Презентация 9 мая\фото\velikaya-00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50007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 война, что ж ты сделала подлая: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и тихими наши дворы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мальчики головы подняли,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зрослели они до поры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45716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роге едва помаячил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шли за солдатом - солдат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видания мальчики! Мальчи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вернуться назад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5" descr="D:\Презентация 9 мая\фото\velikaya-0084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1" descr="IMG_0001"/>
          <p:cNvPicPr/>
          <p:nvPr/>
        </p:nvPicPr>
        <p:blipFill>
          <a:blip r:embed="rId1"/>
          <a:srcRect l="3406" t="6522" r="4619" b="4346"/>
          <a:stretch/>
        </p:blipFill>
        <p:spPr>
          <a:xfrm>
            <a:off x="285840" y="692280"/>
            <a:ext cx="3525840" cy="4736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857760" y="285480"/>
            <a:ext cx="4829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радед Иван Иванович Ежков родился 22 ноября 1912 года в Саратовской области село Юловая Маза Вольского район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785760" y="213840"/>
            <a:ext cx="49006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же окончил 4 класс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й школы. Бы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м рабочи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Рисунок 11" descr="IMG_0001"/>
          <p:cNvPicPr/>
          <p:nvPr/>
        </p:nvPicPr>
        <p:blipFill>
          <a:blip r:embed="rId1"/>
          <a:srcRect l="3406" t="6522" r="4619" b="4346"/>
          <a:stretch/>
        </p:blipFill>
        <p:spPr>
          <a:xfrm>
            <a:off x="196920" y="692280"/>
            <a:ext cx="36306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857760" y="213840"/>
            <a:ext cx="482904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не 1941 года мой праде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призван Сызрански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ЭК Куйбышевской обла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елковый полк сержант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Рисунок 11" descr="IMG_0001"/>
          <p:cNvPicPr/>
          <p:nvPr/>
        </p:nvPicPr>
        <p:blipFill>
          <a:blip r:embed="rId1"/>
          <a:srcRect l="3406" t="6522" r="4619" b="4346"/>
          <a:stretch/>
        </p:blipFill>
        <p:spPr>
          <a:xfrm>
            <a:off x="285840" y="620640"/>
            <a:ext cx="35258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4T18:49:36Z</dcterms:created>
  <dc:creator>Татьяна</dc:creator>
  <dc:description/>
  <dc:language>en-US</dc:language>
  <cp:lastModifiedBy>Светлана</cp:lastModifiedBy>
  <dcterms:modified xsi:type="dcterms:W3CDTF">2017-05-18T19:53:08Z</dcterms:modified>
  <cp:revision>67</cp:revision>
  <dc:subject/>
  <dc:title>Слайд 1</dc:title>
</cp:coreProperties>
</file>