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9BF-BF3E-440C-BEF2-EDA57D63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D38-6FD7-4C9F-BEBB-023AA8D7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506-EDD2-4E84-BB8C-A5F642A9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AE7-CB19-4AA2-83E6-865DD221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5FB-3016-4873-9D65-88BB5FC4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3DAB-8CB0-4473-9986-7E674B3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520C-E748-41D8-8B23-27A76A9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09BE-8129-4D83-AC76-75A66D75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722B-30A6-46C2-A480-2D074F50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7D0-3D45-4178-8134-73B4F4E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57B3-1140-4EDD-9100-C319545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F8C-C579-4B2E-868B-CB04CC4E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24B-5116-4B30-BF5B-BA5F3ED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0E4-3687-4235-BDB6-1FAC144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E11-4A3D-4215-919B-1915A906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837-015C-4798-8C2E-34320078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4C08-9523-4700-8634-C6CC57AE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BE6-ACA7-4CED-A902-537ED43C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E76-B238-4FAA-86E6-C87D330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C1D-D7F4-4F3B-AAC8-84B5E7E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249-635C-4055-974B-8FF7087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CEE-DD23-46C4-8FBE-6167EF8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5F5-B171-4E34-86CA-B4A193B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0D4-1A7F-4C35-87BA-84AEF49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3F62-2E87-4B85-8898-C4405F7E8DE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0C1-366A-452F-8E27-96013D5CED0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403280" y="765000"/>
            <a:ext cx="6476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720" y="21096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БОУ СОШ “Центр образования” п. Варлам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1052640"/>
            <a:ext cx="885672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Мои прапрадеды в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ликой Отечественной войн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полнила  ученица 4 “В” класса Ежкова Светл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 : Матвеева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\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017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34920" y="620640"/>
            <a:ext cx="3525840" cy="487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714480" y="213840"/>
            <a:ext cx="4971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юня 1941 года по май 1945 года участвовал в Великой Отечественной войне  командиром пушечного расче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Рисунок 11" descr="IMG_0001"/>
          <p:cNvPicPr/>
          <p:nvPr/>
        </p:nvPicPr>
        <p:blipFill>
          <a:blip r:embed="rId2"/>
          <a:srcRect l="3406" t="6522" r="4619" b="4346"/>
          <a:stretch/>
        </p:blipFill>
        <p:spPr>
          <a:xfrm>
            <a:off x="-3240" y="476280"/>
            <a:ext cx="352584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634920" y="260280"/>
            <a:ext cx="49006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тяжело ранен в правую ногу. Награжден орденом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6480" y="549360"/>
            <a:ext cx="35258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428720" y="285480"/>
            <a:ext cx="4257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администрация поселка Варламово вручила моему дедушке Ежкову Николаю Ивановичу «Памятную книгу Самарской области», где есть запись о моем прадедушке Иване Иванович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530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71600" y="285480"/>
            <a:ext cx="4614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ин мой прадедушка Михайлов Алексей Андреевич. Он родился 28 марта 1922 года в городе Ульяновск. Окончил 8 класс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12" descr="IMG_0002"/>
          <p:cNvPicPr/>
          <p:nvPr/>
        </p:nvPicPr>
        <p:blipFill>
          <a:blip r:embed="rId1"/>
          <a:stretch/>
        </p:blipFill>
        <p:spPr>
          <a:xfrm>
            <a:off x="434880" y="620640"/>
            <a:ext cx="3614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071600" y="285840"/>
            <a:ext cx="461484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ся в первом ульяновском  бронетанковом училище. Проходил службу офицером с июня 1941 года по май 1942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12" descr="IMG_0002"/>
          <p:cNvPicPr/>
          <p:nvPr/>
        </p:nvPicPr>
        <p:blipFill>
          <a:blip r:embed="rId1"/>
          <a:stretch/>
        </p:blipFill>
        <p:spPr>
          <a:xfrm>
            <a:off x="552600" y="549360"/>
            <a:ext cx="3614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071600" y="213840"/>
            <a:ext cx="46148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оя под город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ьков был ранен и             поп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н к немца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12" descr="IMG_0002"/>
          <p:cNvPicPr/>
          <p:nvPr/>
        </p:nvPicPr>
        <p:blipFill>
          <a:blip r:embed="rId1"/>
          <a:stretch/>
        </p:blipFill>
        <p:spPr>
          <a:xfrm>
            <a:off x="426960" y="765000"/>
            <a:ext cx="36147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000320" y="285480"/>
            <a:ext cx="46861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л, что обращались с ними жестоко. Из плена был освобожден английскими войск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12" descr="IMG_0002"/>
          <p:cNvPicPr/>
          <p:nvPr/>
        </p:nvPicPr>
        <p:blipFill>
          <a:blip r:embed="rId1"/>
          <a:stretch/>
        </p:blipFill>
        <p:spPr>
          <a:xfrm>
            <a:off x="433440" y="507960"/>
            <a:ext cx="3614760" cy="47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000320" y="285840"/>
            <a:ext cx="46861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 медалью за победу над Германией в Великой Отечественной войне и орденом Отечественной вой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Рисунок 12" descr="IMG_0002"/>
          <p:cNvPicPr/>
          <p:nvPr/>
        </p:nvPicPr>
        <p:blipFill>
          <a:blip r:embed="rId1"/>
          <a:stretch/>
        </p:blipFill>
        <p:spPr>
          <a:xfrm>
            <a:off x="428760" y="549360"/>
            <a:ext cx="36147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714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ровый год мы сами стали строж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мный лес, притихший от дожд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ак ни странно, кажется, молож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теряв и сызнова най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D:\Презентация 9 мая\фото\velikaya-0020.jpg"/>
          <p:cNvPicPr/>
          <p:nvPr/>
        </p:nvPicPr>
        <p:blipFill>
          <a:blip r:embed="rId1"/>
          <a:stretch/>
        </p:blipFill>
        <p:spPr>
          <a:xfrm>
            <a:off x="1500120" y="549360"/>
            <a:ext cx="64296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4857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ероглазых, крепкоплечих, ловки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ушой как Волга в половодный час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дружились с говором винтов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в милой Родины наказ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Презентация 9 мая\фото\velikaya-0028.jpg"/>
          <p:cNvPicPr/>
          <p:nvPr/>
        </p:nvPicPr>
        <p:blipFill>
          <a:blip r:embed="rId1"/>
          <a:stretch/>
        </p:blipFill>
        <p:spPr>
          <a:xfrm>
            <a:off x="900000" y="620640"/>
            <a:ext cx="77868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116000" y="903960"/>
            <a:ext cx="820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считаю, что данная тема  является актуальной по нескольким причина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1945 год - это тот самый день, когда советский народ ценой огромных потерь одержал великую победу над фашистами в годы Великой Отечественн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всё меньше остаётся в живых ветеранов, поэтому наша задача – собирать, изучать и хранить материал о людях, защищавших нашу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человек должен знать свою родословную: судьбу своих дедов и прадедов, а затем свои знания передавать будущим поколен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человека. Две судьбы. Их молодость опалила война. Они шли к победе, мужественно перенося тяготы войны, вместе со своими фронтовыми товарищами.  Им повезло. Они выжили, а сколько не вернулось с той войны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11" descr="IMG_0001"/>
          <p:cNvPicPr/>
          <p:nvPr/>
        </p:nvPicPr>
        <p:blipFill>
          <a:blip r:embed="rId1"/>
          <a:srcRect l="3404" t="6526" r="4622" b="4345"/>
          <a:stretch/>
        </p:blipFill>
        <p:spPr>
          <a:xfrm>
            <a:off x="1206360" y="476280"/>
            <a:ext cx="2500560" cy="34243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IMG_0002"/>
          <p:cNvPicPr/>
          <p:nvPr/>
        </p:nvPicPr>
        <p:blipFill>
          <a:blip r:embed="rId2"/>
          <a:stretch/>
        </p:blipFill>
        <p:spPr>
          <a:xfrm>
            <a:off x="4932360" y="476280"/>
            <a:ext cx="271476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47149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должны забывать о тех, кто завоевывал победу в той войне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D:\Презентация 9 мая\фото\934a3e8684cb.jpg"/>
          <p:cNvPicPr/>
          <p:nvPr/>
        </p:nvPicPr>
        <p:blipFill>
          <a:blip r:embed="rId1"/>
          <a:stretch/>
        </p:blipFill>
        <p:spPr>
          <a:xfrm>
            <a:off x="1332000" y="620640"/>
            <a:ext cx="6095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47858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, она и есть – война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м, кто опален дыханьем люты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чаша горькая, что выпита до д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аще даже... с праздничным салю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D:\Презентация 9 мая\фото\112803329_022.jpg"/>
          <p:cNvPicPr/>
          <p:nvPr/>
        </p:nvPicPr>
        <p:blipFill>
          <a:blip r:embed="rId1"/>
          <a:stretch/>
        </p:blipFill>
        <p:spPr>
          <a:xfrm>
            <a:off x="1244520" y="404640"/>
            <a:ext cx="66582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450864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, она и есть - война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сей день былые ноют ра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-таки – наденьте орден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праздником Победы, ветера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D:\Презентация 9 мая\фото\veterany.jpg"/>
          <p:cNvPicPr/>
          <p:nvPr/>
        </p:nvPicPr>
        <p:blipFill>
          <a:blip r:embed="rId1"/>
          <a:stretch/>
        </p:blipFill>
        <p:spPr>
          <a:xfrm>
            <a:off x="711360" y="603360"/>
            <a:ext cx="777708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19280" y="30744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мая 2017 года мы с бабушкой и дедушкой участвовали в Общероссийской акции “Бессмертный полк”. Мы пронесли фотографии наших героев по главной улице села в честь их Великой побе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2" descr="http://allsyzran.ru/images/stories/adv/polk_1_8_09052014.jpg"/>
          <p:cNvPicPr/>
          <p:nvPr/>
        </p:nvPicPr>
        <p:blipFill>
          <a:blip r:embed="rId1"/>
          <a:stretch/>
        </p:blipFill>
        <p:spPr>
          <a:xfrm>
            <a:off x="1835280" y="3284640"/>
            <a:ext cx="5940360" cy="23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42920" y="-910800"/>
            <a:ext cx="810108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я всю найденную информацию мной, а также рассматривая фотографии, я поняла, что события Великой Отечественной войны не обошли стороной мою семью. Мои прапрадеды были участниками исторических событий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Вам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 горжусь Вам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ве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s://img-fotki.yandex.ru/get/5603/svetlera.281/0_5b47a_b332fb11_ori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воздика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parnasse.ru/upload/comments/baf57dd83272cb49a33dbe0121279ba5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оргиевская ленточка (для оформления вверх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www.coollady.ru/pic/0004/067/080.jp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лотка, патронташ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www.georg-sputnik.ru/sites/default/files/0_7d662_86da34c8_xl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пись «1941 – 1945»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img-fotki.yandex.ru/get/6302/64562208.6e2/0_9d8f7_d5c9a6ef_X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   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зучить влияние событий Великой Отечественной войны на жизнь и  судьбу моих прапраде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Презентация 9 мая\фото\velikaya-0077.jpg"/>
          <p:cNvPicPr/>
          <p:nvPr/>
        </p:nvPicPr>
        <p:blipFill>
          <a:blip r:embed="rId1"/>
          <a:stretch/>
        </p:blipFill>
        <p:spPr>
          <a:xfrm>
            <a:off x="309600" y="404640"/>
            <a:ext cx="8889840" cy="460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8240" y="5157360"/>
            <a:ext cx="8229600" cy="2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ду 72 года Великой Побе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война не обошла и мою сем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Презентация 9 мая\фото\velikaya-00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5000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 война, что ж ты сделала подла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тихими наши дворы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мальчики головы подняли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зрослели они до поры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571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роге едва помаячил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шли за солдатом - солда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 мальчики! Мальчи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вернуться назад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D:\Презентация 9 мая\фото\velikaya-008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285840" y="692280"/>
            <a:ext cx="3525840" cy="473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57760" y="285480"/>
            <a:ext cx="4829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радед Иван Иванович Ежков родился 22 ноября 1912 года в Саратовской области село Юловая Маза Вольского райо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85760" y="213840"/>
            <a:ext cx="4900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же окончил 4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школы. Бы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 рабоч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196920" y="692280"/>
            <a:ext cx="36306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57760" y="213840"/>
            <a:ext cx="4829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1941 года мой праде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изван Сызрански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К Куйбышевской обла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елковый полк сержан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285840" y="620640"/>
            <a:ext cx="35258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18:49:36Z</dcterms:created>
  <dc:creator>Татьяна</dc:creator>
  <dc:description/>
  <dc:language>en-US</dc:language>
  <cp:lastModifiedBy>Светлана</cp:lastModifiedBy>
  <dcterms:modified xsi:type="dcterms:W3CDTF">2017-05-18T19:53:08Z</dcterms:modified>
  <cp:revision>67</cp:revision>
  <dc:subject/>
  <dc:title>Слайд 1</dc:title>
</cp:coreProperties>
</file>