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B12-2E02-45AB-A5BF-754D1BB5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E0D-55DC-4A69-B157-869354BB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E45-F972-465A-8187-E62A6041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5F2-3AB1-4736-81CA-13FE63D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D03F-21B2-492E-BBBC-DCBC2C3B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7A87-3FC5-4BC4-BD8B-678A7C7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EAD-89F1-4C64-8118-972AD75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1213-08D3-42EA-AB7A-5373D4D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3B68-D990-42F8-AD3C-F8B363A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0DE-0E35-4563-B04E-F76ABAB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DF7E-55C7-411C-A0AA-986C8B3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AF3-5EA6-469B-A26F-302A3EA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900F-13A0-43FC-AC9E-29DFDC5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5276-64E7-4E78-B1BA-6702B981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2D49-1917-41BD-8618-54236D6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D944-0A3F-4D13-859E-45E856DE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17D-248F-4F8D-A333-DC0CFE3E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AC1-245F-48EF-AEF1-0D859AD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B05-8A35-422A-8AA7-354D63C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6F2-5692-4AD6-974A-E37A018C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28A-5DC0-484E-97F9-FDA2B022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C55-85FF-4A3A-AD7D-9913B5E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AA2-06A9-461A-A1EE-598479D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27D-31A2-4DE2-A8E0-BC5AB107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80D-4CAA-4C99-B142-439DE9A8B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0F3-4AA4-47E6-93E0-E4ABE7C11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bilmusic.ru/wallpaper.php?id=419333" TargetMode="External"/><Relationship Id="rId2" Type="http://schemas.openxmlformats.org/officeDocument/2006/relationships/hyperlink" Target="http://nevseoboi.com.ua/oboi-wallpapers/grafika-3d/page,2,1630-prazdnichnye-i-abstraktnye-fony-87-oboev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  <a:ea typeface="바탕"/>
              </a:rPr>
              <a:t>Проект «Строим из Лег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4005000"/>
            <a:ext cx="4279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ружок «лего - конструирование»                       1 кл. «Б»  и   1 кл. « 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уководители  проек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елова И.А., Табачкова  Т.С.          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яя модели мы сделали вывод, что из   базового набора можно построить самые разнообразные модели . Главное – применить фантаз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5" descr="IMG_20170124_140014_1CS.jpg"/>
          <p:cNvPicPr/>
          <p:nvPr/>
        </p:nvPicPr>
        <p:blipFill>
          <a:blip r:embed="rId1"/>
          <a:stretch/>
        </p:blipFill>
        <p:spPr>
          <a:xfrm>
            <a:off x="3276720" y="3645000"/>
            <a:ext cx="208728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IMG_20161130_140352_1CS.jpg"/>
          <p:cNvPicPr/>
          <p:nvPr/>
        </p:nvPicPr>
        <p:blipFill>
          <a:blip r:embed="rId1"/>
          <a:stretch/>
        </p:blipFill>
        <p:spPr>
          <a:xfrm>
            <a:off x="468360" y="15699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Irina\Desktop\лего мастер\IMG_20161220_140457_5CS.jpg"/>
          <p:cNvPicPr/>
          <p:nvPr/>
        </p:nvPicPr>
        <p:blipFill>
          <a:blip r:embed="rId2"/>
          <a:stretch/>
        </p:blipFill>
        <p:spPr>
          <a:xfrm>
            <a:off x="2556000" y="3789360"/>
            <a:ext cx="1925640" cy="256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Irina\Desktop\лего мастер\IMG_20161220_140516_1CS.jpg"/>
          <p:cNvPicPr/>
          <p:nvPr/>
        </p:nvPicPr>
        <p:blipFill>
          <a:blip r:embed="rId3"/>
          <a:stretch/>
        </p:blipFill>
        <p:spPr>
          <a:xfrm>
            <a:off x="4716360" y="1484280"/>
            <a:ext cx="1893960" cy="252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Irina\Desktop\лего мастер\IMG_20170124_135933_2CS.jpg"/>
          <p:cNvPicPr/>
          <p:nvPr/>
        </p:nvPicPr>
        <p:blipFill>
          <a:blip r:embed="rId4"/>
          <a:stretch/>
        </p:blipFill>
        <p:spPr>
          <a:xfrm>
            <a:off x="5219640" y="3789360"/>
            <a:ext cx="3260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obilmusic.ru/wallpaper.php?id=419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evseoboi.com.ua/oboi-wallpapers/grafika-3d/page,2,1630-prazdnichnye-i-abstraktnye-fony-87-oboev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214280" y="3857760"/>
            <a:ext cx="6500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Автор шаблона –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Коровина Ирина Николаевна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учитель начальных классов  МБОУ «СОШ №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. Сафоново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</a:rPr>
              <a:t>Актуальность и причина выбора темы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и любят строить из ЛЕГО. Но не всегда под рукой есть набор из  интересующей коллекции и не всегда есть возможность  купить дополнительный набор , так как конструктор Лего достаточно дорого стоит . Поэтому используя  имеющийся набор деталей  можно  собрать разные модели. Главное- применить фантазию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IMG_20161102_125652_1CS.jpg"/>
          <p:cNvPicPr/>
          <p:nvPr/>
        </p:nvPicPr>
        <p:blipFill>
          <a:blip r:embed="rId1"/>
          <a:stretch/>
        </p:blipFill>
        <p:spPr>
          <a:xfrm>
            <a:off x="4067280" y="4653000"/>
            <a:ext cx="134784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  <a:ea typeface="바탕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казать, что из базового набора конструктора Лего можно собрать много интересных мод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чать создавать « Папку Лего-мастера» с моделями , которые можно построить из этого наб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сти мастер – класс по изготовлению животных из Л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IMG_20170328_140248.jpg"/>
          <p:cNvPicPr/>
          <p:nvPr/>
        </p:nvPicPr>
        <p:blipFill>
          <a:blip r:embed="rId1"/>
          <a:stretch/>
        </p:blipFill>
        <p:spPr>
          <a:xfrm>
            <a:off x="4356000" y="4508640"/>
            <a:ext cx="151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Гипотез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базового набора деталей  Лего- конструктора можно собрать разные модели( машины, дома, животны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IMG_20161220_140328_2CS.jpg"/>
          <p:cNvPicPr/>
          <p:nvPr/>
        </p:nvPicPr>
        <p:blipFill>
          <a:blip r:embed="rId1"/>
          <a:stretch/>
        </p:blipFill>
        <p:spPr>
          <a:xfrm>
            <a:off x="3276720" y="328464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Этапы 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с историей создания Л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оделей из базового набора деталей. Создание « Папки Лего- мастера», включающей эти мо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мастер-класса по изготовлению животных из Л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о создании моделей из базового набора дета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6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6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создания  Л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оздания конструктора начинается в 1932 г. Столяр Оле Кирк Кристиансен стал изготавливать для своих детей стал изготавливать деревянные игрушки.   Потом он стал основателем компании по изготовлению  конструкторов Л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конструктор выглядел вот  т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Объект 6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2610000" cy="1962000"/>
          </a:xfrm>
          <a:prstGeom prst="rect">
            <a:avLst/>
          </a:prstGeom>
          <a:ln w="0">
            <a:noFill/>
          </a:ln>
        </p:spPr>
      </p:pic>
      <p:pic>
        <p:nvPicPr>
          <p:cNvPr id="118" name="Объект 6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843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47г. Компания разработала первые пластиковые кубики, являющиеся предшественниками современных кубиков ЛЕ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ЛЕГО достигает объема 706 млн. элементов в год. У Лего много разновидностей. Напримкр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LEGO DUPLO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один из старейших наборов для малышей (с 1,5 до 5 лет). Выпускается с 1969г.В нем крупные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Объект 7" descr=""/>
          <p:cNvPicPr/>
          <p:nvPr/>
        </p:nvPicPr>
        <p:blipFill>
          <a:blip r:embed="rId1"/>
          <a:stretch/>
        </p:blipFill>
        <p:spPr>
          <a:xfrm>
            <a:off x="3095640" y="2349360"/>
            <a:ext cx="1843200" cy="1150920"/>
          </a:xfrm>
          <a:prstGeom prst="rect">
            <a:avLst/>
          </a:prstGeom>
          <a:ln w="0">
            <a:noFill/>
          </a:ln>
        </p:spPr>
      </p:pic>
      <p:pic>
        <p:nvPicPr>
          <p:cNvPr id="121" name="Объект 4" descr=""/>
          <p:cNvPicPr/>
          <p:nvPr/>
        </p:nvPicPr>
        <p:blipFill>
          <a:blip r:embed="rId2"/>
          <a:stretch/>
        </p:blipFill>
        <p:spPr>
          <a:xfrm>
            <a:off x="3841920" y="4941720"/>
            <a:ext cx="15127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Увлекательный процесс констру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мы хотим показать свои работы из конструктора, который есть у нас в СП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IMG_20161031_135658_1CS.jpg"/>
          <p:cNvPicPr/>
          <p:nvPr/>
        </p:nvPicPr>
        <p:blipFill>
          <a:blip r:embed="rId1"/>
          <a:stretch/>
        </p:blipFill>
        <p:spPr>
          <a:xfrm>
            <a:off x="468360" y="2997360"/>
            <a:ext cx="1523880" cy="203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IMG_20161220_141210_1CS.jpg"/>
          <p:cNvPicPr/>
          <p:nvPr/>
        </p:nvPicPr>
        <p:blipFill>
          <a:blip r:embed="rId2"/>
          <a:stretch/>
        </p:blipFill>
        <p:spPr>
          <a:xfrm>
            <a:off x="2411280" y="3429000"/>
            <a:ext cx="187344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IMG_20161125_141607.jpg"/>
          <p:cNvPicPr/>
          <p:nvPr/>
        </p:nvPicPr>
        <p:blipFill>
          <a:blip r:embed="rId3"/>
          <a:stretch/>
        </p:blipFill>
        <p:spPr>
          <a:xfrm>
            <a:off x="4643280" y="2997360"/>
            <a:ext cx="1657440" cy="2207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IMG_20170328_140330_6CS.jpg"/>
          <p:cNvPicPr/>
          <p:nvPr/>
        </p:nvPicPr>
        <p:blipFill>
          <a:blip r:embed="rId4"/>
          <a:stretch/>
        </p:blipFill>
        <p:spPr>
          <a:xfrm>
            <a:off x="6659640" y="3860640"/>
            <a:ext cx="19033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Мастер- класс  « Животные из Лег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мастер-класс лего.wmv" descr=""/>
          <p:cNvPicPr/>
          <p:nvPr/>
        </p:nvPicPr>
        <p:blipFill>
          <a:blip r:embed="rId1"/>
          <a:stretch/>
        </p:blipFill>
        <p:spPr>
          <a:xfrm>
            <a:off x="504720" y="157644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Irina</cp:lastModifiedBy>
  <cp:lastPrinted>2017-04-27T06:20:11Z</cp:lastPrinted>
  <dcterms:modified xsi:type="dcterms:W3CDTF">2017-05-14T15:52:53Z</dcterms:modified>
  <cp:revision>36</cp:revision>
  <dc:subject/>
  <dc:title>Слайд 1</dc:title>
</cp:coreProperties>
</file>