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0DA-CCA9-4926-BD4E-8A673480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BBD-14DC-4E04-95B5-F2D0F5C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9D8-20BA-45D4-AF60-99AB41C7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8DD-BFB1-4149-8791-9DD24EC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1B7-1605-426B-8B22-EA946D82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268-40D0-40EB-B934-7AA6AE9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4874-1551-44BA-8587-4514C36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FCE3-DF20-4B33-AE94-93F4274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E1F9-8A0A-41CD-B7F3-AEBCE420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61B6-9DD2-417E-9579-C7B776A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8E21-5ABD-4142-9E51-82E95F2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A7C-ED0A-4F9D-AE1C-7F6E4172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A24-2B5C-4D85-AD31-9211113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0D9-B244-4749-9ABC-7F3E675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3519-B0EB-43AF-8446-809A7FD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190-6DAC-4957-93FE-A2ABFCDE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019E-4327-40CF-977F-B588F806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0C6-B5AC-44C2-9802-77368F3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09B-C753-4140-8402-9BD046AA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79C-F773-45C1-8BE8-6DC03EC2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93C-D57D-45CB-A6FC-836E9AEC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3E5-900E-4D5B-9AFB-700DFFC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602-11D3-4A32-AC6E-2E78D18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1E3-659F-4433-8EB0-CECF768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5467-AA22-4281-A4BB-33BCB49F0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EA1B-9D4B-44AF-B30C-DFDCE099F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bilmusic.ru/wallpaper.php?id=419333" TargetMode="External"/><Relationship Id="rId2" Type="http://schemas.openxmlformats.org/officeDocument/2006/relationships/hyperlink" Target="http://nevseoboi.com.ua/oboi-wallpapers/grafika-3d/page,2,1630-prazdnichnye-i-abstraktnye-fony-87-oboev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  <a:ea typeface="바탕"/>
              </a:rPr>
              <a:t>Проект «Строим из Лег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4005000"/>
            <a:ext cx="4279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ружок «лего - конструирование»                       1 кл. «Б»  и   1 кл. « 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уководители  проек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елова И.А., Табачкова  Т.С.          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яя модели мы сделали вывод, что из   базового набора можно построить самые разнообразные модели . Главное – применить фантаз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5" descr="IMG_20170124_140014_1CS.jpg"/>
          <p:cNvPicPr/>
          <p:nvPr/>
        </p:nvPicPr>
        <p:blipFill>
          <a:blip r:embed="rId1"/>
          <a:stretch/>
        </p:blipFill>
        <p:spPr>
          <a:xfrm>
            <a:off x="3276720" y="3645000"/>
            <a:ext cx="208728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IMG_20161130_140352_1CS.jpg"/>
          <p:cNvPicPr/>
          <p:nvPr/>
        </p:nvPicPr>
        <p:blipFill>
          <a:blip r:embed="rId1"/>
          <a:stretch/>
        </p:blipFill>
        <p:spPr>
          <a:xfrm>
            <a:off x="468360" y="15699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Irina\Desktop\лего мастер\IMG_20161220_140457_5CS.jpg"/>
          <p:cNvPicPr/>
          <p:nvPr/>
        </p:nvPicPr>
        <p:blipFill>
          <a:blip r:embed="rId2"/>
          <a:stretch/>
        </p:blipFill>
        <p:spPr>
          <a:xfrm>
            <a:off x="2556000" y="3789360"/>
            <a:ext cx="1925640" cy="256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Irina\Desktop\лего мастер\IMG_20161220_140516_1CS.jpg"/>
          <p:cNvPicPr/>
          <p:nvPr/>
        </p:nvPicPr>
        <p:blipFill>
          <a:blip r:embed="rId3"/>
          <a:stretch/>
        </p:blipFill>
        <p:spPr>
          <a:xfrm>
            <a:off x="4716360" y="1484280"/>
            <a:ext cx="1893960" cy="252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Irina\Desktop\лего мастер\IMG_20170124_135933_2CS.jpg"/>
          <p:cNvPicPr/>
          <p:nvPr/>
        </p:nvPicPr>
        <p:blipFill>
          <a:blip r:embed="rId4"/>
          <a:stretch/>
        </p:blipFill>
        <p:spPr>
          <a:xfrm>
            <a:off x="5219640" y="3789360"/>
            <a:ext cx="3260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obilmusic.ru/wallpaper.php?id=419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evseoboi.com.ua/oboi-wallpapers/grafika-3d/page,2,1630-prazdnichnye-i-abstraktnye-fony-87-oboev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214280" y="3857760"/>
            <a:ext cx="6500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Автор шаблона –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Коровина Ирина Николаевна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учитель начальных классов  МБОУ «СОШ №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. Сафоново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</a:rPr>
              <a:t>Актуальность и причина выбора темы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и любят строить из ЛЕГО. Но не всегда под рукой есть набор из  интересующей коллекции и не всегда есть возможность  купить дополнительный набор , так как конструктор Лего достаточно дорого стоит . Поэтому используя  имеющийся набор деталей  можно  собрать разные модели. Главное- применить фантазию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IMG_20161102_125652_1CS.jpg"/>
          <p:cNvPicPr/>
          <p:nvPr/>
        </p:nvPicPr>
        <p:blipFill>
          <a:blip r:embed="rId1"/>
          <a:stretch/>
        </p:blipFill>
        <p:spPr>
          <a:xfrm>
            <a:off x="4067280" y="4653000"/>
            <a:ext cx="134784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  <a:ea typeface="바탕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казать, что из базового набора конструктора Лего можно собрать много интересных мод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чать создавать « Папку Лего-мастера» с моделями , которые можно построить из этого наб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сти мастер – класс по изготовлению животных из Л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IMG_20170328_140248.jpg"/>
          <p:cNvPicPr/>
          <p:nvPr/>
        </p:nvPicPr>
        <p:blipFill>
          <a:blip r:embed="rId1"/>
          <a:stretch/>
        </p:blipFill>
        <p:spPr>
          <a:xfrm>
            <a:off x="4356000" y="4508640"/>
            <a:ext cx="151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Гипотез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базового набора деталей  Лего- конструктора можно собрать разные модели( машины, дома, животны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IMG_20161220_140328_2CS.jpg"/>
          <p:cNvPicPr/>
          <p:nvPr/>
        </p:nvPicPr>
        <p:blipFill>
          <a:blip r:embed="rId1"/>
          <a:stretch/>
        </p:blipFill>
        <p:spPr>
          <a:xfrm>
            <a:off x="3276720" y="328464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Этапы 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с историей создания Л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оделей из базового набора деталей. Создание « Папки Лего- мастера», включающей эти мо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мастер-класса по изготовлению животных из Л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о создании моделей из базового набора дета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6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6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создания  Л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оздания конструктора начинается в 1932 г. Столяр Оле Кирк Кристиансен стал изготавливать для своих детей стал изготавливать деревянные игрушки.   Потом он стал основателем компании по изготовлению  конструкторов Л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конструктор выглядел вот  т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Объект 6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2610000" cy="196200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6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843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47г. Компания разработала первые пластиковые кубики, являющиеся предшественниками современных кубиков ЛЕ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ЛЕГО достигает объема 706 млн. элементов в год. У Лего много разновидностей. Напримкр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LEGO DUPLO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один из старейших наборов для малышей (с 1,5 до 5 лет). Выпускается с 1969г.В нем крупные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Объект 7" descr=""/>
          <p:cNvPicPr/>
          <p:nvPr/>
        </p:nvPicPr>
        <p:blipFill>
          <a:blip r:embed="rId1"/>
          <a:stretch/>
        </p:blipFill>
        <p:spPr>
          <a:xfrm>
            <a:off x="3095640" y="2349360"/>
            <a:ext cx="1843200" cy="1150920"/>
          </a:xfrm>
          <a:prstGeom prst="rect">
            <a:avLst/>
          </a:prstGeom>
          <a:ln w="0">
            <a:noFill/>
          </a:ln>
        </p:spPr>
      </p:pic>
      <p:pic>
        <p:nvPicPr>
          <p:cNvPr id="121" name="Объект 4" descr=""/>
          <p:cNvPicPr/>
          <p:nvPr/>
        </p:nvPicPr>
        <p:blipFill>
          <a:blip r:embed="rId2"/>
          <a:stretch/>
        </p:blipFill>
        <p:spPr>
          <a:xfrm>
            <a:off x="3841920" y="4941720"/>
            <a:ext cx="15127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Увлекательный процесс констру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мы хотим показать свои работы из конструктора, который есть у нас в СП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IMG_20161031_135658_1CS.jpg"/>
          <p:cNvPicPr/>
          <p:nvPr/>
        </p:nvPicPr>
        <p:blipFill>
          <a:blip r:embed="rId1"/>
          <a:stretch/>
        </p:blipFill>
        <p:spPr>
          <a:xfrm>
            <a:off x="468360" y="2997360"/>
            <a:ext cx="1523880" cy="203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IMG_20161220_141210_1CS.jpg"/>
          <p:cNvPicPr/>
          <p:nvPr/>
        </p:nvPicPr>
        <p:blipFill>
          <a:blip r:embed="rId2"/>
          <a:stretch/>
        </p:blipFill>
        <p:spPr>
          <a:xfrm>
            <a:off x="2411280" y="3429000"/>
            <a:ext cx="187344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IMG_20161125_141607.jpg"/>
          <p:cNvPicPr/>
          <p:nvPr/>
        </p:nvPicPr>
        <p:blipFill>
          <a:blip r:embed="rId3"/>
          <a:stretch/>
        </p:blipFill>
        <p:spPr>
          <a:xfrm>
            <a:off x="4643280" y="2997360"/>
            <a:ext cx="1657440" cy="2207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IMG_20170328_140330_6CS.jpg"/>
          <p:cNvPicPr/>
          <p:nvPr/>
        </p:nvPicPr>
        <p:blipFill>
          <a:blip r:embed="rId4"/>
          <a:stretch/>
        </p:blipFill>
        <p:spPr>
          <a:xfrm>
            <a:off x="6659640" y="3860640"/>
            <a:ext cx="19033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Мастер- класс  « Животные из Лег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мастер-класс лего.wmv" descr=""/>
          <p:cNvPicPr/>
          <p:nvPr/>
        </p:nvPicPr>
        <p:blipFill>
          <a:blip r:embed="rId1"/>
          <a:stretch/>
        </p:blipFill>
        <p:spPr>
          <a:xfrm>
            <a:off x="504720" y="157644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Irina</cp:lastModifiedBy>
  <cp:lastPrinted>2017-04-27T06:20:11Z</cp:lastPrinted>
  <dcterms:modified xsi:type="dcterms:W3CDTF">2017-05-14T15:52:53Z</dcterms:modified>
  <cp:revision>36</cp:revision>
  <dc:subject/>
  <dc:title>Слайд 1</dc:title>
</cp:coreProperties>
</file>