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787-03E1-488D-B357-CBEBE15A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A97-7CE8-4B2A-B4AA-E417027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1DD-BEC5-4D22-BF3B-4A5AACC9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329-7DA3-47B5-B0AF-4650FBE0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9086-9994-4641-99B3-B01240F1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C033-A141-4F36-B1D8-ECF890EF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3EAD-251E-41CA-892C-D4787E47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F93A-E377-4CF6-9E5B-23BACCA8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3BBC-C410-4A50-8CB0-FB6F771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B70E-702B-483E-B66B-C7B3FF30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D56-E4DC-4938-84C2-883015F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8F9-3E03-476F-8112-2F5B1A9D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C655-EA89-45FC-BEDC-E0AD85BB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B454-37F0-42CA-8D38-4FAC7D2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C5B4-18C5-4761-9726-94FF6ED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63DF-AFEF-45CA-B2F6-6D8465E8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9B1C-5BBC-44C4-B03C-589330AF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210B-5E68-4791-B287-3D184F96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8970-A8A2-4BFC-BC8F-F88ED4E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0AE3-2904-429C-9DE5-62BF52B7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6067-9D94-4933-9AD4-4EA24040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88F1-0EA0-46C5-9C9F-2A6B5C04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C50-2FFC-4749-AAB4-80E95FDC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7691-7F41-4618-B26D-5A382645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FF57-D893-4F06-AE89-3E0ADDB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2912-EE00-4EEA-B472-18246C84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4B62-E90F-4E97-BA44-9B48419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3DF5-F73A-4934-BB38-FD3B9A85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EA59-44DD-4703-A377-B731106A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974C-C5A0-4FB8-AEB3-01EABD1C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3BEE-3CAF-4583-B19F-B0D8FBF2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CF4D-3D5E-478F-A5F0-6BD7C6AE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1ED6-2958-40EC-91EA-51F0856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DCF-A9F5-4527-B0C3-937B0CF1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E7E3F-3C83-4E30-81E1-F48A5AD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99D2-63E4-419F-9881-4B8BA32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A1C3-703E-49A8-81C0-AD003A40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2196-9938-485B-A826-8440C4C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33D8-93D5-4842-9178-5424CA1E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5965-4DAB-4217-8FDD-C6FD775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D295-8E7F-498E-B890-B4F92D4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695E-0FFB-4875-97E0-51A4E067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43E0-F327-4FE3-A149-C77D59ED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D7CD-184C-4194-967C-79688770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07A-7212-4D7A-9907-EB6A36AA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F2F4-8AEE-4BB4-AF2D-081A0E06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6412-6355-4532-8528-EBEB5365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919E2-163E-4FAC-9AE7-2F6A18F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DC37-7457-45B1-BF8D-72EBFD73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5E10-7E8E-4458-B6D0-CC5E4BA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B0D8-B5EC-4F48-B1B5-B1DBA45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D4B6-16F4-4C1B-AF86-B9EFA06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5182-2D24-44B2-B1E0-3170F94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AF80-8C5B-4EE5-861E-9A0D265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A6B0-5962-40CF-BA46-F2F91A79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E83-C69C-4126-9111-40F9D9A0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A2DA3-FA78-46F4-84B5-E79A8DC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1F6C5-93F3-4DC2-9B63-91FEF96B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B49DF-7E7E-4EC3-B23F-35D18FB6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9E5A2-53B0-413B-8576-984AB99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8F712-D61E-4E00-BFCE-E49BC6A9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DA0D1-547E-4501-8BA4-FFEEB8E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31EEA-D190-412E-B7BC-1DFF3D8D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F6315-E247-4AD4-BFF0-27D662E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4DE71-893D-46CD-B1C7-D07716E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D084E-DC7A-4940-A336-64CB7F2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317-F93F-4DFE-ABBD-0678DF3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2D56C-F826-41C3-AF76-71AFE08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25181-73C0-4F31-BCA4-388A791E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D3B89-644F-4BAE-8B97-24AD86FD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6F68D-3E6C-4F76-B31D-A6A974BE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B6798-DD7D-4DE2-8B91-BF65BDE8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35941-A3E7-440E-A268-7DAD862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83407-7F5E-4756-B0CA-47CB0CD7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CE2B6-27A0-433C-B377-285CA82B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1D1BE-7B36-4941-BE45-6A0BAC8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2F0A3-3376-4E7D-9CEA-8024CD84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257-B2C1-4907-AF5E-4133530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F5A07-12FA-49AC-99F7-206D707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6DE59-B4F9-468D-BC01-102AFD8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1D804-F860-4303-9CA4-9D31DD3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C2983-A9CD-4971-AC1F-C3A42B6B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4DD2C-536F-4DA8-BE1D-0560A0E6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FDF-215A-4FAE-B53E-D45F43FD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993-D719-40F3-ACB9-8EBAD58B34FC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807-0425-4EFB-8D50-973F8B41657E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C649-076F-4450-B0AE-F4B36DDC3470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6CE-F8B0-45F2-96A0-FEC35C5F77C8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4E5-F5EE-43CF-847B-D580E9F6ED7A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C07-ABC7-4664-8589-46460A798EBF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EFCF-700D-4AB5-A1D1-6E3EF37F227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56800" y="2428560"/>
            <a:ext cx="792972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885e9"/>
                </a:solidFill>
                <a:latin typeface="Verdana"/>
              </a:rPr>
              <a:t>«Из истории имён»</a:t>
            </a:r>
            <a:br>
              <a:rPr sz="4100"/>
            </a:br>
            <a:br>
              <a:rPr sz="4100"/>
            </a:br>
            <a:br>
              <a:rPr sz="4100"/>
            </a:br>
            <a:endParaRPr b="1" lang="en-US" sz="43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203640" y="259920"/>
            <a:ext cx="5511600" cy="4311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Урок окружающего ми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по программе Н.Ф. Виноградовой «Начальная школа </a:t>
            </a:r>
            <a:r>
              <a:rPr b="0" lang="en-US" sz="2000" spc="-1" strike="noStrike">
                <a:solidFill>
                  <a:srgbClr val="758386"/>
                </a:solidFill>
                <a:latin typeface="Verdana"/>
              </a:rPr>
              <a:t>XXI</a:t>
            </a: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 века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3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285840" y="357120"/>
          <a:ext cx="8572320" cy="6149880"/>
        </p:xfrm>
        <a:graphic>
          <a:graphicData uri="http://schemas.openxmlformats.org/drawingml/2006/table">
            <a:tbl>
              <a:tblPr/>
              <a:tblGrid>
                <a:gridCol w="1463760"/>
                <a:gridCol w="1785600"/>
                <a:gridCol w="965520"/>
                <a:gridCol w="1011240"/>
                <a:gridCol w="1106280"/>
                <a:gridCol w="1054080"/>
                <a:gridCol w="1052640"/>
                <a:gridCol w="133200"/>
              </a:tblGrid>
              <a:tr h="30816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и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с-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й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д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868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жественная, богиня Луны и ох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род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литель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ь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пкая, бод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ф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др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63853"/>
                </a:solidFill>
                <a:latin typeface="Verdana"/>
              </a:rPr>
              <a:t>Диаграмма. </a:t>
            </a:r>
            <a:br>
              <a:rPr sz="3200"/>
            </a:br>
            <a:r>
              <a:rPr b="1" lang="ru-RU" sz="3200" spc="-1" strike="noStrike">
                <a:solidFill>
                  <a:srgbClr val="b63853"/>
                </a:solidFill>
                <a:latin typeface="Verdana"/>
              </a:rPr>
              <a:t>Происхождение имен.</a:t>
            </a:r>
            <a:br>
              <a:rPr sz="3200"/>
            </a:br>
            <a:r>
              <a:rPr b="1" lang="ru-RU" sz="3200" spc="-1" strike="noStrike">
                <a:solidFill>
                  <a:srgbClr val="b63853"/>
                </a:solidFill>
                <a:latin typeface="Verdana"/>
              </a:rPr>
              <a:t>3 «А» класс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332" name="Содержимое 6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2348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00040" y="1357200"/>
            <a:ext cx="8183520" cy="3786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ово «фамилия» на латинском языке означает «семь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ачала на Руси у человека было только и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том к именам прибавляли еще и отчество . Говорили: Петр, Иванов сы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 позднее и появились фамилии: Иванов, Бори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85e9"/>
                </a:solidFill>
                <a:latin typeface="Verdana"/>
              </a:rPr>
              <a:t>    </a:t>
            </a:r>
            <a:r>
              <a:rPr b="1" lang="ru-RU" sz="3600" spc="-1" strike="noStrike">
                <a:solidFill>
                  <a:srgbClr val="4885e9"/>
                </a:solidFill>
                <a:latin typeface="Verdana"/>
              </a:rPr>
              <a:t>Как зовут богатырей?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335" name="Picture 7" descr="195829292"/>
          <p:cNvPicPr/>
          <p:nvPr/>
        </p:nvPicPr>
        <p:blipFill>
          <a:blip r:embed="rId1"/>
          <a:stretch/>
        </p:blipFill>
        <p:spPr>
          <a:xfrm>
            <a:off x="1476360" y="1484280"/>
            <a:ext cx="5977080" cy="4349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03280" y="5949720"/>
            <a:ext cx="7283520" cy="71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с учебником. (с.41- 4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Таблица 2" descr=""/>
          <p:cNvPicPr/>
          <p:nvPr/>
        </p:nvPicPr>
        <p:blipFill>
          <a:blip r:embed="rId1"/>
          <a:stretch/>
        </p:blipFill>
        <p:spPr>
          <a:xfrm>
            <a:off x="1468440" y="2060640"/>
            <a:ext cx="6237360" cy="26636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1835280" y="3068640"/>
            <a:ext cx="194472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Ничего не поня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1763640" y="2205000"/>
            <a:ext cx="201636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лучил удоволь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835280" y="3860640"/>
            <a:ext cx="194472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Уди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5508720" y="2205000"/>
            <a:ext cx="18716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Узнал что-то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5508720" y="3860640"/>
            <a:ext cx="18190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5508720" y="2997360"/>
            <a:ext cx="181908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Науч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олнце 11"/>
          <p:cNvSpPr/>
          <p:nvPr/>
        </p:nvSpPr>
        <p:spPr>
          <a:xfrm>
            <a:off x="3924360" y="2565360"/>
            <a:ext cx="1368360" cy="1270080"/>
          </a:xfrm>
          <a:prstGeom prst="sun">
            <a:avLst>
              <a:gd name="adj" fmla="val 25000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TextBox 10" descr=""/>
          <p:cNvPicPr/>
          <p:nvPr/>
        </p:nvPicPr>
        <p:blipFill>
          <a:blip r:embed="rId2"/>
          <a:stretch/>
        </p:blipFill>
        <p:spPr>
          <a:xfrm>
            <a:off x="4041720" y="2682720"/>
            <a:ext cx="1500120" cy="1279800"/>
          </a:xfrm>
          <a:prstGeom prst="rect">
            <a:avLst/>
          </a:prstGeom>
          <a:ln w="0">
            <a:noFill/>
          </a:ln>
        </p:spPr>
      </p:pic>
      <p:pic>
        <p:nvPicPr>
          <p:cNvPr id="346" name="Заголовок 1" descr=""/>
          <p:cNvPicPr/>
          <p:nvPr/>
        </p:nvPicPr>
        <p:blipFill>
          <a:blip r:embed="rId3"/>
          <a:stretch/>
        </p:blipFill>
        <p:spPr>
          <a:xfrm>
            <a:off x="463680" y="341280"/>
            <a:ext cx="8242200" cy="14270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3" descr="139.gif"/>
          <p:cNvPicPr/>
          <p:nvPr/>
        </p:nvPicPr>
        <p:blipFill>
          <a:blip r:embed="rId4"/>
          <a:stretch/>
        </p:blipFill>
        <p:spPr>
          <a:xfrm>
            <a:off x="3500280" y="4786200"/>
            <a:ext cx="2151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Домашнее задание: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ить пересказ текста учебника на с. 40-45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ечатной тетради выполнить задание  20 на  с. 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думать историю о том, как возникли фамилии Пескарёв, Печников, Веселов  или своя фамилия (на выбо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4" descr="03"/>
          <p:cNvPicPr/>
          <p:nvPr/>
        </p:nvPicPr>
        <p:blipFill>
          <a:blip r:embed="rId1"/>
          <a:stretch/>
        </p:blipFill>
        <p:spPr>
          <a:xfrm>
            <a:off x="6659640" y="333360"/>
            <a:ext cx="230328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4"/>
          <p:cNvSpPr txBox="1"/>
          <p:nvPr/>
        </p:nvSpPr>
        <p:spPr>
          <a:xfrm>
            <a:off x="971640" y="1700280"/>
            <a:ext cx="741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Спасибо за сотрудничество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3071880" y="3643200"/>
            <a:ext cx="28098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Поэт Древней Греции Гомер 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313" name="Picture 6" descr="3747589"/>
          <p:cNvPicPr/>
          <p:nvPr/>
        </p:nvPicPr>
        <p:blipFill>
          <a:blip r:embed="rId1"/>
          <a:stretch/>
        </p:blipFill>
        <p:spPr>
          <a:xfrm>
            <a:off x="447840" y="1714680"/>
            <a:ext cx="4219560" cy="36813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4643280" y="642960"/>
            <a:ext cx="407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В первый же ми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по рождению каждый убогий и знат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имя как сладостный дар, от родных своих полу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214880" y="928800"/>
            <a:ext cx="440064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временном толковом словаре русского языка Т.Ф.Ефремовой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dbf5f9"/>
                </a:solidFill>
                <a:latin typeface="Verdana"/>
              </a:rPr>
              <a:t>«</a:t>
            </a:r>
            <a:r>
              <a:rPr b="1" lang="ru-RU" sz="2800" spc="-1" strike="noStrike">
                <a:solidFill>
                  <a:srgbClr val="dbf5f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Имя -  наименование человека, даваемое ему при рождении и отличающее его от других».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Словарь словарь русского языка автора Т.Ф. Ефремовой (Толково - словообразовательный). Новый словарь русского языка. П-Я Толково"/>
          <p:cNvPicPr/>
          <p:nvPr/>
        </p:nvPicPr>
        <p:blipFill>
          <a:blip r:embed="rId1"/>
          <a:stretch/>
        </p:blipFill>
        <p:spPr>
          <a:xfrm>
            <a:off x="357120" y="428760"/>
            <a:ext cx="3786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Имена и прозвища в древней Руси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757760" cy="3886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ющие внешние признаки или черты характер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ение в семь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и место рожд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ходство  с каким-либо животным или растение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1"/>
          <a:stretch/>
        </p:blipFill>
        <p:spPr>
          <a:xfrm>
            <a:off x="5715000" y="1484280"/>
            <a:ext cx="281772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4" descr=""/>
          <p:cNvPicPr/>
          <p:nvPr/>
        </p:nvPicPr>
        <p:blipFill>
          <a:blip r:embed="rId1"/>
          <a:srcRect l="23261" t="19508" r="44151" b="8150"/>
          <a:stretch/>
        </p:blipFill>
        <p:spPr>
          <a:xfrm>
            <a:off x="2000160" y="428760"/>
            <a:ext cx="50720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578592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Крещение Руси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8" descr="Крещение руси реферат :: Work"/>
          <p:cNvPicPr/>
          <p:nvPr/>
        </p:nvPicPr>
        <p:blipFill>
          <a:blip r:embed="rId1"/>
          <a:stretch/>
        </p:blipFill>
        <p:spPr>
          <a:xfrm>
            <a:off x="428760" y="428760"/>
            <a:ext cx="815652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14200" y="285840"/>
          <a:ext cx="8643960" cy="5578560"/>
        </p:xfrm>
        <a:graphic>
          <a:graphicData uri="http://schemas.openxmlformats.org/drawingml/2006/table">
            <a:tbl>
              <a:tblPr/>
              <a:tblGrid>
                <a:gridCol w="1000080"/>
                <a:gridCol w="822600"/>
                <a:gridCol w="666720"/>
                <a:gridCol w="685800"/>
                <a:gridCol w="685800"/>
                <a:gridCol w="760320"/>
                <a:gridCol w="911160"/>
                <a:gridCol w="909720"/>
                <a:gridCol w="750960"/>
                <a:gridCol w="725400"/>
                <a:gridCol w="725400"/>
              </a:tblGrid>
              <a:tr h="330480"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е и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-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9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-нав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ей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й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д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м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ячесл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6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исл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1"/>
          <p:cNvSpPr/>
          <p:nvPr/>
        </p:nvSpPr>
        <p:spPr>
          <a:xfrm>
            <a:off x="0" y="32400"/>
            <a:ext cx="2948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а мальчиков 3 «Б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500040" y="2520"/>
            <a:ext cx="8286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тельская работа учеников 3 «Б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28760" y="571680"/>
          <a:ext cx="8358120" cy="5925960"/>
        </p:xfrm>
        <a:graphic>
          <a:graphicData uri="http://schemas.openxmlformats.org/drawingml/2006/table">
            <a:tbl>
              <a:tblPr/>
              <a:tblGrid>
                <a:gridCol w="1285920"/>
                <a:gridCol w="1285560"/>
                <a:gridCol w="827280"/>
                <a:gridCol w="825480"/>
                <a:gridCol w="826920"/>
                <a:gridCol w="827280"/>
                <a:gridCol w="826920"/>
                <a:gridCol w="825480"/>
                <a:gridCol w="827280"/>
              </a:tblGrid>
              <a:tr h="293400"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е им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име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с-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-нав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ей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60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имлян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ячесл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славней-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лыва-тель зем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ай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исл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авля-ющий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щ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имец б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-чтим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ость бож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85840" y="357120"/>
          <a:ext cx="8643960" cy="5857920"/>
        </p:xfrm>
        <a:graphic>
          <a:graphicData uri="http://schemas.openxmlformats.org/drawingml/2006/table">
            <a:tbl>
              <a:tblPr/>
              <a:tblGrid>
                <a:gridCol w="1071360"/>
                <a:gridCol w="750960"/>
                <a:gridCol w="666720"/>
                <a:gridCol w="685800"/>
                <a:gridCol w="685800"/>
                <a:gridCol w="760320"/>
                <a:gridCol w="911520"/>
                <a:gridCol w="909360"/>
                <a:gridCol w="750960"/>
                <a:gridCol w="725400"/>
                <a:gridCol w="725760"/>
              </a:tblGrid>
              <a:tr h="322560"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и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-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9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-нав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ей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й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д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ф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Rectangle 1"/>
          <p:cNvSpPr/>
          <p:nvPr/>
        </p:nvSpPr>
        <p:spPr>
          <a:xfrm>
            <a:off x="5760" y="32400"/>
            <a:ext cx="2695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а девочек 3 «Б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7:58:05Z</dcterms:created>
  <dc:creator>Екатерина</dc:creator>
  <dc:description/>
  <dc:language>en-US</dc:language>
  <cp:lastModifiedBy>соб</cp:lastModifiedBy>
  <dcterms:modified xsi:type="dcterms:W3CDTF">2017-05-18T02:11:25Z</dcterms:modified>
  <cp:revision>33</cp:revision>
  <dc:subject/>
  <dc:title>Слайд 1</dc:title>
</cp:coreProperties>
</file>