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981-01B1-4DDF-B00E-2CB42428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B7A-DF2C-4F27-A3F5-1518C03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1FD-5FF8-4965-B8FD-FD15EAE9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6B0-589F-4E35-8BDC-9A5944E8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A2DE-E2A5-4DA2-A258-6D085FC3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D30D-BAB8-44A4-9B87-1041D57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E642-35ED-4007-8453-541F8D8A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D75-72C2-489A-9D2F-6B30F1B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DDA3-19F1-4848-91A5-6F5F34CF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D938-AA7C-4380-BF0F-0E8FE6F4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0CF-40FA-4FD6-A5B4-19ACA7D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066-B670-40EE-86D4-0079455C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DD51-079C-43FB-9060-391985F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3BA-A9C8-4FB9-84A0-1D3C1B7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6B0-AB8E-4D1A-8D48-F11DEED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5467-18BC-4AD6-821F-9D9A58BE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7211-DD5A-43C7-9331-472D4C80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D2DC-6B67-42D1-9B92-EF9F6D4B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11EA-1151-441D-9F75-37FC25F1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2EF8-BE26-4A3C-BD2A-3477AADB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EBB0-39C0-4B05-AC6A-B5E2423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3434-BE7E-4C3C-B27B-272CBE5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44C-F40F-499C-A7E4-7AEE5929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3BEE-A466-4D49-AEAD-1B741D39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FFC8-C809-4C22-8CA5-011885C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243D-2DE6-4583-8B3E-EF2BDE3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660F-7F55-43A8-8713-A5307B2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52B4-2B2E-467D-A55B-C5CCDDD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9D5C-A28F-48CA-81B9-0F50B732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A51F-028C-481C-8254-B96F2CBD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754E-50F7-40C8-9DD5-4E56F98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F5F7-CBBD-4D6D-9669-7BD24A9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81B1-F372-43EB-B860-2AFCDF44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ED8-10F1-468A-9E74-6E64D4A5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0206-A1C4-483E-9903-A8456DE8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66DB-D2F7-4747-8D5D-F43C27A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9AFD-8AC6-47A4-B6BB-C5DB0EF3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2842-9913-494A-BD00-5761833A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5D65E-2AB8-47D2-B9BC-088D3AB6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5330-9D90-45F0-BD77-7BCF324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DA1F-7392-4ED4-A9A9-CBFD5591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4507-AE57-463F-BB17-58B9770A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C1F4-D94A-402A-AF67-74D61464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CFDB0-300E-4D9B-A2E2-BE436868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78C-F10A-4A2C-B429-04868423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D8842-FAD6-4B79-A9AB-3B5E6F9B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CB6F-1F10-4FD7-A625-BF528B27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6D9B-1987-4AD2-9AFD-867404C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F592-1012-4EE5-A3EC-EBD44A2B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6836-24FC-4AF4-B89D-8D5C077C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AC4A3-3AEC-4040-B30F-BF84A98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4D73-40BA-485F-BBBA-E1E682B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C47E-7FC6-4331-ABF7-F193B404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F6FE-C93A-48D2-A162-6005E28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F5266-7A46-4761-A417-0415D0EB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643-2300-4E43-A0E1-9D36DD7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1328-2EF5-44AB-A599-48C47F18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9EA78-E42E-4CD3-9E08-E873A5E1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FCBAA-19D2-4EA4-8335-2FDA479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A8D2E-939A-4115-8EB6-BC0D315A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62532-8533-4E6D-9909-9EF7C526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62969-DA18-4C1E-834B-C7545EAC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610BA-5DDA-47A0-B87A-42A16BED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DF96D-1B6E-4263-9A24-D1A9F08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900CD-5ECA-413A-B45D-C9E6B82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8376B-89E0-4F7C-9966-C97F6C3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FC5-EE3F-4FEF-84FF-44955F0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D707A-753E-46FC-B6AE-7707826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615DE-B43B-47FA-8BCA-3B606E9A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893A6-7ACE-4114-9E21-C1A8AE26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2BC7D-9211-401F-B8DF-D4DA3268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4854C-6DD0-4B9C-AB1C-DEDE8270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774FD-48B3-445C-8B18-AC90A35A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947E0-DCB0-4309-84AE-EBF3EC8D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4026E-99CC-4814-BF57-2D08FB89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D88FE-DF1A-4BAE-A62F-5AB5673C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578CC-342B-49E2-B9D7-03E51876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54F-9B00-4131-9339-77D4B912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24E19-33F5-43CD-906B-2FE0B8E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29C3D-9B99-44F5-ADA3-B1ECAB7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C5886-1ACC-42A5-A5C8-3EF12A00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BFC9F-53BF-4CB8-955F-1B3B6ADC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E2170-1DDC-4770-9DD3-2529840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82B-4C53-4E80-8AFC-B06BC893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9BD6-71FA-43CF-BFC8-8908ACBC0145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5141-1568-41D0-A2AC-D8490F11816C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D45B-F1BD-4CD4-939D-DB30738CC057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49D9-847A-4992-B823-2E164C5461C0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092F-71FD-442F-A251-DEBDA1257CF6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1D76-363A-495F-8A3C-5AC63E371951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C6E3-7CDF-4104-AFF8-F818EC5376A6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56800" y="2428560"/>
            <a:ext cx="792972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885e9"/>
                </a:solidFill>
                <a:latin typeface="Verdana"/>
              </a:rPr>
              <a:t>«Из истории имён»</a:t>
            </a:r>
            <a:br>
              <a:rPr sz="4100"/>
            </a:br>
            <a:br>
              <a:rPr sz="4100"/>
            </a:br>
            <a:br>
              <a:rPr sz="4100"/>
            </a:br>
            <a:endParaRPr b="1" lang="en-US" sz="43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203640" y="259920"/>
            <a:ext cx="5511600" cy="4311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Урок окружающего ми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по программе Н.Ф. Виноградовой «Начальная школа </a:t>
            </a:r>
            <a:r>
              <a:rPr b="0" lang="en-US" sz="2000" spc="-1" strike="noStrike">
                <a:solidFill>
                  <a:srgbClr val="758386"/>
                </a:solidFill>
                <a:latin typeface="Verdana"/>
              </a:rPr>
              <a:t>XXI</a:t>
            </a: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 века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Verdana"/>
              </a:rPr>
              <a:t>3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285840" y="357120"/>
          <a:ext cx="8572320" cy="6149880"/>
        </p:xfrm>
        <a:graphic>
          <a:graphicData uri="http://schemas.openxmlformats.org/drawingml/2006/table">
            <a:tbl>
              <a:tblPr/>
              <a:tblGrid>
                <a:gridCol w="1463760"/>
                <a:gridCol w="1785600"/>
                <a:gridCol w="965520"/>
                <a:gridCol w="1011240"/>
                <a:gridCol w="1106280"/>
                <a:gridCol w="1054080"/>
                <a:gridCol w="1052640"/>
                <a:gridCol w="133200"/>
              </a:tblGrid>
              <a:tr h="30816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и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с-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й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д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868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жественная, богиня Луны и ох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род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литель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ь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пкая, бод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ф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др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63853"/>
                </a:solidFill>
                <a:latin typeface="Verdana"/>
              </a:rPr>
              <a:t>Диаграмма. </a:t>
            </a:r>
            <a:br>
              <a:rPr sz="3200"/>
            </a:br>
            <a:r>
              <a:rPr b="1" lang="ru-RU" sz="3200" spc="-1" strike="noStrike">
                <a:solidFill>
                  <a:srgbClr val="b63853"/>
                </a:solidFill>
                <a:latin typeface="Verdana"/>
              </a:rPr>
              <a:t>Происхождение имен.</a:t>
            </a:r>
            <a:br>
              <a:rPr sz="3200"/>
            </a:br>
            <a:r>
              <a:rPr b="1" lang="ru-RU" sz="3200" spc="-1" strike="noStrike">
                <a:solidFill>
                  <a:srgbClr val="b63853"/>
                </a:solidFill>
                <a:latin typeface="Verdana"/>
              </a:rPr>
              <a:t>3 «А» класс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332" name="Содержимое 6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2348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00040" y="1357200"/>
            <a:ext cx="8183520" cy="3786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ово «фамилия» на латинском языке означает «семь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ачала на Руси у человека было только и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том к именам прибавляли еще и отчество . Говорили: Петр, Иванов сы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 позднее и появились фамилии: Иванов, Бори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85e9"/>
                </a:solidFill>
                <a:latin typeface="Verdana"/>
              </a:rPr>
              <a:t>    </a:t>
            </a:r>
            <a:r>
              <a:rPr b="1" lang="ru-RU" sz="3600" spc="-1" strike="noStrike">
                <a:solidFill>
                  <a:srgbClr val="4885e9"/>
                </a:solidFill>
                <a:latin typeface="Verdana"/>
              </a:rPr>
              <a:t>Как зовут богатырей?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335" name="Picture 7" descr="195829292"/>
          <p:cNvPicPr/>
          <p:nvPr/>
        </p:nvPicPr>
        <p:blipFill>
          <a:blip r:embed="rId1"/>
          <a:stretch/>
        </p:blipFill>
        <p:spPr>
          <a:xfrm>
            <a:off x="1476360" y="1484280"/>
            <a:ext cx="5977080" cy="4349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03280" y="5949720"/>
            <a:ext cx="7283520" cy="71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с учебником. (с.41- 4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Таблица 2" descr=""/>
          <p:cNvPicPr/>
          <p:nvPr/>
        </p:nvPicPr>
        <p:blipFill>
          <a:blip r:embed="rId1"/>
          <a:stretch/>
        </p:blipFill>
        <p:spPr>
          <a:xfrm>
            <a:off x="1468440" y="2060640"/>
            <a:ext cx="6237360" cy="26636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1835280" y="3068640"/>
            <a:ext cx="194472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Ничего не поня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1763640" y="2205000"/>
            <a:ext cx="201636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лучил удоволь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835280" y="3860640"/>
            <a:ext cx="194472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Уди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5508720" y="2205000"/>
            <a:ext cx="18716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Узнал что-то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5508720" y="3860640"/>
            <a:ext cx="18190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5508720" y="2997360"/>
            <a:ext cx="181908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Науч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олнце 11"/>
          <p:cNvSpPr/>
          <p:nvPr/>
        </p:nvSpPr>
        <p:spPr>
          <a:xfrm>
            <a:off x="3924360" y="2565360"/>
            <a:ext cx="1368360" cy="1270080"/>
          </a:xfrm>
          <a:prstGeom prst="sun">
            <a:avLst>
              <a:gd name="adj" fmla="val 25000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TextBox 10" descr=""/>
          <p:cNvPicPr/>
          <p:nvPr/>
        </p:nvPicPr>
        <p:blipFill>
          <a:blip r:embed="rId2"/>
          <a:stretch/>
        </p:blipFill>
        <p:spPr>
          <a:xfrm>
            <a:off x="4041720" y="2682720"/>
            <a:ext cx="1500120" cy="1279800"/>
          </a:xfrm>
          <a:prstGeom prst="rect">
            <a:avLst/>
          </a:prstGeom>
          <a:ln w="0">
            <a:noFill/>
          </a:ln>
        </p:spPr>
      </p:pic>
      <p:pic>
        <p:nvPicPr>
          <p:cNvPr id="346" name="Заголовок 1" descr=""/>
          <p:cNvPicPr/>
          <p:nvPr/>
        </p:nvPicPr>
        <p:blipFill>
          <a:blip r:embed="rId3"/>
          <a:stretch/>
        </p:blipFill>
        <p:spPr>
          <a:xfrm>
            <a:off x="463680" y="341280"/>
            <a:ext cx="8242200" cy="14270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3" descr="139.gif"/>
          <p:cNvPicPr/>
          <p:nvPr/>
        </p:nvPicPr>
        <p:blipFill>
          <a:blip r:embed="rId4"/>
          <a:stretch/>
        </p:blipFill>
        <p:spPr>
          <a:xfrm>
            <a:off x="3500280" y="4786200"/>
            <a:ext cx="2151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Домашнее задание: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ить пересказ текста учебника на с. 40-45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ечатной тетради выполнить задание  20 на  с. 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думать историю о том, как возникли фамилии Пескарёв, Печников, Веселов  или своя фамилия (на выбо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4" descr="03"/>
          <p:cNvPicPr/>
          <p:nvPr/>
        </p:nvPicPr>
        <p:blipFill>
          <a:blip r:embed="rId1"/>
          <a:stretch/>
        </p:blipFill>
        <p:spPr>
          <a:xfrm>
            <a:off x="6659640" y="333360"/>
            <a:ext cx="230328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4"/>
          <p:cNvSpPr txBox="1"/>
          <p:nvPr/>
        </p:nvSpPr>
        <p:spPr>
          <a:xfrm>
            <a:off x="971640" y="1700280"/>
            <a:ext cx="741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Спасибо за сотрудничество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3071880" y="3643200"/>
            <a:ext cx="28098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Поэт Древней Греции Гомер 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313" name="Picture 6" descr="3747589"/>
          <p:cNvPicPr/>
          <p:nvPr/>
        </p:nvPicPr>
        <p:blipFill>
          <a:blip r:embed="rId1"/>
          <a:stretch/>
        </p:blipFill>
        <p:spPr>
          <a:xfrm>
            <a:off x="447840" y="1714680"/>
            <a:ext cx="4219560" cy="36813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4643280" y="642960"/>
            <a:ext cx="407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В первый же ми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по рождению каждый убогий и знат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имя как сладостный дар, от родных своих полу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214880" y="928800"/>
            <a:ext cx="440064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временном толковом словаре русского языка Т.Ф.Ефремовой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dbf5f9"/>
                </a:solidFill>
                <a:latin typeface="Verdana"/>
              </a:rPr>
              <a:t>«</a:t>
            </a:r>
            <a:r>
              <a:rPr b="1" lang="ru-RU" sz="2800" spc="-1" strike="noStrike">
                <a:solidFill>
                  <a:srgbClr val="dbf5f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Имя -  наименование человека, даваемое ему при рождении и отличающее его от других».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Словарь словарь русского языка автора Т.Ф. Ефремовой (Толково - словообразовательный). Новый словарь русского языка. П-Я Толково"/>
          <p:cNvPicPr/>
          <p:nvPr/>
        </p:nvPicPr>
        <p:blipFill>
          <a:blip r:embed="rId1"/>
          <a:stretch/>
        </p:blipFill>
        <p:spPr>
          <a:xfrm>
            <a:off x="357120" y="428760"/>
            <a:ext cx="3786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Имена и прозвища в древней Руси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757760" cy="3886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ющие внешние признаки или черты характер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ение в семь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и место рожд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ходство  с каким-либо животным или растение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1"/>
          <a:stretch/>
        </p:blipFill>
        <p:spPr>
          <a:xfrm>
            <a:off x="5715000" y="1484280"/>
            <a:ext cx="281772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4" descr=""/>
          <p:cNvPicPr/>
          <p:nvPr/>
        </p:nvPicPr>
        <p:blipFill>
          <a:blip r:embed="rId1"/>
          <a:srcRect l="23261" t="19508" r="44151" b="8150"/>
          <a:stretch/>
        </p:blipFill>
        <p:spPr>
          <a:xfrm>
            <a:off x="2000160" y="428760"/>
            <a:ext cx="50720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578592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Крещение Руси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8" descr="Крещение руси реферат :: Work"/>
          <p:cNvPicPr/>
          <p:nvPr/>
        </p:nvPicPr>
        <p:blipFill>
          <a:blip r:embed="rId1"/>
          <a:stretch/>
        </p:blipFill>
        <p:spPr>
          <a:xfrm>
            <a:off x="428760" y="428760"/>
            <a:ext cx="815652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14200" y="285840"/>
          <a:ext cx="8643960" cy="5578560"/>
        </p:xfrm>
        <a:graphic>
          <a:graphicData uri="http://schemas.openxmlformats.org/drawingml/2006/table">
            <a:tbl>
              <a:tblPr/>
              <a:tblGrid>
                <a:gridCol w="1000080"/>
                <a:gridCol w="822600"/>
                <a:gridCol w="666720"/>
                <a:gridCol w="685800"/>
                <a:gridCol w="685800"/>
                <a:gridCol w="760320"/>
                <a:gridCol w="911160"/>
                <a:gridCol w="909720"/>
                <a:gridCol w="750960"/>
                <a:gridCol w="725400"/>
                <a:gridCol w="725400"/>
              </a:tblGrid>
              <a:tr h="330480"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е и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-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9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-нав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ей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й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д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м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ячесл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6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исл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1"/>
          <p:cNvSpPr/>
          <p:nvPr/>
        </p:nvSpPr>
        <p:spPr>
          <a:xfrm>
            <a:off x="0" y="32400"/>
            <a:ext cx="2948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а мальчиков 3 «Б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500040" y="2520"/>
            <a:ext cx="8286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тельская работа учеников 3 «Б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28760" y="571680"/>
          <a:ext cx="8358120" cy="5925960"/>
        </p:xfrm>
        <a:graphic>
          <a:graphicData uri="http://schemas.openxmlformats.org/drawingml/2006/table">
            <a:tbl>
              <a:tblPr/>
              <a:tblGrid>
                <a:gridCol w="1285920"/>
                <a:gridCol w="1285560"/>
                <a:gridCol w="827280"/>
                <a:gridCol w="825480"/>
                <a:gridCol w="826920"/>
                <a:gridCol w="827280"/>
                <a:gridCol w="826920"/>
                <a:gridCol w="825480"/>
                <a:gridCol w="827280"/>
              </a:tblGrid>
              <a:tr h="293400"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е им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име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с-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-нав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ей-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60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имлян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ячесл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славней-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лыва-тель зем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ай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исл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авля-ющий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щ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имец б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-чтим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ость бож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85840" y="357120"/>
          <a:ext cx="8643960" cy="5857920"/>
        </p:xfrm>
        <a:graphic>
          <a:graphicData uri="http://schemas.openxmlformats.org/drawingml/2006/table">
            <a:tbl>
              <a:tblPr/>
              <a:tblGrid>
                <a:gridCol w="1071360"/>
                <a:gridCol w="750960"/>
                <a:gridCol w="666720"/>
                <a:gridCol w="685800"/>
                <a:gridCol w="685800"/>
                <a:gridCol w="760320"/>
                <a:gridCol w="911520"/>
                <a:gridCol w="909360"/>
                <a:gridCol w="750960"/>
                <a:gridCol w="725400"/>
                <a:gridCol w="725760"/>
              </a:tblGrid>
              <a:tr h="322560"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и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-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9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-нав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ей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й-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д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ф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Rectangle 1"/>
          <p:cNvSpPr/>
          <p:nvPr/>
        </p:nvSpPr>
        <p:spPr>
          <a:xfrm>
            <a:off x="5760" y="32400"/>
            <a:ext cx="2695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а девочек 3 «Б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7:58:05Z</dcterms:created>
  <dc:creator>Екатерина</dc:creator>
  <dc:description/>
  <dc:language>en-US</dc:language>
  <cp:lastModifiedBy>соб</cp:lastModifiedBy>
  <dcterms:modified xsi:type="dcterms:W3CDTF">2017-05-18T02:11:25Z</dcterms:modified>
  <cp:revision>33</cp:revision>
  <dc:subject/>
  <dc:title>Слайд 1</dc:title>
</cp:coreProperties>
</file>