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3B5-BCE1-4C44-AB56-A1216179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D43-D42E-49C2-8D2A-7C1F820F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153-1B72-4D8D-A22F-6D87943D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B9C-FAB1-41BF-A03F-AD0BE12F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2DA3-C352-4E01-BFE9-7ED1D609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C3AE-A410-4145-9859-D1530A07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02D2-DAF8-4585-A6D6-AD4E27A5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AE6F-E780-495D-A44D-2AC1FD26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C038-3BE4-48FB-BDF7-126B7668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E1FF-7BA4-42FC-BC66-236B867A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1AEC-AA99-406B-B344-867BAF4C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011-9A01-47C5-BD26-FA7939BB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B713-3DBC-4433-9E49-B2147E0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68EE-DAAF-4569-BC53-2016DA9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09D8-4850-4765-A834-A2F007DA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F1CD-0727-40FF-AB78-1B5CB2A3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A86C-BAFF-46BD-ABB0-C2DCAB02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A7E-F141-418B-BA0E-1B23FAEA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F20-1C1D-4AB2-BC83-782AAB7E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786-C45B-4C0D-B535-3C6AA6FA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EFD-91E8-4A70-A7E8-40E8EC1F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FF3-4974-4A28-808D-EE55A1A2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B2A-6D8C-4778-BEA6-72FFA515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312-7AE4-4550-BBE6-8E7A7F8D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7094-D59C-4BCE-BC87-E7BCE5ACD5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FCEF-4724-4E9F-958B-B8D82642C8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1454760" y="88920"/>
            <a:ext cx="626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Monotype Corsiva"/>
              </a:rPr>
              <a:t>Муниципальное общеобразовательное учреждение 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Monotype Corsiva"/>
              </a:rPr>
              <a:t>средняя общеобразовательная школа №2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Monotype Corsiva"/>
              </a:rPr>
              <a:t>с углубленным  изучением отдельных предметов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Monotype Corsiva"/>
              </a:rPr>
              <a:t>г.о. Орехово-Зуево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19120" y="171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0" y="1628640"/>
            <a:ext cx="881388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Monotype Corsiva"/>
              </a:rPr>
              <a:t>Солёная истори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ученица 2 «Б» кла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                </a:t>
            </a:r>
            <a:r>
              <a:rPr b="1" i="1" lang="ru-RU" sz="2400" spc="-1" strike="noStrike">
                <a:solidFill>
                  <a:srgbClr val="0000cc"/>
                </a:solidFill>
                <a:latin typeface="Monotype Corsiva"/>
              </a:rPr>
              <a:t>Полынина Валер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г. Орехово-Зуево 2016-2017 учебный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16" descr="титульный листкопирование"/>
          <p:cNvPicPr/>
          <p:nvPr/>
        </p:nvPicPr>
        <p:blipFill>
          <a:blip r:embed="rId1"/>
          <a:stretch/>
        </p:blipFill>
        <p:spPr>
          <a:xfrm>
            <a:off x="2987640" y="2852640"/>
            <a:ext cx="23400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соляной бунт"/>
          <p:cNvPicPr/>
          <p:nvPr/>
        </p:nvPicPr>
        <p:blipFill>
          <a:blip r:embed="rId1"/>
          <a:stretch/>
        </p:blipFill>
        <p:spPr>
          <a:xfrm>
            <a:off x="250920" y="476280"/>
            <a:ext cx="8591400" cy="5246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771640" y="6021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Соляной бун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1" descr="DSC00648"/>
          <p:cNvPicPr/>
          <p:nvPr/>
        </p:nvPicPr>
        <p:blipFill>
          <a:blip r:embed="rId1"/>
          <a:stretch/>
        </p:blipFill>
        <p:spPr>
          <a:xfrm>
            <a:off x="179280" y="441360"/>
            <a:ext cx="4129200" cy="309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DSC00647"/>
          <p:cNvPicPr/>
          <p:nvPr/>
        </p:nvPicPr>
        <p:blipFill>
          <a:blip r:embed="rId2"/>
          <a:stretch/>
        </p:blipFill>
        <p:spPr>
          <a:xfrm>
            <a:off x="4500720" y="414360"/>
            <a:ext cx="4127400" cy="309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DSC00649"/>
          <p:cNvPicPr/>
          <p:nvPr/>
        </p:nvPicPr>
        <p:blipFill>
          <a:blip r:embed="rId3"/>
          <a:stretch/>
        </p:blipFill>
        <p:spPr>
          <a:xfrm>
            <a:off x="1692360" y="1962000"/>
            <a:ext cx="59389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2" descr="C:\Users\Тонковы\Desktop\image-0-02-05-a5687edc3148f2dced88d58bc265563c90fcea676e0701870c4d8b1f8e45727f-V.jpg"/>
          <p:cNvPicPr/>
          <p:nvPr/>
        </p:nvPicPr>
        <p:blipFill>
          <a:blip r:embed="rId1"/>
          <a:stretch/>
        </p:blipFill>
        <p:spPr>
          <a:xfrm>
            <a:off x="135000" y="189000"/>
            <a:ext cx="8832960" cy="496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Users\Тонковы\Desktop\image-0-02-05-6a0ed2d920bbb10e7544221b19e3d1cd8022dbc399cdf061bd231fa7b020cda4-V.jpg"/>
          <p:cNvPicPr/>
          <p:nvPr/>
        </p:nvPicPr>
        <p:blipFill>
          <a:blip r:embed="rId2"/>
          <a:stretch/>
        </p:blipFill>
        <p:spPr>
          <a:xfrm>
            <a:off x="135000" y="1603440"/>
            <a:ext cx="9005760" cy="5065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Тонковы\Desktop\image-0-02-05-70c445930b42cc352d70da3d013974f64ac1c633fd00699e9583cdf151cd50e5-V.jpg"/>
          <p:cNvPicPr/>
          <p:nvPr/>
        </p:nvPicPr>
        <p:blipFill>
          <a:blip r:embed="rId3"/>
          <a:stretch/>
        </p:blipFill>
        <p:spPr>
          <a:xfrm>
            <a:off x="135000" y="173160"/>
            <a:ext cx="8859600" cy="498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Users\Тонковы\Desktop\image-0-02-05-e49123bd786789072e8b7b49022a670638fc12475f180e0558dbf6cfbe4be407-V.jpg"/>
          <p:cNvPicPr/>
          <p:nvPr/>
        </p:nvPicPr>
        <p:blipFill>
          <a:blip r:embed="rId4"/>
          <a:stretch/>
        </p:blipFill>
        <p:spPr>
          <a:xfrm>
            <a:off x="217440" y="284040"/>
            <a:ext cx="874404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2" descr="C:\Users\Тонковы\Desktop\image-0-02-05-b9f2e94a23c12012bf22c67bc70df20bb4a838bbc0b27a8a169d3acf89fc55e5-V.jpg"/>
          <p:cNvPicPr/>
          <p:nvPr/>
        </p:nvPicPr>
        <p:blipFill>
          <a:blip r:embed="rId1"/>
          <a:stretch/>
        </p:blipFill>
        <p:spPr>
          <a:xfrm>
            <a:off x="457200" y="223920"/>
            <a:ext cx="7715160" cy="578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C:\Users\Тонковы\Desktop\image-0-02-05-0ea685e96c1e496c69ab6e3a6eab9841f5ee74e84cbef577a2dfeeced1afba74-V.jpg"/>
          <p:cNvPicPr/>
          <p:nvPr/>
        </p:nvPicPr>
        <p:blipFill>
          <a:blip r:embed="rId2"/>
          <a:stretch/>
        </p:blipFill>
        <p:spPr>
          <a:xfrm>
            <a:off x="539640" y="26028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2" descr="C:\Users\Тонковы\Desktop\image-0-02-05-4983004c6a840f400aa1fd666042ca1ef3b5a645902ea081de6c72f8cc7b1cf7-V.jpg"/>
          <p:cNvPicPr/>
          <p:nvPr/>
        </p:nvPicPr>
        <p:blipFill>
          <a:blip r:embed="rId1"/>
          <a:stretch/>
        </p:blipFill>
        <p:spPr>
          <a:xfrm>
            <a:off x="468360" y="189000"/>
            <a:ext cx="3552840" cy="631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Тонковы\Desktop\image-0-02-05-9df4a80677f9c0396fe92da16ffc47e28fa3d0897f1d3ed5ecbbc750d1666f35-V.jpg"/>
          <p:cNvPicPr/>
          <p:nvPr/>
        </p:nvPicPr>
        <p:blipFill>
          <a:blip r:embed="rId2"/>
          <a:stretch/>
        </p:blipFill>
        <p:spPr>
          <a:xfrm>
            <a:off x="4572000" y="122400"/>
            <a:ext cx="3600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2" descr="C:\Users\Тонковы\Desktop\image-0-02-05-8c9fec2cdfda29bd47d56560ecbd3f5c8a73729dca8feb523e0553a4b35b6ba1-V.jpg"/>
          <p:cNvPicPr/>
          <p:nvPr/>
        </p:nvPicPr>
        <p:blipFill>
          <a:blip r:embed="rId1"/>
          <a:stretch/>
        </p:blipFill>
        <p:spPr>
          <a:xfrm>
            <a:off x="2627280" y="189000"/>
            <a:ext cx="3600360" cy="6400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Без имени-2"/>
          <p:cNvPicPr/>
          <p:nvPr/>
        </p:nvPicPr>
        <p:blipFill>
          <a:blip r:embed="rId1"/>
          <a:stretch/>
        </p:blipFill>
        <p:spPr>
          <a:xfrm>
            <a:off x="0" y="0"/>
            <a:ext cx="4284720" cy="436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Без имени-3"/>
          <p:cNvPicPr/>
          <p:nvPr/>
        </p:nvPicPr>
        <p:blipFill>
          <a:blip r:embed="rId2"/>
          <a:stretch/>
        </p:blipFill>
        <p:spPr>
          <a:xfrm>
            <a:off x="5032440" y="0"/>
            <a:ext cx="4111560" cy="5734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Без имени-1копирование"/>
          <p:cNvPicPr/>
          <p:nvPr/>
        </p:nvPicPr>
        <p:blipFill>
          <a:blip r:embed="rId3"/>
          <a:stretch/>
        </p:blipFill>
        <p:spPr>
          <a:xfrm>
            <a:off x="2556000" y="2859120"/>
            <a:ext cx="42480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129[1]"/>
          <p:cNvPicPr/>
          <p:nvPr/>
        </p:nvPicPr>
        <p:blipFill>
          <a:blip r:embed="rId1"/>
          <a:stretch/>
        </p:blipFill>
        <p:spPr>
          <a:xfrm>
            <a:off x="2627280" y="1413000"/>
            <a:ext cx="3889440" cy="5084640"/>
          </a:xfrm>
          <a:prstGeom prst="rect">
            <a:avLst/>
          </a:prstGeom>
          <a:ln w="0">
            <a:noFill/>
          </a:ln>
        </p:spPr>
      </p:pic>
      <p:grpSp>
        <p:nvGrpSpPr>
          <p:cNvPr id="137" name="WordArt 5"/>
          <p:cNvGrpSpPr/>
          <p:nvPr/>
        </p:nvGrpSpPr>
        <p:grpSpPr>
          <a:xfrm>
            <a:off x="1908000" y="835200"/>
            <a:ext cx="5096160" cy="523440"/>
            <a:chOff x="1908000" y="835200"/>
            <a:chExt cx="5096160" cy="523440"/>
          </a:xfrm>
        </p:grpSpPr>
        <p:pic>
          <p:nvPicPr>
            <p:cNvPr id="138" name="WordArt 5" descr=""/>
            <p:cNvPicPr/>
            <p:nvPr/>
          </p:nvPicPr>
          <p:blipFill>
            <a:blip r:embed="rId2"/>
            <a:stretch/>
          </p:blipFill>
          <p:spPr>
            <a:xfrm>
              <a:off x="1908000" y="835200"/>
              <a:ext cx="509616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908000" y="836280"/>
              <a:ext cx="50961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cc"/>
                  </a:solidFill>
                  <a:latin typeface="Monotype Corsiva"/>
                </a:rPr>
                <a:t>Спасибо за внимание!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19280" y="404280"/>
            <a:ext cx="60120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Вкус припомните Вы сраз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Я, конечно, всем нужн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Без меня не сваришь ужин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Не засолишь огурц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Не заправишь холодц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Но не только лишь в еде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Times New Roman"/>
              </a:rPr>
              <a:t>Я живу в морской воде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39dafe7cf2ae0586c263f7001ece2977[1]"/>
          <p:cNvPicPr/>
          <p:nvPr/>
        </p:nvPicPr>
        <p:blipFill>
          <a:blip r:embed="rId1"/>
          <a:stretch/>
        </p:blipFill>
        <p:spPr>
          <a:xfrm>
            <a:off x="5148360" y="3141720"/>
            <a:ext cx="345744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дорога виа салариа"/>
          <p:cNvPicPr/>
          <p:nvPr/>
        </p:nvPicPr>
        <p:blipFill>
          <a:blip r:embed="rId1"/>
          <a:stretch/>
        </p:blipFill>
        <p:spPr>
          <a:xfrm>
            <a:off x="1403280" y="17640"/>
            <a:ext cx="5643720" cy="684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горные козы приходят слизывать соль оставшуюся на камнях"/>
          <p:cNvPicPr/>
          <p:nvPr/>
        </p:nvPicPr>
        <p:blipFill>
          <a:blip r:embed="rId1"/>
          <a:stretch/>
        </p:blipFill>
        <p:spPr>
          <a:xfrm>
            <a:off x="324000" y="260280"/>
            <a:ext cx="3371760" cy="449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лошадь и соль"/>
          <p:cNvPicPr/>
          <p:nvPr/>
        </p:nvPicPr>
        <p:blipFill>
          <a:blip r:embed="rId2"/>
          <a:stretch/>
        </p:blipFill>
        <p:spPr>
          <a:xfrm>
            <a:off x="3492360" y="2565360"/>
            <a:ext cx="5435640" cy="4075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-main-pic" descr="Картинка 19 из 8242"/>
          <p:cNvPicPr/>
          <p:nvPr/>
        </p:nvPicPr>
        <p:blipFill>
          <a:blip r:embed="rId1"/>
          <a:stretch/>
        </p:blipFill>
        <p:spPr>
          <a:xfrm>
            <a:off x="250920" y="189000"/>
            <a:ext cx="5715000" cy="379080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21 из 8242"/>
          <p:cNvPicPr/>
          <p:nvPr/>
        </p:nvPicPr>
        <p:blipFill>
          <a:blip r:embed="rId2"/>
          <a:stretch/>
        </p:blipFill>
        <p:spPr>
          <a:xfrm>
            <a:off x="3780000" y="2781360"/>
            <a:ext cx="5079960" cy="3797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-main-pic" descr="Картинка 37 из 8242"/>
          <p:cNvPicPr/>
          <p:nvPr/>
        </p:nvPicPr>
        <p:blipFill>
          <a:blip r:embed="rId1"/>
          <a:stretch/>
        </p:blipFill>
        <p:spPr>
          <a:xfrm>
            <a:off x="0" y="836640"/>
            <a:ext cx="544032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i-main-pic" descr="Картинка 22 из 8242"/>
          <p:cNvPicPr/>
          <p:nvPr/>
        </p:nvPicPr>
        <p:blipFill>
          <a:blip r:embed="rId2"/>
          <a:stretch/>
        </p:blipFill>
        <p:spPr>
          <a:xfrm>
            <a:off x="4265640" y="0"/>
            <a:ext cx="4878360" cy="3645000"/>
          </a:xfrm>
          <a:prstGeom prst="rect">
            <a:avLst/>
          </a:prstGeom>
          <a:ln w="0">
            <a:noFill/>
          </a:ln>
        </p:spPr>
      </p:pic>
      <p:pic>
        <p:nvPicPr>
          <p:cNvPr id="101" name="i-main-pic" descr="Картинка 103 из 8245"/>
          <p:cNvPicPr/>
          <p:nvPr/>
        </p:nvPicPr>
        <p:blipFill>
          <a:blip r:embed="rId3"/>
          <a:stretch/>
        </p:blipFill>
        <p:spPr>
          <a:xfrm>
            <a:off x="3059280" y="3321000"/>
            <a:ext cx="532908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развал"/>
          <p:cNvPicPr/>
          <p:nvPr/>
        </p:nvPicPr>
        <p:blipFill>
          <a:blip r:embed="rId1"/>
          <a:stretch/>
        </p:blipFill>
        <p:spPr>
          <a:xfrm>
            <a:off x="108000" y="0"/>
            <a:ext cx="8820000" cy="6237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843280" y="62118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Озеро Разва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баскунчак"/>
          <p:cNvPicPr/>
          <p:nvPr/>
        </p:nvPicPr>
        <p:blipFill>
          <a:blip r:embed="rId1"/>
          <a:stretch/>
        </p:blipFill>
        <p:spPr>
          <a:xfrm>
            <a:off x="179280" y="0"/>
            <a:ext cx="8794800" cy="6194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843280" y="6211800"/>
            <a:ext cx="36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Озеро Баскунча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мертвое море"/>
          <p:cNvPicPr/>
          <p:nvPr/>
        </p:nvPicPr>
        <p:blipFill>
          <a:blip r:embed="rId1"/>
          <a:srcRect l="-1064" t="6403" r="0" b="5914"/>
          <a:stretch/>
        </p:blipFill>
        <p:spPr>
          <a:xfrm>
            <a:off x="0" y="0"/>
            <a:ext cx="8893080" cy="5734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Мертвое мор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2:33:14Z</dcterms:created>
  <dc:creator>Ирина</dc:creator>
  <dc:description/>
  <dc:language>en-US</dc:language>
  <cp:lastModifiedBy>Тонковы</cp:lastModifiedBy>
  <dcterms:modified xsi:type="dcterms:W3CDTF">2017-01-18T17:09:03Z</dcterms:modified>
  <cp:revision>29</cp:revision>
  <dc:subject/>
  <dc:title>Слайд 1</dc:title>
</cp:coreProperties>
</file>