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31A-9B9A-452E-B712-F97D9911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3F2-7779-4F62-84F9-2F6350BF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AE6-05A8-469A-86D3-68134FD5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7E0-54B9-486C-AD06-E916DDB6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B236-BF36-4AD4-B501-CF84BAF8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C6BD-2797-4D8B-8CBC-830D63A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F08-B7DA-4AA5-8568-35D7E32F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2E1-2AFF-424E-BBEA-0229AD8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CAD-CA20-47A3-90C2-9DC9E2C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4422-0F84-4628-833D-6CB4BF1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D3ED-3527-4643-8CA6-46EC25C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E24-0223-4640-9FDE-6A312C3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B82-D31D-4075-AD99-FB491AD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F5C-F75E-4B4F-B604-3964CEB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E8D-A06E-4AF3-9389-1249232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4253-D292-4193-B48A-650A30AB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AA4-6199-4B14-9454-812B982E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3D7-6B01-4899-937A-479B4BC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3C9-7135-474E-9C18-7F97236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EBA-3495-448F-B3AD-0169306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62D-B817-4334-BB1B-18D619A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A2D-384C-44DA-B703-01CD094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911-7998-4EDA-BC7F-D662D22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7CE-2AB8-4B39-B380-5D74BD34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A6D-67A9-4BAD-97DA-54F66D464B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BD3-8B45-468E-84D6-F1DCFDC48B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1454760" y="88920"/>
            <a:ext cx="62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Муниципальное общеобразовательное учреждение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средняя общеобразовательная школа №2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с углубленным  изучением отдельных предметов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г.о. Орехово-Зуево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0" y="1628640"/>
            <a:ext cx="88138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Monotype Corsiva"/>
              </a:rPr>
              <a:t>Солёная истор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ученица 2 «Б»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Полынина Вал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. Орехово-Зуево 2016-2017 учебный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16" descr="титульный листкопирование"/>
          <p:cNvPicPr/>
          <p:nvPr/>
        </p:nvPicPr>
        <p:blipFill>
          <a:blip r:embed="rId1"/>
          <a:stretch/>
        </p:blipFill>
        <p:spPr>
          <a:xfrm>
            <a:off x="2987640" y="2852640"/>
            <a:ext cx="234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соляной бунт"/>
          <p:cNvPicPr/>
          <p:nvPr/>
        </p:nvPicPr>
        <p:blipFill>
          <a:blip r:embed="rId1"/>
          <a:stretch/>
        </p:blipFill>
        <p:spPr>
          <a:xfrm>
            <a:off x="250920" y="476280"/>
            <a:ext cx="8591400" cy="5246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771640" y="6021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Соляной бун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1" descr="DSC00648"/>
          <p:cNvPicPr/>
          <p:nvPr/>
        </p:nvPicPr>
        <p:blipFill>
          <a:blip r:embed="rId1"/>
          <a:stretch/>
        </p:blipFill>
        <p:spPr>
          <a:xfrm>
            <a:off x="179280" y="44136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SC00647"/>
          <p:cNvPicPr/>
          <p:nvPr/>
        </p:nvPicPr>
        <p:blipFill>
          <a:blip r:embed="rId2"/>
          <a:stretch/>
        </p:blipFill>
        <p:spPr>
          <a:xfrm>
            <a:off x="4500720" y="414360"/>
            <a:ext cx="4127400" cy="30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DSC00649"/>
          <p:cNvPicPr/>
          <p:nvPr/>
        </p:nvPicPr>
        <p:blipFill>
          <a:blip r:embed="rId3"/>
          <a:stretch/>
        </p:blipFill>
        <p:spPr>
          <a:xfrm>
            <a:off x="1692360" y="1962000"/>
            <a:ext cx="59389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2" descr="C:\Users\Тонковы\Desktop\image-0-02-05-a5687edc3148f2dced88d58bc265563c90fcea676e0701870c4d8b1f8e45727f-V.jpg"/>
          <p:cNvPicPr/>
          <p:nvPr/>
        </p:nvPicPr>
        <p:blipFill>
          <a:blip r:embed="rId1"/>
          <a:stretch/>
        </p:blipFill>
        <p:spPr>
          <a:xfrm>
            <a:off x="135000" y="189000"/>
            <a:ext cx="8832960" cy="496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Тонковы\Desktop\image-0-02-05-6a0ed2d920bbb10e7544221b19e3d1cd8022dbc399cdf061bd231fa7b020cda4-V.jpg"/>
          <p:cNvPicPr/>
          <p:nvPr/>
        </p:nvPicPr>
        <p:blipFill>
          <a:blip r:embed="rId2"/>
          <a:stretch/>
        </p:blipFill>
        <p:spPr>
          <a:xfrm>
            <a:off x="135000" y="1603440"/>
            <a:ext cx="9005760" cy="506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Тонковы\Desktop\image-0-02-05-70c445930b42cc352d70da3d013974f64ac1c633fd00699e9583cdf151cd50e5-V.jpg"/>
          <p:cNvPicPr/>
          <p:nvPr/>
        </p:nvPicPr>
        <p:blipFill>
          <a:blip r:embed="rId3"/>
          <a:stretch/>
        </p:blipFill>
        <p:spPr>
          <a:xfrm>
            <a:off x="135000" y="173160"/>
            <a:ext cx="8859600" cy="498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Тонковы\Desktop\image-0-02-05-e49123bd786789072e8b7b49022a670638fc12475f180e0558dbf6cfbe4be407-V.jpg"/>
          <p:cNvPicPr/>
          <p:nvPr/>
        </p:nvPicPr>
        <p:blipFill>
          <a:blip r:embed="rId4"/>
          <a:stretch/>
        </p:blipFill>
        <p:spPr>
          <a:xfrm>
            <a:off x="217440" y="284040"/>
            <a:ext cx="87440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2" descr="C:\Users\Тонковы\Desktop\image-0-02-05-b9f2e94a23c12012bf22c67bc70df20bb4a838bbc0b27a8a169d3acf89fc55e5-V.jpg"/>
          <p:cNvPicPr/>
          <p:nvPr/>
        </p:nvPicPr>
        <p:blipFill>
          <a:blip r:embed="rId1"/>
          <a:stretch/>
        </p:blipFill>
        <p:spPr>
          <a:xfrm>
            <a:off x="457200" y="223920"/>
            <a:ext cx="7715160" cy="578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C:\Users\Тонковы\Desktop\image-0-02-05-0ea685e96c1e496c69ab6e3a6eab9841f5ee74e84cbef577a2dfeeced1afba74-V.jpg"/>
          <p:cNvPicPr/>
          <p:nvPr/>
        </p:nvPicPr>
        <p:blipFill>
          <a:blip r:embed="rId2"/>
          <a:stretch/>
        </p:blipFill>
        <p:spPr>
          <a:xfrm>
            <a:off x="539640" y="260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2" descr="C:\Users\Тонковы\Desktop\image-0-02-05-4983004c6a840f400aa1fd666042ca1ef3b5a645902ea081de6c72f8cc7b1cf7-V.jpg"/>
          <p:cNvPicPr/>
          <p:nvPr/>
        </p:nvPicPr>
        <p:blipFill>
          <a:blip r:embed="rId1"/>
          <a:stretch/>
        </p:blipFill>
        <p:spPr>
          <a:xfrm>
            <a:off x="468360" y="189000"/>
            <a:ext cx="3552840" cy="631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Тонковы\Desktop\image-0-02-05-9df4a80677f9c0396fe92da16ffc47e28fa3d0897f1d3ed5ecbbc750d1666f35-V.jpg"/>
          <p:cNvPicPr/>
          <p:nvPr/>
        </p:nvPicPr>
        <p:blipFill>
          <a:blip r:embed="rId2"/>
          <a:stretch/>
        </p:blipFill>
        <p:spPr>
          <a:xfrm>
            <a:off x="4572000" y="122400"/>
            <a:ext cx="3600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2" descr="C:\Users\Тонковы\Desktop\image-0-02-05-8c9fec2cdfda29bd47d56560ecbd3f5c8a73729dca8feb523e0553a4b35b6ba1-V.jpg"/>
          <p:cNvPicPr/>
          <p:nvPr/>
        </p:nvPicPr>
        <p:blipFill>
          <a:blip r:embed="rId1"/>
          <a:stretch/>
        </p:blipFill>
        <p:spPr>
          <a:xfrm>
            <a:off x="2627280" y="189000"/>
            <a:ext cx="360036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Без имени-2"/>
          <p:cNvPicPr/>
          <p:nvPr/>
        </p:nvPicPr>
        <p:blipFill>
          <a:blip r:embed="rId1"/>
          <a:stretch/>
        </p:blipFill>
        <p:spPr>
          <a:xfrm>
            <a:off x="0" y="0"/>
            <a:ext cx="4284720" cy="436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Без имени-3"/>
          <p:cNvPicPr/>
          <p:nvPr/>
        </p:nvPicPr>
        <p:blipFill>
          <a:blip r:embed="rId2"/>
          <a:stretch/>
        </p:blipFill>
        <p:spPr>
          <a:xfrm>
            <a:off x="5032440" y="0"/>
            <a:ext cx="4111560" cy="573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Без имени-1копирование"/>
          <p:cNvPicPr/>
          <p:nvPr/>
        </p:nvPicPr>
        <p:blipFill>
          <a:blip r:embed="rId3"/>
          <a:stretch/>
        </p:blipFill>
        <p:spPr>
          <a:xfrm>
            <a:off x="2556000" y="2859120"/>
            <a:ext cx="4248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29[1]"/>
          <p:cNvPicPr/>
          <p:nvPr/>
        </p:nvPicPr>
        <p:blipFill>
          <a:blip r:embed="rId1"/>
          <a:stretch/>
        </p:blipFill>
        <p:spPr>
          <a:xfrm>
            <a:off x="2627280" y="1413000"/>
            <a:ext cx="388944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37" name="WordArt 5"/>
          <p:cNvGrpSpPr/>
          <p:nvPr/>
        </p:nvGrpSpPr>
        <p:grpSpPr>
          <a:xfrm>
            <a:off x="1908000" y="835200"/>
            <a:ext cx="5096160" cy="523440"/>
            <a:chOff x="1908000" y="835200"/>
            <a:chExt cx="5096160" cy="523440"/>
          </a:xfrm>
        </p:grpSpPr>
        <p:pic>
          <p:nvPicPr>
            <p:cNvPr id="138" name="WordArt 5" descr=""/>
            <p:cNvPicPr/>
            <p:nvPr/>
          </p:nvPicPr>
          <p:blipFill>
            <a:blip r:embed="rId2"/>
            <a:stretch/>
          </p:blipFill>
          <p:spPr>
            <a:xfrm>
              <a:off x="1908000" y="835200"/>
              <a:ext cx="5096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908000" y="836280"/>
              <a:ext cx="5096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cc"/>
                  </a:solidFill>
                  <a:latin typeface="Monotype Corsiva"/>
                </a:rPr>
                <a:t>Спасибо за внимание!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60120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Вкус припомните Вы сраз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Я, конечно, всем нуж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Без меня не сваришь уж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е засолишь огурц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е заправишь холодц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о не только лишь в ед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Я живу в морской вод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39dafe7cf2ae0586c263f7001ece2977[1]"/>
          <p:cNvPicPr/>
          <p:nvPr/>
        </p:nvPicPr>
        <p:blipFill>
          <a:blip r:embed="rId1"/>
          <a:stretch/>
        </p:blipFill>
        <p:spPr>
          <a:xfrm>
            <a:off x="5148360" y="3141720"/>
            <a:ext cx="34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дорога виа салариа"/>
          <p:cNvPicPr/>
          <p:nvPr/>
        </p:nvPicPr>
        <p:blipFill>
          <a:blip r:embed="rId1"/>
          <a:stretch/>
        </p:blipFill>
        <p:spPr>
          <a:xfrm>
            <a:off x="1403280" y="17640"/>
            <a:ext cx="564372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горные козы приходят слизывать соль оставшуюся на камнях"/>
          <p:cNvPicPr/>
          <p:nvPr/>
        </p:nvPicPr>
        <p:blipFill>
          <a:blip r:embed="rId1"/>
          <a:stretch/>
        </p:blipFill>
        <p:spPr>
          <a:xfrm>
            <a:off x="324000" y="260280"/>
            <a:ext cx="33717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лошадь и соль"/>
          <p:cNvPicPr/>
          <p:nvPr/>
        </p:nvPicPr>
        <p:blipFill>
          <a:blip r:embed="rId2"/>
          <a:stretch/>
        </p:blipFill>
        <p:spPr>
          <a:xfrm>
            <a:off x="3492360" y="2565360"/>
            <a:ext cx="543564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-main-pic" descr="Картинка 19 из 8242"/>
          <p:cNvPicPr/>
          <p:nvPr/>
        </p:nvPicPr>
        <p:blipFill>
          <a:blip r:embed="rId1"/>
          <a:stretch/>
        </p:blipFill>
        <p:spPr>
          <a:xfrm>
            <a:off x="250920" y="18900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21 из 8242"/>
          <p:cNvPicPr/>
          <p:nvPr/>
        </p:nvPicPr>
        <p:blipFill>
          <a:blip r:embed="rId2"/>
          <a:stretch/>
        </p:blipFill>
        <p:spPr>
          <a:xfrm>
            <a:off x="3780000" y="278136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-main-pic" descr="Картинка 37 из 8242"/>
          <p:cNvPicPr/>
          <p:nvPr/>
        </p:nvPicPr>
        <p:blipFill>
          <a:blip r:embed="rId1"/>
          <a:stretch/>
        </p:blipFill>
        <p:spPr>
          <a:xfrm>
            <a:off x="0" y="836640"/>
            <a:ext cx="544032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Картинка 22 из 8242"/>
          <p:cNvPicPr/>
          <p:nvPr/>
        </p:nvPicPr>
        <p:blipFill>
          <a:blip r:embed="rId2"/>
          <a:stretch/>
        </p:blipFill>
        <p:spPr>
          <a:xfrm>
            <a:off x="4265640" y="0"/>
            <a:ext cx="4878360" cy="364500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103 из 8245"/>
          <p:cNvPicPr/>
          <p:nvPr/>
        </p:nvPicPr>
        <p:blipFill>
          <a:blip r:embed="rId3"/>
          <a:stretch/>
        </p:blipFill>
        <p:spPr>
          <a:xfrm>
            <a:off x="3059280" y="3321000"/>
            <a:ext cx="532908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развал"/>
          <p:cNvPicPr/>
          <p:nvPr/>
        </p:nvPicPr>
        <p:blipFill>
          <a:blip r:embed="rId1"/>
          <a:stretch/>
        </p:blipFill>
        <p:spPr>
          <a:xfrm>
            <a:off x="108000" y="0"/>
            <a:ext cx="8820000" cy="6237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843280" y="62118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зеро Разва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баскунчак"/>
          <p:cNvPicPr/>
          <p:nvPr/>
        </p:nvPicPr>
        <p:blipFill>
          <a:blip r:embed="rId1"/>
          <a:stretch/>
        </p:blipFill>
        <p:spPr>
          <a:xfrm>
            <a:off x="179280" y="0"/>
            <a:ext cx="8794800" cy="6194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43280" y="6211800"/>
            <a:ext cx="36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зеро Баскунч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мертвое море"/>
          <p:cNvPicPr/>
          <p:nvPr/>
        </p:nvPicPr>
        <p:blipFill>
          <a:blip r:embed="rId1"/>
          <a:srcRect l="-1064" t="6403" r="0" b="5914"/>
          <a:stretch/>
        </p:blipFill>
        <p:spPr>
          <a:xfrm>
            <a:off x="0" y="0"/>
            <a:ext cx="8893080" cy="5734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Мертвое мо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2:33:14Z</dcterms:created>
  <dc:creator>Ирина</dc:creator>
  <dc:description/>
  <dc:language>en-US</dc:language>
  <cp:lastModifiedBy>Тонковы</cp:lastModifiedBy>
  <dcterms:modified xsi:type="dcterms:W3CDTF">2017-01-18T17:09:03Z</dcterms:modified>
  <cp:revision>29</cp:revision>
  <dc:subject/>
  <dc:title>Слайд 1</dc:title>
</cp:coreProperties>
</file>